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2.jpeg" ContentType="image/jpeg"/>
  <Override PartName="/ppt/media/image7.png" ContentType="image/png"/>
  <Override PartName="/ppt/media/image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11.jpeg" ContentType="image/jpeg"/>
  <Override PartName="/ppt/media/image31.gif" ContentType="image/gif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5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D874-7D80-48A1-AEE2-4AF955250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6E59-9761-4D99-87FD-E36E8136D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5105-5DD9-4C69-9C5B-41F75CA7E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8AAB-4033-47F4-92A8-13B184B9E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EFA9-E01C-4E2D-9BA0-FA25865E7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BC06-2F67-43A5-A4C2-0521DC721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0E2F-1925-4E1B-87DD-AD03F6EE3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2693-0FD8-4FA2-AB15-BCE047820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3186-59D7-4C90-9A74-2D8394B6B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DE60-8B0B-4D69-9405-288E94B5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6624-2F3B-40C7-91B7-F3ED9141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98E3-8071-43F1-AE86-3060273A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6007F-BAEA-46AB-907C-60635E4373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image" Target="../media/image31.gi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k.wikipedia.org/wiki/&#1043;&#1088;&#1077;&#1094;&#1100;&#1082;&#1072;_&#1084;&#1086;&#1074;&#1072;" TargetMode="External"/><Relationship Id="rId2" Type="http://schemas.openxmlformats.org/officeDocument/2006/relationships/hyperlink" Target="http://uk.wikipedia.org/wiki/&#1046;&#1072;&#1085;&#1088;" TargetMode="External"/><Relationship Id="rId3" Type="http://schemas.openxmlformats.org/officeDocument/2006/relationships/hyperlink" Target="http://uk.wikipedia.org/wiki/&#1051;&#1110;&#1088;&#1080;&#1082;&#1072;" TargetMode="External"/><Relationship Id="rId4" Type="http://schemas.openxmlformats.org/officeDocument/2006/relationships/hyperlink" Target="http://uk.wikipedia.org/wiki/&#1060;&#1088;&#1072;&#1085;&#1094;&#1091;&#1079;&#1100;&#1082;&#1072;_&#1084;&#1086;&#1074;&#1072;" TargetMode="External"/><Relationship Id="rId5" Type="http://schemas.openxmlformats.org/officeDocument/2006/relationships/hyperlink" Target="http://uk.wikipedia.org/wiki/&#1042;&#1110;&#1088;&#1096;" TargetMode="External"/><Relationship Id="rId6" Type="http://schemas.openxmlformats.org/officeDocument/2006/relationships/hyperlink" Target="http://uk.wikipedia.org/wiki/&#1046;&#1072;&#1085;&#1088;" TargetMode="External"/><Relationship Id="rId7" Type="http://schemas.openxmlformats.org/officeDocument/2006/relationships/hyperlink" Target="http://uk.wikipedia.org/wiki/&#1042;&#1110;&#1088;&#1096;&#1091;&#1074;&#1072;&#1085;&#1085;&#1103;" TargetMode="External"/><Relationship Id="rId8" Type="http://schemas.openxmlformats.org/officeDocument/2006/relationships/hyperlink" Target="http://uk.wikipedia.org/wiki/&#1060;&#1086;&#1083;&#1100;&#1082;&#1083;&#1086;&#1088;" TargetMode="External"/><Relationship Id="rId9" Type="http://schemas.openxmlformats.org/officeDocument/2006/relationships/hyperlink" Target="http://uk.wikipedia.org/wiki/&#1040;&#1089;&#1086;&#1094;&#1110;&#1072;&#1094;&#1110;&#1103;_(&#1087;&#1089;&#1080;&#1093;&#1086;&#1083;&#1086;&#1075;&#1110;&#1103;)" TargetMode="External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uk.wikipedia.org/wiki/&#1060;&#1088;&#1072;&#1085;&#1094;&#1091;&#1079;&#1100;&#1082;&#1072;_&#1084;&#1086;&#1074;&#1072;" TargetMode="External"/><Relationship Id="rId2" Type="http://schemas.openxmlformats.org/officeDocument/2006/relationships/hyperlink" Target="http://uk.wikipedia.org/wiki/20_&#1089;&#1090;&#1086;&#1083;&#1110;&#1090;&#1090;&#1103;" TargetMode="External"/><Relationship Id="rId3" Type="http://schemas.openxmlformats.org/officeDocument/2006/relationships/hyperlink" Target="http://uk.wikipedia.org/wiki/19_&#1089;&#1090;&#1086;&#1083;&#1110;&#1090;&#1090;&#1103;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://im4-tub-ua.yandex.net/i?id=499381361-11-72&amp;n=21"/>
          <p:cNvPicPr/>
          <p:nvPr/>
        </p:nvPicPr>
        <p:blipFill>
          <a:blip r:embed="rId2"/>
          <a:stretch/>
        </p:blipFill>
        <p:spPr>
          <a:xfrm>
            <a:off x="6043680" y="3124080"/>
            <a:ext cx="2911320" cy="2184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uk-UA" sz="4400" spc="-1" strike="noStrike" u="sng">
                <a:solidFill>
                  <a:srgbClr val="663300"/>
                </a:solidFill>
                <a:uFillTx/>
                <a:latin typeface="Arial"/>
              </a:rPr>
              <a:t>Трагедія  єврейського народу  очима Пауля Целан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3"/>
          <a:stretch/>
        </p:blipFill>
        <p:spPr>
          <a:xfrm>
            <a:off x="304920" y="2590920"/>
            <a:ext cx="2819160" cy="3998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4" name="Прямоугольник 1" descr=""/>
          <p:cNvPicPr/>
          <p:nvPr/>
        </p:nvPicPr>
        <p:blipFill>
          <a:blip r:embed="rId4"/>
          <a:stretch/>
        </p:blipFill>
        <p:spPr>
          <a:xfrm>
            <a:off x="3157560" y="5254560"/>
            <a:ext cx="6022800" cy="15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0" descr="http://s53.radikal.ru/i141/1106/18/cb94f54ab7c4.jpg"/>
          <p:cNvPicPr/>
          <p:nvPr/>
        </p:nvPicPr>
        <p:blipFill>
          <a:blip r:embed="rId1"/>
          <a:stretch/>
        </p:blipFill>
        <p:spPr>
          <a:xfrm>
            <a:off x="4800600" y="1225440"/>
            <a:ext cx="3978360" cy="2667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3" name="Picture 6" descr="http://lib.rus.ec/i/39/303039/detiaushvic_large.jpg"/>
          <p:cNvPicPr/>
          <p:nvPr/>
        </p:nvPicPr>
        <p:blipFill>
          <a:blip r:embed="rId2"/>
          <a:stretch/>
        </p:blipFill>
        <p:spPr>
          <a:xfrm>
            <a:off x="228600" y="380880"/>
            <a:ext cx="4975200" cy="3076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http://image.tsn.ua/media/images/550xX/Jul2007/4243.jpg"/>
          <p:cNvPicPr/>
          <p:nvPr/>
        </p:nvPicPr>
        <p:blipFill>
          <a:blip r:embed="rId3"/>
          <a:stretch/>
        </p:blipFill>
        <p:spPr>
          <a:xfrm>
            <a:off x="609480" y="3892680"/>
            <a:ext cx="3657600" cy="2819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5" name="Picture 4" descr="http://im0-tub-ua.yandex.net/i?id=502380459-23-72&amp;n=21"/>
          <p:cNvPicPr/>
          <p:nvPr/>
        </p:nvPicPr>
        <p:blipFill>
          <a:blip r:embed="rId4"/>
          <a:stretch/>
        </p:blipFill>
        <p:spPr>
          <a:xfrm>
            <a:off x="5540400" y="4091040"/>
            <a:ext cx="3252600" cy="2440080"/>
          </a:xfrm>
          <a:prstGeom prst="rect">
            <a:avLst/>
          </a:prstGeom>
          <a:ln w="0">
            <a:noFill/>
          </a:ln>
        </p:spPr>
      </p:pic>
      <p:pic>
        <p:nvPicPr>
          <p:cNvPr id="66" name="zhuravli_2.mp3" descr=""/>
          <p:cNvPicPr/>
          <p:nvPr/>
        </p:nvPicPr>
        <p:blipFill>
          <a:blip r:embed="rId5"/>
          <a:stretch/>
        </p:blipFill>
        <p:spPr>
          <a:xfrm>
            <a:off x="4800600" y="500544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0000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228600" y="1066680"/>
            <a:ext cx="861048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Фуг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(лат. </a:t>
            </a:r>
            <a:r>
              <a:rPr b="0" i="1" lang="la-VA" sz="3200" spc="-1" strike="noStrike">
                <a:solidFill>
                  <a:srgbClr val="000000"/>
                </a:solidFill>
                <a:latin typeface="Arial"/>
              </a:rPr>
              <a:t>fug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— «біг», «втеча», «швидкий плин») — музична форма, заснована на розвитку однієї теми (рідше — двох або трьох тем), що проводиться поперемінно в різних голосах . Фуга сформувалася у 16-17 столітті  і стала найвищою поліфонічною форм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40384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Юліан  Гальперін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« Трагеді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9" descr="C:\Documents and Settings\Admin\Мои документы\Мои рисунки\img130.jpg"/>
          <p:cNvPicPr/>
          <p:nvPr/>
        </p:nvPicPr>
        <p:blipFill>
          <a:blip r:embed="rId1"/>
          <a:srcRect l="0" t="0" r="-49" b="0"/>
          <a:stretch/>
        </p:blipFill>
        <p:spPr>
          <a:xfrm>
            <a:off x="9360" y="1338120"/>
            <a:ext cx="3924360" cy="512604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3" descr="C:\Documents and Settings\Admin\Мои документы\Мои рисунки\img131.jpg"/>
          <p:cNvPicPr/>
          <p:nvPr/>
        </p:nvPicPr>
        <p:blipFill>
          <a:blip r:embed="rId2"/>
          <a:srcRect l="0" t="0" r="-18" b="-14"/>
          <a:stretch/>
        </p:blipFill>
        <p:spPr>
          <a:xfrm>
            <a:off x="5105520" y="1447920"/>
            <a:ext cx="3795480" cy="510516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1"/>
          <p:cNvSpPr/>
          <p:nvPr/>
        </p:nvSpPr>
        <p:spPr>
          <a:xfrm>
            <a:off x="4309920" y="3049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Е. М. Лілієн   « В пам’ять  жертв  Кишинівського  погрому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5715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Спробуйте  віднайти у тексті « Фуги»  рядки  - підписи  до цих карт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3" descr="gassing.gif (168399 bytes)"/>
          <p:cNvPicPr/>
          <p:nvPr/>
        </p:nvPicPr>
        <p:blipFill>
          <a:blip r:embed="rId1"/>
          <a:stretch/>
        </p:blipFill>
        <p:spPr>
          <a:xfrm>
            <a:off x="457200" y="457200"/>
            <a:ext cx="3886200" cy="51055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4" descr="http://holocaust2001.narod.ru/images/Finkel_07.jpg"/>
          <p:cNvPicPr/>
          <p:nvPr/>
        </p:nvPicPr>
        <p:blipFill>
          <a:blip r:embed="rId2"/>
          <a:stretch/>
        </p:blipFill>
        <p:spPr>
          <a:xfrm>
            <a:off x="5105520" y="447840"/>
            <a:ext cx="3504960" cy="51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3" descr="C:\Documents and Settings\Admin\Мои документы\Мои рисунки\img131.jpg"/>
          <p:cNvPicPr/>
          <p:nvPr/>
        </p:nvPicPr>
        <p:blipFill>
          <a:blip r:embed="rId1"/>
          <a:srcRect l="0" t="0" r="-19" b="-30"/>
          <a:stretch/>
        </p:blipFill>
        <p:spPr>
          <a:xfrm>
            <a:off x="533520" y="166680"/>
            <a:ext cx="3581280" cy="455760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76" name="Рисунок 4" descr="park.jpg (83928 bytes)"/>
          <p:cNvPicPr/>
          <p:nvPr/>
        </p:nvPicPr>
        <p:blipFill>
          <a:blip r:embed="rId2"/>
          <a:stretch/>
        </p:blipFill>
        <p:spPr>
          <a:xfrm>
            <a:off x="3733920" y="1828800"/>
            <a:ext cx="5029200" cy="419112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77" name="Прямоугольник 5"/>
          <p:cNvSpPr/>
          <p:nvPr/>
        </p:nvSpPr>
        <p:spPr>
          <a:xfrm>
            <a:off x="838800" y="4952880"/>
            <a:ext cx="22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« Вогняний суві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6"/>
          <p:cNvSpPr/>
          <p:nvPr/>
        </p:nvSpPr>
        <p:spPr>
          <a:xfrm>
            <a:off x="3953520" y="6172200"/>
            <a:ext cx="51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Меморіальний парк неподалік від  Берлі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Telnyuk_Sisters_CELAN.wma" descr=""/>
          <p:cNvPicPr/>
          <p:nvPr/>
        </p:nvPicPr>
        <p:blipFill>
          <a:blip r:embed="rId1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http://im7-tub-ua.yandex.net/i?id=341417738-69-72&amp;n=21"/>
          <p:cNvPicPr/>
          <p:nvPr/>
        </p:nvPicPr>
        <p:blipFill>
          <a:blip r:embed="rId2"/>
          <a:stretch/>
        </p:blipFill>
        <p:spPr>
          <a:xfrm>
            <a:off x="1371600" y="533520"/>
            <a:ext cx="6181560" cy="5943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2" descr="http://www.colinedgington.com/SignificantSurface/wp-content/uploads/2010/09/kiefer.jpg"/>
          <p:cNvPicPr/>
          <p:nvPr/>
        </p:nvPicPr>
        <p:blipFill>
          <a:blip r:embed="rId3"/>
          <a:stretch/>
        </p:blipFill>
        <p:spPr>
          <a:xfrm>
            <a:off x="372960" y="196920"/>
            <a:ext cx="8707680" cy="6616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http://www.amanim.com/~files/block/6436/small/SK_sz2.jpg"/>
          <p:cNvPicPr/>
          <p:nvPr/>
        </p:nvPicPr>
        <p:blipFill>
          <a:blip r:embed="rId4"/>
          <a:stretch/>
        </p:blipFill>
        <p:spPr>
          <a:xfrm>
            <a:off x="49320" y="84240"/>
            <a:ext cx="8799480" cy="6541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http://mirvam.org/wp-content/uploads/2010/11/Holocaust.jpg"/>
          <p:cNvPicPr/>
          <p:nvPr/>
        </p:nvPicPr>
        <p:blipFill>
          <a:blip r:embed="rId5"/>
          <a:stretch/>
        </p:blipFill>
        <p:spPr>
          <a:xfrm>
            <a:off x="195120" y="152280"/>
            <a:ext cx="8477280" cy="6553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4" descr="http://erhard-metz.de/wp-content/uploads/Bundesarchiv_Bild_175-04413_KZ_Auschwitz_Einfahrt-6501.jpg"/>
          <p:cNvPicPr/>
          <p:nvPr/>
        </p:nvPicPr>
        <p:blipFill>
          <a:blip r:embed="rId6"/>
          <a:stretch/>
        </p:blipFill>
        <p:spPr>
          <a:xfrm>
            <a:off x="322200" y="63360"/>
            <a:ext cx="8605800" cy="6642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8" descr="http://shkola.ostriv.in.ua/images/publications/4/11322/1332752977.jpg"/>
          <p:cNvPicPr/>
          <p:nvPr/>
        </p:nvPicPr>
        <p:blipFill>
          <a:blip r:embed="rId7"/>
          <a:stretch/>
        </p:blipFill>
        <p:spPr>
          <a:xfrm>
            <a:off x="262080" y="123840"/>
            <a:ext cx="8718480" cy="6667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0" descr="http://www.agerpres.ro/media/images/2010-11/11011836133590204.jpg"/>
          <p:cNvPicPr/>
          <p:nvPr/>
        </p:nvPicPr>
        <p:blipFill>
          <a:blip r:embed="rId8"/>
          <a:stretch/>
        </p:blipFill>
        <p:spPr>
          <a:xfrm>
            <a:off x="284040" y="131760"/>
            <a:ext cx="8587080" cy="6593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C:\Documents and Settings\Admin\Рабочий стол\959532149.gif"/>
          <p:cNvPicPr/>
          <p:nvPr/>
        </p:nvPicPr>
        <p:blipFill>
          <a:blip r:embed="rId9"/>
          <a:stretch/>
        </p:blipFill>
        <p:spPr>
          <a:xfrm>
            <a:off x="5410080" y="3854520"/>
            <a:ext cx="355608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 repeatCount="100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7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7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7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2" repeatCount="100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7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7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 repeatCount="100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7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7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7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 repeatCount="100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7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7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 repeatCount="100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7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7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7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7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7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7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 repeatCount="100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7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7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7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208003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52280" y="10666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22222"/>
                </a:solidFill>
                <a:latin typeface="Arial"/>
                <a:ea typeface="Times New Roman"/>
              </a:rPr>
              <a:t>Катастрофа, </a:t>
            </a:r>
            <a:r>
              <a:rPr b="1" lang="ru-RU" sz="2400" spc="-1" strike="noStrike">
                <a:solidFill>
                  <a:srgbClr val="222222"/>
                </a:solidFill>
                <a:latin typeface="Arial"/>
                <a:ea typeface="Times New Roman"/>
              </a:rPr>
              <a:t>Голокост - (гр. спалений цілком) загибель значної частини єврейського населення Європи (понад 6 млн.) протягом 1933 - 1945 р.р.   У роки війни  нацистами  було створено 22 табори смерті. Один із найвідоміших і найстрашніших – Освенцім (Аушвіц). В Україні  євреїв знищували, зокрема, у Бабиному Яру (Київ), у с. Богданівка. 27 січня у всьому світі відзначається  день пам'яті жертв Голокос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8" descr="http://image.tsn.ua/media/images/550xX/Jul2007/4243.jpg"/>
          <p:cNvPicPr/>
          <p:nvPr/>
        </p:nvPicPr>
        <p:blipFill>
          <a:blip r:embed="rId1"/>
          <a:stretch/>
        </p:blipFill>
        <p:spPr>
          <a:xfrm>
            <a:off x="4726080" y="227160"/>
            <a:ext cx="4251240" cy="3278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380880" y="20574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Осокоре, ти в пітьмі сивієш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Моя мати сивини не зн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Зелено, купаво на Вкраїн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Моя світла мати не вернула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Хмаро, ти наповнюєш криниц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Моя тиха мати гірко плач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Зірко, ти снуєш вогнисту стріч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Серце матері свинець прониза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Двері, хто вас висадив із петел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Моя ніжна мати вже не прий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Прямоугольник 3" descr=""/>
          <p:cNvPicPr/>
          <p:nvPr/>
        </p:nvPicPr>
        <p:blipFill>
          <a:blip r:embed="rId2"/>
          <a:stretch/>
        </p:blipFill>
        <p:spPr>
          <a:xfrm>
            <a:off x="19080" y="12600"/>
            <a:ext cx="6095880" cy="153504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6"/>
          <p:cNvSpPr/>
          <p:nvPr/>
        </p:nvSpPr>
        <p:spPr>
          <a:xfrm>
            <a:off x="187200" y="947880"/>
            <a:ext cx="529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оїм батькам, які були депортовані фашистами в Задністров'я і замордовані там, поет присвятив вірш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04920" y="22860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 u="sng">
                <a:solidFill>
                  <a:srgbClr val="000000"/>
                </a:solidFill>
                <a:uFillTx/>
                <a:latin typeface="Arial"/>
              </a:rPr>
              <a:t>Еле́гія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 (</a:t>
            </a:r>
            <a:r>
              <a:rPr b="0" lang="ru-RU" sz="23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грец.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el-GR" sz="2300" spc="-1" strike="noStrike">
                <a:solidFill>
                  <a:srgbClr val="000000"/>
                </a:solidFill>
                <a:latin typeface="Arial"/>
              </a:rPr>
              <a:t>ἐλεγεία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 — журлива пісня, скарга) — один із </a:t>
            </a:r>
            <a:r>
              <a:rPr b="0" lang="ru-RU" sz="23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жанрів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3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лірики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 медитативного, меланхолійного, часом журливого змісту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 u="sng">
                <a:solidFill>
                  <a:srgbClr val="000000"/>
                </a:solidFill>
                <a:uFillTx/>
                <a:latin typeface="Arial"/>
              </a:rPr>
              <a:t>Верлі́бр</a:t>
            </a:r>
            <a:r>
              <a:rPr b="0" lang="ru-RU" sz="2300" spc="-1" strike="noStrike" u="sng">
                <a:solidFill>
                  <a:srgbClr val="000000"/>
                </a:solidFill>
                <a:uFillTx/>
                <a:latin typeface="Arial"/>
              </a:rPr>
              <a:t> 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3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фр.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fr-FR" sz="2300" spc="-1" strike="noStrike">
                <a:solidFill>
                  <a:srgbClr val="000000"/>
                </a:solidFill>
                <a:latin typeface="Arial"/>
              </a:rPr>
              <a:t>vers libre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 — вільний вірш) — неримований нерівнонаголошений віршорядок (і </a:t>
            </a:r>
            <a:r>
              <a:rPr b="0" lang="ru-RU" sz="23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вірш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 як </a:t>
            </a:r>
            <a:r>
              <a:rPr b="0" lang="ru-RU" sz="23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жанр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), що має </a:t>
            </a:r>
            <a:r>
              <a:rPr b="0" lang="ru-RU" sz="23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версифікаційні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 джерела у</a:t>
            </a:r>
            <a:r>
              <a:rPr b="0" lang="ru-RU" sz="23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фольклорі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 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Асоціація (психологія)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 — поняття, що виникає при згадуванні іншого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300" spc="-1" strike="noStrike">
                <a:solidFill>
                  <a:srgbClr val="000000"/>
                </a:solidFill>
                <a:latin typeface="Arial"/>
              </a:rPr>
              <a:t>Як ці поняття виявляються у вірші « Осокоре…»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im0-tub-ua.yandex.net/i?id=71154318-28-72&amp;n=21"/>
          <p:cNvPicPr/>
          <p:nvPr/>
        </p:nvPicPr>
        <p:blipFill>
          <a:blip r:embed="rId1"/>
          <a:stretch/>
        </p:blipFill>
        <p:spPr>
          <a:xfrm>
            <a:off x="5857920" y="231840"/>
            <a:ext cx="3163680" cy="30477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943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00"/>
                </a:solidFill>
                <a:latin typeface="Arial"/>
              </a:rPr>
              <a:t>ПАУЛЬ ЦЕЛ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-360" y="838080"/>
            <a:ext cx="88390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000000"/>
                </a:solidFill>
                <a:uFillTx/>
                <a:latin typeface="Arial"/>
              </a:rPr>
              <a:t>Життя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уль Целан (Павло Львович                             Ангель) має українське корі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3 листопада 1920 року народився в німецькомовній єврейській родині в Чернівцях. Навчався в місцевій гімназії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938-1939 рр. – вивчає медицину у французькому місті Ту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939-1941 рр. – повертається додому, стає студентом романістики Чернівецького університе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im0-tub-ua.yandex.net/i?id=71154318-28-72&amp;n=21"/>
          <p:cNvPicPr/>
          <p:nvPr/>
        </p:nvPicPr>
        <p:blipFill>
          <a:blip r:embed="rId1"/>
          <a:stretch/>
        </p:blipFill>
        <p:spPr>
          <a:xfrm>
            <a:off x="5699160" y="231840"/>
            <a:ext cx="3322440" cy="3200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380880" y="3808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941 р. – разом з іншими                   єврейськими родинами                              мешкає у гетто. Батьки                      замордовані фашист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942-1944 рр. – в’язень                             трудового табору в Румунії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944-1945 рр. – в Чернівецькому університеті вивчає англійську мову. Володів єврейською, румунською, англійською, німецькою, французькою, російською, українською мов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://im0-tub-ua.yandex.net/i?id=71154318-28-72&amp;n=21"/>
          <p:cNvPicPr/>
          <p:nvPr/>
        </p:nvPicPr>
        <p:blipFill>
          <a:blip r:embed="rId1"/>
          <a:stretch/>
        </p:blipFill>
        <p:spPr>
          <a:xfrm>
            <a:off x="5943600" y="231840"/>
            <a:ext cx="3078000" cy="2962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304920" y="258840"/>
            <a:ext cx="8229600" cy="59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1945-1947 рр. – проживає                                в Бухаресті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1948 р. – назавжди оселився                                    в Парижі, завершив свою                                освіту, став доцентом германістики у вищій педагогічній школі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Одружується з французькою художницю Жизель Пестранж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Квітень 1970 р. – покінчив життя самогубством, перехилившись востаннє через ажурне поруччя моста над Сеною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52280" y="228240"/>
            <a:ext cx="69343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000000"/>
                </a:solidFill>
                <a:uFillTx/>
                <a:latin typeface="Arial"/>
              </a:rPr>
              <a:t>Творчіст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948 р. – зб. “Пісок із урн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952 р. – “Мак і пам'ять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955 р. – “Мовні грати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963 р. – “Троянда нікому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967 р. – “Переведення подиху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968 р. – “Сонце з ниток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970 р. – “Диктант світла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971 р. – “Рештка снігу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http://im7-tub-ua.yandex.net/i?id=244662890-48-72&amp;n=21"/>
          <p:cNvPicPr/>
          <p:nvPr/>
        </p:nvPicPr>
        <p:blipFill>
          <a:blip r:embed="rId1"/>
          <a:stretch/>
        </p:blipFill>
        <p:spPr>
          <a:xfrm>
            <a:off x="6485040" y="152280"/>
            <a:ext cx="243972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0" name="Picture 4" descr="http://im8-tub-ua.yandex.net/i?id=357068586-66-72&amp;n=21"/>
          <p:cNvPicPr/>
          <p:nvPr/>
        </p:nvPicPr>
        <p:blipFill>
          <a:blip r:embed="rId2"/>
          <a:stretch/>
        </p:blipFill>
        <p:spPr>
          <a:xfrm>
            <a:off x="6781680" y="3289320"/>
            <a:ext cx="2167200" cy="3424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51920" y="1600200"/>
            <a:ext cx="861084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8000"/>
          </a:bodyPr>
          <a:p>
            <a:pPr marL="130320" indent="-130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дерніз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(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фр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modernism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, у мистецтві загальний термін, що використовується для виниклих на початку 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20 столітт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спроб порвати з художніми традиціями 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19 столітт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заснований на концепції домінування форми на противагу змісту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10-20T11:43:20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010000000000001024140</vt:lpwstr>
  </property>
  <property fmtid="{D5CDD505-2E9C-101B-9397-08002B2CF9AE}" pid="3" name="Version">
    <vt:r8>1</vt:r8>
  </property>
</Properties>
</file>