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1A9-2F9D-4A75-909D-248D367A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13A-85FC-426B-9B16-DEED4483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D4F-AC9A-4F4D-9654-F09B3929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234-1965-40B9-8D2C-98515864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62B-8F23-4B85-AA98-CCA0C131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4BE-A264-447C-B064-8BA406B6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8C1-E4B8-4F94-B8B2-D07CEA0C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42B-6275-4357-8473-F99FFBFF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09B-05CC-4336-80BD-557595BF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831-E816-4F21-A161-CB5CCCF1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2BC-5A58-4030-8D78-8FA1DBBD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593-D3B8-4137-9EE8-6474BE82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AAFE-CD5B-4532-9574-27953D77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971280" y="955440"/>
            <a:ext cx="755964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юдина починається з доб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з ласки і великої любов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з батьківської хати і дво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поваги, що звучить у кожнім слов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юдина починається з доб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уміння співчувати, захист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е зрозуміти всім давно по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о ми прийшли у світ добро твор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юдина починається з доб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з світла, що серця переповня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я істина, як світ, така ста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 й досі на добро нас надиха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2114640" cy="26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81342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800" spc="-1" strike="noStrike" u="sng">
                <a:solidFill>
                  <a:srgbClr val="0000ff"/>
                </a:solidFill>
                <a:uFillTx/>
                <a:latin typeface="Arial"/>
              </a:rPr>
              <a:t>Тема:</a:t>
            </a: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800"/>
            </a:b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Спиридон Черкасенко. «Маленький горбань». Краса і   незахищеність людської душі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peace_dove"/>
          <p:cNvPicPr/>
          <p:nvPr/>
        </p:nvPicPr>
        <p:blipFill>
          <a:blip r:embed="rId2"/>
          <a:stretch/>
        </p:blipFill>
        <p:spPr>
          <a:xfrm>
            <a:off x="6983280" y="4021200"/>
            <a:ext cx="2160720" cy="283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ознайомити учнів із житт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євим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і творч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им шляхом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С.Черкасенк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озпочати роботу щодо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алізу твору «Маленький горбань;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’ясувати ідейно-тематичне спрямування;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розвивати культуру зв’язного  мовленн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я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міння висловлювати власні міркування про красу зовнішню і красу   людської    душі (внутрішню);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- сприяти вихованню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доброти, чуйності, пов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6240" y="1260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00ff"/>
                </a:solidFill>
                <a:uFillTx/>
                <a:latin typeface="Arial"/>
              </a:rPr>
              <a:t>Ме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000" y="1196640"/>
            <a:ext cx="7630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Живи, добро звер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Та нагород за це не вимаг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Хай оживає істина ста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Людина починається з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Л.Забаш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09880" y="24768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00ff"/>
                </a:solidFill>
                <a:uFillTx/>
                <a:latin typeface="Arial"/>
              </a:rPr>
              <a:t>Епігра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Чи знаєте ви, щ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1557360" y="160020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3" descr=""/>
          <p:cNvPicPr/>
          <p:nvPr/>
        </p:nvPicPr>
        <p:blipFill>
          <a:blip r:embed="rId3"/>
          <a:stretch/>
        </p:blipFill>
        <p:spPr>
          <a:xfrm>
            <a:off x="5067360" y="1600200"/>
            <a:ext cx="319860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" descr=""/>
          <p:cNvPicPr/>
          <p:nvPr/>
        </p:nvPicPr>
        <p:blipFill>
          <a:blip r:embed="rId4"/>
          <a:stretch/>
        </p:blipFill>
        <p:spPr>
          <a:xfrm>
            <a:off x="1523880" y="433692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3" descr=""/>
          <p:cNvPicPr/>
          <p:nvPr/>
        </p:nvPicPr>
        <p:blipFill>
          <a:blip r:embed="rId5"/>
          <a:stretch/>
        </p:blipFill>
        <p:spPr>
          <a:xfrm>
            <a:off x="6024600" y="4075200"/>
            <a:ext cx="1276200" cy="190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«Встановіть відповідні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5018040"/>
        </p:xfrm>
        <a:graphic>
          <a:graphicData uri="http://schemas.openxmlformats.org/drawingml/2006/table">
            <a:tbl>
              <a:tblPr/>
              <a:tblGrid>
                <a:gridCol w="2403360"/>
                <a:gridCol w="5826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авильний поря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ла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Скривджений Павли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Суперечка за долю пташеня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Відмова Павлика від розправи, його вміння проща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 Світ нениних каз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Перша сутичка між Павликом і Захарк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 Весело й шумно на вигоні за шахтарською слобідко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Кольорова феєрі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справдилися ваші очіку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задоволені ви своєю роботою?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ервоний – т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маранчевий – ні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елений – не зовсі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2852640"/>
            <a:ext cx="792000" cy="601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c000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3860640"/>
            <a:ext cx="718920" cy="648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000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5084640"/>
            <a:ext cx="792000" cy="648000"/>
          </a:xfrm>
          <a:prstGeom prst="rect">
            <a:avLst/>
          </a:prstGeom>
          <a:solidFill>
            <a:srgbClr val="00b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«Вибери сам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Достатній рі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Інтерв’ю з героями твор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рі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Павл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варі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Зах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сти порівняльну характеристику Павлика й Заха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исокий рі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сти «Монолог добра» за алгоритм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– доб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жив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мрію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робл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зна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допоміг (допомогла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бажа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BD00146_"/>
          <p:cNvPicPr/>
          <p:nvPr/>
        </p:nvPicPr>
        <p:blipFill>
          <a:blip r:embed="rId2"/>
          <a:stretch/>
        </p:blipFill>
        <p:spPr>
          <a:xfrm>
            <a:off x="5796000" y="4292640"/>
            <a:ext cx="2987640" cy="256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06:03Z</dcterms:created>
  <dc:creator>Maksim</dc:creator>
  <dc:description/>
  <dc:language>en-US</dc:language>
  <cp:lastModifiedBy>Наталья</cp:lastModifiedBy>
  <dcterms:modified xsi:type="dcterms:W3CDTF">2011-12-07T19:27:35Z</dcterms:modified>
  <cp:revision>52</cp:revision>
  <dc:subject/>
  <dc:title>Всеукраїнська молодіжна громадська організація “Служіння заради миру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4000000000001024140</vt:lpwstr>
  </property>
</Properties>
</file>