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A20-4257-44D6-877F-E4A42D67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CE8-1B60-4DAD-9DF6-51D8928D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364-E570-41A7-A0F2-21015883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EF0-C86A-4264-9FD2-D9B800C1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2ACC-EB0B-4E34-8B57-479FEA9F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2E18-6CD1-4359-A331-1D6F95DF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65B6-F150-4913-B9DD-EC5207D4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EBC9-1867-48AD-809B-788AD8FC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04AE-041D-4835-83D3-8C24109B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FFB4-6D3B-4650-80EB-FAD04B54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7746-A711-4208-8606-8318CC6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400-9FE8-49CB-AB62-2D176A3B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6DC2-BEAB-40BB-A214-ED6004EC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DDA2-00D6-4CB9-9834-149539A3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0841-0A9F-40C2-BB37-191DB1B4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A032-B1D9-456D-8E12-603EC1EE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1E0B-4B13-4EF7-B91E-C379468E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B02-A5B6-45EC-847B-A01FB61E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39A-954C-4583-98DA-15096439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B64-673A-4FA8-A3F9-F929E9FD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943-395B-43A8-9FCF-9F71136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039-68BE-4DE2-A2B0-14679ADB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C87-0322-4B1D-8050-BC389D30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D37-34AA-47C8-9050-8E2759D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6020-FDC0-4A6A-AE21-454A535164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BDA5-2036-4811-8020-E2415FD63B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Крила потрібні лиш тим, хто літає. Подумай, як живуть люди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Що вони роблять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Де вони?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Затримайся й поміркуй, чому?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Одні ходять пішки, інші літають…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Деякі опускають руки,   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39640" y="-316080"/>
            <a:ext cx="5073840" cy="6840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rot="20512200">
            <a:off x="3562560" y="4149720"/>
            <a:ext cx="34560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Edwardian Script ITC"/>
              </a:rPr>
              <a:t>Шарль Бодл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2240" y="333000"/>
            <a:ext cx="85914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                      “</a:t>
            </a: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До читача”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ад плоттю нашою й над нашими умами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анують глупота, брехня, скупарство, гріх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любим докори сумління й живим їх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ними з’їдені, як жебраки кліщами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щедро платимо за наше зізнавання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тяті в злочині та підлі в каятті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повертаємось на зрадницькі путі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лізьми відмитися плануючи зарання…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ереклад Д.Павлич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ДВА НАПРЯМКИ</a:t>
            </a: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в російській поезії середин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XIX</a:t>
            </a: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РОМАДЯНСЬКА ЛІРИКА” – М.Некр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ИСТЕЦТВО ЗАРАДИ МИСТЕЦТВА”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.Фет, А.Майков, О.Толстой, Ф.Тютч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rcRect l="-2593" t="0" r="0" b="-172"/>
          <a:stretch/>
        </p:blipFill>
        <p:spPr>
          <a:xfrm>
            <a:off x="0" y="0"/>
            <a:ext cx="2987640" cy="4941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2289600" y="398520"/>
            <a:ext cx="7436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ак беден наш язык! - Хочу и не могу. -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е передать того ни другу, ни врагу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Что буйствует в груди прозрачною волною.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прасно вечное томление сердец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И клонит голову маститую мудрец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ед этой ложью роковою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ишь у тебя, поэт, крылатый слова звук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Хватает на лету и закрепляет вдруг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И темный бред души и трав неясный запах;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ак, для безбрежного покинув скудный дол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етит за облака Юпитера орел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ноп молнии неся мгновенный в верных лап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833480" y="-89640"/>
            <a:ext cx="4137120" cy="710712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SILENTIUM!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(молчание)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олчи, скрывайся и таи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И чувства и мечты свои 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ускай в душевной глубине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стают и заходят оне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езмолвно, как звезды в но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юбуйся ими - и молчи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Как сердцу высказать себя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ругому как понять тебя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ймёт ли он, чем ты живёшь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ысль изречённая есть ложь.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зрывая, возмутишь клю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итайся ими - и молчи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ишь жить в себе самом умей 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Есть целый мир в душе твоей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Таинственно-волшебных дум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Их оглушит наружный шум,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невные разгонят лу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нимай их пенью - и молчи!.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9680" cy="5400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2925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-321120" y="273240"/>
            <a:ext cx="9788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Шепіт… Ніжний звук зітхання…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Шепот, робкое дыхан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олов’їний спів…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ли солов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рібна гра  і колихання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ебро и колыхан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онних ручаїв.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нного руч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Ночі блиск… Тремтіння тіней…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т ночной, ночные те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Тіні без кінця…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ни без кон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Ненастанні, дивні зміни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 волшебных изме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Милого лиця…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илого л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У хмаринках  - пурпур рози.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ымных тучках пурпур роз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Відблиск янтаря…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Отблеск янтар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 цілунків пал, і сльози,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лобзания, и слез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 зоря, зоря!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заря, заря!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Переклад М.Рильсько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нші ж не стоять на місці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Борючись щоденно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Проти посередності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І йдучи вперед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Заперечуючи смерть і мертвих.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 знову хтось запитає:”Для чого ми живемо? ”!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Дехто ходить пішки, а хтось  літає…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               </a:t>
            </a:r>
            <a:r>
              <a:rPr b="0" lang="uk-UA" sz="2400" spc="-1" strike="noStrike">
                <a:solidFill>
                  <a:srgbClr val="ffffcc"/>
                </a:solidFill>
                <a:latin typeface="Tahoma"/>
              </a:rPr>
              <a:t>Стівен Гарнер “Крила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5280" cy="45356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28033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Верлібр – 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вільний вірш без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             чітко визначеного  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        римуван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Себе я прославляю, себе оспіву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І те, що приймаю я, приймете й в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Бо кожен атом, котрий належить мені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Так само належить в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                                         </a:t>
            </a:r>
            <a:r>
              <a:rPr b="0" i="1" lang="uk-UA" sz="3200" spc="-1" strike="noStrike">
                <a:solidFill>
                  <a:srgbClr val="ffffff"/>
                </a:solidFill>
                <a:latin typeface="Tw Cen MT Condensed Extra Bold"/>
              </a:rPr>
              <a:t>В.Віт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361800"/>
            <a:ext cx="100584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звіть спільні ознаки творчості парнасців у Франції та “чистого мистецтва” в Росії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Що поєднує творчість Ш.Бодлера, В.Вітмена та Т.Шевченк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400" spc="-1" strike="noStrike">
                <a:solidFill>
                  <a:srgbClr val="ffffcc"/>
                </a:solidFill>
                <a:latin typeface="Tahoma"/>
              </a:rPr>
              <a:t>Провідні шляхи розвитку поезії середини 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XIX </a:t>
            </a:r>
            <a:r>
              <a:rPr b="0" i="1" lang="uk-UA" sz="4400" spc="-1" strike="noStrike">
                <a:solidFill>
                  <a:srgbClr val="ffffcc"/>
                </a:solidFill>
                <a:latin typeface="Tahoma"/>
              </a:rPr>
              <a:t>століття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43640" y="3213000"/>
            <a:ext cx="2916000" cy="3384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75120" y="351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Arial Black"/>
              </a:rPr>
              <a:t>Яким чином романтична поезія середини </a:t>
            </a:r>
            <a:r>
              <a:rPr b="1" i="1" lang="en-US" sz="4400" spc="-1" strike="noStrike">
                <a:solidFill>
                  <a:srgbClr val="ffffcc"/>
                </a:solidFill>
                <a:latin typeface="Arial Black"/>
              </a:rPr>
              <a:t>XIX </a:t>
            </a:r>
            <a:r>
              <a:rPr b="1" i="1" lang="uk-UA" sz="4400" spc="-1" strike="noStrike">
                <a:solidFill>
                  <a:srgbClr val="ffffcc"/>
                </a:solidFill>
                <a:latin typeface="Arial Black"/>
              </a:rPr>
              <a:t>століття  долала традиції романтизму і наближалася до символізму?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Романтизм – напрям в літературі і мистецтві, який виник наприкінці 18 ст. в іспанській середньовічній літературі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вага до людини як вищої цінност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воєрідність романтичного геро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твердження високих ідеалів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мова від зображення реального житт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інтерес до минулого, народної творчості, міфологі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3905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3214800" cy="3716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3851280" y="0"/>
            <a:ext cx="2733840" cy="4005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6084720" y="2852640"/>
            <a:ext cx="2864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a3c145"/>
                </a:solidFill>
                <a:latin typeface="Copperplate Gothic Light"/>
              </a:rPr>
              <a:t>ДЕКАДАНС  (фр. занепад) – загальна назва кризових явищ к.</a:t>
            </a:r>
            <a:r>
              <a:rPr b="0" lang="en-US" sz="3200" spc="-1" strike="noStrike">
                <a:solidFill>
                  <a:srgbClr val="a3c145"/>
                </a:solidFill>
                <a:latin typeface="Copperplate Gothic Light"/>
              </a:rPr>
              <a:t>XIX</a:t>
            </a:r>
            <a:r>
              <a:rPr b="0" lang="uk-UA" sz="3200" spc="-1" strike="noStrike">
                <a:solidFill>
                  <a:srgbClr val="a3c145"/>
                </a:solidFill>
                <a:latin typeface="Copperplate Gothic Light"/>
              </a:rPr>
              <a:t> – п.</a:t>
            </a:r>
            <a:r>
              <a:rPr b="0" lang="en-US" sz="3200" spc="-1" strike="noStrike">
                <a:solidFill>
                  <a:srgbClr val="a3c145"/>
                </a:solidFill>
                <a:latin typeface="Copperplate Gothic Light"/>
              </a:rPr>
              <a:t>XX</a:t>
            </a:r>
            <a:r>
              <a:rPr b="0" lang="uk-UA" sz="3200" spc="-1" strike="noStrike">
                <a:solidFill>
                  <a:srgbClr val="a3c145"/>
                </a:solidFill>
                <a:latin typeface="Copperplate Gothic Light"/>
              </a:rPr>
              <a:t>ст.; настрої безнадії, розчарування, занепаду життєвих сил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имволізм (грец. знак, ознака) – художній напрям в літературі </a:t>
            </a:r>
            <a:r>
              <a:rPr b="0" lang="ru-RU" sz="2400" spc="-1" strike="noStrike">
                <a:solidFill>
                  <a:srgbClr val="ffffff"/>
                </a:solidFill>
                <a:latin typeface="Copperplate Gothic Light"/>
              </a:rPr>
              <a:t>к.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XIX</a:t>
            </a:r>
            <a:r>
              <a:rPr b="0" lang="uk-UA" sz="2400" spc="-1" strike="noStrike">
                <a:solidFill>
                  <a:srgbClr val="ffffff"/>
                </a:solidFill>
                <a:latin typeface="Copperplate Gothic Light"/>
              </a:rPr>
              <a:t> – п.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XX</a:t>
            </a:r>
            <a:r>
              <a:rPr b="0" lang="uk-UA" sz="2400" spc="-1" strike="noStrike">
                <a:solidFill>
                  <a:srgbClr val="ffffff"/>
                </a:solidFill>
                <a:latin typeface="Copperplate Gothic Light"/>
              </a:rPr>
              <a:t>ст.; </a:t>
            </a:r>
            <a:r>
              <a:rPr b="0" lang="uk-UA" sz="3200" spc="-1" strike="noStrike">
                <a:solidFill>
                  <a:srgbClr val="ffffff"/>
                </a:solidFill>
                <a:latin typeface="Copperplate Gothic Light"/>
              </a:rPr>
              <a:t>матеріальні речі перетворювалися в свідомості митців на “знаки” певних душевних станів і ідей, а художні образи – на симво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>
            <a:off x="-324720" y="1052640"/>
            <a:ext cx="71640" cy="6426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9:11Z</dcterms:created>
  <dc:creator>Лилия</dc:creator>
  <dc:description/>
  <dc:language>en-US</dc:language>
  <cp:lastModifiedBy>Лилия</cp:lastModifiedBy>
  <dcterms:modified xsi:type="dcterms:W3CDTF">2011-03-02T18:31:14Z</dcterms:modified>
  <cp:revision>12</cp:revision>
  <dc:subject/>
  <dc:title>Крила потрібні лиш тим, хто літає. Подумай, як живуть люди Що вони роблять,                    Де вони?                Затримайся й поміркуй, чому?                 Одні ходять пішки, інші літають.      Деякі опускають руки,          Снуючи  павутину із сюжету будні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d000000000001024140</vt:lpwstr>
  </property>
</Properties>
</file>