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36D-A28E-445C-BA68-9C98C5E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B46-0FBA-41F4-BF2F-F4E802B7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DF3-AC52-4F30-B96B-7674D1D2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61E-B760-4823-B15E-E304929E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068-E604-45C9-9713-91777D79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D5BD-A20F-48F5-A38E-0EF307F2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509F-DB93-4BB5-BB6B-7D0F46DD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0409-A404-482F-9848-2B1284B1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5674-C6FE-4255-B292-57E07D6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D8C6-65EE-44CE-A0F2-9BC66934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C9F-AD33-4F36-B1F3-ED843F3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D0B-C156-455E-96F5-34F43032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02E7-1D4F-4AD4-920A-8672507D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9BF-0586-4CE0-8EFB-553B42D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1C2-4F97-4497-97CF-4168FF9A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8BD7-9C5C-40FF-9048-AB40FC8D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BBF7-F4D7-4C85-91BB-23A9468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887-5CEB-43F0-801F-A6C405FC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C3C-8070-41E8-9887-BF9EFB3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24D-0AFF-47CC-95C5-DCB06ECB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A46-BF34-4496-A2BF-38900FA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D51-D1F8-4277-BF1F-D3A8BCF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089-30CB-43A9-AB7C-65CC038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23C-6EC0-459B-92DE-401F88A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B324-1376-4686-A17C-79C8205023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7F4C-FCFF-4873-A33E-67D607ADBF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Крила потрібні лиш тим, хто літає. Подумай, як живуть люди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Що вони роблять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Де вони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Затримайся й поміркуй, чому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Одні ходять пішки, інші літають…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Деякі опускають руки,  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-316080"/>
            <a:ext cx="5073840" cy="684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20512200">
            <a:off x="3562560" y="4149720"/>
            <a:ext cx="34560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Edwardian Script ITC"/>
              </a:rPr>
              <a:t>Шарль Бодл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2240" y="33300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       “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До читача”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ад плоттю нашою й над нашими умам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анують глупота, брехня, скупарство, гріх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любим докори сумління й живим їх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ними з’їдені, як жебраки кліщами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щедро платимо за наше зізнавання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тяті в злочині та підлі в каят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повертаємось на зрадницькі пу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ізьми відмитися плануючи зарання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ереклад Д.Павлич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ВА НАПРЯМК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в російській поезії середин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РОМАДЯНСЬКА ЛІРИКА” – М.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ИСТЕЦТВО ЗАРАДИ МИСТЕЦТВА”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.Фет, А.Майков, О.Толстой, Ф.Тютч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-2593" t="0" r="0" b="-172"/>
          <a:stretch/>
        </p:blipFill>
        <p:spPr>
          <a:xfrm>
            <a:off x="0" y="0"/>
            <a:ext cx="2987640" cy="4941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289600" y="398520"/>
            <a:ext cx="7436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к беден наш язык! - Хочу и не могу. -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 передать того ни другу, ни врагу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Что буйствует в груди прозрачною волною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прасно вечное томление сердец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клонит голову маститую мудрец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ед этой ложью роковою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ишь у тебя, поэт, крылатый слова звук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ватает на лету и закрепляет вдруг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темный бред души и трав неясный запах;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, для безбрежного покинув скудный до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етит за облака Юпитера оре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ноп молнии неся мгновенный в верных лап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33480" y="-89640"/>
            <a:ext cx="4137120" cy="710712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SILENTIUM!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молчание)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олчи, скрывайся и таи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 чувства и мечты свои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ускай в душевной глуби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тают и заходят о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змолвно, как звезды в но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юбу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Как сердцу высказать с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ругому как понять т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ймёт ли он, чем ты живёшь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ысль изречённая есть ложь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зрывая, возмутишь клю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ита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ишь жить в себе самом умей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Есть целый мир в душе твоей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аинственно-волшебных дум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х оглушит наружный шум,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невные разгонят лу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нимай их пенью - и молчи!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9680" cy="5400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92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-321120" y="273240"/>
            <a:ext cx="978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Шепіт… Ніжний звук зітхання…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Шепот, робкое дыха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лов’їний спів…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ли солов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рібна гра  і колихання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о и колых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нних ручаїв.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ного руч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очі блиск… Тремтіння тіней…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т ночной, ночны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Тіні без кінця…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ни без ко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енастанні, дивні зміни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 волшебных из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Милого лиця…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илого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 хмаринках  - пурпур рози.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ных тучках пурпур ро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Відблиск янтаря…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тблеск янтар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цілунків пал, і сльози,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лобзания, и сле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зоря, зоря!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заря, заря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ереклад М.Рильськ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нші ж не стоять на місці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Борючись щоденно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роти посередності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І йдучи вперед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Заперечуючи смерть і мертвих.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 знову хтось запитає:”Для чого ми живемо? ”!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Дехто ходить пішки, а хтось  літає…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</a:t>
            </a: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Стівен Гарнер “Крила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453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803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ерлібр –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вільний вірш без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     чітко визначеного  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римуван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Себе я прославляю, себе оспів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І те, що приймаю я, приймете й 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Бо кожен атом, котрий належить мені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Так само належить в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                                         </a:t>
            </a:r>
            <a:r>
              <a:rPr b="0" i="1" lang="uk-UA" sz="3200" spc="-1" strike="noStrike">
                <a:solidFill>
                  <a:srgbClr val="ffffff"/>
                </a:solidFill>
                <a:latin typeface="Tw Cen MT Condensed Extra Bold"/>
              </a:rPr>
              <a:t>В.Віт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36180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віть спільні ознаки творчості парнасців у Франції та “чистого мистецтва” в Росії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поєднує творчість Ш.Бодлера, В.Вітмена та Т.Шевчен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Провідні шляхи розвитку поезії середини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столітт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43640" y="3213000"/>
            <a:ext cx="2916000" cy="338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75120" y="351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Яким чином романтична поезія середини 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XIX </a:t>
            </a: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століття  долала традиції романтизму і наближалася до символізму?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Романтизм – напрям в літературі і мистецтві, який виник наприкінці 18 ст. в іспанській середньовічній літературі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вага до людини як вищої цінност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воєрідність романтичного геро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ердження високих ідеалів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мова від зображення реального житт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нтерес до минулого, народної творчості, міфолог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905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214800" cy="371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2733840" cy="4005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864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Copperplate Gothic Light"/>
              </a:rPr>
              <a:t>ДЕКАДАНС  (фр. занепад) – загальна назва кризових явищ к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I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 – п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ст.; настрої безнадії, розчарування, занепаду життєвих сил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имволізм (грец. знак, ознака) – художній напрям в літературі </a:t>
            </a:r>
            <a:r>
              <a:rPr b="0" lang="ru-RU" sz="2400" spc="-1" strike="noStrike">
                <a:solidFill>
                  <a:srgbClr val="ffffff"/>
                </a:solidFill>
                <a:latin typeface="Copperplate Gothic Light"/>
              </a:rPr>
              <a:t>к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I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 – п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ст.; </a:t>
            </a:r>
            <a:r>
              <a:rPr b="0" lang="uk-UA" sz="3200" spc="-1" strike="noStrike">
                <a:solidFill>
                  <a:srgbClr val="ffffff"/>
                </a:solidFill>
                <a:latin typeface="Copperplate Gothic Light"/>
              </a:rPr>
              <a:t>матеріальні речі перетворювалися в свідомості митців на “знаки” певних душевних станів і ідей, а художні образи – на симво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-324720" y="1052640"/>
            <a:ext cx="71640" cy="6426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9:11Z</dcterms:created>
  <dc:creator>Лилия</dc:creator>
  <dc:description/>
  <dc:language>en-US</dc:language>
  <cp:lastModifiedBy>Лилия</cp:lastModifiedBy>
  <dcterms:modified xsi:type="dcterms:W3CDTF">2011-03-02T18:31:14Z</dcterms:modified>
  <cp:revision>12</cp:revision>
  <dc:subject/>
  <dc:title>Крила потрібні лиш тим, хто літає. Подумай, як живуть люди Що вони роблять,                    Де вони?                Затримайся й поміркуй, чому?                 Одні ходять пішки, інші літають.      Деякі опускають руки,          Снуючи  павутину із сюжету будні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d000000000001024140</vt:lpwstr>
  </property>
</Properties>
</file>