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674-2F08-4069-A0DC-3F056EB7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194-CF4A-44F2-9898-4B30743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871-6C9E-4CF3-A1B2-2D31CA595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623-D4FE-4888-96F6-E193E23B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A236-F1A3-4ACF-A36F-0D1C2384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57AA-7EF0-4581-9375-54D82D80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5F53-9492-438A-BBD2-0800F173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DF041-D8AA-4D9C-B307-8EC0DC23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4962-A479-41BF-B5C7-789F56FA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C4B7-940D-4745-8F72-9AF3BA5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51BE-81E0-484C-84C4-DCC1DC0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1A76-AD26-4164-85B4-F3F4BA07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A92C-F301-4943-86EF-9545AAE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E64D-7A8C-45ED-B22A-E1EE235B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03E6-94FC-4025-B2E9-014A865E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480B-677A-416D-AB2B-FB6E9395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19F1-0576-4BDD-9A8B-82AF72498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765-C20F-4FB4-9805-A3A4FE3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8549-2930-4922-9A4E-FCBB480C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DA1-4AEA-48DA-BA80-BD023F54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CA7C-2695-4948-B135-B610DF58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642-6A72-444B-9449-DA506602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2A9-CC6F-4B0A-B266-FECAB0B2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E3B-4083-4D2E-9805-368FDF7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3805-50B0-4F9E-B24A-CA3B585928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E8DE-3E1E-4794-BA0A-3D18D4FF372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65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Крила потрібні лиш тим, хто літає. Подумай, як живуть люди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Що вони роблять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Де вони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Затримайся й поміркуй, чому?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Одні ходять пішки, інші літають…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Деякі опускають руки,   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539640" y="-316080"/>
            <a:ext cx="5073840" cy="684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 rot="20512200">
            <a:off x="3562560" y="4149720"/>
            <a:ext cx="3456000" cy="581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Edwardian Script ITC"/>
              </a:rPr>
              <a:t>Шарль Бодл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52240" y="333000"/>
            <a:ext cx="85914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       “</a:t>
            </a: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До читача”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Над плоттю нашою й над нашими умами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анують глупота, брехня, скупарство, гріх;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любим докори сумління й живим їх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ними з’їдені, як жебраки кліщами.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щедро платимо за наше зізнавання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Затяті в злочині та підлі в каят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и повертаємось на зрадницькі путі,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лізьми відмитися плануючи зарання…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ереклад Д.Павличк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ДВА НАПРЯМКИ</a:t>
            </a:r>
            <a:br>
              <a:rPr sz="4000"/>
            </a:b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в російській поезії середини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XIX</a:t>
            </a:r>
            <a:r>
              <a:rPr b="0" lang="uk-UA" sz="4000" spc="-1" strike="noStrike">
                <a:solidFill>
                  <a:srgbClr val="ffffcc"/>
                </a:solidFill>
                <a:latin typeface="Tahoma"/>
              </a:rPr>
              <a:t>ст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1680" y="2204640"/>
            <a:ext cx="854064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ГРОМАДЯНСЬКА ЛІРИКА” – М.Некрас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МИСТЕЦТВО ЗАРАДИ МИСТЕЦТВА”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А.Фет, А.Майков, О.Толстой, Ф.Тютче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rcRect l="-2593" t="0" r="0" b="-172"/>
          <a:stretch/>
        </p:blipFill>
        <p:spPr>
          <a:xfrm>
            <a:off x="0" y="0"/>
            <a:ext cx="2987640" cy="4941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2289600" y="398520"/>
            <a:ext cx="7436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0066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Как беден наш язык! - Хочу и не могу. -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е передать того ни другу, ни врагу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 Что буйствует в груди прозрачною волною.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Напрасно вечное томление сердец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клонит голову маститую мудрец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ред этой ложью роковою.</a:t>
            </a:r>
            <a:br>
              <a:rPr sz="2400"/>
            </a:b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ишь у тебя, поэт, крылатый слова звук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Хватает на лету и закрепляет вдруг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И темный бред души и трав неясный запах;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Так, для безбрежного покинув скудный до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Летит за облака Юпитера орел,</a:t>
            </a:r>
            <a:br>
              <a:rPr sz="2400"/>
            </a:b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ноп молнии неся мгновенный в верных лапах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833480" y="-89640"/>
            <a:ext cx="4137120" cy="7107120"/>
          </a:xfrm>
          <a:prstGeom prst="rect">
            <a:avLst/>
          </a:prstGeom>
          <a:solidFill>
            <a:srgbClr val="a3c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ahoma"/>
              </a:rPr>
              <a:t>SILENTIUM!</a:t>
            </a: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 (молчание)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олчи, скрывайся и таи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 чувства и мечты свои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ускай в душевной глуби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стают и заходят оне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Безмолвно, как звезды в но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юбу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Как сердцу высказать с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ругому как понять тебя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оймёт ли он, чем ты живёшь?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Мысль изречённая есть ложь.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зрывая, возмутишь клю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Питайся ими - и молчи.</a:t>
            </a:r>
            <a:br>
              <a:rPr sz="2000"/>
            </a:b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Лишь жить в себе самом умей 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Есть целый мир в душе твоей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Таинственно-волшебных дум;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Их оглушит наружный шум,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Дневные разгонят лучи,-</a:t>
            </a:r>
            <a:br>
              <a:rPr sz="2000"/>
            </a:br>
            <a:r>
              <a:rPr b="0" lang="uk-UA" sz="2000" spc="-1" strike="noStrike">
                <a:solidFill>
                  <a:srgbClr val="ffffff"/>
                </a:solidFill>
                <a:latin typeface="Tahoma"/>
              </a:rPr>
              <a:t>Внимай их пенью - и молчи!.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003640" y="3357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279680" cy="54007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64000" y="1844640"/>
            <a:ext cx="32925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-321120" y="273240"/>
            <a:ext cx="978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Шепіт… Ніжний звук зітхання…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Шепот, робкое дыхань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лов’їний спів…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ели соловь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рібна гра  і колихання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ебро и колыхан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Сонних ручаїв.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нного руч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очі блиск… Тремтіння тіней…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ет ночной, ночные тен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Тіні без кінця…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ни без кон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Ненастанні, дивні зміни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 волшебных измен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Милого лиця…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илого ли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У хмаринках  - пурпур рози.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ымных тучках пурпур ро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Відблиск янтаря…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тблеск янтар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цілунків пал, і сльози,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лобзания, и слез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І зоря, зоря!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заря, заря!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Переклад М.Рильського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нші ж не стоять на місці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Борючись щоденно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Проти посередності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І йдучи вперед,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Заперечуючи смерть і мертвих.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І знову хтось запитає:”Для чого ми живемо? ”! </a:t>
            </a: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Дехто ходить пішки, а хтось  літає…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ffffcc"/>
                </a:solidFill>
                <a:latin typeface="Tahoma"/>
              </a:rPr>
              <a:t>                                  </a:t>
            </a:r>
            <a:r>
              <a:rPr b="0" lang="uk-UA" sz="2400" spc="-1" strike="noStrike">
                <a:solidFill>
                  <a:srgbClr val="ffffcc"/>
                </a:solidFill>
                <a:latin typeface="Tahoma"/>
              </a:rPr>
              <a:t>Стівен Гарнер “Крила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535280" cy="45356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796000" y="3357720"/>
            <a:ext cx="28033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24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ffcc"/>
                </a:solidFill>
                <a:uFillTx/>
                <a:latin typeface="Tahoma"/>
              </a:rPr>
              <a:t>Верлібр –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вільний вірш без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     чітко визначеного  </a:t>
            </a:r>
            <a:br>
              <a:rPr sz="4000"/>
            </a:b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        римуванн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Себе я прославляю, себе оспівую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І те, що приймаю я, приймете й ви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Бо кожен атом, котрий належить мені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Так само належить в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w Cen MT Condensed Extra Bold"/>
              </a:rPr>
              <a:t>                                         </a:t>
            </a:r>
            <a:r>
              <a:rPr b="0" i="1" lang="uk-UA" sz="3200" spc="-1" strike="noStrike">
                <a:solidFill>
                  <a:srgbClr val="ffffff"/>
                </a:solidFill>
                <a:latin typeface="Tw Cen MT Condensed Extra Bold"/>
              </a:rPr>
              <a:t>В.Віт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5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500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7,-125,-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69,-63,-9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-304920" y="-361800"/>
            <a:ext cx="100584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Домашнє завданн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Назвіть спільні ознаки творчості парнасців у Франції та “чистого мистецтва” в Росії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Що поєднує творчість Ш.Бодлера, В.Вітмена та Т.Шевченк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Провідні шляхи розвитку поезії середини </a:t>
            </a:r>
            <a:br>
              <a:rPr sz="4400"/>
            </a:b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XIX </a:t>
            </a:r>
            <a:r>
              <a:rPr b="0" i="1" lang="uk-UA" sz="4400" spc="-1" strike="noStrike">
                <a:solidFill>
                  <a:srgbClr val="ffffcc"/>
                </a:solidFill>
                <a:latin typeface="Tahoma"/>
              </a:rPr>
              <a:t>століття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43640" y="3213000"/>
            <a:ext cx="2916000" cy="3384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75120" y="351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Яким чином романтична поезія середини </a:t>
            </a:r>
            <a:r>
              <a:rPr b="1" i="1" lang="en-US" sz="4400" spc="-1" strike="noStrike">
                <a:solidFill>
                  <a:srgbClr val="ffffcc"/>
                </a:solidFill>
                <a:latin typeface="Arial Black"/>
              </a:rPr>
              <a:t>XIX </a:t>
            </a:r>
            <a:r>
              <a:rPr b="1" i="1" lang="uk-UA" sz="4400" spc="-1" strike="noStrike">
                <a:solidFill>
                  <a:srgbClr val="ffffcc"/>
                </a:solidFill>
                <a:latin typeface="Arial Black"/>
              </a:rPr>
              <a:t>століття  долала традиції романтизму і наближалася до символізму?</a:t>
            </a: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cc"/>
                </a:solidFill>
                <a:latin typeface="Tahoma"/>
              </a:rPr>
              <a:t>Романтизм – напрям в літературі і мистецтві, який виник наприкінці 18 ст. в іспанській середньовічній літературі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4000" y="2491920"/>
            <a:ext cx="854064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вага до людини як вищої цінності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воєрідність романтичного геро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ердження високих ідеалів 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дмова від зображення реального житт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інтерес до минулого, народної творчості, міфологі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57680" cy="390528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3214800" cy="371628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tretch/>
        </p:blipFill>
        <p:spPr>
          <a:xfrm>
            <a:off x="3851280" y="0"/>
            <a:ext cx="2733840" cy="40053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084720" y="2852640"/>
            <a:ext cx="2864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a3c145"/>
                </a:solidFill>
                <a:latin typeface="Copperplate Gothic Light"/>
              </a:rPr>
              <a:t>ДЕКАДАНС  (фр. занепад) – загальна назва кризових явищ к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I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 – п.</a:t>
            </a:r>
            <a:r>
              <a:rPr b="0" lang="en-US" sz="3200" spc="-1" strike="noStrike">
                <a:solidFill>
                  <a:srgbClr val="a3c145"/>
                </a:solidFill>
                <a:latin typeface="Copperplate Gothic Light"/>
              </a:rPr>
              <a:t>XX</a:t>
            </a:r>
            <a:r>
              <a:rPr b="0" lang="uk-UA" sz="3200" spc="-1" strike="noStrike">
                <a:solidFill>
                  <a:srgbClr val="a3c145"/>
                </a:solidFill>
                <a:latin typeface="Copperplate Gothic Light"/>
              </a:rPr>
              <a:t>ст.; настрої безнадії, розчарування, занепаду життєвих сил.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2276640"/>
            <a:ext cx="854064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Символізм (грец. знак, ознака) – художній напрям в літературі </a:t>
            </a:r>
            <a:r>
              <a:rPr b="0" lang="ru-RU" sz="2400" spc="-1" strike="noStrike">
                <a:solidFill>
                  <a:srgbClr val="ffffff"/>
                </a:solidFill>
                <a:latin typeface="Copperplate Gothic Light"/>
              </a:rPr>
              <a:t>к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I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 – п.</a:t>
            </a:r>
            <a:r>
              <a:rPr b="0" lang="en-US" sz="2400" spc="-1" strike="noStrike">
                <a:solidFill>
                  <a:srgbClr val="ffffff"/>
                </a:solidFill>
                <a:latin typeface="Copperplate Gothic Light"/>
              </a:rPr>
              <a:t>XX</a:t>
            </a:r>
            <a:r>
              <a:rPr b="0" lang="uk-UA" sz="2400" spc="-1" strike="noStrike">
                <a:solidFill>
                  <a:srgbClr val="ffffff"/>
                </a:solidFill>
                <a:latin typeface="Copperplate Gothic Light"/>
              </a:rPr>
              <a:t>ст.; </a:t>
            </a:r>
            <a:r>
              <a:rPr b="0" lang="uk-UA" sz="3200" spc="-1" strike="noStrike">
                <a:solidFill>
                  <a:srgbClr val="ffffff"/>
                </a:solidFill>
                <a:latin typeface="Copperplate Gothic Light"/>
              </a:rPr>
              <a:t>матеріальні речі перетворювалися в свідомості митців на “знаки” певних душевних станів і ідей, а художні образи – на симво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 flipH="1">
            <a:off x="-324720" y="1052640"/>
            <a:ext cx="71640" cy="6426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8:19:11Z</dcterms:created>
  <dc:creator>Лилия</dc:creator>
  <dc:description/>
  <dc:language>en-US</dc:language>
  <cp:lastModifiedBy>Лилия</cp:lastModifiedBy>
  <dcterms:modified xsi:type="dcterms:W3CDTF">2011-03-02T18:31:14Z</dcterms:modified>
  <cp:revision>12</cp:revision>
  <dc:subject/>
  <dc:title>Крила потрібні лиш тим, хто літає. Подумай, як живуть люди Що вони роблять,                    Де вони?                Затримайся й поміркуй, чому?                 Одні ходять пішки, інші літають.      Деякі опускають руки,          Снуючи  павутину із сюжету будні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20d000000000001024140</vt:lpwstr>
  </property>
</Properties>
</file>