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34.jpeg" ContentType="image/jpeg"/>
  <Override PartName="/ppt/media/image37.jpeg" ContentType="image/jpeg"/>
  <Override PartName="/ppt/media/image13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2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AF5-633F-411E-B096-3E57405E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C5D-A319-4571-8F65-AF555EA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387-C4E3-400B-876F-B80A4AD6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F26-9495-433A-B103-38179FA0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FD2-CBAE-4D1B-8A4E-76271708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359-D199-4430-AF25-6EBC41A8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DEA-CBA4-4F9C-B5F5-269F60F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69C-3177-41C6-A063-A12100D5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F67-6FAE-407B-B6D2-ADC11A9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A80-25C2-4951-A3E7-CE426D0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8BE-6433-4E47-83E2-ED4D1CD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5BD-4DFC-4003-86D3-5B8EEE8B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F6A-4708-4BD2-9018-002493F9C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214280" y="1000080"/>
            <a:ext cx="742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ість Адама Міцкевича — апогей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ьського романтизму. Перебування в Росії й Україні, відбиття вражень в його поезі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цикл "Кримські сонети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57760" y="438768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вам судить мен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 мені вам треба ж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. Міц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0" y="64882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езентації – учитель Червонозаводської ЗОШ І-ІІІ ступенів №1 Титенко О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2786040" y="6211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ОТ У Гурзуф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а дальньому плані видно гора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ю-Д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ЛУШ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ерше велике місто, антична Еллена. Зруйновані вежі є залишками зведених імператором Юстиніаном фортифікаційних спору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іття. Вид з верхньої дороги, що веде до Сімферопол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0" y="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ОРА Чатир-Д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исота близько 5200 футів. Вид з стежки, що веде до вершини гори Демеджі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8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ІМФЕР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ид з наглядової вежі в центрі міста, якщо дивитися в бік гір, найвища з яких 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тир-Д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Це місто, теперішня столиця Криму, розташоване на річці Салгир, яка розділяє нове і старе місто. Його строкате населення, що включає татар, греків , вірмен, євреїв, німців і росіян, становило перед війною близько 15 000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0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ЛИШКИ ГЕНУЕЗЬКОГО УКРІПЛЕННЯ НА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УФ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-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КЧІ-СА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родавня татарська столиця Криму. Вид з великого внутрішнього двору ханського палацу. Справа - могили ханів і велика мечеть, зліва -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ханський пала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 центрі - вхідні ворота; вдалині - частина міста, піднімається амфітеатром по схилах. Населення, здебільшого татари, перевищує 12 000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8215560" cy="592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2228760"/>
            <a:ext cx="5819760" cy="462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4"/>
          <a:stretch/>
        </p:blipFill>
        <p:spPr>
          <a:xfrm>
            <a:off x="4375080" y="500040"/>
            <a:ext cx="4768920" cy="635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Рабочий стол\Новая папка\s640x480.jpeg"/>
          <p:cNvPicPr/>
          <p:nvPr/>
        </p:nvPicPr>
        <p:blipFill>
          <a:blip r:embed="rId5"/>
          <a:stretch/>
        </p:blipFill>
        <p:spPr>
          <a:xfrm>
            <a:off x="4357800" y="214200"/>
            <a:ext cx="46432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2571840" y="1096560"/>
            <a:ext cx="5643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керманські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орська тиша (штиль) мис Тарханк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лав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Бу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игляд гір зі степів Козлова (Євпаторі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Бахчиса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Бахчисарай уно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Гробниця Потоцько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Могили гар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Байд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Алушта в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Алушта вно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Чатир-Д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Мандрівник (пілігри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Дорога над прірвою Чуфут-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Гора Кікінеї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 Руїни замку в Балакла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Аю-Да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171360" y="262080"/>
            <a:ext cx="1974960" cy="2859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1711080" y="285840"/>
            <a:ext cx="63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Monotype Corsiva"/>
              </a:rPr>
              <a:t>«Кримські соне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4071960" y="571680"/>
            <a:ext cx="48578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Monotype Corsiva"/>
              </a:rPr>
              <a:t>Романтичний гер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рі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на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-революціо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ті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і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ь з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і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ідовник Бай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лосо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-6480" y="706320"/>
            <a:ext cx="4054680" cy="5518440"/>
          </a:xfrm>
          <a:prstGeom prst="rect">
            <a:avLst/>
          </a:prstGeom>
          <a:ln w="0">
            <a:noFill/>
          </a:ln>
        </p:spPr>
      </p:pic>
      <p:grpSp>
        <p:nvGrpSpPr>
          <p:cNvPr id="179" name="Прямоугольник 4"/>
          <p:cNvGrpSpPr/>
          <p:nvPr/>
        </p:nvGrpSpPr>
        <p:grpSpPr>
          <a:xfrm>
            <a:off x="-122400" y="5931000"/>
            <a:ext cx="4176720" cy="853920"/>
            <a:chOff x="-122400" y="5931000"/>
            <a:chExt cx="4176720" cy="853920"/>
          </a:xfrm>
        </p:grpSpPr>
        <p:pic>
          <p:nvPicPr>
            <p:cNvPr id="180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22400" y="5931000"/>
              <a:ext cx="41767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6000840"/>
              <a:ext cx="400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Валентій Ванькови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Адам Міцкевич на скелі </a:t>
              </a:r>
              <a:r>
                <a:rPr b="1" lang="uk-UA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Аюда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-520560" y="214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Твори Адама Міцк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500040" y="1041480"/>
            <a:ext cx="3857760" cy="673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Фар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онрад Валленр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Дзя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Пан Тадеу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римські сон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До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Альпуха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Риб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Світяз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346860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571680" y="61437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572000" y="285840"/>
            <a:ext cx="4276800" cy="5786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600084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ь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42920" y="28584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2436480" y="621504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4"/>
          <a:stretch/>
        </p:blipFill>
        <p:spPr>
          <a:xfrm>
            <a:off x="4643280" y="285840"/>
            <a:ext cx="4214880" cy="5786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7220160" y="6215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ра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Прямоугольник 10"/>
          <p:cNvGrpSpPr/>
          <p:nvPr/>
        </p:nvGrpSpPr>
        <p:grpSpPr>
          <a:xfrm>
            <a:off x="2036880" y="4578480"/>
            <a:ext cx="1077840" cy="506160"/>
            <a:chOff x="2036880" y="4578480"/>
            <a:chExt cx="1077840" cy="506160"/>
          </a:xfrm>
        </p:grpSpPr>
        <p:pic>
          <p:nvPicPr>
            <p:cNvPr id="196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2036880" y="4578480"/>
              <a:ext cx="10778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149920" y="4643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Мінсь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Documents and Settings\Lena\Мои документы\МІЦКЕВИЧ\514px-Nikolaus_Kopernikus.jpg"/>
          <p:cNvPicPr/>
          <p:nvPr/>
        </p:nvPicPr>
        <p:blipFill>
          <a:blip r:embed="rId2"/>
          <a:stretch/>
        </p:blipFill>
        <p:spPr>
          <a:xfrm>
            <a:off x="311040" y="615960"/>
            <a:ext cx="251784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142920" y="142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Monotype Corsiva"/>
              </a:rPr>
              <a:t>П'ять видатних постатей, якими пишається Поль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Lena\Мои документы\МІЦКЕВИЧ\Генрик Сенкевич – .jpeg"/>
          <p:cNvPicPr/>
          <p:nvPr/>
        </p:nvPicPr>
        <p:blipFill>
          <a:blip r:embed="rId3"/>
          <a:stretch/>
        </p:blipFill>
        <p:spPr>
          <a:xfrm>
            <a:off x="244440" y="3687840"/>
            <a:ext cx="2438280" cy="299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Lena\Мои документы\МІЦКЕВИЧ\200px-Jerzy_Hoffman_2010.jpg"/>
          <p:cNvPicPr/>
          <p:nvPr/>
        </p:nvPicPr>
        <p:blipFill>
          <a:blip r:embed="rId4"/>
          <a:stretch/>
        </p:blipFill>
        <p:spPr>
          <a:xfrm>
            <a:off x="6669000" y="3687840"/>
            <a:ext cx="2316240" cy="298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Lena\Мои документы\МІЦКЕВИЧ\chopin_2009111921263810-225x300.jpg"/>
          <p:cNvPicPr/>
          <p:nvPr/>
        </p:nvPicPr>
        <p:blipFill>
          <a:blip r:embed="rId5"/>
          <a:stretch/>
        </p:blipFill>
        <p:spPr>
          <a:xfrm>
            <a:off x="3456000" y="3614760"/>
            <a:ext cx="2341440" cy="30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6242040" y="615960"/>
            <a:ext cx="2779560" cy="2779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3461040" y="8571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Ніколай Копер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430440" y="1357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Фридерик Шоп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3496320" y="18572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Адам Міц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529440" y="2286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Генрік Сен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3623760" y="27860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Єжи Гофф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389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Ніколай Копер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3430440" y="64882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Фридерик Шоп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6910200" y="64882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Єжи Гофф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457920" y="6488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Генрік Сен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6710760" y="32860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Адам Міц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3857760" y="1163520"/>
            <a:ext cx="1500120" cy="1765440"/>
          </a:xfrm>
          <a:prstGeom prst="rect">
            <a:avLst/>
          </a:prstGeom>
          <a:ln w="0">
            <a:noFill/>
          </a:ln>
        </p:spPr>
      </p:pic>
      <p:grpSp>
        <p:nvGrpSpPr>
          <p:cNvPr id="63" name="TextBox 19"/>
          <p:cNvGrpSpPr/>
          <p:nvPr/>
        </p:nvGrpSpPr>
        <p:grpSpPr>
          <a:xfrm>
            <a:off x="208080" y="628560"/>
            <a:ext cx="712800" cy="682560"/>
            <a:chOff x="208080" y="628560"/>
            <a:chExt cx="712800" cy="682560"/>
          </a:xfrm>
        </p:grpSpPr>
        <p:pic>
          <p:nvPicPr>
            <p:cNvPr id="64" name="TextBox 19" descr=""/>
            <p:cNvPicPr/>
            <p:nvPr/>
          </p:nvPicPr>
          <p:blipFill>
            <a:blip r:embed="rId8"/>
            <a:stretch/>
          </p:blipFill>
          <p:spPr>
            <a:xfrm>
              <a:off x="208080" y="628560"/>
              <a:ext cx="712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7120" y="71424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20"/>
          <p:cNvGrpSpPr/>
          <p:nvPr/>
        </p:nvGrpSpPr>
        <p:grpSpPr>
          <a:xfrm>
            <a:off x="6566040" y="3627360"/>
            <a:ext cx="712800" cy="682560"/>
            <a:chOff x="6566040" y="3627360"/>
            <a:chExt cx="712800" cy="682560"/>
          </a:xfrm>
        </p:grpSpPr>
        <p:pic>
          <p:nvPicPr>
            <p:cNvPr id="67" name="TextBox 20" descr=""/>
            <p:cNvPicPr/>
            <p:nvPr/>
          </p:nvPicPr>
          <p:blipFill>
            <a:blip r:embed="rId9"/>
            <a:stretch/>
          </p:blipFill>
          <p:spPr>
            <a:xfrm>
              <a:off x="6566040" y="3627360"/>
              <a:ext cx="712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715080" y="371484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TextBox 21"/>
          <p:cNvGrpSpPr/>
          <p:nvPr/>
        </p:nvGrpSpPr>
        <p:grpSpPr>
          <a:xfrm>
            <a:off x="3352680" y="3554280"/>
            <a:ext cx="712800" cy="682920"/>
            <a:chOff x="3352680" y="3554280"/>
            <a:chExt cx="712800" cy="682920"/>
          </a:xfrm>
        </p:grpSpPr>
        <p:pic>
          <p:nvPicPr>
            <p:cNvPr id="70" name="TextBox 21" descr=""/>
            <p:cNvPicPr/>
            <p:nvPr/>
          </p:nvPicPr>
          <p:blipFill>
            <a:blip r:embed="rId10"/>
            <a:stretch/>
          </p:blipFill>
          <p:spPr>
            <a:xfrm>
              <a:off x="3352680" y="3554280"/>
              <a:ext cx="712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00280" y="364320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22"/>
          <p:cNvGrpSpPr/>
          <p:nvPr/>
        </p:nvGrpSpPr>
        <p:grpSpPr>
          <a:xfrm>
            <a:off x="133200" y="3627360"/>
            <a:ext cx="720720" cy="682560"/>
            <a:chOff x="133200" y="3627360"/>
            <a:chExt cx="720720" cy="682560"/>
          </a:xfrm>
        </p:grpSpPr>
        <p:pic>
          <p:nvPicPr>
            <p:cNvPr id="73" name="TextBox 22" descr=""/>
            <p:cNvPicPr/>
            <p:nvPr/>
          </p:nvPicPr>
          <p:blipFill>
            <a:blip r:embed="rId11"/>
            <a:stretch/>
          </p:blipFill>
          <p:spPr>
            <a:xfrm>
              <a:off x="133200" y="3627360"/>
              <a:ext cx="720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85840" y="37148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23"/>
          <p:cNvGrpSpPr/>
          <p:nvPr/>
        </p:nvGrpSpPr>
        <p:grpSpPr>
          <a:xfrm>
            <a:off x="6138720" y="554040"/>
            <a:ext cx="712800" cy="684360"/>
            <a:chOff x="6138720" y="554040"/>
            <a:chExt cx="712800" cy="684360"/>
          </a:xfrm>
        </p:grpSpPr>
        <p:pic>
          <p:nvPicPr>
            <p:cNvPr id="76" name="TextBox 23" descr=""/>
            <p:cNvPicPr/>
            <p:nvPr/>
          </p:nvPicPr>
          <p:blipFill>
            <a:blip r:embed="rId12"/>
            <a:stretch/>
          </p:blipFill>
          <p:spPr>
            <a:xfrm>
              <a:off x="6138720" y="554040"/>
              <a:ext cx="712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86680" y="6429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6480" y="512640"/>
            <a:ext cx="4724640" cy="6027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572000" y="17859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ився на хуторі Заоссє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іля Новогрудка, що входило до складу Литв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ні Білорус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ім'ї адвоката та збіднілого білоруського шляхти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оли Міцкеви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и поета походила з родини вихрещених євреїв-франкіс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ім'ї, крім Адама, було ще четверо син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4837680" y="50004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м Міц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98-1855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143920" cy="591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8064360" cy="576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752400" y="571680"/>
            <a:ext cx="7863120" cy="5000400"/>
          </a:xfrm>
          <a:prstGeom prst="rect">
            <a:avLst/>
          </a:prstGeom>
          <a:ln w="0">
            <a:noFill/>
          </a:ln>
        </p:spPr>
      </p:pic>
      <p:grpSp>
        <p:nvGrpSpPr>
          <p:cNvPr id="86" name="Прямоугольник 10"/>
          <p:cNvGrpSpPr/>
          <p:nvPr/>
        </p:nvGrpSpPr>
        <p:grpSpPr>
          <a:xfrm>
            <a:off x="596880" y="5315040"/>
            <a:ext cx="8163000" cy="774720"/>
            <a:chOff x="596880" y="5315040"/>
            <a:chExt cx="8163000" cy="774720"/>
          </a:xfrm>
        </p:grpSpPr>
        <p:pic>
          <p:nvPicPr>
            <p:cNvPr id="87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596880" y="5315040"/>
              <a:ext cx="8163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4240" y="5429160"/>
              <a:ext cx="792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Будинок – музей А. Міцкевича в Новогрудц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3"/>
          <p:cNvGrpSpPr/>
          <p:nvPr/>
        </p:nvGrpSpPr>
        <p:grpSpPr>
          <a:xfrm>
            <a:off x="3681360" y="171360"/>
            <a:ext cx="5121360" cy="1266840"/>
            <a:chOff x="3681360" y="171360"/>
            <a:chExt cx="5121360" cy="1266840"/>
          </a:xfrm>
        </p:grpSpPr>
        <p:pic>
          <p:nvPicPr>
            <p:cNvPr id="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681360" y="171360"/>
              <a:ext cx="51213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57760" y="285840"/>
              <a:ext cx="4786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зей-садиба Міцкевичі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Заоссє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5"/>
          <a:stretch/>
        </p:blipFill>
        <p:spPr>
          <a:xfrm>
            <a:off x="214200" y="414360"/>
            <a:ext cx="8591760" cy="644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6"/>
          <a:stretch/>
        </p:blipFill>
        <p:spPr>
          <a:xfrm>
            <a:off x="1357200" y="0"/>
            <a:ext cx="6858000" cy="702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1000080" y="214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дев'яти років Адам навчався у  домініканській школі. У 1815 році був зачислений «казеннокоштним» студентом Віленського університ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60278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 1819 по1823 рік Міцкевич учителював у Ковно (нині Кауна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2571840" y="142884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 юнак став одним із ініціаторів створення  та одним із найактивніших учасників гурткі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іломаті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шанувальників наук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ілареті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их, хто любить доброчесність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об'єднали патріотично налаштованих польських студентів, що ставили собі на меті боротися за свободу і незалежність Польщ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250020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02" name="Прямоугольник 7"/>
          <p:cNvGrpSpPr/>
          <p:nvPr/>
        </p:nvGrpSpPr>
        <p:grpSpPr>
          <a:xfrm>
            <a:off x="-96840" y="4578480"/>
            <a:ext cx="3065400" cy="785520"/>
            <a:chOff x="-96840" y="4578480"/>
            <a:chExt cx="3065400" cy="785520"/>
          </a:xfrm>
        </p:grpSpPr>
        <p:pic>
          <p:nvPicPr>
            <p:cNvPr id="10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-96840" y="4578480"/>
              <a:ext cx="306540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5840" y="4643280"/>
              <a:ext cx="28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ленський (Вільнюський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ніверс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6008760" y="4286160"/>
            <a:ext cx="313524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9"/>
          <p:cNvGrpSpPr/>
          <p:nvPr/>
        </p:nvGrpSpPr>
        <p:grpSpPr>
          <a:xfrm>
            <a:off x="7236000" y="6388200"/>
            <a:ext cx="1779480" cy="542880"/>
            <a:chOff x="7236000" y="6388200"/>
            <a:chExt cx="1779480" cy="542880"/>
          </a:xfrm>
        </p:grpSpPr>
        <p:pic>
          <p:nvPicPr>
            <p:cNvPr id="107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7236000" y="6388200"/>
              <a:ext cx="1779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58040" y="6458040"/>
              <a:ext cx="15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істо Ков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500880" y="2000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43760" y="42148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О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357960" y="3357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000920" y="3643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Хар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786800" y="2928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715000" y="2857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і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6929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К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5932440" y="371484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е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13"/>
          <p:cNvCxnSpPr/>
          <p:nvPr/>
        </p:nvCxnSpPr>
        <p:spPr>
          <a:xfrm flipV="1">
            <a:off x="6000480" y="2356920"/>
            <a:ext cx="857880" cy="57240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19" name="Прямая со стрелкой 15"/>
          <p:cNvCxnSpPr/>
          <p:nvPr/>
        </p:nvCxnSpPr>
        <p:spPr>
          <a:xfrm flipH="1">
            <a:off x="6714360" y="2357280"/>
            <a:ext cx="500760" cy="1929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>
            <a:off x="6929280" y="4285800"/>
            <a:ext cx="286560" cy="1436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1" name="Прямая со стрелкой 19"/>
          <p:cNvCxnSpPr/>
          <p:nvPr/>
        </p:nvCxnSpPr>
        <p:spPr>
          <a:xfrm flipH="1" flipV="1">
            <a:off x="6643800" y="3642480"/>
            <a:ext cx="643320" cy="715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2" name="Прямая со стрелкой 21"/>
          <p:cNvCxnSpPr/>
          <p:nvPr/>
        </p:nvCxnSpPr>
        <p:spPr>
          <a:xfrm flipH="1">
            <a:off x="6500520" y="3642840"/>
            <a:ext cx="72000" cy="1436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3" name="Прямая со стрелкой 23"/>
          <p:cNvCxnSpPr>
            <a:endCxn id="113" idx="2"/>
          </p:cNvCxnSpPr>
          <p:nvPr/>
        </p:nvCxnSpPr>
        <p:spPr>
          <a:xfrm>
            <a:off x="6428880" y="4000320"/>
            <a:ext cx="1001160" cy="1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4" name="Прямая со стрелкой 26"/>
          <p:cNvCxnSpPr/>
          <p:nvPr/>
        </p:nvCxnSpPr>
        <p:spPr>
          <a:xfrm flipV="1">
            <a:off x="7714080" y="3214800"/>
            <a:ext cx="429480" cy="64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5" name="Прямая со стрелкой 28"/>
          <p:cNvCxnSpPr/>
          <p:nvPr/>
        </p:nvCxnSpPr>
        <p:spPr>
          <a:xfrm flipH="1" flipV="1">
            <a:off x="7429320" y="2357280"/>
            <a:ext cx="714960" cy="64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26" name="TextBox 29"/>
          <p:cNvSpPr/>
          <p:nvPr/>
        </p:nvSpPr>
        <p:spPr>
          <a:xfrm>
            <a:off x="4429080" y="3214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Німеч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1"/>
          <p:cNvCxnSpPr>
            <a:stCxn id="110" idx="1"/>
          </p:cNvCxnSpPr>
          <p:nvPr/>
        </p:nvCxnSpPr>
        <p:spPr>
          <a:xfrm flipH="1">
            <a:off x="4857480" y="2184480"/>
            <a:ext cx="1643760" cy="10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28" name="TextBox 32"/>
          <p:cNvSpPr/>
          <p:nvPr/>
        </p:nvSpPr>
        <p:spPr>
          <a:xfrm>
            <a:off x="4286160" y="40719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Швейца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34"/>
          <p:cNvCxnSpPr>
            <a:stCxn id="126" idx="2"/>
            <a:endCxn id="128" idx="0"/>
          </p:cNvCxnSpPr>
          <p:nvPr/>
        </p:nvCxnSpPr>
        <p:spPr>
          <a:xfrm flipH="1">
            <a:off x="4965120" y="3584520"/>
            <a:ext cx="214920" cy="488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30" name="TextBox 36"/>
          <p:cNvSpPr/>
          <p:nvPr/>
        </p:nvSpPr>
        <p:spPr>
          <a:xfrm>
            <a:off x="4357800" y="4643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Іта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7"/>
          <p:cNvSpPr/>
          <p:nvPr/>
        </p:nvSpPr>
        <p:spPr>
          <a:xfrm>
            <a:off x="314316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Calibri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9"/>
          <p:cNvCxnSpPr/>
          <p:nvPr/>
        </p:nvCxnSpPr>
        <p:spPr>
          <a:xfrm flipH="1" flipV="1">
            <a:off x="3714480" y="4285440"/>
            <a:ext cx="71496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3" name="Прямоугольник 40"/>
          <p:cNvSpPr/>
          <p:nvPr/>
        </p:nvSpPr>
        <p:spPr>
          <a:xfrm>
            <a:off x="5580720" y="51436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42"/>
          <p:cNvCxnSpPr/>
          <p:nvPr/>
        </p:nvCxnSpPr>
        <p:spPr>
          <a:xfrm>
            <a:off x="3785760" y="4214880"/>
            <a:ext cx="2715480" cy="1072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5" name="TextBox 44"/>
          <p:cNvSpPr/>
          <p:nvPr/>
        </p:nvSpPr>
        <p:spPr>
          <a:xfrm>
            <a:off x="5214960" y="3786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Calibri"/>
              </a:rPr>
              <a:t>Кра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Соединительная линия уступом 47"/>
          <p:cNvCxnSpPr>
            <a:endCxn id="131" idx="3"/>
          </p:cNvCxnSpPr>
          <p:nvPr/>
        </p:nvCxnSpPr>
        <p:spPr>
          <a:xfrm rot="10800000">
            <a:off x="4071240" y="4112640"/>
            <a:ext cx="2786760" cy="1102320"/>
          </a:xfrm>
          <a:prstGeom prst="bentConnector3">
            <a:avLst>
              <a:gd name="adj1" fmla="val 461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Скругленная соединительная линия 52"/>
          <p:cNvCxnSpPr/>
          <p:nvPr/>
        </p:nvCxnSpPr>
        <p:spPr>
          <a:xfrm flipV="1">
            <a:off x="3857760" y="3785760"/>
            <a:ext cx="1643760" cy="215280"/>
          </a:xfrm>
          <a:prstGeom prst="curvedConnector5">
            <a:avLst>
              <a:gd name="adj1" fmla="val 49989"/>
              <a:gd name="adj2" fmla="val 49916"/>
              <a:gd name="adj3" fmla="val 4998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Прямая со стрелкой 54"/>
          <p:cNvCxnSpPr>
            <a:endCxn id="130" idx="0"/>
          </p:cNvCxnSpPr>
          <p:nvPr/>
        </p:nvCxnSpPr>
        <p:spPr>
          <a:xfrm flipH="1">
            <a:off x="4785480" y="4359240"/>
            <a:ext cx="2520" cy="286560"/>
          </a:xfrm>
          <a:prstGeom prst="straightConnector1">
            <a:avLst/>
          </a:prstGeom>
          <a:ln w="25560">
            <a:solidFill>
              <a:srgbClr val="8eb4e3"/>
            </a:solidFill>
            <a:miter/>
            <a:tailEnd len="med" type="triangle" w="med"/>
          </a:ln>
        </p:spPr>
      </p:cxn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00040" y="1442880"/>
            <a:ext cx="250020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142920" y="1720800"/>
            <a:ext cx="8858160" cy="46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е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ричний вірш з чотирнадцяти рядків 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истопного або шестистопного ямба, двох чотиривіршів з перхресним римуванням та двох тривіршів тернарного римуван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баб абаб ввд ее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яд пов’язаних між собою явищ, які творять певну замкнуту цілісність. У літературі сукупність художніх творів одного жанру, що о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уються задумом автора в естетичну цілісні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36360"/>
            <a:ext cx="431640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Блок-схема: узел 5"/>
          <p:cNvSpPr/>
          <p:nvPr/>
        </p:nvSpPr>
        <p:spPr>
          <a:xfrm>
            <a:off x="3000240" y="507204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6"/>
          <p:cNvSpPr/>
          <p:nvPr/>
        </p:nvSpPr>
        <p:spPr>
          <a:xfrm>
            <a:off x="3500280" y="450072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узел 8"/>
          <p:cNvSpPr/>
          <p:nvPr/>
        </p:nvSpPr>
        <p:spPr>
          <a:xfrm>
            <a:off x="2286000" y="571500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10"/>
          <p:cNvSpPr/>
          <p:nvPr/>
        </p:nvSpPr>
        <p:spPr>
          <a:xfrm>
            <a:off x="4071960" y="535788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11"/>
          <p:cNvSpPr/>
          <p:nvPr/>
        </p:nvSpPr>
        <p:spPr>
          <a:xfrm>
            <a:off x="285840" y="285768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12"/>
          <p:cNvSpPr/>
          <p:nvPr/>
        </p:nvSpPr>
        <p:spPr>
          <a:xfrm>
            <a:off x="1857240" y="371484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6000840" y="214200"/>
            <a:ext cx="2381040" cy="2772000"/>
          </a:xfrm>
          <a:prstGeom prst="rect">
            <a:avLst/>
          </a:prstGeom>
          <a:ln w="38160">
            <a:solidFill>
              <a:srgbClr val="558ed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51" name="Rectangle 4"/>
          <p:cNvGrpSpPr/>
          <p:nvPr/>
        </p:nvGrpSpPr>
        <p:grpSpPr>
          <a:xfrm>
            <a:off x="-122400" y="-145800"/>
            <a:ext cx="6010560" cy="1923480"/>
            <a:chOff x="-122400" y="-145800"/>
            <a:chExt cx="6010560" cy="1923480"/>
          </a:xfrm>
        </p:grpSpPr>
        <p:pic>
          <p:nvPicPr>
            <p:cNvPr id="152" name="Rectangle 4" descr=""/>
            <p:cNvPicPr/>
            <p:nvPr/>
          </p:nvPicPr>
          <p:blipFill>
            <a:blip r:embed="rId3"/>
            <a:stretch/>
          </p:blipFill>
          <p:spPr>
            <a:xfrm>
              <a:off x="-122400" y="-55440"/>
              <a:ext cx="60105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-145800"/>
              <a:ext cx="5715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 1825 р. із 14 серпня по 14 жовтня Адам Міцкевич подорожував Крим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…я бачив Крим! Я витримав страшенну бурю на морі… Я бачив Схід у мініатюрі.»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                   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.Міцкевич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Блок-схема: узел 14"/>
          <p:cNvSpPr/>
          <p:nvPr/>
        </p:nvSpPr>
        <p:spPr>
          <a:xfrm>
            <a:off x="3857760" y="585792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14:20Z</dcterms:created>
  <dc:creator>Lena</dc:creator>
  <dc:description/>
  <dc:language>en-US</dc:language>
  <cp:lastModifiedBy>Lena</cp:lastModifiedBy>
  <dcterms:modified xsi:type="dcterms:W3CDTF">2012-06-18T13:05:40Z</dcterms:modified>
  <cp:revision>1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3d000000000001024140</vt:lpwstr>
  </property>
</Properties>
</file>