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3.jpeg" ContentType="image/jpeg"/>
  <Override PartName="/ppt/media/image45.png" ContentType="image/png"/>
  <Override PartName="/ppt/media/image34.jpeg" ContentType="image/jpeg"/>
  <Override PartName="/ppt/media/image37.jpeg" ContentType="image/jpeg"/>
  <Override PartName="/ppt/media/image13.png" ContentType="image/png"/>
  <Override PartName="/ppt/media/image7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2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4.png" ContentType="image/png"/>
  <Override PartName="/ppt/media/image48.jpeg" ContentType="image/jpeg"/>
  <Override PartName="/ppt/media/image49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664B-89F4-4F05-BA24-9AFE3F51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7A0-CF63-444B-AB36-7AA187FD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1C8-2044-4C85-9BCF-A8C7F185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E6F-C92E-442A-972B-6EF57F35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C9B-DE83-4900-9B50-D78529EA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5F7-B8EE-4C19-9C04-4367B470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34F-768A-49D3-84EF-D65253F7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73A-C872-40C5-B181-BDD66812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601-211C-42AD-952E-1A6BA95E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569-B228-403E-A3D9-91A78DF3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A37-C202-4D15-A35F-164E1003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E40-8CA9-4097-92DF-9DF24C51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B16B-2870-4C66-8DAB-E2EFCCBE7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214280" y="1000080"/>
            <a:ext cx="7429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ість Адама Міцкевича — апогей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ьського романтизму. Перебування в Росії й Україні, відбиття вражень в його поезі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цикл "Кримські сонети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857760" y="438768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Щоб вам судить мен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в мені вам треба жи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. Міц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0" y="648828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презентації – учитель Червонозаводської ЗОШ І-ІІІ ступенів №1 Титенко О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2786040" y="62118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РОТ У Гурзуф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а дальньому плані видно гора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ю-Д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0" y="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ЛУШ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ерше велике місто, антична Еллена. Зруйновані вежі є залишками зведених імператором Юстиніаном фортифікаційних спору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іття. Вид з верхньої дороги, що веде до Сімферопол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6"/>
          <p:cNvSpPr/>
          <p:nvPr/>
        </p:nvSpPr>
        <p:spPr>
          <a:xfrm>
            <a:off x="0" y="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ОРА Чатир-Д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исота близько 5200 футів. Вид з стежки, що веде до вершини гори Демеджі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8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ІМФЕР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ид з наглядової вежі в центрі міста, якщо дивитися в бік гір, найвища з яких -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тир-Д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Це місто, теперішня столиця Криму, розташоване на річці Салгир, яка розділяє нове і старе місто. Його строкате населення, що включає татар, греків , вірмен, євреїв, німців і росіян, становило перед війною близько 15 000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0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АЛИШКИ ГЕНУЕЗЬКОГО УКРІПЛЕННЯ НА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ЧУФ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-К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2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АКЧІ-СА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тародавня татарська столиця Криму. Вид з великого внутрішнього двору ханського палацу. Справа - могили ханів і велика мечеть, зліва -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ханський палац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 центрі - вхідні ворота; вдалині - частина міста, піднімається амфітеатром по схилах. Населення, здебільшого татари, перевищує 12 000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357120" y="428760"/>
            <a:ext cx="8215560" cy="5927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0" y="2228760"/>
            <a:ext cx="5819760" cy="4629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4"/>
          <a:stretch/>
        </p:blipFill>
        <p:spPr>
          <a:xfrm>
            <a:off x="4375080" y="500040"/>
            <a:ext cx="4768920" cy="6357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Admin\Рабочий стол\Новая папка\s640x480.jpeg"/>
          <p:cNvPicPr/>
          <p:nvPr/>
        </p:nvPicPr>
        <p:blipFill>
          <a:blip r:embed="rId5"/>
          <a:stretch/>
        </p:blipFill>
        <p:spPr>
          <a:xfrm>
            <a:off x="4357800" y="214200"/>
            <a:ext cx="464328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2571840" y="1096560"/>
            <a:ext cx="5643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Акерманські ст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Морська тиша (штиль) мис Тарханк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лав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Бу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игляд гір зі степів Козлова (Євпаторі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Бахчисар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Бахчисарай уноч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Гробниця Потоцько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Могили гар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Байд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Алушта в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 Алушта вноч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 Чатир-Д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 Мандрівник (пілігри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 Дорога над прірвою Чуфут-К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 Гора Кікінеї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 Руїни замку в Балаклав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. Аю-Да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171360" y="262080"/>
            <a:ext cx="1974960" cy="285912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1711080" y="285840"/>
            <a:ext cx="63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Monotype Corsiva"/>
              </a:rPr>
              <a:t>«Кримські соне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4071960" y="571680"/>
            <a:ext cx="485784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Monotype Corsiva"/>
              </a:rPr>
              <a:t>Романтичний геро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дрі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гнане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атор-революціо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нті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і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ець за своб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ій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ідовник Бай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е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лосо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-6480" y="706320"/>
            <a:ext cx="4054680" cy="5518440"/>
          </a:xfrm>
          <a:prstGeom prst="rect">
            <a:avLst/>
          </a:prstGeom>
          <a:ln w="0">
            <a:noFill/>
          </a:ln>
        </p:spPr>
      </p:pic>
      <p:grpSp>
        <p:nvGrpSpPr>
          <p:cNvPr id="179" name="Прямоугольник 4"/>
          <p:cNvGrpSpPr/>
          <p:nvPr/>
        </p:nvGrpSpPr>
        <p:grpSpPr>
          <a:xfrm>
            <a:off x="-122400" y="5931000"/>
            <a:ext cx="4176720" cy="853920"/>
            <a:chOff x="-122400" y="5931000"/>
            <a:chExt cx="4176720" cy="853920"/>
          </a:xfrm>
        </p:grpSpPr>
        <p:pic>
          <p:nvPicPr>
            <p:cNvPr id="180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22400" y="5931000"/>
              <a:ext cx="41767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6000840"/>
              <a:ext cx="400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2f2f2"/>
                  </a:solidFill>
                  <a:latin typeface="Calibri"/>
                </a:rPr>
                <a:t> </a:t>
              </a:r>
              <a:r>
                <a:rPr b="1" lang="ru-RU" sz="2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Валентій Ванькови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Адам Міцкевич на скелі </a:t>
              </a:r>
              <a:r>
                <a:rPr b="1" lang="uk-UA" sz="2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Аюда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3"/>
          <p:cNvSpPr/>
          <p:nvPr/>
        </p:nvSpPr>
        <p:spPr>
          <a:xfrm>
            <a:off x="-520560" y="214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Твори Адама Міцкев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500040" y="1041480"/>
            <a:ext cx="3857760" cy="6735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Фари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Конрад Валленр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Дзяд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Пан Тадеу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н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Кримські соне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л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Доз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Альпуха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"Рибк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"Світязь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5000760" y="1500120"/>
            <a:ext cx="346860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4286520" cy="5715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571680" y="61437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арш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4572000" y="285840"/>
            <a:ext cx="4276800" cy="57862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6000840" y="6215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Льв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142920" y="28584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6"/>
          <p:cNvSpPr/>
          <p:nvPr/>
        </p:nvSpPr>
        <p:spPr>
          <a:xfrm>
            <a:off x="2436480" y="621504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з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4"/>
          <a:stretch/>
        </p:blipFill>
        <p:spPr>
          <a:xfrm>
            <a:off x="4643280" y="285840"/>
            <a:ext cx="4214880" cy="578628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8"/>
          <p:cNvSpPr/>
          <p:nvPr/>
        </p:nvSpPr>
        <p:spPr>
          <a:xfrm>
            <a:off x="7220160" y="62150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ра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Прямоугольник 10"/>
          <p:cNvGrpSpPr/>
          <p:nvPr/>
        </p:nvGrpSpPr>
        <p:grpSpPr>
          <a:xfrm>
            <a:off x="2036880" y="4578480"/>
            <a:ext cx="1077840" cy="506160"/>
            <a:chOff x="2036880" y="4578480"/>
            <a:chExt cx="1077840" cy="506160"/>
          </a:xfrm>
        </p:grpSpPr>
        <p:pic>
          <p:nvPicPr>
            <p:cNvPr id="196" name="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2036880" y="4578480"/>
              <a:ext cx="107784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149920" y="4643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Calibri"/>
                </a:rPr>
                <a:t>Мінсь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C:\Documents and Settings\Lena\Мои документы\МІЦКЕВИЧ\514px-Nikolaus_Kopernikus.jpg"/>
          <p:cNvPicPr/>
          <p:nvPr/>
        </p:nvPicPr>
        <p:blipFill>
          <a:blip r:embed="rId2"/>
          <a:stretch/>
        </p:blipFill>
        <p:spPr>
          <a:xfrm>
            <a:off x="311040" y="615960"/>
            <a:ext cx="2517840" cy="28954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142920" y="142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Monotype Corsiva"/>
              </a:rPr>
              <a:t>П'ять видатних постатей, якими пишається Поль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Lena\Мои документы\МІЦКЕВИЧ\Генрик Сенкевич – .jpeg"/>
          <p:cNvPicPr/>
          <p:nvPr/>
        </p:nvPicPr>
        <p:blipFill>
          <a:blip r:embed="rId3"/>
          <a:stretch/>
        </p:blipFill>
        <p:spPr>
          <a:xfrm>
            <a:off x="244440" y="3687840"/>
            <a:ext cx="2438280" cy="299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Lena\Мои документы\МІЦКЕВИЧ\200px-Jerzy_Hoffman_2010.jpg"/>
          <p:cNvPicPr/>
          <p:nvPr/>
        </p:nvPicPr>
        <p:blipFill>
          <a:blip r:embed="rId4"/>
          <a:stretch/>
        </p:blipFill>
        <p:spPr>
          <a:xfrm>
            <a:off x="6669000" y="3687840"/>
            <a:ext cx="2316240" cy="298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Lena\Мои документы\МІЦКЕВИЧ\chopin_2009111921263810-225x300.jpg"/>
          <p:cNvPicPr/>
          <p:nvPr/>
        </p:nvPicPr>
        <p:blipFill>
          <a:blip r:embed="rId5"/>
          <a:stretch/>
        </p:blipFill>
        <p:spPr>
          <a:xfrm>
            <a:off x="3456000" y="3614760"/>
            <a:ext cx="2341440" cy="30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6"/>
          <a:stretch/>
        </p:blipFill>
        <p:spPr>
          <a:xfrm>
            <a:off x="6242040" y="615960"/>
            <a:ext cx="2779560" cy="2779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3461040" y="8571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Ніколай Копер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3430440" y="13572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Фридерик Шоп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3496320" y="18572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Адам Міцк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529440" y="22860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Генрік Сенк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3623760" y="278604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Єжи Гоффм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389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Ніколай Копер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3430440" y="648828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Фридерик Шоп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5"/>
          <p:cNvSpPr/>
          <p:nvPr/>
        </p:nvSpPr>
        <p:spPr>
          <a:xfrm>
            <a:off x="6910200" y="64882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Єжи Гоффм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457920" y="64882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Генрік Сенк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6710760" y="32860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Адам Міцк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7"/>
          <a:stretch/>
        </p:blipFill>
        <p:spPr>
          <a:xfrm>
            <a:off x="3857760" y="1163520"/>
            <a:ext cx="1500120" cy="1765440"/>
          </a:xfrm>
          <a:prstGeom prst="rect">
            <a:avLst/>
          </a:prstGeom>
          <a:ln w="0">
            <a:noFill/>
          </a:ln>
        </p:spPr>
      </p:pic>
      <p:grpSp>
        <p:nvGrpSpPr>
          <p:cNvPr id="63" name="TextBox 19"/>
          <p:cNvGrpSpPr/>
          <p:nvPr/>
        </p:nvGrpSpPr>
        <p:grpSpPr>
          <a:xfrm>
            <a:off x="208080" y="628560"/>
            <a:ext cx="712800" cy="682560"/>
            <a:chOff x="208080" y="628560"/>
            <a:chExt cx="712800" cy="682560"/>
          </a:xfrm>
        </p:grpSpPr>
        <p:pic>
          <p:nvPicPr>
            <p:cNvPr id="64" name="TextBox 19" descr=""/>
            <p:cNvPicPr/>
            <p:nvPr/>
          </p:nvPicPr>
          <p:blipFill>
            <a:blip r:embed="rId8"/>
            <a:stretch/>
          </p:blipFill>
          <p:spPr>
            <a:xfrm>
              <a:off x="208080" y="628560"/>
              <a:ext cx="712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57120" y="714240"/>
              <a:ext cx="4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TextBox 20"/>
          <p:cNvGrpSpPr/>
          <p:nvPr/>
        </p:nvGrpSpPr>
        <p:grpSpPr>
          <a:xfrm>
            <a:off x="6566040" y="3627360"/>
            <a:ext cx="712800" cy="682560"/>
            <a:chOff x="6566040" y="3627360"/>
            <a:chExt cx="712800" cy="682560"/>
          </a:xfrm>
        </p:grpSpPr>
        <p:pic>
          <p:nvPicPr>
            <p:cNvPr id="67" name="TextBox 20" descr=""/>
            <p:cNvPicPr/>
            <p:nvPr/>
          </p:nvPicPr>
          <p:blipFill>
            <a:blip r:embed="rId9"/>
            <a:stretch/>
          </p:blipFill>
          <p:spPr>
            <a:xfrm>
              <a:off x="6566040" y="3627360"/>
              <a:ext cx="712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715080" y="3714840"/>
              <a:ext cx="4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TextBox 21"/>
          <p:cNvGrpSpPr/>
          <p:nvPr/>
        </p:nvGrpSpPr>
        <p:grpSpPr>
          <a:xfrm>
            <a:off x="3352680" y="3554280"/>
            <a:ext cx="712800" cy="682920"/>
            <a:chOff x="3352680" y="3554280"/>
            <a:chExt cx="712800" cy="682920"/>
          </a:xfrm>
        </p:grpSpPr>
        <p:pic>
          <p:nvPicPr>
            <p:cNvPr id="70" name="TextBox 21" descr=""/>
            <p:cNvPicPr/>
            <p:nvPr/>
          </p:nvPicPr>
          <p:blipFill>
            <a:blip r:embed="rId10"/>
            <a:stretch/>
          </p:blipFill>
          <p:spPr>
            <a:xfrm>
              <a:off x="3352680" y="3554280"/>
              <a:ext cx="71280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00280" y="3643200"/>
              <a:ext cx="4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TextBox 22"/>
          <p:cNvGrpSpPr/>
          <p:nvPr/>
        </p:nvGrpSpPr>
        <p:grpSpPr>
          <a:xfrm>
            <a:off x="133200" y="3627360"/>
            <a:ext cx="720720" cy="682560"/>
            <a:chOff x="133200" y="3627360"/>
            <a:chExt cx="720720" cy="682560"/>
          </a:xfrm>
        </p:grpSpPr>
        <p:pic>
          <p:nvPicPr>
            <p:cNvPr id="73" name="TextBox 22" descr=""/>
            <p:cNvPicPr/>
            <p:nvPr/>
          </p:nvPicPr>
          <p:blipFill>
            <a:blip r:embed="rId11"/>
            <a:stretch/>
          </p:blipFill>
          <p:spPr>
            <a:xfrm>
              <a:off x="133200" y="3627360"/>
              <a:ext cx="720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85840" y="371484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TextBox 23"/>
          <p:cNvGrpSpPr/>
          <p:nvPr/>
        </p:nvGrpSpPr>
        <p:grpSpPr>
          <a:xfrm>
            <a:off x="6138720" y="554040"/>
            <a:ext cx="712800" cy="684360"/>
            <a:chOff x="6138720" y="554040"/>
            <a:chExt cx="712800" cy="684360"/>
          </a:xfrm>
        </p:grpSpPr>
        <p:pic>
          <p:nvPicPr>
            <p:cNvPr id="76" name="TextBox 23" descr=""/>
            <p:cNvPicPr/>
            <p:nvPr/>
          </p:nvPicPr>
          <p:blipFill>
            <a:blip r:embed="rId12"/>
            <a:stretch/>
          </p:blipFill>
          <p:spPr>
            <a:xfrm>
              <a:off x="6138720" y="554040"/>
              <a:ext cx="712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286680" y="64296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6480" y="512640"/>
            <a:ext cx="4724640" cy="60278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4572000" y="178596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одився на хуторі Заоссє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іля Новогрудка, що входило до складу Литв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ині Білорусь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ім'ї адвоката та збіднілого білоруського шляхти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оли Міцкеви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и поета походила з родини вихрещених євреїв-франкіс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сім'ї, крім Адама, було ще четверо син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4837680" y="50004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м Міц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798-1855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28760" y="500040"/>
            <a:ext cx="8143920" cy="591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8064360" cy="576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752400" y="571680"/>
            <a:ext cx="7863120" cy="5000400"/>
          </a:xfrm>
          <a:prstGeom prst="rect">
            <a:avLst/>
          </a:prstGeom>
          <a:ln w="0">
            <a:noFill/>
          </a:ln>
        </p:spPr>
      </p:pic>
      <p:grpSp>
        <p:nvGrpSpPr>
          <p:cNvPr id="86" name="Прямоугольник 10"/>
          <p:cNvGrpSpPr/>
          <p:nvPr/>
        </p:nvGrpSpPr>
        <p:grpSpPr>
          <a:xfrm>
            <a:off x="596880" y="5315040"/>
            <a:ext cx="8163000" cy="774720"/>
            <a:chOff x="596880" y="5315040"/>
            <a:chExt cx="8163000" cy="774720"/>
          </a:xfrm>
        </p:grpSpPr>
        <p:pic>
          <p:nvPicPr>
            <p:cNvPr id="87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596880" y="5315040"/>
              <a:ext cx="81630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14240" y="5429160"/>
              <a:ext cx="792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Будинок – музей А. Міцкевича в Новогрудц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grpSp>
        <p:nvGrpSpPr>
          <p:cNvPr id="91" name="Прямоугольник 3"/>
          <p:cNvGrpSpPr/>
          <p:nvPr/>
        </p:nvGrpSpPr>
        <p:grpSpPr>
          <a:xfrm>
            <a:off x="3681360" y="171360"/>
            <a:ext cx="5121360" cy="1266840"/>
            <a:chOff x="3681360" y="171360"/>
            <a:chExt cx="5121360" cy="1266840"/>
          </a:xfrm>
        </p:grpSpPr>
        <p:pic>
          <p:nvPicPr>
            <p:cNvPr id="9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681360" y="171360"/>
              <a:ext cx="51213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857760" y="285840"/>
              <a:ext cx="4786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узей-садиба Міцкевичі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Заоссє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5"/>
          <a:stretch/>
        </p:blipFill>
        <p:spPr>
          <a:xfrm>
            <a:off x="214200" y="414360"/>
            <a:ext cx="8591760" cy="644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6"/>
          <a:stretch/>
        </p:blipFill>
        <p:spPr>
          <a:xfrm>
            <a:off x="1357200" y="0"/>
            <a:ext cx="6858000" cy="702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>
            <a:off x="1000080" y="21420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дев'яти років Адам навчався у  домініканській школі. У 1815 році був зачислений «казеннокоштним» студентом Віленського університ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602784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 1819 по1823 рік Міцкевич учителював у Ковно (нині Каунас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2571840" y="142884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м юнак став одним із ініціаторів створення  та одним із найактивніших учасників гурткі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іломатів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шанувальників наук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іларетів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их, хто любить доброчесність)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о об'єднали патріотично налаштованих польських студентів, що ставили собі на меті боротися за свободу і незалежність Польщ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428840"/>
            <a:ext cx="250020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02" name="Прямоугольник 7"/>
          <p:cNvGrpSpPr/>
          <p:nvPr/>
        </p:nvGrpSpPr>
        <p:grpSpPr>
          <a:xfrm>
            <a:off x="-96840" y="4578480"/>
            <a:ext cx="3065400" cy="785520"/>
            <a:chOff x="-96840" y="4578480"/>
            <a:chExt cx="3065400" cy="785520"/>
          </a:xfrm>
        </p:grpSpPr>
        <p:pic>
          <p:nvPicPr>
            <p:cNvPr id="10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-96840" y="4578480"/>
              <a:ext cx="306540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5840" y="4643280"/>
              <a:ext cx="28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іленський (Вільнюський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ніверсит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6008760" y="4286160"/>
            <a:ext cx="3135240" cy="2571840"/>
          </a:xfrm>
          <a:prstGeom prst="rect">
            <a:avLst/>
          </a:prstGeom>
          <a:ln w="0">
            <a:noFill/>
          </a:ln>
        </p:spPr>
      </p:pic>
      <p:grpSp>
        <p:nvGrpSpPr>
          <p:cNvPr id="106" name="Прямоугольник 9"/>
          <p:cNvGrpSpPr/>
          <p:nvPr/>
        </p:nvGrpSpPr>
        <p:grpSpPr>
          <a:xfrm>
            <a:off x="7236000" y="6388200"/>
            <a:ext cx="1779480" cy="542880"/>
            <a:chOff x="7236000" y="6388200"/>
            <a:chExt cx="1779480" cy="542880"/>
          </a:xfrm>
        </p:grpSpPr>
        <p:pic>
          <p:nvPicPr>
            <p:cNvPr id="107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7236000" y="6388200"/>
              <a:ext cx="17794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358040" y="6458040"/>
              <a:ext cx="15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істо Ков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6500880" y="20001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143760" y="42148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Од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6357960" y="3357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7000920" y="3643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Хар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7786800" y="2928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5715000" y="2857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Ві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6929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К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1"/>
          <p:cNvSpPr/>
          <p:nvPr/>
        </p:nvSpPr>
        <p:spPr>
          <a:xfrm>
            <a:off x="5932440" y="371484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Стеб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13"/>
          <p:cNvCxnSpPr/>
          <p:nvPr/>
        </p:nvCxnSpPr>
        <p:spPr>
          <a:xfrm flipV="1">
            <a:off x="6000480" y="2356920"/>
            <a:ext cx="857880" cy="572400"/>
          </a:xfrm>
          <a:prstGeom prst="straightConnector1">
            <a:avLst/>
          </a:prstGeom>
          <a:ln w="255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19" name="Прямая со стрелкой 15"/>
          <p:cNvCxnSpPr/>
          <p:nvPr/>
        </p:nvCxnSpPr>
        <p:spPr>
          <a:xfrm flipH="1">
            <a:off x="6714360" y="2357280"/>
            <a:ext cx="500760" cy="1929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0" name="Прямая со стрелкой 17"/>
          <p:cNvCxnSpPr/>
          <p:nvPr/>
        </p:nvCxnSpPr>
        <p:spPr>
          <a:xfrm>
            <a:off x="6929280" y="4285800"/>
            <a:ext cx="286560" cy="1436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1" name="Прямая со стрелкой 19"/>
          <p:cNvCxnSpPr/>
          <p:nvPr/>
        </p:nvCxnSpPr>
        <p:spPr>
          <a:xfrm flipH="1" flipV="1">
            <a:off x="6643800" y="3642480"/>
            <a:ext cx="643320" cy="715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2" name="Прямая со стрелкой 21"/>
          <p:cNvCxnSpPr/>
          <p:nvPr/>
        </p:nvCxnSpPr>
        <p:spPr>
          <a:xfrm flipH="1">
            <a:off x="6500520" y="3642840"/>
            <a:ext cx="72000" cy="1436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3" name="Прямая со стрелкой 23"/>
          <p:cNvCxnSpPr>
            <a:endCxn id="113" idx="2"/>
          </p:cNvCxnSpPr>
          <p:nvPr/>
        </p:nvCxnSpPr>
        <p:spPr>
          <a:xfrm>
            <a:off x="6428880" y="4000320"/>
            <a:ext cx="1001160" cy="13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4" name="Прямая со стрелкой 26"/>
          <p:cNvCxnSpPr/>
          <p:nvPr/>
        </p:nvCxnSpPr>
        <p:spPr>
          <a:xfrm flipV="1">
            <a:off x="7714080" y="3214800"/>
            <a:ext cx="429480" cy="643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5" name="Прямая со стрелкой 28"/>
          <p:cNvCxnSpPr/>
          <p:nvPr/>
        </p:nvCxnSpPr>
        <p:spPr>
          <a:xfrm flipH="1" flipV="1">
            <a:off x="7429320" y="2357280"/>
            <a:ext cx="714960" cy="643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26" name="TextBox 29"/>
          <p:cNvSpPr/>
          <p:nvPr/>
        </p:nvSpPr>
        <p:spPr>
          <a:xfrm>
            <a:off x="4429080" y="3214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eb4e3"/>
                </a:solidFill>
                <a:latin typeface="Calibri"/>
              </a:rPr>
              <a:t>Німеч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1"/>
          <p:cNvCxnSpPr>
            <a:stCxn id="110" idx="1"/>
          </p:cNvCxnSpPr>
          <p:nvPr/>
        </p:nvCxnSpPr>
        <p:spPr>
          <a:xfrm flipH="1">
            <a:off x="4857480" y="2184480"/>
            <a:ext cx="1643760" cy="10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28" name="TextBox 32"/>
          <p:cNvSpPr/>
          <p:nvPr/>
        </p:nvSpPr>
        <p:spPr>
          <a:xfrm>
            <a:off x="4286160" y="40719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eb4e3"/>
                </a:solidFill>
                <a:latin typeface="Calibri"/>
              </a:rPr>
              <a:t>Швейцар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Прямая со стрелкой 34"/>
          <p:cNvCxnSpPr>
            <a:stCxn id="126" idx="2"/>
            <a:endCxn id="128" idx="0"/>
          </p:cNvCxnSpPr>
          <p:nvPr/>
        </p:nvCxnSpPr>
        <p:spPr>
          <a:xfrm flipH="1">
            <a:off x="4965120" y="3584520"/>
            <a:ext cx="214920" cy="488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30" name="TextBox 36"/>
          <p:cNvSpPr/>
          <p:nvPr/>
        </p:nvSpPr>
        <p:spPr>
          <a:xfrm>
            <a:off x="4357800" y="46432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eb4e3"/>
                </a:solidFill>
                <a:latin typeface="Calibri"/>
              </a:rPr>
              <a:t>Іта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7"/>
          <p:cNvSpPr/>
          <p:nvPr/>
        </p:nvSpPr>
        <p:spPr>
          <a:xfrm>
            <a:off x="314316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Calibri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39"/>
          <p:cNvCxnSpPr/>
          <p:nvPr/>
        </p:nvCxnSpPr>
        <p:spPr>
          <a:xfrm flipH="1" flipV="1">
            <a:off x="3714480" y="4285440"/>
            <a:ext cx="71496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33" name="Прямоугольник 40"/>
          <p:cNvSpPr/>
          <p:nvPr/>
        </p:nvSpPr>
        <p:spPr>
          <a:xfrm>
            <a:off x="5580720" y="51436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42"/>
          <p:cNvCxnSpPr/>
          <p:nvPr/>
        </p:nvCxnSpPr>
        <p:spPr>
          <a:xfrm>
            <a:off x="3785760" y="4214880"/>
            <a:ext cx="2715480" cy="1072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35" name="TextBox 44"/>
          <p:cNvSpPr/>
          <p:nvPr/>
        </p:nvSpPr>
        <p:spPr>
          <a:xfrm>
            <a:off x="5214960" y="3786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Calibri"/>
              </a:rPr>
              <a:t>Кра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Соединительная линия уступом 47"/>
          <p:cNvCxnSpPr>
            <a:endCxn id="131" idx="3"/>
          </p:cNvCxnSpPr>
          <p:nvPr/>
        </p:nvCxnSpPr>
        <p:spPr>
          <a:xfrm rot="10800000">
            <a:off x="4071240" y="4112640"/>
            <a:ext cx="2786760" cy="1102320"/>
          </a:xfrm>
          <a:prstGeom prst="bentConnector3">
            <a:avLst>
              <a:gd name="adj1" fmla="val 461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Скругленная соединительная линия 52"/>
          <p:cNvCxnSpPr/>
          <p:nvPr/>
        </p:nvCxnSpPr>
        <p:spPr>
          <a:xfrm flipV="1">
            <a:off x="3857760" y="3785760"/>
            <a:ext cx="1643760" cy="215280"/>
          </a:xfrm>
          <a:prstGeom prst="curvedConnector5">
            <a:avLst>
              <a:gd name="adj1" fmla="val 49989"/>
              <a:gd name="adj2" fmla="val 49916"/>
              <a:gd name="adj3" fmla="val 4998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Прямая со стрелкой 54"/>
          <p:cNvCxnSpPr>
            <a:endCxn id="130" idx="0"/>
          </p:cNvCxnSpPr>
          <p:nvPr/>
        </p:nvCxnSpPr>
        <p:spPr>
          <a:xfrm flipH="1">
            <a:off x="4785480" y="4359240"/>
            <a:ext cx="2520" cy="286560"/>
          </a:xfrm>
          <a:prstGeom prst="straightConnector1">
            <a:avLst/>
          </a:prstGeom>
          <a:ln w="25560">
            <a:solidFill>
              <a:srgbClr val="8eb4e3"/>
            </a:solidFill>
            <a:miter/>
            <a:tailEnd len="med" type="triangle" w="med"/>
          </a:ln>
        </p:spPr>
      </p:cxn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00040" y="1442880"/>
            <a:ext cx="2500200" cy="351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"/>
          <p:cNvSpPr/>
          <p:nvPr/>
        </p:nvSpPr>
        <p:spPr>
          <a:xfrm>
            <a:off x="142920" y="1720800"/>
            <a:ext cx="8858160" cy="469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нет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ричний вірш з чотирнадцяти рядків 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тистопного або шестистопного ямба, двох чотиривіршів з перхресним римуванням та двох тривіршів тернарного римуванн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абаб абаб ввд еед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кл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яд пов’язаних між собою явищ, які творять певну замкнуту цілісність. У літературі сукупність художніх творів одного жанру, що о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днуються задумом автора в естетичну цілісні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346480" y="36360"/>
            <a:ext cx="431640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Блок-схема: узел 5"/>
          <p:cNvSpPr/>
          <p:nvPr/>
        </p:nvSpPr>
        <p:spPr>
          <a:xfrm>
            <a:off x="3000240" y="5072040"/>
            <a:ext cx="35748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узел 6"/>
          <p:cNvSpPr/>
          <p:nvPr/>
        </p:nvSpPr>
        <p:spPr>
          <a:xfrm>
            <a:off x="3500280" y="4500720"/>
            <a:ext cx="35748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узел 8"/>
          <p:cNvSpPr/>
          <p:nvPr/>
        </p:nvSpPr>
        <p:spPr>
          <a:xfrm>
            <a:off x="2286000" y="5715000"/>
            <a:ext cx="35712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Блок-схема: узел 10"/>
          <p:cNvSpPr/>
          <p:nvPr/>
        </p:nvSpPr>
        <p:spPr>
          <a:xfrm>
            <a:off x="4071960" y="5357880"/>
            <a:ext cx="35712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узел 11"/>
          <p:cNvSpPr/>
          <p:nvPr/>
        </p:nvSpPr>
        <p:spPr>
          <a:xfrm>
            <a:off x="285840" y="2857680"/>
            <a:ext cx="35712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узел 12"/>
          <p:cNvSpPr/>
          <p:nvPr/>
        </p:nvSpPr>
        <p:spPr>
          <a:xfrm>
            <a:off x="1857240" y="3714840"/>
            <a:ext cx="35748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2"/>
          <a:stretch/>
        </p:blipFill>
        <p:spPr>
          <a:xfrm>
            <a:off x="6000840" y="214200"/>
            <a:ext cx="2381040" cy="2772000"/>
          </a:xfrm>
          <a:prstGeom prst="rect">
            <a:avLst/>
          </a:prstGeom>
          <a:ln w="38160">
            <a:solidFill>
              <a:srgbClr val="558ed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51" name="Rectangle 4"/>
          <p:cNvGrpSpPr/>
          <p:nvPr/>
        </p:nvGrpSpPr>
        <p:grpSpPr>
          <a:xfrm>
            <a:off x="-122400" y="-145800"/>
            <a:ext cx="6010560" cy="1923480"/>
            <a:chOff x="-122400" y="-145800"/>
            <a:chExt cx="6010560" cy="1923480"/>
          </a:xfrm>
        </p:grpSpPr>
        <p:pic>
          <p:nvPicPr>
            <p:cNvPr id="152" name="Rectangle 4" descr=""/>
            <p:cNvPicPr/>
            <p:nvPr/>
          </p:nvPicPr>
          <p:blipFill>
            <a:blip r:embed="rId3"/>
            <a:stretch/>
          </p:blipFill>
          <p:spPr>
            <a:xfrm>
              <a:off x="-122400" y="-55440"/>
              <a:ext cx="601056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-145800"/>
              <a:ext cx="57150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 1825 р. із 14 серпня по 14 жовтня Адам Міцкевич подорожував Крим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…я бачив Крим! Я витримав страшенну бурю на морі… Я бачив Схід у мініатюрі.»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                                         </a:t>
              </a: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.Міцкевич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Блок-схема: узел 14"/>
          <p:cNvSpPr/>
          <p:nvPr/>
        </p:nvSpPr>
        <p:spPr>
          <a:xfrm>
            <a:off x="3857760" y="5857920"/>
            <a:ext cx="35712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6:14:20Z</dcterms:created>
  <dc:creator>Lena</dc:creator>
  <dc:description/>
  <dc:language>en-US</dc:language>
  <cp:lastModifiedBy>Lena</cp:lastModifiedBy>
  <dcterms:modified xsi:type="dcterms:W3CDTF">2012-06-18T13:05:40Z</dcterms:modified>
  <cp:revision>1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3d000000000001024140</vt:lpwstr>
  </property>
</Properties>
</file>