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9.wmf" ContentType="image/x-wmf"/>
  <Override PartName="/ppt/media/image29.jpeg" ContentType="image/jpeg"/>
  <Override PartName="/ppt/media/image5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903-6D80-41EB-93CE-B894F44D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DB9-985E-4FD7-A89F-58B86A9C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EB8-64C4-4D07-AF2E-B5F6E901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B63-B5EC-49BB-AF47-EC7297AB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BEAC-A950-491E-94C6-98DFA005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4FA2-0318-4860-923E-DAF0931B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0062-FFC5-4D4D-ABBE-1FF4F223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A59F-744E-4154-9752-28CB0C17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92BD-8FE4-402A-8525-69AF7FEA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D9BD-B62F-4143-A2A2-4FB86AAB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7B7E-DF8F-43A0-A1CB-8CBD6CDD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87D-FBC4-4DC2-9496-0B5480A4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2245-C4AF-4F2F-B348-99F4BC80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39A7-12F4-443D-85E5-BE378BBF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E3F3-082F-4107-B5F5-CEDAFFCE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ED0F-BFBF-4622-9FE7-38A66C85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5496-468E-4F33-B9C8-10B1FAA6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42D5-509E-418D-AC8F-96B8853C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1B4A1-5280-40AE-95F8-A98E97DA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91699-E56A-44EF-8A22-0D114D9B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7DF4-E2B7-42FA-AA38-95D16801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8480-2ECA-4436-A37F-4B8A2666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A2A-7196-406C-9FA3-E8C22B94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C01CC-E95A-47A7-BE3D-0533977E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70FC-9A11-476F-83D8-5B007277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4332-CA5B-4083-B099-F26C2D4A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27C3D-B6A2-4086-8A9E-654F24B4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FA91-3608-4576-8CF7-748DA094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A093A-6402-4064-A5F3-62A0F370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E2772-24F5-4E09-9E57-4E5A2101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2C7B4-0A2A-493C-A95D-13087698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EF013-85C3-4883-B3EA-059C3A4D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20931-9130-4585-9A37-0496445C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044-E3DA-44EE-967D-D9CBAEF7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E545B-38B8-4A60-85C2-DBA51FF6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E9FF3-496C-4437-A80F-85FC65DD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B9B4E-39AD-4DC7-99DE-E6DED65D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838530-5B6F-4DF2-BDE1-45AEA467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E49AB-1D15-4E43-8628-0711D0A4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965C4-9A3F-4051-BA9B-8368484D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600DAB-351C-47E7-9466-58CCB0B4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C9AD6-0365-4661-AA8C-948BDE02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72E0AA-696E-499E-B353-1F6F406D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FEFE1-05D2-4B52-9C82-D426E3B6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78B-D9A8-41D6-A3D8-56EE7340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3D402-0A82-4056-994A-CE5C039E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1EB58-796A-4BC1-9EB7-783045F8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3BFDF-84C8-45A1-9B79-8C3D6429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BFB9C-2C4F-4AC6-BE68-93CE5E66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566F4-FA58-4751-ABAA-81415219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36A1F-86A8-4655-AF83-4EAF7564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6B113-5A40-4753-ABA9-48E0C3E3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F724-BE24-4C46-B21A-49BECC2E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A16AE-E182-430D-959A-5B396BBE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0E854-CB58-48C6-9D53-3C8D2003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736-DA1B-418B-824C-94757D4A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6237D-8307-4624-9DB1-BFD4C606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523-F361-4B03-A3F6-DC2C1527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A39-544E-4C13-9C33-28D19558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D4C4-D85F-47D9-86DC-6BA427D8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9CF8-9118-4C47-BB48-9651029A0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F2A0-EA11-4971-925E-D13AA28A9B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5983-42CD-4733-A5D5-6179B2C452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B4F9-32DB-48DA-A8CF-E825E1294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8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1429-0B88-46E7-AC3E-38FA4580EE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232000" cy="20844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2521080" cy="42483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1763640" y="189000"/>
            <a:ext cx="4680000" cy="1224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“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олотий вік”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итайської поезії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34136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Книга пісень”(“Шицзінь”)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Ян Ван-Лі, Фань Чен-да, Сінь Ціузі, Лі Бо, Ду Фу, Мен Хаож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11280" y="2997360"/>
            <a:ext cx="3240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 Antiqua"/>
              </a:rPr>
              <a:t>Мен Хаожань</a:t>
            </a:r>
            <a:r>
              <a:rPr b="1" i="1" lang="uk-UA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 Antiqua"/>
              </a:rPr>
              <a:t>Весняний світа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Весняний с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солодкий на світа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Та чути всюди голоси птах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Шуміла ніч дощ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і віяла до ра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Не знати – скіль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обірвала пелюстків</a:t>
            </a: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48000" y="2205000"/>
            <a:ext cx="3997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Головна пробл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 людина і суспі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80000" y="32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Жан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51640" y="3645000"/>
            <a:ext cx="3241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Філософська проза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у — вірш в прозі                                             Ци — вірш пісенного тип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Поезія (любовна лірика)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зань     – віршовані характеристики.                               Лей і ай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лач за достойною людино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Народна повість</a:t>
            </a: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12083840" y="105503760"/>
            <a:ext cx="3225960" cy="6983280"/>
            <a:chOff x="112083840" y="105503760"/>
            <a:chExt cx="3225960" cy="6983280"/>
          </a:xfrm>
        </p:grpSpPr>
        <p:sp>
          <p:nvSpPr>
            <p:cNvPr id="420" name=""/>
            <p:cNvSpPr/>
            <p:nvPr/>
          </p:nvSpPr>
          <p:spPr>
            <a:xfrm>
              <a:off x="113644080" y="105503760"/>
              <a:ext cx="1665720" cy="6983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2083840" y="106398000"/>
              <a:ext cx="3069720" cy="235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AN00932_" descr=""/>
            <p:cNvPicPr/>
            <p:nvPr/>
          </p:nvPicPr>
          <p:blipFill>
            <a:blip r:embed="rId1"/>
            <a:stretch/>
          </p:blipFill>
          <p:spPr>
            <a:xfrm>
              <a:off x="112480200" y="106938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13639040" y="109264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12299840" y="105719400"/>
            <a:ext cx="3225600" cy="6983640"/>
            <a:chOff x="112299840" y="105719400"/>
            <a:chExt cx="3225600" cy="6983640"/>
          </a:xfrm>
        </p:grpSpPr>
        <p:sp>
          <p:nvSpPr>
            <p:cNvPr id="425" name=""/>
            <p:cNvSpPr/>
            <p:nvPr/>
          </p:nvSpPr>
          <p:spPr>
            <a:xfrm>
              <a:off x="113860080" y="105719400"/>
              <a:ext cx="166536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2299840" y="106614000"/>
              <a:ext cx="306936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AN00932_" descr=""/>
            <p:cNvPicPr/>
            <p:nvPr/>
          </p:nvPicPr>
          <p:blipFill>
            <a:blip r:embed="rId2"/>
            <a:stretch/>
          </p:blipFill>
          <p:spPr>
            <a:xfrm>
              <a:off x="112696200" y="107154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13854680" y="109480680"/>
              <a:ext cx="146916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12515480" y="105935400"/>
            <a:ext cx="3225960" cy="6983640"/>
            <a:chOff x="112515480" y="105935400"/>
            <a:chExt cx="3225960" cy="6983640"/>
          </a:xfrm>
        </p:grpSpPr>
        <p:sp>
          <p:nvSpPr>
            <p:cNvPr id="430" name=""/>
            <p:cNvSpPr/>
            <p:nvPr/>
          </p:nvSpPr>
          <p:spPr>
            <a:xfrm>
              <a:off x="114075720" y="105935400"/>
              <a:ext cx="166572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2515480" y="106830000"/>
              <a:ext cx="306972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AN00932_" descr=""/>
            <p:cNvPicPr/>
            <p:nvPr/>
          </p:nvPicPr>
          <p:blipFill>
            <a:blip r:embed="rId3"/>
            <a:stretch/>
          </p:blipFill>
          <p:spPr>
            <a:xfrm>
              <a:off x="112911840" y="107370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14070680" y="109696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3600360" cy="3357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24000" y="2924280"/>
            <a:ext cx="37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етична історія Кит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1297080" cy="1584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6"/>
          <a:stretch/>
        </p:blipFill>
        <p:spPr>
          <a:xfrm>
            <a:off x="4284720" y="189000"/>
            <a:ext cx="1263600" cy="15858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5796000" y="2205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ільки у далекій дорозі,                          Зрозумієщ ти людські споді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 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51640" y="620640"/>
            <a:ext cx="34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ж зараз моя дорога,         Та, що до рідного дому в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і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716280"/>
            <a:ext cx="4105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Над проектом працю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4149720"/>
            <a:ext cx="4105440" cy="172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агадкова країна - Ушакова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Культура спадщина - Наумов.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“Китайська грамота!” - Кузнєцова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олотий вік” китайської поезії Ташлицька 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Манукян Р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5959440"/>
            <a:ext cx="4105440" cy="89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Керівники проект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1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 Фурик Є.  Куцмида 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- вчитель Мірош А.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11280" y="1700280"/>
            <a:ext cx="7993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лово – не просто звук, а засіб збудження образів… Слухати – означає бачити те, про що говорять, а говорити – означає малювати здорові образи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К. Станіславс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50920" y="907920"/>
            <a:ext cx="741672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ма: Китайська лірика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езія Лі Бо - пейзаж душ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а: 1.Осягнути своєрідність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китайської лірики на прикладі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творчості  поета Лі 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2.Дослідити наскільки тісно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поезія п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зується з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філософіє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3.Навчитися бачити та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створювати художні образи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та виразно читати східну поезі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12083840" y="105503760"/>
            <a:ext cx="3225960" cy="6983280"/>
            <a:chOff x="112083840" y="105503760"/>
            <a:chExt cx="3225960" cy="6983280"/>
          </a:xfrm>
        </p:grpSpPr>
        <p:sp>
          <p:nvSpPr>
            <p:cNvPr id="344" name=""/>
            <p:cNvSpPr/>
            <p:nvPr/>
          </p:nvSpPr>
          <p:spPr>
            <a:xfrm>
              <a:off x="113644080" y="105503760"/>
              <a:ext cx="1665720" cy="6983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2083840" y="106398000"/>
              <a:ext cx="3069720" cy="235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AN00932_" descr=""/>
            <p:cNvPicPr/>
            <p:nvPr/>
          </p:nvPicPr>
          <p:blipFill>
            <a:blip r:embed="rId1"/>
            <a:stretch/>
          </p:blipFill>
          <p:spPr>
            <a:xfrm>
              <a:off x="112480200" y="106938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13639040" y="109264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12299840" y="105719400"/>
            <a:ext cx="3225600" cy="6983640"/>
            <a:chOff x="112299840" y="105719400"/>
            <a:chExt cx="3225600" cy="6983640"/>
          </a:xfrm>
        </p:grpSpPr>
        <p:sp>
          <p:nvSpPr>
            <p:cNvPr id="349" name=""/>
            <p:cNvSpPr/>
            <p:nvPr/>
          </p:nvSpPr>
          <p:spPr>
            <a:xfrm>
              <a:off x="113860080" y="105719400"/>
              <a:ext cx="166536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299840" y="106614000"/>
              <a:ext cx="306936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AN00932_" descr=""/>
            <p:cNvPicPr/>
            <p:nvPr/>
          </p:nvPicPr>
          <p:blipFill>
            <a:blip r:embed="rId2"/>
            <a:stretch/>
          </p:blipFill>
          <p:spPr>
            <a:xfrm>
              <a:off x="112696200" y="107154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13854680" y="109480680"/>
              <a:ext cx="146916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12515480" y="105935400"/>
            <a:ext cx="3225960" cy="6983640"/>
            <a:chOff x="112515480" y="105935400"/>
            <a:chExt cx="3225960" cy="6983640"/>
          </a:xfrm>
        </p:grpSpPr>
        <p:sp>
          <p:nvSpPr>
            <p:cNvPr id="354" name=""/>
            <p:cNvSpPr/>
            <p:nvPr/>
          </p:nvSpPr>
          <p:spPr>
            <a:xfrm>
              <a:off x="114075720" y="105935400"/>
              <a:ext cx="166572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2515480" y="106830000"/>
              <a:ext cx="306972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AN00932_" descr=""/>
            <p:cNvPicPr/>
            <p:nvPr/>
          </p:nvPicPr>
          <p:blipFill>
            <a:blip r:embed="rId3"/>
            <a:stretch/>
          </p:blipFill>
          <p:spPr>
            <a:xfrm>
              <a:off x="112911840" y="107370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14070680" y="109696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3600360" cy="3357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324000" y="2924280"/>
            <a:ext cx="37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етична історія Кит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1297080" cy="1584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4284720" y="189000"/>
            <a:ext cx="1263600" cy="1585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796000" y="2205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ільки у далекій дорозі,                          Зрозумієщ ти людські споді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 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51640" y="620640"/>
            <a:ext cx="34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ж зараз моя дорога,         Та, що до рідного дому в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і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43280" y="3716280"/>
            <a:ext cx="4105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Над проектом працю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4149720"/>
            <a:ext cx="4105440" cy="172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агадкова країна - Ушакова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Культура спадщина - Наумов.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“Китайська грамота!” - Кузнєцова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олотий вік” китайської поезії Ташлицька 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Манукян Р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5959440"/>
            <a:ext cx="4105440" cy="89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Керівники проект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1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 Фурик Є.  Куцмида 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- вчитель Мірош А.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0"/>
            <a:ext cx="4680000" cy="1339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КОВА КРАЇН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250920" y="3213000"/>
            <a:ext cx="2376360" cy="2952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95280" y="1268280"/>
            <a:ext cx="309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 гострі верше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чіпляються хмари тонк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Ген річка іскрить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се небезпечне камі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еографія країни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сня про гори міста Л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у Фу.</a:t>
            </a:r>
            <a:r>
              <a:rPr b="0" lang="uk-UA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2124000" y="4221000"/>
            <a:ext cx="2338560" cy="23767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822920" y="4653000"/>
            <a:ext cx="4321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Китай—велика країна, розташована на південному сході Азії. Високі гори Тибету, пустеля Гобі й води Тихого океану  начебто охороняють цю державу від усюого світу, зберігаючи, його самобутт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6"/>
          <a:stretch/>
        </p:blipFill>
        <p:spPr>
          <a:xfrm>
            <a:off x="5796000" y="189000"/>
            <a:ext cx="307512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95280" y="189000"/>
            <a:ext cx="3529080" cy="12952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а спадщ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27385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2305080" cy="22622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3816360" cy="2792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3419640" y="3645000"/>
            <a:ext cx="3744720" cy="2360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rcRect l="0" t="0" r="175" b="0"/>
          <a:stretch/>
        </p:blipFill>
        <p:spPr>
          <a:xfrm>
            <a:off x="7596360" y="3645000"/>
            <a:ext cx="1547640" cy="27241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67640" y="4292640"/>
            <a:ext cx="192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итайська сті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8000" y="6308640"/>
            <a:ext cx="1099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м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87640" y="2781360"/>
            <a:ext cx="1370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рози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142520" y="6093000"/>
            <a:ext cx="1919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перові грош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6021360"/>
            <a:ext cx="69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268360" y="0"/>
            <a:ext cx="4032360" cy="12952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“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тайська грамота”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1834920" cy="1790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1828800" cy="1800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6948360" y="1773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324000" y="4005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2556000" y="4005360"/>
            <a:ext cx="1798560" cy="1800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95280" y="3436200"/>
            <a:ext cx="187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” - військовий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24040" y="3573360"/>
            <a:ext cx="24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жень”  - істина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03640" y="3436200"/>
            <a:ext cx="158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Юн” - вічність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9280" y="3573360"/>
            <a:ext cx="160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й” -  кох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5812920"/>
            <a:ext cx="1440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”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аїна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71640" y="587700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янь” - не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42920" y="1052640"/>
            <a:ext cx="75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50 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тисяч знаків китайської писемності—ієрогліфи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4788000" y="400536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860720" y="5805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Фу» - щас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8"/>
          <a:stretch/>
        </p:blipFill>
        <p:spPr>
          <a:xfrm>
            <a:off x="6877080" y="4076640"/>
            <a:ext cx="1871640" cy="1776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094160" y="580536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І»  – д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1908000" y="189000"/>
            <a:ext cx="4392720" cy="1008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стец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42920" y="1268280"/>
            <a:ext cx="6985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ГОХУ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Живопис нашої краї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Основа         Матеріали      Інстру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шовк, хлопок)               (китайська туш)               (пензлі з бамбу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Шуймохуа                                 Юху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(Живопис)                                                          (заморський живоп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3860640"/>
            <a:ext cx="23749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Жанр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Релійний об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Міфологічн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Історичн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обутов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муз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56360" y="3789360"/>
            <a:ext cx="201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Му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96000" y="4222440"/>
            <a:ext cx="42480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. у Кит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ї була створена перша школа музики і танцю “Консерваторіягрушевого саду”   У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Складаються пінічна і південна школи музики, причому для північної школі більш характерна героїна тематика, а для південної — лірична.                                       “Музика—хороші ліки. Музика випереджає медицину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2:50:00Z</dcterms:created>
  <dc:creator>MAECTPO</dc:creator>
  <dc:description/>
  <dc:language>en-US</dc:language>
  <cp:lastModifiedBy>MAECTPO</cp:lastModifiedBy>
  <dcterms:modified xsi:type="dcterms:W3CDTF">2010-12-16T18:11:42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3000000000001024140</vt:lpwstr>
  </property>
</Properties>
</file>