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5.jpeg" ContentType="image/jpeg"/>
  <Override PartName="/ppt/media/image24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9.wmf" ContentType="image/x-wmf"/>
  <Override PartName="/ppt/media/image29.jpeg" ContentType="image/jpeg"/>
  <Override PartName="/ppt/media/image5.png" ContentType="image/png"/>
  <Override PartName="/ppt/media/image35.jpeg" ContentType="image/jpeg"/>
  <Override PartName="/ppt/media/image14.png" ContentType="image/png"/>
  <Override PartName="/ppt/media/image10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34.jpeg" ContentType="image/jpeg"/>
  <Override PartName="/ppt/media/image37.jpeg" ContentType="image/jpeg"/>
  <Override PartName="/ppt/media/image6.png" ContentType="image/pn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8.png" ContentType="image/png"/>
  <Override PartName="/ppt/media/image7.jpeg" ContentType="image/jpeg"/>
  <Override PartName="/ppt/media/image38.jpeg" ContentType="image/jpeg"/>
  <Override PartName="/ppt/media/image1.wmf" ContentType="image/x-wmf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4938-6BF9-4ED7-8E83-086998B01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882D-1B47-4122-9B1A-DDA160953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CE41-8825-465C-B8E3-04F7DE036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B3BF-7051-42D1-952C-2FFF79183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BA4CE-D3ED-40B7-B418-16BC7C0D0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8D300-FC76-4D16-AA79-6571EA5BF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AB166-BE52-48BD-91B4-2CECE8E71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39FBB-5803-4A2D-947C-F42BB3FD3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FE0D0-A1C5-4FD0-A9D8-1F9EAA9E9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33D15-D715-45FA-BC1B-4FCD5910B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CBFC0-CACE-43DD-AFD5-8D8D4A11D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CAE3-704A-475D-B2EA-5AF3C7C93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46765-E87B-44C2-A683-5D6416AB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00485-0889-48D3-869D-2FFA1923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44055-5B27-497D-9262-3F066E13B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B8200-2170-4CA3-9C7A-4ACBB64DE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1C749-AC4D-4C06-AA5C-01F3FAC51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43F8E-D65A-4E14-9A49-ACEC0FA0C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A2DDE-90CB-459D-8EB4-253FD5282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EB89A-622F-4F6B-8DFA-4F09CEC2F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29A18-D93B-46E3-921D-7BB27640C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84360-3088-40CD-B0C6-E5EB5307B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EEFA-37AE-4B1B-BC71-84D63273D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99DFD-90A9-4215-B1EF-7A2F984FF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6103F-694E-467C-821E-A1E3DFAAD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D4019-751B-4F79-8E1A-5A5F63777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378DD-3524-44CB-9C54-C5D14F2B4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7CBB4-9416-4254-A2AC-1CEB0178C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48284-C067-4BEE-87DC-B06F6380D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2CB9A-1731-4E3F-A216-46C84A9E0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D556C5-E6AE-4FB5-B1BB-E2FD28906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95AA19-83D6-4158-BF1F-E2E9CAF86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785136-6C2A-46F7-A36A-0F657C6C4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71D8-3AC9-4C2E-A178-FF1C49B3D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7427C8-585D-4B06-9F42-C2640E45A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EBDE54-3AC8-404C-8B85-8C196A3D6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3E636B-1EAC-46A2-834A-4406DE25F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BE0736-8FDE-4077-A493-F5E440C43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60ACCB-A284-4838-836E-C56BA5C59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87328C-F35F-4140-A47D-7C521595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1A13EB-DFD6-46CF-94EF-20AE81319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2EB682-0F30-4488-BC7A-47DCC12D0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CCD82D-F6DF-491B-BF2A-EC85A2266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884436-D92A-44E5-9468-729893359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636F-9516-46FC-8EDF-588F1C420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45809-B67B-4E53-88CB-A06AE5C09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3BCA2A-7CD7-4520-AD36-FE531BEFF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48D8E-EC99-4AD3-9D68-EBBD0E95E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4C902C-9FA6-44E2-8DB0-DD59B76BB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764612-2B29-4BFA-BDFD-D7F115069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DB767-67A0-4B19-8C0A-D98C61E57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01DB6-F22A-463E-9313-FC0100AE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202F4-19BB-4460-B6E5-E4478997F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837C5C-689E-4310-8E61-BD67E78DA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F3ED3E-CE7E-4E06-A8F4-AFA235384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19FC-5FEE-43C3-8ABE-6D5377029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9FDC1-57E7-487F-98EE-DF3D1071D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9018-8513-4F2A-AD26-B23E3124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54FC-3157-4D58-B09C-09134DF2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4E49-FF1A-40AF-A32D-0F14874E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jpeg"/><Relationship Id="rId30" Type="http://schemas.openxmlformats.org/officeDocument/2006/relationships/image" Target="../media/image2.jpe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jpeg"/><Relationship Id="rId30" Type="http://schemas.openxmlformats.org/officeDocument/2006/relationships/image" Target="../media/image2.jpeg"/><Relationship Id="rId31" Type="http://schemas.openxmlformats.org/officeDocument/2006/relationships/slideLayout" Target="../slideLayouts/slideLayout25.xml"/><Relationship Id="rId32" Type="http://schemas.openxmlformats.org/officeDocument/2006/relationships/slideLayout" Target="../slideLayouts/slideLayout26.xml"/><Relationship Id="rId33" Type="http://schemas.openxmlformats.org/officeDocument/2006/relationships/slideLayout" Target="../slideLayouts/slideLayout27.xml"/><Relationship Id="rId34" Type="http://schemas.openxmlformats.org/officeDocument/2006/relationships/slideLayout" Target="../slideLayouts/slideLayout28.xml"/><Relationship Id="rId35" Type="http://schemas.openxmlformats.org/officeDocument/2006/relationships/slideLayout" Target="../slideLayouts/slideLayout29.xml"/><Relationship Id="rId36" Type="http://schemas.openxmlformats.org/officeDocument/2006/relationships/slideLayout" Target="../slideLayouts/slideLayout30.xml"/><Relationship Id="rId37" Type="http://schemas.openxmlformats.org/officeDocument/2006/relationships/slideLayout" Target="../slideLayouts/slideLayout31.xml"/><Relationship Id="rId38" Type="http://schemas.openxmlformats.org/officeDocument/2006/relationships/slideLayout" Target="../slideLayouts/slideLayout32.xml"/><Relationship Id="rId39" Type="http://schemas.openxmlformats.org/officeDocument/2006/relationships/slideLayout" Target="../slideLayouts/slideLayout33.xml"/><Relationship Id="rId40" Type="http://schemas.openxmlformats.org/officeDocument/2006/relationships/slideLayout" Target="../slideLayouts/slideLayout34.xml"/><Relationship Id="rId41" Type="http://schemas.openxmlformats.org/officeDocument/2006/relationships/slideLayout" Target="../slideLayouts/slideLayout35.xml"/><Relationship Id="rId42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8254D-5CE2-4ADA-BBEC-50D66BB5C8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42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46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47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48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49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1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5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5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66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85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B0839-26DD-4FE1-B1F3-1743410A0BB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38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42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43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44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45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7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53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6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7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8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9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0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61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62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3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4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5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6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7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8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9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0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1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2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3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4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5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6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7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8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9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0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81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dt" idx="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ftr" idx="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sldNum" idx="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AE478-8CD6-44E6-9E42-22FFD1E2941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1"/>
    <p:sldLayoutId id="2147483676" r:id="rId32"/>
    <p:sldLayoutId id="2147483677" r:id="rId33"/>
    <p:sldLayoutId id="2147483678" r:id="rId34"/>
    <p:sldLayoutId id="2147483679" r:id="rId35"/>
    <p:sldLayoutId id="2147483680" r:id="rId36"/>
    <p:sldLayoutId id="2147483681" r:id="rId37"/>
    <p:sldLayoutId id="2147483682" r:id="rId38"/>
    <p:sldLayoutId id="2147483683" r:id="rId39"/>
    <p:sldLayoutId id="2147483684" r:id="rId40"/>
    <p:sldLayoutId id="2147483685" r:id="rId41"/>
    <p:sldLayoutId id="2147483686" r:id="rId42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89FA5-DA47-4A55-867D-EADED112FD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35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8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8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7" name="PlaceHolder 1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CB43A-1143-45E7-ACD2-CCEC780E0E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pn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8675640" y="6381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6516720" y="189000"/>
            <a:ext cx="2232000" cy="208440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2"/>
          <a:stretch/>
        </p:blipFill>
        <p:spPr>
          <a:xfrm>
            <a:off x="0" y="2349360"/>
            <a:ext cx="2521080" cy="424836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1763640" y="189000"/>
            <a:ext cx="4680000" cy="1224000"/>
          </a:xfrm>
          <a:prstGeom prst="rect">
            <a:avLst/>
          </a:prstGeom>
        </p:spPr>
        <p:txBody>
          <a:bodyPr wrap="none" lIns="36360" rIns="36360" tIns="36360" bIns="3636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“</a:t>
            </a: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олотий вік”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итайської поезії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50920" y="1341360"/>
            <a:ext cx="36003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0" lang="uk-UA" sz="1800" spc="-1" strike="noStrike">
                <a:solidFill>
                  <a:srgbClr val="000000"/>
                </a:solidFill>
                <a:latin typeface="Book Antiqua"/>
              </a:rPr>
              <a:t>Книга пісень”(“Шицзінь”)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 Antiqua"/>
              </a:rPr>
              <a:t>Ян Ван-Лі, Фань Чен-да, Сінь Ціузі, Лі Бо, Ду Фу, Мен Хаожа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411280" y="2997360"/>
            <a:ext cx="324036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Book Antiqua"/>
              </a:rPr>
              <a:t>Мен Хаожань</a:t>
            </a:r>
            <a:r>
              <a:rPr b="1" i="1" lang="uk-UA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Book Antiqua"/>
              </a:rPr>
              <a:t>Весняний світан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Book Antiqua"/>
              </a:rPr>
              <a:t>Весняний со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Book Antiqua"/>
              </a:rPr>
              <a:t>солодкий на світанк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Book Antiqua"/>
              </a:rPr>
              <a:t>Та чути всюди голоси птахі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Book Antiqua"/>
              </a:rPr>
              <a:t>Шуміла ніч дощ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Book Antiqua"/>
              </a:rPr>
              <a:t>і віяла до ран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Book Antiqua"/>
              </a:rPr>
              <a:t>Не знати – скіль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Book Antiqua"/>
              </a:rPr>
              <a:t>обірвала пелюстків</a:t>
            </a:r>
            <a:r>
              <a:rPr b="0" lang="uk-UA" sz="10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348000" y="2205000"/>
            <a:ext cx="3997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Book Antiqua"/>
              </a:rPr>
              <a:t>Головна пробле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Book Antiqua"/>
              </a:rPr>
              <a:t>- людина і суспіль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580000" y="321300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Жанр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651640" y="3645000"/>
            <a:ext cx="324144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Book Antiqua"/>
              </a:rPr>
              <a:t>-Філософська проза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Фу — вірш в прозі                                             Ци — вірш пісенного тип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uk-UA" sz="2400" spc="-1" strike="noStrike">
                <a:solidFill>
                  <a:srgbClr val="000000"/>
                </a:solidFill>
                <a:latin typeface="Book Antiqua"/>
              </a:rPr>
              <a:t>-Поезія (любовна лірика)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Цзань     – віршовані характеристики.                               Лей і ай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лач за достойною людиною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uk-UA" sz="2400" spc="-1" strike="noStrike">
                <a:solidFill>
                  <a:srgbClr val="000000"/>
                </a:solidFill>
                <a:latin typeface="Book Antiqua"/>
              </a:rPr>
              <a:t>-Народна повість</a:t>
            </a:r>
            <a:r>
              <a:rPr b="0" lang="uk-UA" sz="10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0" y="3573360"/>
            <a:ext cx="9144000" cy="3284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112083840" y="105503760"/>
            <a:ext cx="3225960" cy="6983280"/>
            <a:chOff x="112083840" y="105503760"/>
            <a:chExt cx="3225960" cy="6983280"/>
          </a:xfrm>
        </p:grpSpPr>
        <p:sp>
          <p:nvSpPr>
            <p:cNvPr id="420" name=""/>
            <p:cNvSpPr/>
            <p:nvPr/>
          </p:nvSpPr>
          <p:spPr>
            <a:xfrm>
              <a:off x="113644080" y="105503760"/>
              <a:ext cx="1665720" cy="6983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12083840" y="106398000"/>
              <a:ext cx="3069720" cy="23590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2" name="AN00932_" descr=""/>
            <p:cNvPicPr/>
            <p:nvPr/>
          </p:nvPicPr>
          <p:blipFill>
            <a:blip r:embed="rId1"/>
            <a:stretch/>
          </p:blipFill>
          <p:spPr>
            <a:xfrm>
              <a:off x="112480200" y="106938720"/>
              <a:ext cx="2284200" cy="12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113639040" y="109264680"/>
              <a:ext cx="1469520" cy="5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112299840" y="105719400"/>
            <a:ext cx="3225600" cy="6983640"/>
            <a:chOff x="112299840" y="105719400"/>
            <a:chExt cx="3225600" cy="6983640"/>
          </a:xfrm>
        </p:grpSpPr>
        <p:sp>
          <p:nvSpPr>
            <p:cNvPr id="425" name=""/>
            <p:cNvSpPr/>
            <p:nvPr/>
          </p:nvSpPr>
          <p:spPr>
            <a:xfrm>
              <a:off x="113860080" y="105719400"/>
              <a:ext cx="1665360" cy="69836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12299840" y="106614000"/>
              <a:ext cx="3069360" cy="2359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7" name="AN00932_" descr=""/>
            <p:cNvPicPr/>
            <p:nvPr/>
          </p:nvPicPr>
          <p:blipFill>
            <a:blip r:embed="rId2"/>
            <a:stretch/>
          </p:blipFill>
          <p:spPr>
            <a:xfrm>
              <a:off x="112696200" y="107154720"/>
              <a:ext cx="2284200" cy="12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113854680" y="109480680"/>
              <a:ext cx="1469160" cy="5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112515480" y="105935400"/>
            <a:ext cx="3225960" cy="6983640"/>
            <a:chOff x="112515480" y="105935400"/>
            <a:chExt cx="3225960" cy="6983640"/>
          </a:xfrm>
        </p:grpSpPr>
        <p:sp>
          <p:nvSpPr>
            <p:cNvPr id="430" name=""/>
            <p:cNvSpPr/>
            <p:nvPr/>
          </p:nvSpPr>
          <p:spPr>
            <a:xfrm>
              <a:off x="114075720" y="105935400"/>
              <a:ext cx="1665720" cy="69836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12515480" y="106830000"/>
              <a:ext cx="3069720" cy="2359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2" name="AN00932_" descr=""/>
            <p:cNvPicPr/>
            <p:nvPr/>
          </p:nvPicPr>
          <p:blipFill>
            <a:blip r:embed="rId3"/>
            <a:stretch/>
          </p:blipFill>
          <p:spPr>
            <a:xfrm>
              <a:off x="112911840" y="107370720"/>
              <a:ext cx="2284200" cy="12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"/>
            <p:cNvSpPr/>
            <p:nvPr/>
          </p:nvSpPr>
          <p:spPr>
            <a:xfrm>
              <a:off x="114070680" y="109696680"/>
              <a:ext cx="1469520" cy="5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4" name="" descr=""/>
          <p:cNvPicPr/>
          <p:nvPr/>
        </p:nvPicPr>
        <p:blipFill>
          <a:blip r:embed="rId4"/>
          <a:stretch/>
        </p:blipFill>
        <p:spPr>
          <a:xfrm>
            <a:off x="324000" y="189000"/>
            <a:ext cx="3600360" cy="335736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 txBox="1"/>
          <p:nvPr/>
        </p:nvSpPr>
        <p:spPr>
          <a:xfrm>
            <a:off x="324000" y="2924280"/>
            <a:ext cx="37796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оетична історія Кита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5"/>
          <a:stretch/>
        </p:blipFill>
        <p:spPr>
          <a:xfrm>
            <a:off x="4284720" y="1916280"/>
            <a:ext cx="1297080" cy="158400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6"/>
          <a:stretch/>
        </p:blipFill>
        <p:spPr>
          <a:xfrm>
            <a:off x="4284720" y="189000"/>
            <a:ext cx="1263600" cy="158580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>
            <a:off x="5796000" y="2205000"/>
            <a:ext cx="3168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ільки у далекій дорозі,                          Зрозумієщ ти людські сподіван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у Ф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651640" y="620640"/>
            <a:ext cx="3492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е ж зараз моя дорога,         Та, що до рідного дому ве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Лі Б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643280" y="3716280"/>
            <a:ext cx="41054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Book Antiqua"/>
              </a:rPr>
              <a:t>Над проектом працюва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572000" y="4149720"/>
            <a:ext cx="4105440" cy="1728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Учні 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8-</a:t>
            </a:r>
            <a:r>
              <a:rPr b="0" lang="uk-UA" sz="1600" spc="-1" strike="noStrike">
                <a:solidFill>
                  <a:srgbClr val="000000"/>
                </a:solidFill>
                <a:latin typeface="Book Antiqua"/>
              </a:rPr>
              <a:t>А клас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1. </a:t>
            </a:r>
            <a:r>
              <a:rPr b="0" lang="uk-UA" sz="1600" spc="-1" strike="noStrike">
                <a:solidFill>
                  <a:srgbClr val="000000"/>
                </a:solidFill>
                <a:latin typeface="Book Antiqua"/>
              </a:rPr>
              <a:t>Загадкова країна - Ушакова 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2. </a:t>
            </a:r>
            <a:r>
              <a:rPr b="0" lang="uk-UA" sz="1600" spc="-1" strike="noStrike">
                <a:solidFill>
                  <a:srgbClr val="000000"/>
                </a:solidFill>
                <a:latin typeface="Book Antiqua"/>
              </a:rPr>
              <a:t>Культура спадщина - Наумов. 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3. </a:t>
            </a:r>
            <a:r>
              <a:rPr b="0" lang="uk-UA" sz="1600" spc="-1" strike="noStrike">
                <a:solidFill>
                  <a:srgbClr val="000000"/>
                </a:solidFill>
                <a:latin typeface="Book Antiqua"/>
              </a:rPr>
              <a:t>“Китайська грамота!” - Кузнєцова 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4. </a:t>
            </a:r>
            <a:r>
              <a:rPr b="0" lang="uk-UA" sz="1600" spc="-1" strike="noStrike">
                <a:solidFill>
                  <a:srgbClr val="000000"/>
                </a:solidFill>
                <a:latin typeface="Book Antiqua"/>
              </a:rPr>
              <a:t>Золотий вік” китайської поезії Ташлицька К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5. </a:t>
            </a:r>
            <a:r>
              <a:rPr b="0" lang="uk-UA" sz="1600" spc="-1" strike="noStrike">
                <a:solidFill>
                  <a:srgbClr val="000000"/>
                </a:solidFill>
                <a:latin typeface="Book Antiqua"/>
              </a:rPr>
              <a:t>Манукян Р</a:t>
            </a:r>
            <a:r>
              <a:rPr b="0" lang="uk-UA" sz="14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572000" y="5959440"/>
            <a:ext cx="4105440" cy="898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Керівники проекту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учні 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11-</a:t>
            </a:r>
            <a:r>
              <a:rPr b="0" lang="uk-UA" sz="1600" spc="-1" strike="noStrike">
                <a:solidFill>
                  <a:srgbClr val="000000"/>
                </a:solidFill>
                <a:latin typeface="Book Antiqua"/>
              </a:rPr>
              <a:t>А класу Фурик Є.  Куцмида В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Book Antiqua"/>
              </a:rPr>
              <a:t>- вчитель Мірош А.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Book Antiqua"/>
              </a:rPr>
              <a:t>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611280" y="1700280"/>
            <a:ext cx="799308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Слово – не просто звук, а засіб збудження образів… Слухати – означає бачити те, про що говорять, а говорити – означає малювати здорові образи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К. Станіславсь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250920" y="907920"/>
            <a:ext cx="7416720" cy="511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Тема: Китайська лірика.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езія Лі Бо - пейзаж душі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" descr=""/>
          <p:cNvPicPr/>
          <p:nvPr/>
        </p:nvPicPr>
        <p:blipFill>
          <a:blip r:embed="rId1"/>
          <a:stretch/>
        </p:blipFill>
        <p:spPr>
          <a:xfrm>
            <a:off x="8675640" y="6381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4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250560" y="620280"/>
            <a:ext cx="88930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Мета: 1.Осягнути своєрідність        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     китайської лірики на прикладі     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     творчості  поета Лі Б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2.Дослідити наскільки тісно 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     поезія пов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язується з  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     філософіє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3.Навчитися бачити та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     створювати художні образи 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     та виразно читати східну поезі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0" y="3573360"/>
            <a:ext cx="9144000" cy="3284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112083840" y="105503760"/>
            <a:ext cx="3225960" cy="6983280"/>
            <a:chOff x="112083840" y="105503760"/>
            <a:chExt cx="3225960" cy="6983280"/>
          </a:xfrm>
        </p:grpSpPr>
        <p:sp>
          <p:nvSpPr>
            <p:cNvPr id="344" name=""/>
            <p:cNvSpPr/>
            <p:nvPr/>
          </p:nvSpPr>
          <p:spPr>
            <a:xfrm>
              <a:off x="113644080" y="105503760"/>
              <a:ext cx="1665720" cy="6983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12083840" y="106398000"/>
              <a:ext cx="3069720" cy="23590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6" name="AN00932_" descr=""/>
            <p:cNvPicPr/>
            <p:nvPr/>
          </p:nvPicPr>
          <p:blipFill>
            <a:blip r:embed="rId1"/>
            <a:stretch/>
          </p:blipFill>
          <p:spPr>
            <a:xfrm>
              <a:off x="112480200" y="106938720"/>
              <a:ext cx="2284200" cy="12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113639040" y="109264680"/>
              <a:ext cx="1469520" cy="5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112299840" y="105719400"/>
            <a:ext cx="3225600" cy="6983640"/>
            <a:chOff x="112299840" y="105719400"/>
            <a:chExt cx="3225600" cy="6983640"/>
          </a:xfrm>
        </p:grpSpPr>
        <p:sp>
          <p:nvSpPr>
            <p:cNvPr id="349" name=""/>
            <p:cNvSpPr/>
            <p:nvPr/>
          </p:nvSpPr>
          <p:spPr>
            <a:xfrm>
              <a:off x="113860080" y="105719400"/>
              <a:ext cx="1665360" cy="69836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299840" y="106614000"/>
              <a:ext cx="3069360" cy="2359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1" name="AN00932_" descr=""/>
            <p:cNvPicPr/>
            <p:nvPr/>
          </p:nvPicPr>
          <p:blipFill>
            <a:blip r:embed="rId2"/>
            <a:stretch/>
          </p:blipFill>
          <p:spPr>
            <a:xfrm>
              <a:off x="112696200" y="107154720"/>
              <a:ext cx="2284200" cy="12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113854680" y="109480680"/>
              <a:ext cx="1469160" cy="5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112515480" y="105935400"/>
            <a:ext cx="3225960" cy="6983640"/>
            <a:chOff x="112515480" y="105935400"/>
            <a:chExt cx="3225960" cy="6983640"/>
          </a:xfrm>
        </p:grpSpPr>
        <p:sp>
          <p:nvSpPr>
            <p:cNvPr id="354" name=""/>
            <p:cNvSpPr/>
            <p:nvPr/>
          </p:nvSpPr>
          <p:spPr>
            <a:xfrm>
              <a:off x="114075720" y="105935400"/>
              <a:ext cx="1665720" cy="69836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12515480" y="106830000"/>
              <a:ext cx="3069720" cy="2359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6" name="AN00932_" descr=""/>
            <p:cNvPicPr/>
            <p:nvPr/>
          </p:nvPicPr>
          <p:blipFill>
            <a:blip r:embed="rId3"/>
            <a:stretch/>
          </p:blipFill>
          <p:spPr>
            <a:xfrm>
              <a:off x="112911840" y="107370720"/>
              <a:ext cx="2284200" cy="12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114070680" y="109696680"/>
              <a:ext cx="1469520" cy="5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324000" y="189000"/>
            <a:ext cx="3600360" cy="335736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 txBox="1"/>
          <p:nvPr/>
        </p:nvSpPr>
        <p:spPr>
          <a:xfrm>
            <a:off x="324000" y="2924280"/>
            <a:ext cx="37796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оетична історія Кита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5"/>
          <a:stretch/>
        </p:blipFill>
        <p:spPr>
          <a:xfrm>
            <a:off x="4284720" y="1916280"/>
            <a:ext cx="1297080" cy="158400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4284720" y="189000"/>
            <a:ext cx="1263600" cy="158580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5796000" y="2205000"/>
            <a:ext cx="3168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ільки у далекій дорозі,                          Зрозумієщ ти людські сподіван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у Ф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651640" y="620640"/>
            <a:ext cx="3492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е ж зараз моя дорога,         Та, що до рідного дому ве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Лі Б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643280" y="3716280"/>
            <a:ext cx="41054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Book Antiqua"/>
              </a:rPr>
              <a:t>Над проектом працюва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572000" y="4149720"/>
            <a:ext cx="4105440" cy="1728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Учні 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8-</a:t>
            </a:r>
            <a:r>
              <a:rPr b="0" lang="uk-UA" sz="1600" spc="-1" strike="noStrike">
                <a:solidFill>
                  <a:srgbClr val="000000"/>
                </a:solidFill>
                <a:latin typeface="Book Antiqua"/>
              </a:rPr>
              <a:t>А клас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1. </a:t>
            </a:r>
            <a:r>
              <a:rPr b="0" lang="uk-UA" sz="1600" spc="-1" strike="noStrike">
                <a:solidFill>
                  <a:srgbClr val="000000"/>
                </a:solidFill>
                <a:latin typeface="Book Antiqua"/>
              </a:rPr>
              <a:t>Загадкова країна - Ушакова 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2. </a:t>
            </a:r>
            <a:r>
              <a:rPr b="0" lang="uk-UA" sz="1600" spc="-1" strike="noStrike">
                <a:solidFill>
                  <a:srgbClr val="000000"/>
                </a:solidFill>
                <a:latin typeface="Book Antiqua"/>
              </a:rPr>
              <a:t>Культура спадщина - Наумов. 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3. </a:t>
            </a:r>
            <a:r>
              <a:rPr b="0" lang="uk-UA" sz="1600" spc="-1" strike="noStrike">
                <a:solidFill>
                  <a:srgbClr val="000000"/>
                </a:solidFill>
                <a:latin typeface="Book Antiqua"/>
              </a:rPr>
              <a:t>“Китайська грамота!” - Кузнєцова 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4. </a:t>
            </a:r>
            <a:r>
              <a:rPr b="0" lang="uk-UA" sz="1600" spc="-1" strike="noStrike">
                <a:solidFill>
                  <a:srgbClr val="000000"/>
                </a:solidFill>
                <a:latin typeface="Book Antiqua"/>
              </a:rPr>
              <a:t>Золотий вік” китайської поезії Ташлицька К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5. </a:t>
            </a:r>
            <a:r>
              <a:rPr b="0" lang="uk-UA" sz="1600" spc="-1" strike="noStrike">
                <a:solidFill>
                  <a:srgbClr val="000000"/>
                </a:solidFill>
                <a:latin typeface="Book Antiqua"/>
              </a:rPr>
              <a:t>Манукян Р</a:t>
            </a:r>
            <a:r>
              <a:rPr b="0" lang="uk-UA" sz="14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572000" y="5959440"/>
            <a:ext cx="4105440" cy="898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Керівники проекту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учні 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11-</a:t>
            </a:r>
            <a:r>
              <a:rPr b="0" lang="uk-UA" sz="1600" spc="-1" strike="noStrike">
                <a:solidFill>
                  <a:srgbClr val="000000"/>
                </a:solidFill>
                <a:latin typeface="Book Antiqua"/>
              </a:rPr>
              <a:t>А класу Фурик Є.  Куцмида В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Book Antiqua"/>
              </a:rPr>
              <a:t>- вчитель Мірош А.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Book Antiqua"/>
              </a:rPr>
              <a:t>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3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 txBox="1"/>
          <p:nvPr/>
        </p:nvSpPr>
        <p:spPr>
          <a:xfrm>
            <a:off x="539640" y="0"/>
            <a:ext cx="4680000" cy="1339920"/>
          </a:xfrm>
          <a:prstGeom prst="rect">
            <a:avLst/>
          </a:prstGeom>
        </p:spPr>
        <p:txBody>
          <a:bodyPr wrap="none" lIns="36360" rIns="36360" tIns="36360" bIns="3636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ГАДКОВА КРАЇНА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4"/>
          <a:stretch/>
        </p:blipFill>
        <p:spPr>
          <a:xfrm>
            <a:off x="250920" y="3213000"/>
            <a:ext cx="2376360" cy="295272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395280" y="1268280"/>
            <a:ext cx="3097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За гострі вершеч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чіпляються хмари тонк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(Ген річка іскриться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Несе небезпечне камінн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Географія країни”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існя про гори міста Ла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Ду Фу.</a:t>
            </a:r>
            <a:r>
              <a:rPr b="0" lang="uk-UA" sz="1200" spc="-1" strike="noStrike">
                <a:solidFill>
                  <a:srgbClr val="000000"/>
                </a:solidFill>
                <a:latin typeface="Book Antiqu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5"/>
          <a:stretch/>
        </p:blipFill>
        <p:spPr>
          <a:xfrm>
            <a:off x="2124000" y="4221000"/>
            <a:ext cx="2338560" cy="237672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4822920" y="4653000"/>
            <a:ext cx="432108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Book Antiqua"/>
              </a:rPr>
              <a:t>Китай—велика країна, розташована на південному сході Азії. Високі гори Тибету, пустеля Гобі й води Тихого океану  начебто охороняють цю державу від усюого світу, зберігаючи, його самобутт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6"/>
          <a:stretch/>
        </p:blipFill>
        <p:spPr>
          <a:xfrm>
            <a:off x="5796000" y="189000"/>
            <a:ext cx="3075120" cy="2305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395280" y="189000"/>
            <a:ext cx="3529080" cy="1295280"/>
          </a:xfrm>
          <a:prstGeom prst="rect">
            <a:avLst/>
          </a:prstGeom>
        </p:spPr>
        <p:txBody>
          <a:bodyPr wrap="none" lIns="36360" rIns="36360" tIns="36360" bIns="3636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ультурна спадщин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4103640" cy="273852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2"/>
          <a:stretch/>
        </p:blipFill>
        <p:spPr>
          <a:xfrm>
            <a:off x="0" y="4437000"/>
            <a:ext cx="2305080" cy="226224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3"/>
          <a:stretch/>
        </p:blipFill>
        <p:spPr>
          <a:xfrm>
            <a:off x="4859280" y="260280"/>
            <a:ext cx="3816360" cy="279252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4"/>
          <a:stretch/>
        </p:blipFill>
        <p:spPr>
          <a:xfrm>
            <a:off x="3419640" y="3645000"/>
            <a:ext cx="3744720" cy="236052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5"/>
          <a:srcRect l="0" t="0" r="175" b="0"/>
          <a:stretch/>
        </p:blipFill>
        <p:spPr>
          <a:xfrm>
            <a:off x="7596360" y="3645000"/>
            <a:ext cx="1547640" cy="272412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467640" y="4292640"/>
            <a:ext cx="1922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итайська сті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548000" y="6308640"/>
            <a:ext cx="10994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омп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587640" y="2781360"/>
            <a:ext cx="1370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орози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142520" y="6093000"/>
            <a:ext cx="19195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аперові грош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8101080" y="6021360"/>
            <a:ext cx="6955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Ла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2268360" y="0"/>
            <a:ext cx="4032360" cy="1295280"/>
          </a:xfrm>
          <a:prstGeom prst="rect">
            <a:avLst/>
          </a:prstGeom>
        </p:spPr>
        <p:txBody>
          <a:bodyPr wrap="none" lIns="36360" rIns="36360" tIns="36360" bIns="3636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“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итайська грамота”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1834920" cy="179064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2556000" y="1773360"/>
            <a:ext cx="1828800" cy="180000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3"/>
          <a:stretch/>
        </p:blipFill>
        <p:spPr>
          <a:xfrm>
            <a:off x="4788000" y="1773360"/>
            <a:ext cx="1800000" cy="180000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4"/>
          <a:stretch/>
        </p:blipFill>
        <p:spPr>
          <a:xfrm>
            <a:off x="6948360" y="1773360"/>
            <a:ext cx="1800360" cy="180000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5"/>
          <a:stretch/>
        </p:blipFill>
        <p:spPr>
          <a:xfrm>
            <a:off x="324000" y="4005360"/>
            <a:ext cx="1800000" cy="180000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6"/>
          <a:stretch/>
        </p:blipFill>
        <p:spPr>
          <a:xfrm>
            <a:off x="2556000" y="4005360"/>
            <a:ext cx="1798560" cy="1800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95280" y="3436200"/>
            <a:ext cx="1873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” - військовий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624040" y="3573360"/>
            <a:ext cx="2453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Чжень”  - істина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003640" y="3436200"/>
            <a:ext cx="1584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Юн” - вічність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019280" y="3573360"/>
            <a:ext cx="1609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Ай” -  кох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39640" y="5812920"/>
            <a:ext cx="1440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о” 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раїна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771640" y="5877000"/>
            <a:ext cx="1584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янь” - неб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042920" y="1052640"/>
            <a:ext cx="7559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SzPct val="41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50 </a:t>
            </a:r>
            <a:r>
              <a:rPr b="0" lang="uk-UA" sz="2400" spc="-1" strike="noStrike">
                <a:solidFill>
                  <a:srgbClr val="000000"/>
                </a:solidFill>
                <a:latin typeface="Book Antiqua"/>
              </a:rPr>
              <a:t>тисяч знаків китайської писемності—ієрогліфи</a:t>
            </a:r>
            <a:r>
              <a:rPr b="0" lang="uk-UA" sz="1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7"/>
          <a:stretch/>
        </p:blipFill>
        <p:spPr>
          <a:xfrm>
            <a:off x="4788000" y="4005360"/>
            <a:ext cx="1800000" cy="180000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4860720" y="5805360"/>
            <a:ext cx="15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Фу» - щаст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8"/>
          <a:stretch/>
        </p:blipFill>
        <p:spPr>
          <a:xfrm>
            <a:off x="6877080" y="4076640"/>
            <a:ext cx="1871640" cy="177660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7094160" y="5805360"/>
            <a:ext cx="14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І»  – дум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1908000" y="189000"/>
            <a:ext cx="4392720" cy="1008000"/>
          </a:xfrm>
          <a:prstGeom prst="rect">
            <a:avLst/>
          </a:prstGeom>
        </p:spPr>
        <p:txBody>
          <a:bodyPr wrap="none" lIns="36360" rIns="36360" tIns="36360" bIns="3636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Мистецтво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042920" y="1268280"/>
            <a:ext cx="698508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Book Antiqua"/>
              </a:rPr>
              <a:t>                                                                               </a:t>
            </a:r>
            <a:r>
              <a:rPr b="0" lang="uk-UA" sz="2800" spc="-1" strike="noStrike">
                <a:solidFill>
                  <a:srgbClr val="000000"/>
                </a:solidFill>
                <a:latin typeface="Book Antiqua"/>
              </a:rPr>
              <a:t>ГОХУ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Book Antiqua"/>
              </a:rPr>
              <a:t>                      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(Живопис нашої країн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Book Antiqua"/>
              </a:rPr>
              <a:t>Основа         Матеріали      Інструмен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(шовк, хлопок)               (китайська туш)               (пензлі з бамбуку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Book Antiqua"/>
              </a:rPr>
              <a:t>Шуймохуа                                 Юху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0" lang="uk-UA" sz="1600" spc="-1" strike="noStrike">
                <a:solidFill>
                  <a:srgbClr val="000000"/>
                </a:solidFill>
                <a:latin typeface="Book Antiqua"/>
              </a:rPr>
              <a:t>(Живопис)                                                          (заморський живопис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Book Antiqu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Book Antiqua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68360" y="3860640"/>
            <a:ext cx="237492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 Antiqua"/>
              </a:rPr>
              <a:t>Жанр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Book Antiqua"/>
              </a:rPr>
              <a:t>Портр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Book Antiqua"/>
              </a:rPr>
              <a:t>Релійний обр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Book Antiqua"/>
              </a:rPr>
              <a:t>Міфологічна карт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Book Antiqua"/>
              </a:rPr>
              <a:t>Історична карт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Book Antiqua"/>
              </a:rPr>
              <a:t>Побутова карт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Book Antiqua"/>
              </a:rPr>
              <a:t>Пейз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Book Antiqua"/>
              </a:rPr>
              <a:t>Натюрм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Book Antiqua"/>
              </a:rPr>
              <a:t>музи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156360" y="3789360"/>
            <a:ext cx="2016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Book Antiqua"/>
              </a:rPr>
              <a:t>Муз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896000" y="4222440"/>
            <a:ext cx="4248000" cy="30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VII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. у Кита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ї була створена перша школа музики і танцю “Консерваторіягрушевого саду”   У 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XIV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 Складаються пінічна і південна школи музики, причому для північної школі більш характерна героїна тематика, а для південної — лірична.                                       “Музика—хороші ліки. Музика випереджає медицину.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1T12:50:00Z</dcterms:created>
  <dc:creator>MAECTPO</dc:creator>
  <dc:description/>
  <dc:language>en-US</dc:language>
  <cp:lastModifiedBy>MAECTPO</cp:lastModifiedBy>
  <dcterms:modified xsi:type="dcterms:W3CDTF">2010-12-16T18:11:42Z</dcterms:modified>
  <cp:revision>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213000000000001024140</vt:lpwstr>
  </property>
</Properties>
</file>