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9.wmf" ContentType="image/x-wmf"/>
  <Override PartName="/ppt/media/image29.jpeg" ContentType="image/jpeg"/>
  <Override PartName="/ppt/media/image5.png" ContentType="image/png"/>
  <Override PartName="/ppt/media/image35.jpeg" ContentType="image/jpeg"/>
  <Override PartName="/ppt/media/image14.png" ContentType="image/png"/>
  <Override PartName="/ppt/media/image10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1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58CA-F166-4441-BE38-09D8C45B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E21-D259-49D0-883C-6557966C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92BF-D4D0-48AE-B1D8-78F60222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FE0B-6322-49E6-AF89-28D1FF23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B650-DFC5-4B0F-92A4-72BF1494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F0A5-9D48-4B74-BF46-4F9B0B6D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E5E0-1F4E-465C-AC43-02917372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741B-6110-4BF9-88D9-9AF37FE5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6A57-5B9E-4394-830A-B70544C6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3775-D3ED-4DCE-8D59-2899E646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D485-619E-4773-B860-40A99241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D6EF-E621-4891-A9FC-7E36AA23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D215-0FA6-4BFD-9BAF-A977B88E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784F-7396-4216-9EB5-7A8C25ED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2DE6-6997-4731-8084-9528FE10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18AA-8C0A-47FC-AC65-2A66F526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3032-1B5C-4A96-BC96-744D1C9C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3CAB8-4E44-4EF8-9EFB-F17BA3EC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79F54-D960-48A5-B0A1-51D03F84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39C77-A8BC-423F-AA97-6F48B6D9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EAF50-63D1-4C33-BEAF-33C6EE71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B64D3-33B3-403F-931F-E53B1001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787-2525-441A-85CA-9FD71533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FC659-797D-460B-8A71-D961F0BC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B2FF1-340D-4DD2-8234-943BA2BC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038E5-0D16-48EB-B84A-3748C6B5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85D8C-AEA5-4615-B219-59D3A92B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FB795-8FD8-4431-84E2-FDD7779B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55D34-4884-4DFF-AF11-B9559A03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7F882-534E-455A-BC36-83F7E205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4BF5EB-CD1A-4BF1-A7AC-B365203E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CAEDA6-13F2-4716-9C07-7AF9B19E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4261A0-0DE5-4BCD-9E73-8A907C96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980D-4162-426B-A26D-4F662383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9BCAAD-A16C-4BC1-BD87-7D5DC381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D44FAF-C6E9-43FF-9E17-05A0932B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DBD7DA-10A0-4791-8350-3BA4E81E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28FD93-26E6-43B6-B169-AB1DAD3F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7E90BE-BF5B-402D-8C83-A3EA4B8D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817324-5C41-4BAD-9E82-EC42C236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E0AE37-68D1-49AD-948B-0A43BACA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577503-4DBA-4AB6-B794-5C100DEF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4A3F15-3C73-44E6-B5BA-374DDF70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B969E-815F-4268-B70C-97BE93BE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538C-1842-4B56-8809-47AF3549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5105B-BB5A-4F83-B644-005F1C82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81364-FC7E-44AC-B1AA-4F067C02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9D982-E34F-45B2-BE1C-DFBEE5D7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729E3-2C38-43C3-BE4C-8E5D06FA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6DB6D-87A9-473C-B75A-3587A4EC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F9FB0-7F40-40B0-8999-1893A891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CE11C-8F06-4997-9321-450D9F74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C9385-6FCE-4A18-BCA3-BA653A67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B8446-DFF4-4E5E-BB6B-CCF6DCCB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6606D-3F8D-4AD7-B485-9589918C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E8AD-52A2-4E90-9ACC-5080BFF8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EBABF-2095-46F2-92A4-5B678020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8628-CA19-46EF-B8CA-CC7AB806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794B-9DD8-4418-9B69-7D140E4B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8D5A-B822-4644-9A59-B0CD4B77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slideLayout" Target="../slideLayouts/slideLayout25.xml"/><Relationship Id="rId32" Type="http://schemas.openxmlformats.org/officeDocument/2006/relationships/slideLayout" Target="../slideLayouts/slideLayout26.xml"/><Relationship Id="rId33" Type="http://schemas.openxmlformats.org/officeDocument/2006/relationships/slideLayout" Target="../slideLayouts/slideLayout27.xml"/><Relationship Id="rId34" Type="http://schemas.openxmlformats.org/officeDocument/2006/relationships/slideLayout" Target="../slideLayouts/slideLayout28.xml"/><Relationship Id="rId35" Type="http://schemas.openxmlformats.org/officeDocument/2006/relationships/slideLayout" Target="../slideLayouts/slideLayout29.xml"/><Relationship Id="rId36" Type="http://schemas.openxmlformats.org/officeDocument/2006/relationships/slideLayout" Target="../slideLayouts/slideLayout30.xml"/><Relationship Id="rId37" Type="http://schemas.openxmlformats.org/officeDocument/2006/relationships/slideLayout" Target="../slideLayouts/slideLayout31.xml"/><Relationship Id="rId38" Type="http://schemas.openxmlformats.org/officeDocument/2006/relationships/slideLayout" Target="../slideLayouts/slideLayout32.xml"/><Relationship Id="rId39" Type="http://schemas.openxmlformats.org/officeDocument/2006/relationships/slideLayout" Target="../slideLayouts/slideLayout33.xml"/><Relationship Id="rId40" Type="http://schemas.openxmlformats.org/officeDocument/2006/relationships/slideLayout" Target="../slideLayouts/slideLayout34.xml"/><Relationship Id="rId41" Type="http://schemas.openxmlformats.org/officeDocument/2006/relationships/slideLayout" Target="../slideLayouts/slideLayout35.xml"/><Relationship Id="rId4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4B21-5FAA-4E6C-AD3A-2B50400D1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E58D-FE65-4216-B6D0-EF548E95F6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B79C-7B86-417F-8B62-19A911B37A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1"/>
    <p:sldLayoutId id="2147483676" r:id="rId32"/>
    <p:sldLayoutId id="2147483677" r:id="rId33"/>
    <p:sldLayoutId id="2147483678" r:id="rId34"/>
    <p:sldLayoutId id="2147483679" r:id="rId35"/>
    <p:sldLayoutId id="2147483680" r:id="rId36"/>
    <p:sldLayoutId id="2147483681" r:id="rId37"/>
    <p:sldLayoutId id="2147483682" r:id="rId38"/>
    <p:sldLayoutId id="2147483683" r:id="rId39"/>
    <p:sldLayoutId id="2147483684" r:id="rId40"/>
    <p:sldLayoutId id="2147483685" r:id="rId41"/>
    <p:sldLayoutId id="2147483686" r:id="rId4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5CB2-3A10-478E-A8C7-075259CDA7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8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7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6C12-6E5F-4289-817F-7B3DED8075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232000" cy="20844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2521080" cy="42483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1763640" y="189000"/>
            <a:ext cx="4680000" cy="122400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“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олотий вік”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итайської поезії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1341360"/>
            <a:ext cx="360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Книга пісень”(“Шицзінь”)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Ян Ван-Лі, Фань Чен-да, Сінь Ціузі, Лі Бо, Ду Фу, Мен Хаож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411280" y="2997360"/>
            <a:ext cx="3240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Book Antiqua"/>
              </a:rPr>
              <a:t>Мен Хаожань</a:t>
            </a:r>
            <a:r>
              <a:rPr b="1" i="1" lang="uk-UA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Book Antiqua"/>
              </a:rPr>
              <a:t>Весняний світа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Весняний с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солодкий на світан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Та чути всюди голоси птах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Шуміла ніч дощ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і віяла до ра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Не знати – скіль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обірвала пелюстків</a:t>
            </a:r>
            <a:r>
              <a:rPr b="0" lang="uk-UA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48000" y="2205000"/>
            <a:ext cx="3997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Головна пробл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- людина і суспі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580000" y="321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Жанр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51640" y="3645000"/>
            <a:ext cx="3241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-Філософська проза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у — вірш в прозі                                             Ци — вірш пісенного тип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-Поезія (любовна лірика)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Цзань     – віршовані характеристики.                               Лей і ай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лач за достойною людиною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-Народна повість</a:t>
            </a:r>
            <a:r>
              <a:rPr b="0" lang="uk-UA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12083840" y="105503760"/>
            <a:ext cx="3225960" cy="6983280"/>
            <a:chOff x="112083840" y="105503760"/>
            <a:chExt cx="3225960" cy="6983280"/>
          </a:xfrm>
        </p:grpSpPr>
        <p:sp>
          <p:nvSpPr>
            <p:cNvPr id="420" name=""/>
            <p:cNvSpPr/>
            <p:nvPr/>
          </p:nvSpPr>
          <p:spPr>
            <a:xfrm>
              <a:off x="113644080" y="105503760"/>
              <a:ext cx="1665720" cy="6983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2083840" y="106398000"/>
              <a:ext cx="3069720" cy="2359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2" name="AN00932_" descr=""/>
            <p:cNvPicPr/>
            <p:nvPr/>
          </p:nvPicPr>
          <p:blipFill>
            <a:blip r:embed="rId1"/>
            <a:stretch/>
          </p:blipFill>
          <p:spPr>
            <a:xfrm>
              <a:off x="112480200" y="106938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113639040" y="109264680"/>
              <a:ext cx="146952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12299840" y="105719400"/>
            <a:ext cx="3225600" cy="6983640"/>
            <a:chOff x="112299840" y="105719400"/>
            <a:chExt cx="3225600" cy="6983640"/>
          </a:xfrm>
        </p:grpSpPr>
        <p:sp>
          <p:nvSpPr>
            <p:cNvPr id="425" name=""/>
            <p:cNvSpPr/>
            <p:nvPr/>
          </p:nvSpPr>
          <p:spPr>
            <a:xfrm>
              <a:off x="113860080" y="105719400"/>
              <a:ext cx="1665360" cy="698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2299840" y="106614000"/>
              <a:ext cx="3069360" cy="2359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AN00932_" descr=""/>
            <p:cNvPicPr/>
            <p:nvPr/>
          </p:nvPicPr>
          <p:blipFill>
            <a:blip r:embed="rId2"/>
            <a:stretch/>
          </p:blipFill>
          <p:spPr>
            <a:xfrm>
              <a:off x="112696200" y="107154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113854680" y="109480680"/>
              <a:ext cx="146916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12515480" y="105935400"/>
            <a:ext cx="3225960" cy="6983640"/>
            <a:chOff x="112515480" y="105935400"/>
            <a:chExt cx="3225960" cy="6983640"/>
          </a:xfrm>
        </p:grpSpPr>
        <p:sp>
          <p:nvSpPr>
            <p:cNvPr id="430" name=""/>
            <p:cNvSpPr/>
            <p:nvPr/>
          </p:nvSpPr>
          <p:spPr>
            <a:xfrm>
              <a:off x="114075720" y="105935400"/>
              <a:ext cx="1665720" cy="698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12515480" y="106830000"/>
              <a:ext cx="3069720" cy="2359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AN00932_" descr=""/>
            <p:cNvPicPr/>
            <p:nvPr/>
          </p:nvPicPr>
          <p:blipFill>
            <a:blip r:embed="rId3"/>
            <a:stretch/>
          </p:blipFill>
          <p:spPr>
            <a:xfrm>
              <a:off x="112911840" y="107370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114070680" y="109696680"/>
              <a:ext cx="146952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4" name="" descr=""/>
          <p:cNvPicPr/>
          <p:nvPr/>
        </p:nvPicPr>
        <p:blipFill>
          <a:blip r:embed="rId4"/>
          <a:stretch/>
        </p:blipFill>
        <p:spPr>
          <a:xfrm>
            <a:off x="324000" y="189000"/>
            <a:ext cx="3600360" cy="33573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24000" y="2924280"/>
            <a:ext cx="3779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етична історія Кита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5"/>
          <a:stretch/>
        </p:blipFill>
        <p:spPr>
          <a:xfrm>
            <a:off x="4284720" y="1916280"/>
            <a:ext cx="1297080" cy="15840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6"/>
          <a:stretch/>
        </p:blipFill>
        <p:spPr>
          <a:xfrm>
            <a:off x="4284720" y="189000"/>
            <a:ext cx="1263600" cy="15858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5796000" y="2205000"/>
            <a:ext cx="316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ільки у далекій дорозі,                          Зрозумієщ ти людські сподів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у Ф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51640" y="620640"/>
            <a:ext cx="349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ж зараз моя дорога,         Та, що до рідного дому в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і 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643280" y="3716280"/>
            <a:ext cx="4105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Над проектом працюв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4149720"/>
            <a:ext cx="4105440" cy="172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Учні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8-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А кла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Загадкова країна - Ушакова 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2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Культура спадщина - Наумов.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3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“Китайська грамота!” - Кузнєцова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4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Золотий вік” китайської поезії Ташлицька 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5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Манукян Р</a:t>
            </a:r>
            <a:r>
              <a:rPr b="0" lang="uk-UA" sz="1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5959440"/>
            <a:ext cx="4105440" cy="898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Керівники проекту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учні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1-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А класу Фурик Є.  Куцмида 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- вчитель Мірош А.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611280" y="1700280"/>
            <a:ext cx="79930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Слово – не просто звук, а засіб збудження образів… Слухати – означає бачити те, про що говорять, а говорити – означає малювати здорові образи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К. Станіславсь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250920" y="907920"/>
            <a:ext cx="741672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ема: Китайська лірика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езія Лі Бо - пейзаж душі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4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Мета: 1.Осягнути своєрідність   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китайської лірики на прикладі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творчості  поета Лі Б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2.Дослідити наскільки тісно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поезія по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язується з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філософіє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3.Навчитися бачити та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створювати художні образи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та виразно читати східну поезі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12083840" y="105503760"/>
            <a:ext cx="3225960" cy="6983280"/>
            <a:chOff x="112083840" y="105503760"/>
            <a:chExt cx="3225960" cy="6983280"/>
          </a:xfrm>
        </p:grpSpPr>
        <p:sp>
          <p:nvSpPr>
            <p:cNvPr id="344" name=""/>
            <p:cNvSpPr/>
            <p:nvPr/>
          </p:nvSpPr>
          <p:spPr>
            <a:xfrm>
              <a:off x="113644080" y="105503760"/>
              <a:ext cx="1665720" cy="6983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2083840" y="106398000"/>
              <a:ext cx="3069720" cy="2359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6" name="AN00932_" descr=""/>
            <p:cNvPicPr/>
            <p:nvPr/>
          </p:nvPicPr>
          <p:blipFill>
            <a:blip r:embed="rId1"/>
            <a:stretch/>
          </p:blipFill>
          <p:spPr>
            <a:xfrm>
              <a:off x="112480200" y="106938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113639040" y="109264680"/>
              <a:ext cx="146952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12299840" y="105719400"/>
            <a:ext cx="3225600" cy="6983640"/>
            <a:chOff x="112299840" y="105719400"/>
            <a:chExt cx="3225600" cy="6983640"/>
          </a:xfrm>
        </p:grpSpPr>
        <p:sp>
          <p:nvSpPr>
            <p:cNvPr id="349" name=""/>
            <p:cNvSpPr/>
            <p:nvPr/>
          </p:nvSpPr>
          <p:spPr>
            <a:xfrm>
              <a:off x="113860080" y="105719400"/>
              <a:ext cx="1665360" cy="698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299840" y="106614000"/>
              <a:ext cx="3069360" cy="2359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AN00932_" descr=""/>
            <p:cNvPicPr/>
            <p:nvPr/>
          </p:nvPicPr>
          <p:blipFill>
            <a:blip r:embed="rId2"/>
            <a:stretch/>
          </p:blipFill>
          <p:spPr>
            <a:xfrm>
              <a:off x="112696200" y="107154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113854680" y="109480680"/>
              <a:ext cx="146916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12515480" y="105935400"/>
            <a:ext cx="3225960" cy="6983640"/>
            <a:chOff x="112515480" y="105935400"/>
            <a:chExt cx="3225960" cy="6983640"/>
          </a:xfrm>
        </p:grpSpPr>
        <p:sp>
          <p:nvSpPr>
            <p:cNvPr id="354" name=""/>
            <p:cNvSpPr/>
            <p:nvPr/>
          </p:nvSpPr>
          <p:spPr>
            <a:xfrm>
              <a:off x="114075720" y="105935400"/>
              <a:ext cx="1665720" cy="698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2515480" y="106830000"/>
              <a:ext cx="3069720" cy="2359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6" name="AN00932_" descr=""/>
            <p:cNvPicPr/>
            <p:nvPr/>
          </p:nvPicPr>
          <p:blipFill>
            <a:blip r:embed="rId3"/>
            <a:stretch/>
          </p:blipFill>
          <p:spPr>
            <a:xfrm>
              <a:off x="112911840" y="107370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14070680" y="109696680"/>
              <a:ext cx="146952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324000" y="189000"/>
            <a:ext cx="3600360" cy="33573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324000" y="2924280"/>
            <a:ext cx="3779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етична історія Кита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4284720" y="1916280"/>
            <a:ext cx="1297080" cy="1584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4284720" y="189000"/>
            <a:ext cx="1263600" cy="15858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5796000" y="2205000"/>
            <a:ext cx="316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ільки у далекій дорозі,                          Зрозумієщ ти людські сподів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у Ф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651640" y="620640"/>
            <a:ext cx="349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ж зараз моя дорога,         Та, що до рідного дому в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і 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43280" y="3716280"/>
            <a:ext cx="4105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Над проектом працюв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0" y="4149720"/>
            <a:ext cx="4105440" cy="172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Учні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8-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А кла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Загадкова країна - Ушакова 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2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Культура спадщина - Наумов.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3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“Китайська грамота!” - Кузнєцова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4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Золотий вік” китайської поезії Ташлицька 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5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Манукян Р</a:t>
            </a:r>
            <a:r>
              <a:rPr b="0" lang="uk-UA" sz="1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0" y="5959440"/>
            <a:ext cx="4105440" cy="898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Керівники проекту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учні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1-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А класу Фурик Є.  Куцмида 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- вчитель Мірош А.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539640" y="0"/>
            <a:ext cx="4680000" cy="133992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ГАДКОВА КРАЇНА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250920" y="3213000"/>
            <a:ext cx="2376360" cy="29527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95280" y="1268280"/>
            <a:ext cx="309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 гострі верше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чіпляються хмари тонк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Ген річка іскритьс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есе небезпечне камінн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Географія країни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існя про гори міста Л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у Фу.</a:t>
            </a:r>
            <a:r>
              <a:rPr b="0" lang="uk-UA" sz="1200" spc="-1" strike="noStrike">
                <a:solidFill>
                  <a:srgbClr val="000000"/>
                </a:solidFill>
                <a:latin typeface="Book Antiqu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2124000" y="4221000"/>
            <a:ext cx="2338560" cy="23767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4822920" y="4653000"/>
            <a:ext cx="4321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Китай—велика країна, розташована на південному сході Азії. Високі гори Тибету, пустеля Гобі й води Тихого океану  начебто охороняють цю державу від усюого світу, зберігаючи, його самобутт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6"/>
          <a:stretch/>
        </p:blipFill>
        <p:spPr>
          <a:xfrm>
            <a:off x="5796000" y="189000"/>
            <a:ext cx="3075120" cy="230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95280" y="189000"/>
            <a:ext cx="3529080" cy="129528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льтурна спадщ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103640" cy="27385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0" y="4437000"/>
            <a:ext cx="2305080" cy="22622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4859280" y="260280"/>
            <a:ext cx="3816360" cy="27925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3419640" y="3645000"/>
            <a:ext cx="3744720" cy="2360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5"/>
          <a:srcRect l="0" t="0" r="175" b="0"/>
          <a:stretch/>
        </p:blipFill>
        <p:spPr>
          <a:xfrm>
            <a:off x="7596360" y="3645000"/>
            <a:ext cx="1547640" cy="27241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467640" y="4292640"/>
            <a:ext cx="192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итайська сті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48000" y="6308640"/>
            <a:ext cx="1099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мп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87640" y="2781360"/>
            <a:ext cx="1370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рози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142520" y="6093000"/>
            <a:ext cx="1919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перові грош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01080" y="6021360"/>
            <a:ext cx="695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2268360" y="0"/>
            <a:ext cx="4032360" cy="129528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“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итайська грамота”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1834920" cy="1790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2556000" y="1773360"/>
            <a:ext cx="1828800" cy="1800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6948360" y="177336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324000" y="4005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6"/>
          <a:stretch/>
        </p:blipFill>
        <p:spPr>
          <a:xfrm>
            <a:off x="2556000" y="4005360"/>
            <a:ext cx="1798560" cy="1800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95280" y="3436200"/>
            <a:ext cx="187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” - військовий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624040" y="3573360"/>
            <a:ext cx="245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жень”  - істина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003640" y="3436200"/>
            <a:ext cx="158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Юн” - вічність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19280" y="3573360"/>
            <a:ext cx="160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й” -  кох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9640" y="5812920"/>
            <a:ext cx="1440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”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раїна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771640" y="5877000"/>
            <a:ext cx="158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янь” - не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42920" y="1052640"/>
            <a:ext cx="7559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50 </a:t>
            </a: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тисяч знаків китайської писемності—ієрогліфи</a:t>
            </a:r>
            <a:r>
              <a:rPr b="0" lang="uk-UA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4788000" y="4005360"/>
            <a:ext cx="1800000" cy="18000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860720" y="580536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Фу» - щаст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8"/>
          <a:stretch/>
        </p:blipFill>
        <p:spPr>
          <a:xfrm>
            <a:off x="6877080" y="4076640"/>
            <a:ext cx="1871640" cy="17766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094160" y="580536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І»  – ду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1908000" y="189000"/>
            <a:ext cx="4392720" cy="100800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истецтв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042920" y="1268280"/>
            <a:ext cx="6985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ГОХУ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     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Живопис нашої країн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Основа         Матеріали      Інструмен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шовк, хлопок)               (китайська туш)               (пензлі з бамбуку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Шуймохуа                                 Юху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(Живопис)                                                          (заморський живопи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Book Antiqua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8360" y="3860640"/>
            <a:ext cx="23749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Жанр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Релійний об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Міфологічна 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Історична 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Побутова 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муз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56360" y="3789360"/>
            <a:ext cx="201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Му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896000" y="4222440"/>
            <a:ext cx="424800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. у Кит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ї була створена перша школа музики і танцю “Консерваторіягрушевого саду”   У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Складаються пінічна і південна школи музики, причому для північної школі більш характерна героїна тематика, а для південної — лірична.                                       “Музика—хороші ліки. Музика випереджає медицину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12:50:00Z</dcterms:created>
  <dc:creator>MAECTPO</dc:creator>
  <dc:description/>
  <dc:language>en-US</dc:language>
  <cp:lastModifiedBy>MAECTPO</cp:lastModifiedBy>
  <dcterms:modified xsi:type="dcterms:W3CDTF">2010-12-16T18:11:42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13000000000001024140</vt:lpwstr>
  </property>
</Properties>
</file>