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9.wmf" ContentType="image/x-wmf"/>
  <Override PartName="/ppt/media/image29.jpeg" ContentType="image/jpeg"/>
  <Override PartName="/ppt/media/image5.png" ContentType="image/png"/>
  <Override PartName="/ppt/media/image35.jpeg" ContentType="image/jpeg"/>
  <Override PartName="/ppt/media/image14.png" ContentType="image/png"/>
  <Override PartName="/ppt/media/image10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6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821-EDDD-4EB5-B9D2-9FB1E423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DCF-E7A4-4F44-93CD-7A19C653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105-182C-4C3A-96C4-1F563ABD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732-8500-4BBD-AE49-0B13D94D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2497-BA2F-4A93-A187-6A4FEA37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D10D-69F0-47E8-BC87-509078E8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DE6A-D046-499F-8739-4B0544B4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52AD-E3D3-4E03-8BB4-F6E7C51A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B102-24BB-4ED9-8510-8392AE1D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59FB-E700-4A44-BFDB-80401B4A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076D-734C-4FCC-9B97-E6411213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8E55-26E5-434A-B2FA-8A5303A4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1D60-DED7-4779-9FD8-B48515E2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BD58-9F41-4FEF-9804-9D75FE18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9443-1A72-4450-8484-C1CCE56B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3DD1-DAC1-4C40-B883-030924EE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BA6A-7EC5-4C50-A8A8-E9B355B5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A49AE-80F1-41A6-AFF6-29445410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534D5-5792-4AD4-BA4E-0158B1F3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84AEC-26D2-4709-8F1C-20C06CE3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7DB0-0EC0-4001-A8D4-234F9F11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A0293-F5FA-45D8-87E3-C241352E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1450-73B4-4435-85F9-4C404A73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4594-5B66-4136-BF69-5AE782A6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1E968-AD58-4F1C-A8E7-7AD30BDD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61C27-BFC9-4838-90C9-6B724B5D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4B61A-4ECE-4A14-88E0-94AE0EB9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B1CF1-7922-490F-96E2-2A94B5B6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B59F5-E7E8-4A1A-A6FB-DAD70ECB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36D7-D608-490E-8DD4-48359199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5EA704-70BB-4B53-8742-C03DF42D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781C9C-E09D-478F-9FD6-65B25930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8C87D5-734E-469F-A78F-C7F5DDDA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D78D-47F1-4090-8365-2912DA00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B747F4-57FF-40A0-82B0-C26D1281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7ED3E-FBB2-4BA2-83B6-73195DF4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374621-8E2D-4CA5-A77A-B48681C3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852BC-DEA1-4FDA-A6CC-9AEFAB77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085A53-3979-4F9C-95C5-5CC95048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462FA2-897A-49C5-8AFE-EA03134B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201924-812F-4A88-B983-67377CB6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8C72CB-3B67-4B4E-AB7C-0DB24876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83478C-0AF7-4608-93E1-33307187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6C6FD-ED25-4B0B-B51D-518C1B2F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739-4BDF-4D91-8824-0561F253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6AE93-4173-49A1-977A-B631B09D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51ADF-640F-4C4B-93DF-B57414BB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42F51-186D-4B3B-BE8E-764A8C70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5DD24-1362-4920-B636-079A93BF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79774-0813-4AE2-9D05-3E2C5E1D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E10FF-745C-46E0-B1AF-060F7BD8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A0817-8E1B-425E-A108-70EAC86D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CD445-DE74-4881-AF09-57243455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93594-15E0-4C59-B1D3-022BE09B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3A2D7-44EB-48D3-9E07-E2C1CBCE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BF54-7034-4CC8-A70D-3CF8A647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F6269-8D12-484A-AD69-41465079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117-5527-4136-9879-7A417059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60E-2F95-42A2-9DF3-B28A05FD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BCF0-FFA5-4B34-A753-4A752500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slideLayout" Target="../slideLayouts/slideLayout25.xml"/><Relationship Id="rId32" Type="http://schemas.openxmlformats.org/officeDocument/2006/relationships/slideLayout" Target="../slideLayouts/slideLayout26.xml"/><Relationship Id="rId33" Type="http://schemas.openxmlformats.org/officeDocument/2006/relationships/slideLayout" Target="../slideLayouts/slideLayout27.xml"/><Relationship Id="rId34" Type="http://schemas.openxmlformats.org/officeDocument/2006/relationships/slideLayout" Target="../slideLayouts/slideLayout28.xml"/><Relationship Id="rId35" Type="http://schemas.openxmlformats.org/officeDocument/2006/relationships/slideLayout" Target="../slideLayouts/slideLayout29.xml"/><Relationship Id="rId36" Type="http://schemas.openxmlformats.org/officeDocument/2006/relationships/slideLayout" Target="../slideLayouts/slideLayout30.xml"/><Relationship Id="rId37" Type="http://schemas.openxmlformats.org/officeDocument/2006/relationships/slideLayout" Target="../slideLayouts/slideLayout31.xml"/><Relationship Id="rId38" Type="http://schemas.openxmlformats.org/officeDocument/2006/relationships/slideLayout" Target="../slideLayouts/slideLayout32.xml"/><Relationship Id="rId39" Type="http://schemas.openxmlformats.org/officeDocument/2006/relationships/slideLayout" Target="../slideLayouts/slideLayout33.xml"/><Relationship Id="rId40" Type="http://schemas.openxmlformats.org/officeDocument/2006/relationships/slideLayout" Target="../slideLayouts/slideLayout34.xml"/><Relationship Id="rId41" Type="http://schemas.openxmlformats.org/officeDocument/2006/relationships/slideLayout" Target="../slideLayouts/slideLayout35.xml"/><Relationship Id="rId4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1081-606F-45BA-B0D4-509DF81D7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A4D1-6D12-413D-93AA-D0A82E19E5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3D8A-0062-4F4B-B9A8-AC59004472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1"/>
    <p:sldLayoutId id="2147483676" r:id="rId32"/>
    <p:sldLayoutId id="2147483677" r:id="rId33"/>
    <p:sldLayoutId id="2147483678" r:id="rId34"/>
    <p:sldLayoutId id="2147483679" r:id="rId35"/>
    <p:sldLayoutId id="2147483680" r:id="rId36"/>
    <p:sldLayoutId id="2147483681" r:id="rId37"/>
    <p:sldLayoutId id="2147483682" r:id="rId38"/>
    <p:sldLayoutId id="2147483683" r:id="rId39"/>
    <p:sldLayoutId id="2147483684" r:id="rId40"/>
    <p:sldLayoutId id="2147483685" r:id="rId41"/>
    <p:sldLayoutId id="2147483686" r:id="rId4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0528-4A79-4E25-9A17-78EF75E26A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8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8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7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0C55-CAA8-4ED3-8087-D9C72A4BEE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232000" cy="20844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0" y="2349360"/>
            <a:ext cx="2521080" cy="42483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1763640" y="189000"/>
            <a:ext cx="4680000" cy="12240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“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олотий вік”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итайської поезії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341360"/>
            <a:ext cx="360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Книга пісень”(“Шицзінь”)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Ян Ван-Лі, Фань Чен-да, Сінь Ціузі, Лі Бо, Ду Фу, Мен Хаож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411280" y="2997360"/>
            <a:ext cx="3240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Book Antiqua"/>
              </a:rPr>
              <a:t>Мен Хаожань</a:t>
            </a:r>
            <a:r>
              <a:rPr b="1" i="1" lang="uk-UA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Book Antiqua"/>
              </a:rPr>
              <a:t>Весняний світа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Весняний с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солодкий на світан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Та чути всюди голоси птах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Шуміла ніч дощ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і віяла до ра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Не знати – скіль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обірвала пелюстків</a:t>
            </a: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48000" y="2205000"/>
            <a:ext cx="3997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Головна пробл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 людина і суспі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80000" y="321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Жанр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51640" y="3645000"/>
            <a:ext cx="32414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Філософська проза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Фу — вірш в прозі                                             Ци — вірш пісенного тип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Поезія (любовна лірика)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Цзань     – віршовані характеристики.                               Лей і ай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лач за достойною людиною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-Народна повість</a:t>
            </a: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12083840" y="105503760"/>
            <a:ext cx="3225960" cy="6983280"/>
            <a:chOff x="112083840" y="105503760"/>
            <a:chExt cx="3225960" cy="6983280"/>
          </a:xfrm>
        </p:grpSpPr>
        <p:sp>
          <p:nvSpPr>
            <p:cNvPr id="420" name=""/>
            <p:cNvSpPr/>
            <p:nvPr/>
          </p:nvSpPr>
          <p:spPr>
            <a:xfrm>
              <a:off x="113644080" y="105503760"/>
              <a:ext cx="1665720" cy="6983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2083840" y="106398000"/>
              <a:ext cx="3069720" cy="235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2" name="AN00932_" descr=""/>
            <p:cNvPicPr/>
            <p:nvPr/>
          </p:nvPicPr>
          <p:blipFill>
            <a:blip r:embed="rId1"/>
            <a:stretch/>
          </p:blipFill>
          <p:spPr>
            <a:xfrm>
              <a:off x="112480200" y="106938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113639040" y="109264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112299840" y="105719400"/>
            <a:ext cx="3225600" cy="6983640"/>
            <a:chOff x="112299840" y="105719400"/>
            <a:chExt cx="3225600" cy="6983640"/>
          </a:xfrm>
        </p:grpSpPr>
        <p:sp>
          <p:nvSpPr>
            <p:cNvPr id="425" name=""/>
            <p:cNvSpPr/>
            <p:nvPr/>
          </p:nvSpPr>
          <p:spPr>
            <a:xfrm>
              <a:off x="113860080" y="105719400"/>
              <a:ext cx="166536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12299840" y="106614000"/>
              <a:ext cx="306936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7" name="AN00932_" descr=""/>
            <p:cNvPicPr/>
            <p:nvPr/>
          </p:nvPicPr>
          <p:blipFill>
            <a:blip r:embed="rId2"/>
            <a:stretch/>
          </p:blipFill>
          <p:spPr>
            <a:xfrm>
              <a:off x="112696200" y="107154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13854680" y="109480680"/>
              <a:ext cx="146916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12515480" y="105935400"/>
            <a:ext cx="3225960" cy="6983640"/>
            <a:chOff x="112515480" y="105935400"/>
            <a:chExt cx="3225960" cy="6983640"/>
          </a:xfrm>
        </p:grpSpPr>
        <p:sp>
          <p:nvSpPr>
            <p:cNvPr id="430" name=""/>
            <p:cNvSpPr/>
            <p:nvPr/>
          </p:nvSpPr>
          <p:spPr>
            <a:xfrm>
              <a:off x="114075720" y="105935400"/>
              <a:ext cx="166572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12515480" y="106830000"/>
              <a:ext cx="306972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AN00932_" descr=""/>
            <p:cNvPicPr/>
            <p:nvPr/>
          </p:nvPicPr>
          <p:blipFill>
            <a:blip r:embed="rId3"/>
            <a:stretch/>
          </p:blipFill>
          <p:spPr>
            <a:xfrm>
              <a:off x="112911840" y="107370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114070680" y="109696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3600360" cy="33573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24000" y="2924280"/>
            <a:ext cx="37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етична історія Кита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1297080" cy="15840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6"/>
          <a:stretch/>
        </p:blipFill>
        <p:spPr>
          <a:xfrm>
            <a:off x="4284720" y="189000"/>
            <a:ext cx="1263600" cy="15858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5796000" y="2205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ільки у далекій дорозі,                          Зрозумієщ ти людські споді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 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51640" y="620640"/>
            <a:ext cx="34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ж зараз моя дорога,         Та, що до рідного дому в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і 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716280"/>
            <a:ext cx="4105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Над проектом працюв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4149720"/>
            <a:ext cx="4105440" cy="172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8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агадкова країна - Ушакова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2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Культура спадщина - Наумов.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3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“Китайська грамота!” - Кузнєцова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4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олотий вік” китайської поезії Ташлицька 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5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Манукян Р</a:t>
            </a: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5959440"/>
            <a:ext cx="4105440" cy="898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Керівники проект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1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 Фурик Є.  Куцмида 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- вчитель Мірош А.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611280" y="1700280"/>
            <a:ext cx="799308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Слово – не просто звук, а засіб збудження образів… Слухати – означає бачити те, про що говорять, а говорити – означає малювати здорові образи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К. Станіславсь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250920" y="907920"/>
            <a:ext cx="7416720" cy="511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ема: Китайська лірика.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езія Лі Бо - пейзаж душ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Мета: 1.Осягнути своєрідність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китайської лірики на прикладі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творчості  поета Лі 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2.Дослідити наскільки тісно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поезія по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зується з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філософіє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3.Навчитися бачити та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створювати художні образи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та виразно читати східну поезі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3573360"/>
            <a:ext cx="9144000" cy="3284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12083840" y="105503760"/>
            <a:ext cx="3225960" cy="6983280"/>
            <a:chOff x="112083840" y="105503760"/>
            <a:chExt cx="3225960" cy="6983280"/>
          </a:xfrm>
        </p:grpSpPr>
        <p:sp>
          <p:nvSpPr>
            <p:cNvPr id="344" name=""/>
            <p:cNvSpPr/>
            <p:nvPr/>
          </p:nvSpPr>
          <p:spPr>
            <a:xfrm>
              <a:off x="113644080" y="105503760"/>
              <a:ext cx="1665720" cy="6983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12083840" y="106398000"/>
              <a:ext cx="3069720" cy="2359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6" name="AN00932_" descr=""/>
            <p:cNvPicPr/>
            <p:nvPr/>
          </p:nvPicPr>
          <p:blipFill>
            <a:blip r:embed="rId1"/>
            <a:stretch/>
          </p:blipFill>
          <p:spPr>
            <a:xfrm>
              <a:off x="112480200" y="106938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113639040" y="109264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12299840" y="105719400"/>
            <a:ext cx="3225600" cy="6983640"/>
            <a:chOff x="112299840" y="105719400"/>
            <a:chExt cx="3225600" cy="6983640"/>
          </a:xfrm>
        </p:grpSpPr>
        <p:sp>
          <p:nvSpPr>
            <p:cNvPr id="349" name=""/>
            <p:cNvSpPr/>
            <p:nvPr/>
          </p:nvSpPr>
          <p:spPr>
            <a:xfrm>
              <a:off x="113860080" y="105719400"/>
              <a:ext cx="166536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299840" y="106614000"/>
              <a:ext cx="306936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AN00932_" descr=""/>
            <p:cNvPicPr/>
            <p:nvPr/>
          </p:nvPicPr>
          <p:blipFill>
            <a:blip r:embed="rId2"/>
            <a:stretch/>
          </p:blipFill>
          <p:spPr>
            <a:xfrm>
              <a:off x="112696200" y="107154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113854680" y="109480680"/>
              <a:ext cx="146916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12515480" y="105935400"/>
            <a:ext cx="3225960" cy="6983640"/>
            <a:chOff x="112515480" y="105935400"/>
            <a:chExt cx="3225960" cy="6983640"/>
          </a:xfrm>
        </p:grpSpPr>
        <p:sp>
          <p:nvSpPr>
            <p:cNvPr id="354" name=""/>
            <p:cNvSpPr/>
            <p:nvPr/>
          </p:nvSpPr>
          <p:spPr>
            <a:xfrm>
              <a:off x="114075720" y="105935400"/>
              <a:ext cx="1665720" cy="6983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2515480" y="106830000"/>
              <a:ext cx="3069720" cy="2359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AN00932_" descr=""/>
            <p:cNvPicPr/>
            <p:nvPr/>
          </p:nvPicPr>
          <p:blipFill>
            <a:blip r:embed="rId3"/>
            <a:stretch/>
          </p:blipFill>
          <p:spPr>
            <a:xfrm>
              <a:off x="112911840" y="107370720"/>
              <a:ext cx="2284200" cy="127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14070680" y="109696680"/>
              <a:ext cx="1469520" cy="5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3600360" cy="33573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324000" y="2924280"/>
            <a:ext cx="3779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етична історія Кита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1297080" cy="1584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4284720" y="189000"/>
            <a:ext cx="1263600" cy="1585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5796000" y="2205000"/>
            <a:ext cx="316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ільки у далекій дорозі,                          Зрозумієщ ти людські сподів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у Ф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651640" y="620640"/>
            <a:ext cx="3492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е ж зараз моя дорога,         Та, що до рідного дому в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і 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43280" y="3716280"/>
            <a:ext cx="4105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Над проектом працюв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0" y="4149720"/>
            <a:ext cx="4105440" cy="1728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8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агадкова країна - Ушакова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2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Культура спадщина - Наумов. 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3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“Китайська грамота!” - Кузнєцова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4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Золотий вік” китайської поезії Ташлицька 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5.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Манукян Р</a:t>
            </a: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572000" y="5959440"/>
            <a:ext cx="4105440" cy="898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Керівники проект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учні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1-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А класу Фурик Є.  Куцмида В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- вчитель Мірош А.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39640" y="0"/>
            <a:ext cx="4680000" cy="133992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ГАДКОВА КРАЇНА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250920" y="3213000"/>
            <a:ext cx="2376360" cy="2952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95280" y="1268280"/>
            <a:ext cx="309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 гострі верше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чіпляються хмари тонк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Ген річка іскритьс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есе небезпечне камін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Географія країни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Пісня про гори міста Л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Ду Фу.</a:t>
            </a:r>
            <a:r>
              <a:rPr b="0" lang="uk-UA" sz="12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2124000" y="4221000"/>
            <a:ext cx="2338560" cy="23767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822920" y="4653000"/>
            <a:ext cx="4321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 Antiqua"/>
              </a:rPr>
              <a:t>Китай—велика країна, розташована на південному сході Азії. Високі гори Тибету, пустеля Гобі й води Тихого океану  начебто охороняють цю державу від усюого світу, зберігаючи, його самобутт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6"/>
          <a:stretch/>
        </p:blipFill>
        <p:spPr>
          <a:xfrm>
            <a:off x="5796000" y="189000"/>
            <a:ext cx="3075120" cy="2305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95280" y="189000"/>
            <a:ext cx="3529080" cy="12952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льтурна спадщ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103640" cy="27385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2305080" cy="22622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4859280" y="260280"/>
            <a:ext cx="3816360" cy="27925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3419640" y="3645000"/>
            <a:ext cx="3744720" cy="2360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"/>
          <a:srcRect l="0" t="0" r="175" b="0"/>
          <a:stretch/>
        </p:blipFill>
        <p:spPr>
          <a:xfrm>
            <a:off x="7596360" y="3645000"/>
            <a:ext cx="1547640" cy="27241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467640" y="4292640"/>
            <a:ext cx="192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итайська сті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548000" y="6308640"/>
            <a:ext cx="1099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мп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87640" y="2781360"/>
            <a:ext cx="1370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орози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142520" y="6093000"/>
            <a:ext cx="1919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перові грош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01080" y="6021360"/>
            <a:ext cx="695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Ла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268360" y="0"/>
            <a:ext cx="4032360" cy="12952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“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итайська грамота”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1834920" cy="1790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556000" y="1773360"/>
            <a:ext cx="1828800" cy="1800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6948360" y="17733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324000" y="400536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6"/>
          <a:stretch/>
        </p:blipFill>
        <p:spPr>
          <a:xfrm>
            <a:off x="2556000" y="4005360"/>
            <a:ext cx="1798560" cy="1800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95280" y="3436200"/>
            <a:ext cx="187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” - військовий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624040" y="3573360"/>
            <a:ext cx="245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Чжень”  - істина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03640" y="3436200"/>
            <a:ext cx="158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Юн” - вічність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019280" y="3573360"/>
            <a:ext cx="160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Ай” -  кох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5812920"/>
            <a:ext cx="1440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о”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раїна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771640" y="5877000"/>
            <a:ext cx="158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янь” - неб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42920" y="1052640"/>
            <a:ext cx="7559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1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50 </a:t>
            </a: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тисяч знаків китайської писемності—ієрогліфи</a:t>
            </a:r>
            <a:r>
              <a:rPr b="0" lang="uk-UA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4788000" y="4005360"/>
            <a:ext cx="1800000" cy="18000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860720" y="580536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Фу» - щаст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8"/>
          <a:stretch/>
        </p:blipFill>
        <p:spPr>
          <a:xfrm>
            <a:off x="6877080" y="4076640"/>
            <a:ext cx="1871640" cy="17766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094160" y="580536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І»  – ду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1908000" y="189000"/>
            <a:ext cx="4392720" cy="100800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истецтво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042920" y="1268280"/>
            <a:ext cx="6985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ГОХУ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Живопис нашої країн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Основа         Матеріали      Інстру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(шовк, хлопок)               (китайська туш)               (пензлі з бамбук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Шуймохуа                                 Юху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uk-UA" sz="1600" spc="-1" strike="noStrike">
                <a:solidFill>
                  <a:srgbClr val="000000"/>
                </a:solidFill>
                <a:latin typeface="Book Antiqua"/>
              </a:rPr>
              <a:t>(Живопис)                                                          (заморський живопи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3860640"/>
            <a:ext cx="237492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Жанр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Релійний об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Міфологічна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Історична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Побутова кар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Пейз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Натюрм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Book Antiqua"/>
              </a:rPr>
              <a:t>муз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56360" y="3789360"/>
            <a:ext cx="201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 Antiqua"/>
              </a:rPr>
              <a:t>Му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896000" y="4222440"/>
            <a:ext cx="42480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. у Кита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ї була створена перша школа музики і танцю “Консерваторіягрушевого саду”   У </a:t>
            </a: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 Складаються пінічна і південна школи музики, причому для північної школі більш характерна героїна тематика, а для південної — лірична.                                       “Музика—хороші ліки. Музика випереджає медицину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12:50:00Z</dcterms:created>
  <dc:creator>MAECTPO</dc:creator>
  <dc:description/>
  <dc:language>en-US</dc:language>
  <cp:lastModifiedBy>MAECTPO</cp:lastModifiedBy>
  <dcterms:modified xsi:type="dcterms:W3CDTF">2010-12-16T18:11:42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3000000000001024140</vt:lpwstr>
  </property>
</Properties>
</file>