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9.wmf" ContentType="image/x-wmf"/>
  <Override PartName="/ppt/media/image29.jpeg" ContentType="image/jpeg"/>
  <Override PartName="/ppt/media/image5.png" ContentType="image/png"/>
  <Override PartName="/ppt/media/image35.jpeg" ContentType="image/jpeg"/>
  <Override PartName="/ppt/media/image14.png" ContentType="image/png"/>
  <Override PartName="/ppt/media/image10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1.wmf" ContentType="image/x-wmf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79CE-D2BA-4A16-92C9-27B68534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A59C-F956-4A47-A988-F75AF772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F496-8124-4F9C-ADC7-3E371672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0934-2A92-4D68-BE53-ADAE1273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E4F1-2D9B-4F6D-9937-24A39ADC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2848-CFFF-473C-B6A7-07699877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1302-049B-4A37-B0BC-05FAC361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5D0F-B103-41AA-990F-BBD3EF61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A1BA-06AF-49C3-A999-9D1E1F7F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6A84-DDAF-4DCF-B006-B430DCFC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5F18-5E2C-4428-92B6-6EC8AE1E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7EBF-6B91-46E7-8B56-4500CFD8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85DF-327C-4426-A1F4-D0A29CF1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7F6C-C364-4E18-93B6-0EC0977E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CD53-9FAE-4120-9B15-587AFA2D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3C88-0AA9-45A7-9A50-BD8D5D48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2AD3-BE57-469E-8744-A42F3AEC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2552A-DFA3-491F-A342-E64E98EF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9A96C-EE26-43EB-ABDE-8A6E22C7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93001-49A2-4C2F-8107-F73A2B27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68868-7C8E-4242-9E22-8C76D2DA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3A49C-C8C5-41C0-B8F4-0D3BA143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06B2-F8E0-4892-ACA9-282447BA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700DB-EBD6-44B9-84C0-74EC91BC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01D4A-4E54-49D1-88EC-608F4AAD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99939-8E3D-4709-BE7E-CFC00293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D7905-BFA5-4F70-ABB9-0BB88137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142F9-6536-4518-862F-122987C1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C5E15-69BA-4E14-8369-DB35FBBC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65D98-DC0C-4FB4-AD06-F77602AC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DA0B80-B076-4BBC-A5E4-F493C7CB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43F814-4064-466A-9DC9-F3686494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3DC18C-C106-42C3-B4EE-DD7C5F5C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3413-1079-4CF3-B1B6-0565A65A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714500-59C0-472D-8F9C-EE39B1EF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6C1229-6325-4FD2-9184-16E2487C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BC5519-3FA9-4690-9B9C-37BF8270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E06535-8E2D-40EA-BCE7-F3FB0FD7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15D0F8-9EDD-4477-9A60-61571354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1096C7-9A14-4D4C-8018-27CAE5C1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A6DE60-7B79-4186-B970-C676538E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DDE900-DA93-4BA6-B80E-48C6B7B89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B0C0EA-6B56-4FC6-9F52-352B9E4E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68CA5-362E-4D32-AAD7-B9691294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09FB-5C64-485C-8B6C-4F33A517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09BD4-8A1E-4E7F-9156-27D28A32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75BF2-D61E-4F77-8493-69098082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1AFD9-0AB6-404D-ADFB-FFE15872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F45B5-4B4F-4D69-A353-C73AD4CA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139A9-9F53-4322-B814-2AEB77B2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AAC0D-323E-46BE-8553-D7277247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44896-40FB-440B-9F85-94CE8A59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FBEE9-4843-4840-8B80-1FE8E119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A80DB-43DC-4222-81E3-09D3F4A9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6E492-EEE1-40CC-A5BE-F7EB04CD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088A-BA4F-4E99-9495-675F932E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D0413-4229-4177-B451-1EA8A28B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494F-A105-40B6-BD57-FC265F05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93E4-ABAC-426F-8315-DD938054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279D-DDEE-49D4-85A6-09364C74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slideLayout" Target="../slideLayouts/slideLayout25.xml"/><Relationship Id="rId32" Type="http://schemas.openxmlformats.org/officeDocument/2006/relationships/slideLayout" Target="../slideLayouts/slideLayout26.xml"/><Relationship Id="rId33" Type="http://schemas.openxmlformats.org/officeDocument/2006/relationships/slideLayout" Target="../slideLayouts/slideLayout27.xml"/><Relationship Id="rId34" Type="http://schemas.openxmlformats.org/officeDocument/2006/relationships/slideLayout" Target="../slideLayouts/slideLayout28.xml"/><Relationship Id="rId35" Type="http://schemas.openxmlformats.org/officeDocument/2006/relationships/slideLayout" Target="../slideLayouts/slideLayout29.xml"/><Relationship Id="rId36" Type="http://schemas.openxmlformats.org/officeDocument/2006/relationships/slideLayout" Target="../slideLayouts/slideLayout30.xml"/><Relationship Id="rId37" Type="http://schemas.openxmlformats.org/officeDocument/2006/relationships/slideLayout" Target="../slideLayouts/slideLayout31.xml"/><Relationship Id="rId38" Type="http://schemas.openxmlformats.org/officeDocument/2006/relationships/slideLayout" Target="../slideLayouts/slideLayout32.xml"/><Relationship Id="rId39" Type="http://schemas.openxmlformats.org/officeDocument/2006/relationships/slideLayout" Target="../slideLayouts/slideLayout33.xml"/><Relationship Id="rId40" Type="http://schemas.openxmlformats.org/officeDocument/2006/relationships/slideLayout" Target="../slideLayouts/slideLayout34.xml"/><Relationship Id="rId41" Type="http://schemas.openxmlformats.org/officeDocument/2006/relationships/slideLayout" Target="../slideLayouts/slideLayout35.xml"/><Relationship Id="rId4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2672-E48A-4DCB-824E-B73AC58E4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3BA1-D1E1-43E8-928B-6DFA664E97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0D58-D1A8-4D8C-B5B5-036C6B99B7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1"/>
    <p:sldLayoutId id="2147483676" r:id="rId32"/>
    <p:sldLayoutId id="2147483677" r:id="rId33"/>
    <p:sldLayoutId id="2147483678" r:id="rId34"/>
    <p:sldLayoutId id="2147483679" r:id="rId35"/>
    <p:sldLayoutId id="2147483680" r:id="rId36"/>
    <p:sldLayoutId id="2147483681" r:id="rId37"/>
    <p:sldLayoutId id="2147483682" r:id="rId38"/>
    <p:sldLayoutId id="2147483683" r:id="rId39"/>
    <p:sldLayoutId id="2147483684" r:id="rId40"/>
    <p:sldLayoutId id="2147483685" r:id="rId41"/>
    <p:sldLayoutId id="2147483686" r:id="rId4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97AC-BC20-45B3-8BDD-A461111165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5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8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8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7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5D19-0B12-4D70-B7DC-3BE86F6D97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232000" cy="20844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2521080" cy="42483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1763640" y="189000"/>
            <a:ext cx="4680000" cy="122400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“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олотий вік”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итайської поезії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920" y="1341360"/>
            <a:ext cx="360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Книга пісень”(“Шицзінь”)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Ян Ван-Лі, Фань Чен-да, Сінь Ціузі, Лі Бо, Ду Фу, Мен Хаож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411280" y="2997360"/>
            <a:ext cx="3240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Book Antiqua"/>
              </a:rPr>
              <a:t>Мен Хаожань</a:t>
            </a:r>
            <a:r>
              <a:rPr b="1" i="1" lang="uk-UA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Book Antiqua"/>
              </a:rPr>
              <a:t>Весняний світа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Весняний с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солодкий на світан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Та чути всюди голоси птах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Шуміла ніч дощ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і віяла до ра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Не знати – скіль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обірвала пелюстків</a:t>
            </a:r>
            <a:r>
              <a:rPr b="0" lang="uk-UA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48000" y="2205000"/>
            <a:ext cx="3997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Головна пробл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- людина і суспі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580000" y="321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Жанр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51640" y="3645000"/>
            <a:ext cx="3241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-Філософська проза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Фу — вірш в прозі                                             Ци — вірш пісенного тип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-Поезія (любовна лірика)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Цзань     – віршовані характеристики.                               Лей і ай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лач за достойною людиною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-Народна повість</a:t>
            </a:r>
            <a:r>
              <a:rPr b="0" lang="uk-UA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12083840" y="105503760"/>
            <a:ext cx="3225960" cy="6983280"/>
            <a:chOff x="112083840" y="105503760"/>
            <a:chExt cx="3225960" cy="6983280"/>
          </a:xfrm>
        </p:grpSpPr>
        <p:sp>
          <p:nvSpPr>
            <p:cNvPr id="420" name=""/>
            <p:cNvSpPr/>
            <p:nvPr/>
          </p:nvSpPr>
          <p:spPr>
            <a:xfrm>
              <a:off x="113644080" y="105503760"/>
              <a:ext cx="1665720" cy="6983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2083840" y="106398000"/>
              <a:ext cx="3069720" cy="2359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2" name="AN00932_" descr=""/>
            <p:cNvPicPr/>
            <p:nvPr/>
          </p:nvPicPr>
          <p:blipFill>
            <a:blip r:embed="rId1"/>
            <a:stretch/>
          </p:blipFill>
          <p:spPr>
            <a:xfrm>
              <a:off x="112480200" y="106938720"/>
              <a:ext cx="2284200" cy="12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113639040" y="109264680"/>
              <a:ext cx="146952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112299840" y="105719400"/>
            <a:ext cx="3225600" cy="6983640"/>
            <a:chOff x="112299840" y="105719400"/>
            <a:chExt cx="3225600" cy="6983640"/>
          </a:xfrm>
        </p:grpSpPr>
        <p:sp>
          <p:nvSpPr>
            <p:cNvPr id="425" name=""/>
            <p:cNvSpPr/>
            <p:nvPr/>
          </p:nvSpPr>
          <p:spPr>
            <a:xfrm>
              <a:off x="113860080" y="105719400"/>
              <a:ext cx="1665360" cy="6983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12299840" y="106614000"/>
              <a:ext cx="3069360" cy="2359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AN00932_" descr=""/>
            <p:cNvPicPr/>
            <p:nvPr/>
          </p:nvPicPr>
          <p:blipFill>
            <a:blip r:embed="rId2"/>
            <a:stretch/>
          </p:blipFill>
          <p:spPr>
            <a:xfrm>
              <a:off x="112696200" y="107154720"/>
              <a:ext cx="2284200" cy="12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113854680" y="109480680"/>
              <a:ext cx="146916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12515480" y="105935400"/>
            <a:ext cx="3225960" cy="6983640"/>
            <a:chOff x="112515480" y="105935400"/>
            <a:chExt cx="3225960" cy="6983640"/>
          </a:xfrm>
        </p:grpSpPr>
        <p:sp>
          <p:nvSpPr>
            <p:cNvPr id="430" name=""/>
            <p:cNvSpPr/>
            <p:nvPr/>
          </p:nvSpPr>
          <p:spPr>
            <a:xfrm>
              <a:off x="114075720" y="105935400"/>
              <a:ext cx="1665720" cy="6983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12515480" y="106830000"/>
              <a:ext cx="3069720" cy="2359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AN00932_" descr=""/>
            <p:cNvPicPr/>
            <p:nvPr/>
          </p:nvPicPr>
          <p:blipFill>
            <a:blip r:embed="rId3"/>
            <a:stretch/>
          </p:blipFill>
          <p:spPr>
            <a:xfrm>
              <a:off x="112911840" y="107370720"/>
              <a:ext cx="2284200" cy="12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114070680" y="109696680"/>
              <a:ext cx="146952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4" name="" descr=""/>
          <p:cNvPicPr/>
          <p:nvPr/>
        </p:nvPicPr>
        <p:blipFill>
          <a:blip r:embed="rId4"/>
          <a:stretch/>
        </p:blipFill>
        <p:spPr>
          <a:xfrm>
            <a:off x="324000" y="189000"/>
            <a:ext cx="3600360" cy="33573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24000" y="2924280"/>
            <a:ext cx="3779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етична історія Кита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5"/>
          <a:stretch/>
        </p:blipFill>
        <p:spPr>
          <a:xfrm>
            <a:off x="4284720" y="1916280"/>
            <a:ext cx="1297080" cy="15840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6"/>
          <a:stretch/>
        </p:blipFill>
        <p:spPr>
          <a:xfrm>
            <a:off x="4284720" y="189000"/>
            <a:ext cx="1263600" cy="15858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5796000" y="2205000"/>
            <a:ext cx="316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ільки у далекій дорозі,                          Зрозумієщ ти людські сподів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у Ф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51640" y="620640"/>
            <a:ext cx="349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 ж зараз моя дорога,         Та, що до рідного дому в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Лі 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643280" y="3716280"/>
            <a:ext cx="4105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Над проектом працюв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4149720"/>
            <a:ext cx="4105440" cy="172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Учні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8-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А кла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Загадкова країна - Ушакова 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2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Культура спадщина - Наумов.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3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“Китайська грамота!” - Кузнєцова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4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Золотий вік” китайської поезії Ташлицька 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5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Манукян Р</a:t>
            </a:r>
            <a:r>
              <a:rPr b="0" lang="uk-UA" sz="1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5959440"/>
            <a:ext cx="4105440" cy="898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Керівники проекту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учні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1-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А класу Фурик Є.  Куцмида В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- вчитель Мірош А.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611280" y="1700280"/>
            <a:ext cx="79930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Слово – не просто звук, а засіб збудження образів… Слухати – означає бачити те, про що говорять, а говорити – означає малювати здорові образи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К. Станіславсь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250920" y="907920"/>
            <a:ext cx="741672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ема: Китайська лірика.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езія Лі Бо - пейзаж душі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4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Мета: 1.Осягнути своєрідність   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китайської лірики на прикладі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творчості  поета Лі Б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2.Дослідити наскільки тісно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поезія по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язується з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філософіє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3.Навчитися бачити та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створювати художні образи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та виразно читати східну поезі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12083840" y="105503760"/>
            <a:ext cx="3225960" cy="6983280"/>
            <a:chOff x="112083840" y="105503760"/>
            <a:chExt cx="3225960" cy="6983280"/>
          </a:xfrm>
        </p:grpSpPr>
        <p:sp>
          <p:nvSpPr>
            <p:cNvPr id="344" name=""/>
            <p:cNvSpPr/>
            <p:nvPr/>
          </p:nvSpPr>
          <p:spPr>
            <a:xfrm>
              <a:off x="113644080" y="105503760"/>
              <a:ext cx="1665720" cy="6983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2083840" y="106398000"/>
              <a:ext cx="3069720" cy="2359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6" name="AN00932_" descr=""/>
            <p:cNvPicPr/>
            <p:nvPr/>
          </p:nvPicPr>
          <p:blipFill>
            <a:blip r:embed="rId1"/>
            <a:stretch/>
          </p:blipFill>
          <p:spPr>
            <a:xfrm>
              <a:off x="112480200" y="106938720"/>
              <a:ext cx="2284200" cy="12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113639040" y="109264680"/>
              <a:ext cx="146952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12299840" y="105719400"/>
            <a:ext cx="3225600" cy="6983640"/>
            <a:chOff x="112299840" y="105719400"/>
            <a:chExt cx="3225600" cy="6983640"/>
          </a:xfrm>
        </p:grpSpPr>
        <p:sp>
          <p:nvSpPr>
            <p:cNvPr id="349" name=""/>
            <p:cNvSpPr/>
            <p:nvPr/>
          </p:nvSpPr>
          <p:spPr>
            <a:xfrm>
              <a:off x="113860080" y="105719400"/>
              <a:ext cx="1665360" cy="6983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299840" y="106614000"/>
              <a:ext cx="3069360" cy="2359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AN00932_" descr=""/>
            <p:cNvPicPr/>
            <p:nvPr/>
          </p:nvPicPr>
          <p:blipFill>
            <a:blip r:embed="rId2"/>
            <a:stretch/>
          </p:blipFill>
          <p:spPr>
            <a:xfrm>
              <a:off x="112696200" y="107154720"/>
              <a:ext cx="2284200" cy="12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113854680" y="109480680"/>
              <a:ext cx="146916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12515480" y="105935400"/>
            <a:ext cx="3225960" cy="6983640"/>
            <a:chOff x="112515480" y="105935400"/>
            <a:chExt cx="3225960" cy="6983640"/>
          </a:xfrm>
        </p:grpSpPr>
        <p:sp>
          <p:nvSpPr>
            <p:cNvPr id="354" name=""/>
            <p:cNvSpPr/>
            <p:nvPr/>
          </p:nvSpPr>
          <p:spPr>
            <a:xfrm>
              <a:off x="114075720" y="105935400"/>
              <a:ext cx="1665720" cy="6983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2515480" y="106830000"/>
              <a:ext cx="3069720" cy="2359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6" name="AN00932_" descr=""/>
            <p:cNvPicPr/>
            <p:nvPr/>
          </p:nvPicPr>
          <p:blipFill>
            <a:blip r:embed="rId3"/>
            <a:stretch/>
          </p:blipFill>
          <p:spPr>
            <a:xfrm>
              <a:off x="112911840" y="107370720"/>
              <a:ext cx="2284200" cy="12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14070680" y="109696680"/>
              <a:ext cx="146952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324000" y="189000"/>
            <a:ext cx="3600360" cy="33573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324000" y="2924280"/>
            <a:ext cx="3779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етична історія Кита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4284720" y="1916280"/>
            <a:ext cx="1297080" cy="1584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4284720" y="189000"/>
            <a:ext cx="1263600" cy="15858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5796000" y="2205000"/>
            <a:ext cx="316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ільки у далекій дорозі,                          Зрозумієщ ти людські сподів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у Ф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651640" y="620640"/>
            <a:ext cx="349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 ж зараз моя дорога,         Та, що до рідного дому в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Лі 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43280" y="3716280"/>
            <a:ext cx="4105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Над проектом працюв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0" y="4149720"/>
            <a:ext cx="4105440" cy="172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Учні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8-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А кла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Загадкова країна - Ушакова 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2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Культура спадщина - Наумов.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3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“Китайська грамота!” - Кузнєцова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4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Золотий вік” китайської поезії Ташлицька 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5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Манукян Р</a:t>
            </a:r>
            <a:r>
              <a:rPr b="0" lang="uk-UA" sz="1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0" y="5959440"/>
            <a:ext cx="4105440" cy="898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Керівники проекту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учні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1-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А класу Фурик Є.  Куцмида В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- вчитель Мірош А.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539640" y="0"/>
            <a:ext cx="4680000" cy="133992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ГАДКОВА КРАЇНА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250920" y="3213000"/>
            <a:ext cx="2376360" cy="29527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95280" y="1268280"/>
            <a:ext cx="309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 гострі верше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чіпляються хмари тонк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Ген річка іскритьс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есе небезпечне камінн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Географія країни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існя про гори міста Л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у Фу.</a:t>
            </a:r>
            <a:r>
              <a:rPr b="0" lang="uk-UA" sz="1200" spc="-1" strike="noStrike">
                <a:solidFill>
                  <a:srgbClr val="000000"/>
                </a:solidFill>
                <a:latin typeface="Book Antiqu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2124000" y="4221000"/>
            <a:ext cx="2338560" cy="23767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4822920" y="4653000"/>
            <a:ext cx="43210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Китай—велика країна, розташована на південному сході Азії. Високі гори Тибету, пустеля Гобі й води Тихого океану  начебто охороняють цю державу від усюого світу, зберігаючи, його самобутт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6"/>
          <a:stretch/>
        </p:blipFill>
        <p:spPr>
          <a:xfrm>
            <a:off x="5796000" y="189000"/>
            <a:ext cx="3075120" cy="230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95280" y="189000"/>
            <a:ext cx="3529080" cy="129528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льтурна спадщи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103640" cy="27385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0" y="4437000"/>
            <a:ext cx="2305080" cy="22622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4859280" y="260280"/>
            <a:ext cx="3816360" cy="27925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3419640" y="3645000"/>
            <a:ext cx="3744720" cy="2360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5"/>
          <a:srcRect l="0" t="0" r="175" b="0"/>
          <a:stretch/>
        </p:blipFill>
        <p:spPr>
          <a:xfrm>
            <a:off x="7596360" y="3645000"/>
            <a:ext cx="1547640" cy="27241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467640" y="4292640"/>
            <a:ext cx="192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итайська сті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48000" y="6308640"/>
            <a:ext cx="1099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мп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87640" y="2781360"/>
            <a:ext cx="1370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орози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142520" y="6093000"/>
            <a:ext cx="1919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перові грош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101080" y="6021360"/>
            <a:ext cx="695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Л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2268360" y="0"/>
            <a:ext cx="4032360" cy="129528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“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итайська грамота”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1834920" cy="17906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2556000" y="1773360"/>
            <a:ext cx="1828800" cy="18000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4788000" y="177336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6948360" y="177336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>
            <a:off x="324000" y="400536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6"/>
          <a:stretch/>
        </p:blipFill>
        <p:spPr>
          <a:xfrm>
            <a:off x="2556000" y="4005360"/>
            <a:ext cx="1798560" cy="1800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95280" y="3436200"/>
            <a:ext cx="187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” - військовий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624040" y="3573360"/>
            <a:ext cx="245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жень”  - істина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003640" y="3436200"/>
            <a:ext cx="158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Юн” - вічність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019280" y="3573360"/>
            <a:ext cx="160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й” -  кох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9640" y="5812920"/>
            <a:ext cx="1440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”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раїна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771640" y="5877000"/>
            <a:ext cx="158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янь” - не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42920" y="1052640"/>
            <a:ext cx="7559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50 </a:t>
            </a: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тисяч знаків китайської писемності—ієрогліфи</a:t>
            </a:r>
            <a:r>
              <a:rPr b="0" lang="uk-UA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4788000" y="4005360"/>
            <a:ext cx="1800000" cy="18000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860720" y="580536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Фу» - щаст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8"/>
          <a:stretch/>
        </p:blipFill>
        <p:spPr>
          <a:xfrm>
            <a:off x="6877080" y="4076640"/>
            <a:ext cx="1871640" cy="17766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094160" y="580536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І»  – ду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1908000" y="189000"/>
            <a:ext cx="4392720" cy="100800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истецтв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042920" y="1268280"/>
            <a:ext cx="6985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ГОХУ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     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Живопис нашої країн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Основа         Матеріали      Інструмен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шовк, хлопок)               (китайська туш)               (пензлі з бамбуку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Шуймохуа                                 Юху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(Живопис)                                                          (заморський живопи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Book Antiqua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8360" y="3860640"/>
            <a:ext cx="23749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Жанр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Релійний об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Міфологічна кар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Історична кар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Побутова кар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муз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56360" y="3789360"/>
            <a:ext cx="201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Муз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896000" y="4222440"/>
            <a:ext cx="424800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. у Кита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ї була створена перша школа музики і танцю “Консерваторіягрушевого саду”   У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XI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Складаються пінічна і південна школи музики, причому для північної школі більш характерна героїна тематика, а для південної — лірична.                                       “Музика—хороші ліки. Музика випереджає медицину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1T12:50:00Z</dcterms:created>
  <dc:creator>MAECTPO</dc:creator>
  <dc:description/>
  <dc:language>en-US</dc:language>
  <cp:lastModifiedBy>MAECTPO</cp:lastModifiedBy>
  <dcterms:modified xsi:type="dcterms:W3CDTF">2010-12-16T18:11:42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13000000000001024140</vt:lpwstr>
  </property>
</Properties>
</file>