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A7E2-C9CE-454C-9860-BA2E7D40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448-96EF-4C3A-A8A1-DCC3E0F1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B34-6511-4020-9401-BD8638B8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B4FA-DC90-44C8-A9A1-2082BF39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B6A5-78A9-4014-A25B-71D2645B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E20-3A8E-40B3-A2C1-0E9823FD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8FF0-4D23-473E-8863-C1F27089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F830-2B44-400B-98A2-FE9B6A79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5070-1B6A-42F5-971D-ADC9A1CB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542E-4C48-4534-91B9-D7A9DCED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6F37-8BB0-4FD5-82DE-E20157B2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C4F-BEE8-4CFA-B802-E34768AF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80CF-CE77-4261-8BF4-881AC47B00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764640"/>
            <a:ext cx="6400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ай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ід давньорус. баять, баити, тобто говорити, розповідати) - невеликий, частіше віршований алегоричний твір повчально-гумористичного або сатиричного характеру. Життя людини відображається у ньому в образах тварин, рослин чи речей або ж зводиться до умовних стосунк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3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44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ма ба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оловна ідея ба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то є алегоричним образом? Що автор хотів ним сказа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мова герої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 що говорить мораль бай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1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0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4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3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1785960"/>
            <a:ext cx="82296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Вовк та Ягня" - одна з перших бай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зопа. Тема цієї байки: розкритт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аємовідносин між кріпаками 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іпосни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1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6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1" dur="3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6" dur="3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ловна іде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каза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праведливість суспільного устрою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прав'я, покріпаченого селян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а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 поміщик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3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3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3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легоричному образ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овка втіле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владдя пана, нелюдськість вчинкі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утальність "Страшенний 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доровенний", він присікується до Ягня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би надати видимість законност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авільній розправі. Спроби Ягня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правдатись приречені на невдач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 розмови відтвореної в байц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ідкреслює безкарність па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3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3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3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3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3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3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3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3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3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5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1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7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0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6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ва дійових осі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індивідуалізова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вк говорить самовпевнено, владно, вмика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гато "лайливих" слів і вираз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ва Ягняти, що уособлює безправ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іпака, свідчить про приниженість, цілкови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лежність його від господаря - хижа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магаючись відвернути видиму смерть, Яг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ить з покор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3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3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3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3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3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3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3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9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3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9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От</a:t>
            </a:r>
            <a:r>
              <a:rPr b="0" lang="uk-UA" sz="4000" spc="-1" strike="noStrike">
                <a:solidFill>
                  <a:srgbClr val="0000ff"/>
                </a:solidFill>
                <a:latin typeface="Arial"/>
              </a:rPr>
              <a:t>ж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0" lang="uk-UA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в образі Вовка змальованокріпосника-самодура, а в образі Ягняти - кріпака, що покірно підкоряється волі свого пан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Творче завданн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Зробити аналіз бай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Мурашки і Цикада” Езоп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2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йка - це передусім алегорія, я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криває щось негативне в житті. Поряд і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мішкою у самій ідейно-образні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і байки другою жанровою (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озиційною особливістю) є мора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сентенція, «сила»), яка подає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важно наприкінці тво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У байці через деяку «зношеність» окрем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елементів жанрової форми особливо гостр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ідчувається необхідність свіжог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ригінального сюжету, дотепного повор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умки, дзвінкої, влучної рими тощо. Цей жан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ередбачає добре знання фольклору, вмі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купою рисочкою передати глибин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уть того чи іншого явищ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йка має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ра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- повчаль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сновок, якиим вона аб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зпочинається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бо закінчує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4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4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Є щ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егорі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У байці в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гатозначна. Алегорія — троп, у як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бстрактне поняття яскраво передає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допомогою конкретного обра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ому алегоричну мову називають щ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зоповою? Хто такий Езоп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1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зоп  напівлегендарний давньогрец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, що жив VI-V ст. до нової е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тько жанру байки. Його байки бу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зові й дуже дотепні. Скіль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ків минуло відтоді, а вони живу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зопові сюжети знають у всь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іт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сновний об'єкт висміювання у байці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гальнолюдські моральні вади. Та час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 ній викриваються і різні потворн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ціально-політичні явища, антинародн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еакційне з позицій прогресивни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еволюцій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1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49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5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63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70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вчимося аналізувати байки.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кладі байки Езопа “Вовк та Ягня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8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20:08:28Z</dcterms:created>
  <dc:creator>Тоня</dc:creator>
  <dc:description/>
  <dc:language>en-US</dc:language>
  <cp:lastModifiedBy>c400</cp:lastModifiedBy>
  <dcterms:modified xsi:type="dcterms:W3CDTF">2011-11-10T19:59:13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8000000000001024140</vt:lpwstr>
  </property>
</Properties>
</file>