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1FE-428C-4476-974C-110713D5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02B-BF16-4774-9034-8C06D80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0D9-693A-48C7-AE30-4ED078E9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6EB-2AD9-4D8A-9784-EF20B70D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30D-9B03-47A5-A015-73206FAB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EF6-1FAD-4F7C-8638-B0F4118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20F-4135-4277-B379-D7EEE00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620-30AA-4BF4-9EFE-4A68EE3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708-D4BB-4443-B231-CF93EC8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68E-C737-47D0-A619-1A58869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1E8-1842-47DB-9D69-CB7F432D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4EA-4B3D-4AF0-AAEA-FE281F8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B453-2556-4259-9251-099FB5558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6464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ід давньорус. баять, баити, тобто говорити, розповідати) - невеликий, частіше віршований алегоричний твір повчально-гумористичного або сатиричного характеру. Життя людини відображається у ньому в образах тварин, рослин чи речей або ж зводиться до умовних стос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а ідея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є алегоричним образом? Що автор хотів ним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ова герої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що говорить мораль бай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вк та Ягня" - одна з перших бай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а. Тема цієї байки: розкритт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ємовідносин між кріпакам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іпос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на ід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раведливість суспільного устрою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прав'я, покріпаченого селян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 поміщи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егоричному образ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вка втіл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владдя пана, нелюдськість вчин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тальність "Страшенний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енний", він присікується до Ягня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и надати видимість закон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вільній розправі. Спроби Ягня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правдатись приречені на нев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розмови відтвореної в бай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дкреслює безкарність па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3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ва дійових осі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ндивідуалізов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к говорить самовпевнено, владно, вмика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гато "лайливих" слів і вир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Ягняти, що уособлює безпра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іпака, свідчить про приниженість, цілков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лежність його від господаря - хиж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агаючись відвернути видиму смерть, Яг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ь з поко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От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ж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 образі Вовка змальованокріпосника-самодура, а в образі Ягняти - кріпака, що покірно підкоряється волі свого па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е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Зробити аналіз б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Мурашки і Цикада” Езо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йка - це передусім алегорія, 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криває щось негативне в житті. Поряд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мішкою у самій ідейно-образн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і байки другою жанровою (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ійною особливістю) є мора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ентенція, «сила»), яка по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ажно наприкінці тв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байці через деяку «зношеність» окрем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елементів жанрової форми особливо гос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ідчувається необхідність свіж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игінального сюжету, дотепного повор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умки, дзвінкої, влучної рими тощо. Цей 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дбачає добре знання фольклору, вмі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купою рисочкою передати глибин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уть того чи іншого я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йка ма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повчаль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новок, якиим вона 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починаєть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 закінчу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щ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гор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 байці в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гатозначна. Алегорія — троп, у я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трактне поняття яскраво пере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допомогою конкретного об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алегоричну мову називають 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оповою? Хто такий Ез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  напівлегендарний давньогрец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, що жив VI-V ст. до нової 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тько жанру байки. Його байки бу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ові й дуже дотепні. Скі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ків минуло відтоді, а вони жив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ові сюжети знають у вс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і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ий об'єкт висміювання у байці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гальнолюдські моральні вади. Та ча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ній викриваються і різні потвор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іально-політичні явища, антинарод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акційне з позицій прогресивн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ій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имося аналізувати байки.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і байки Езопа “Вовк та Яг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0:08:28Z</dcterms:created>
  <dc:creator>Тоня</dc:creator>
  <dc:description/>
  <dc:language>en-US</dc:language>
  <cp:lastModifiedBy>c400</cp:lastModifiedBy>
  <dcterms:modified xsi:type="dcterms:W3CDTF">2011-11-10T19:59:1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</Properties>
</file>