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809-818D-4BF2-96B1-0B7CE19C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B535-3772-4EA3-B45B-E632E4C4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CA7-2D5A-42B5-96C7-F83C271E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8F2-67D6-4C6D-B9A3-3D7FA5FB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C23-90C6-41DB-9062-14BA251D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EFD-AF86-4BA4-859C-64C8B8B5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815-132F-478A-8308-6F99EA39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FFE-1B99-43AB-A6D1-55362714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B3F-F728-41C5-BB5B-9930A4B7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FA3-B151-418E-B5EC-1F5793E5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0FB-AA74-4D64-B953-BB81DEDF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C075-5496-4EC2-95F2-5C716966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5DF2-5DA5-4441-A685-E3C4848A2D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764640"/>
            <a:ext cx="6400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ай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ід давньорус. баять, баити, тобто говорити, розповідати) - невеликий, частіше віршований алегоричний твір повчально-гумористичного або сатиричного характеру. Життя людини відображається у ньому в образах тварин, рослин чи речей або ж зводиться до умовних стосунк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4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ма ба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ловна ідея бай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є алегоричним образом? Що автор хотів ним сказа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мова герої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 що говорить мораль бай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3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785960"/>
            <a:ext cx="82296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Вовк та Ягня" - одна з перших бай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зопа. Тема цієї байки: розкритт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ємовідносин між кріпаками 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іпосни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1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6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1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6" dur="3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ловна іде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каз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праведливість суспільного устрою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прав'я, покріпаченого селян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ав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 поміщик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3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3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егоричному образ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овка втіле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владдя пана, нелюдськість вчинкі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утальність "Страшенний 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оровенний", він присікується до Ягня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би надати видимість законно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авільній розправі. Спроби Ягня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правдатись приречені на невдач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 розмови відтвореної в байц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ідкреслює безкарність па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3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3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3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3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3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3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3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3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5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7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ва дійових осі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індивідуалізов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к говорить самовпевнено, владно, вмика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гато "лайливих" слів і вираз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ва Ягняти, що уособлює безправ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іпака, свідчить про приниженість, цілкови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лежність його від господаря - хижа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агаючись відвернути видиму смерть, Яг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ить з покор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3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3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3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3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3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От</a:t>
            </a:r>
            <a:r>
              <a:rPr b="0" lang="uk-UA" sz="4000" spc="-1" strike="noStrike">
                <a:solidFill>
                  <a:srgbClr val="0000ff"/>
                </a:solidFill>
                <a:latin typeface="Arial"/>
              </a:rPr>
              <a:t>ж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0" lang="uk-UA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в образі Вовка змальованокріпосника-самодура, а в образі Ягняти - кріпака, що покірно підкоряється волі свого пан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ворче завда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Зробити аналіз бай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Мурашки і Цикада” Езоп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йка - це передусім алегорія, я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криває щось негативне в житті. Поряд і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мішкою у самій ідейно-образні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і байки другою жанровою (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озиційною особливістю) є мора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сентенція, «сила»), яка подає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важно наприкінці тво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У байці через деяку «зношеність» окрем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елементів жанрової форми особливо гостр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ідчувається необхідність свіжог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ригінального сюжету, дотепного повор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умки, дзвінкої, влучної рими тощо. Цей жан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ередбачає добре знання фольклору, вмі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купою рисочкою передати глибин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уть того чи іншого яви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йка має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ра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- повчаль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новок, якиим вона аб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починається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о закінчує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4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4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Є щ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егорі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У байці в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гатозначна. Алегорія — троп, у як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страктне поняття яскраво передає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допомогою конкретного образ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ому алегоричну мову називають щ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зоповою? Хто такий Езоп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6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1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зоп  напівлегендарний давньогрец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, що жив VI-V ст. до нової е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тько жанру байки. Його байки бу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зові й дуже дотепні. Скіл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ків минуло відтоді, а вони живу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зопові сюжети знають у всь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іт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сновний об'єкт висміювання у байці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гальнолюдські моральні вади. Та час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 ній викриваються і різні потвор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ціально-політичні явища, антинародн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акційне з позицій прогресивн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волюцій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4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5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63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70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вчимося аналізувати байки.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кладі байки Езопа “Вовк та Ягня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8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20:08:28Z</dcterms:created>
  <dc:creator>Тоня</dc:creator>
  <dc:description/>
  <dc:language>en-US</dc:language>
  <cp:lastModifiedBy>c400</cp:lastModifiedBy>
  <dcterms:modified xsi:type="dcterms:W3CDTF">2011-11-10T19:59:13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8000000000001024140</vt:lpwstr>
  </property>
</Properties>
</file>