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6E0-ACD9-42E8-A7EA-A6228FF3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260-D7E1-43D5-8622-7BC1534C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C0D-4353-4D8D-8F25-760048B3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D82-0DD2-4E09-A794-80D85259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6F4-E12A-41A8-A001-4AE52F98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EB3-DF8C-4578-8162-E346833E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1AA-900F-47E2-9C9A-96BC60FF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792-19DB-4B32-9B86-0BD7E32B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0DD-7BD6-41F8-96C9-1020ADD3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FE5-82BC-47C6-A5F1-3E9D1B12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8A2-F61E-4AAC-928B-755689DD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CFE-3E41-438A-9ADA-50771A61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A0C-C586-461B-9BAD-B03CC662C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76464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й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ід давньорус. баять, баити, тобто говорити, розповідати) - невеликий, частіше віршований алегоричний твір повчально-гумористичного або сатиричного характеру. Життя людини відображається у ньому в образах тварин, рослин чи речей або ж зводиться до умовних стосун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ма б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овна ідея б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є алегоричним образом? Що автор хотів ним сказа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ова герої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що говорить мораль бай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3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78596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Вовк та Ягня" - одна з перших бай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а. Тема цієї байки: розкритт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ємовідносин між кріпаками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іпосни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1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1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на іде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каз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раведливість суспільного устрою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прав'я, покріпаченого селян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а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 поміщик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егоричному образ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вка втіл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владдя пана, нелюдськість вчинк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утальність "Страшенний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енний", він присікується до Ягня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и надати видимість законно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вільній розправі. Спроби Ягня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правдатись приречені на невдач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 розмови відтвореної в байц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ідкреслює безкарність па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3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3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3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3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3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ва дійових осі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індивідуалізов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к говорить самовпевнено, владно, вмика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гато "лайливих" слів і вираз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ва Ягняти, що уособлює безпра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іпака, свідчить про приниженість, цілкови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лежність його від господаря - хиж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агаючись відвернути видиму смерть, Яг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ть з поко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3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3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3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От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ж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в образі Вовка змальованокріпосника-самодура, а в образі Ягняти - кріпака, що покірно підкоряється волі свого па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ворче завда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Зробити аналіз бай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Мурашки і Цикада” Езо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йка - це передусім алегорія, я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криває щось негативне в житті. Поряд і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мішкою у самій ідейно-образн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і байки другою жанровою (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ційною особливістю) є мора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ентенція, «сила»), яка пода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важно наприкінці тв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 байці через деяку «зношеність» окрем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елементів жанрової форми особливо гост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ідчувається необхідність свіж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ригінального сюжету, дотепного повор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умки, дзвінкої, влучної рими тощо. Цей жа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едбачає добре знання фольклору, вмі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купою рисочкою передати глибин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уть того чи іншого яв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йка має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ра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повчаль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новок, якиим вона а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починається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о закінчу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щ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егорі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 байці в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гатозначна. Алегорія — троп, у я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страктне поняття яскраво переда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допомогою конкретного об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алегоричну мову називають 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зоповою? Хто такий Езо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  напівлегендарний давньогрец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, що жив VI-V ст. до нової 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тько жанру байки. Його байки бу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ові й дуже дотепні. Скі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ків минуло відтоді, а вони живу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ові сюжети знають у всь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і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ий об'єкт висміювання у байці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гальнолюдські моральні вади. Та ча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ній викриваються і різні потвор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ціально-політичні явища, антинарод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акційне з позицій прогресивн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волюцій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вчимося аналізувати байки.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кладі байки Езопа “Вовк та Ягн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20:08:28Z</dcterms:created>
  <dc:creator>Тоня</dc:creator>
  <dc:description/>
  <dc:language>en-US</dc:language>
  <cp:lastModifiedBy>c400</cp:lastModifiedBy>
  <dcterms:modified xsi:type="dcterms:W3CDTF">2011-11-10T19:59:1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40</vt:lpwstr>
  </property>
</Properties>
</file>