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4DB9-70A4-4CF5-A37A-F876ABB12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EDCE-8CC1-4460-B4DC-E6348BED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86CD-BB57-44AD-B04D-11DD47A7A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833E-2EC8-43F7-B48E-E4E49D068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AC64-E5B8-4B56-B679-20F6E42F5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F97E-A40B-4255-B25B-753394ED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5F77-2A63-461C-94EF-3E712AB7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752C-10D7-4DCC-8BC2-F77DA16F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8C81-1055-4D5E-905F-EBB4150D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1546-011A-4177-8BCE-D27EBE1E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A04B-3870-4DCF-9A46-60F467F6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49CF-A877-4148-8639-C81ADA35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4FA1-BFD5-4C1B-8B7B-CAF7DA51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A197-4F5C-4181-B2F0-D7BA8EE9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CA4F-FCE8-4826-8B89-F71312F0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04DA-CA77-4ABB-B86A-F4F3092B7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2D86-D271-4350-B7DA-ADB17321B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F912-F6CC-4A2D-9AB2-84B908A3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8FC9-CC8C-40E4-8C5C-7E740AB9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22E5-6D7F-4D03-B59D-82AC50D4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5A0B-D128-4A92-B779-6C78AA3B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3459-2B15-49A3-B1C0-8D0F6A03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19C7-7E8D-43A5-822A-39E93680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EF0A-BF56-4CF6-9D04-50F41969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E58D-CBE5-4EC5-AEC5-7999A6F1AD8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01BB-6ABD-4943-BB49-D9F99FDF12D4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aeaea"/>
                </a:solidFill>
                <a:latin typeface="Tahoma"/>
              </a:rPr>
              <a:t>Казка “Мауглі”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25840" y="1981080"/>
            <a:ext cx="41846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ffffff"/>
                </a:solidFill>
                <a:latin typeface="Tahoma"/>
              </a:rPr>
              <a:t>Джозеф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uk-UA" sz="6000" spc="-1" strike="noStrike">
                <a:solidFill>
                  <a:srgbClr val="ffffff"/>
                </a:solidFill>
                <a:latin typeface="Tahoma"/>
              </a:rPr>
              <a:t>Редьярд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ffffff"/>
                </a:solidFill>
                <a:latin typeface="Tahoma"/>
              </a:rPr>
              <a:t>Кіплінг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374328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80136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5400" spc="-1" strike="noStrike">
                <a:solidFill>
                  <a:srgbClr val="eaeaea"/>
                </a:solidFill>
                <a:latin typeface="Tahoma"/>
              </a:rPr>
              <a:t>«Ми з тобою – </a:t>
            </a:r>
            <a:br>
              <a:rPr sz="5400"/>
            </a:br>
            <a:r>
              <a:rPr b="0" i="1" lang="uk-UA" sz="5400" spc="-1" strike="noStrike">
                <a:solidFill>
                  <a:srgbClr val="eaeaea"/>
                </a:solidFill>
                <a:latin typeface="Tahoma"/>
              </a:rPr>
              <a:t>однієї крові»</a:t>
            </a:r>
            <a:br>
              <a:rPr sz="5400"/>
            </a:b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427280" y="691920"/>
            <a:ext cx="453708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Як протиставляється світ людей світу Джунглів у казці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Який літературний прийом використовує автор для зображення світу людей і звірів?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Чому вчить казк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0338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067280" y="2923920"/>
            <a:ext cx="47592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Джунглів Закони одвічні й нетлінні…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Дж. Р. Кіплін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374328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304560"/>
            <a:ext cx="7921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aeaea"/>
                </a:solidFill>
                <a:latin typeface="Tahoma"/>
              </a:rPr>
              <a:t>Головний закон джунглів і світ людей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6560" y="1981080"/>
            <a:ext cx="77835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Мета: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перевірити рівень умінь учнів визначати головних і другорядних героїв твору, давати їм характеристик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продовжити розвивати уміння давати характеристику персонажам, використовуючи цитати з текст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з’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сувати сенс протиставлення світу звірів і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світу людей у творі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поглиблювати навички аналізу художнього текст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розвивати навички узагальнення прочитаного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виховувати позитивні моральні якості учні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aeaea"/>
                </a:solidFill>
                <a:latin typeface="Tahoma"/>
              </a:rPr>
              <a:t>Літературний диктант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712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орна, мов смола, і страшна, мов пекл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Для такої нікчемної особи, як я, всяка обгризена кістка – вже справжній бенк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Рев тигра, мов грім заповнив усю печер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чі в неї спалахнули, мов дві зелені зірки в пітьмі. Вона сміливо глянула в розлючені очі Шер-Хан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Він мав право блукати скрізь, де йому заманеться, бо їв лише горіхи, коріння та мед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Чорна тінь упала посеред кол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Самотній Вовк, очевидно, стрибнув, але схиби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Він дочекався, коли його діти навчились бігати, і тоді в ні Племінних зборів повів їх на Скелю Рад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304920"/>
            <a:ext cx="7710480" cy="36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aeaea"/>
                </a:solidFill>
                <a:latin typeface="Tahoma"/>
              </a:rPr>
              <a:t>За поданими ілюстраціями </a:t>
            </a:r>
            <a:br>
              <a:rPr sz="3200"/>
            </a:br>
            <a:r>
              <a:rPr b="1" lang="uk-UA" sz="3200" spc="-1" strike="noStrike">
                <a:solidFill>
                  <a:srgbClr val="eaeaea"/>
                </a:solidFill>
                <a:latin typeface="Tahoma"/>
              </a:rPr>
              <a:t>відтворити послідовність </a:t>
            </a:r>
            <a:br>
              <a:rPr sz="3200"/>
            </a:br>
            <a:r>
              <a:rPr b="1" lang="uk-UA" sz="3200" spc="-1" strike="noStrike">
                <a:solidFill>
                  <a:srgbClr val="eaeaea"/>
                </a:solidFill>
                <a:latin typeface="Tahoma"/>
              </a:rPr>
              <a:t>подій у казці</a:t>
            </a:r>
            <a:r>
              <a:rPr b="1" lang="uk-UA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3672000" cy="3132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076720" y="260280"/>
            <a:ext cx="3764160" cy="3105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68360" y="3683160"/>
            <a:ext cx="3887640" cy="2903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5219640" y="3716280"/>
            <a:ext cx="352764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3744720" cy="2878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403280" y="3573360"/>
            <a:ext cx="3382920" cy="2962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932360" y="1125360"/>
            <a:ext cx="3743280" cy="30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Характеристика героїв твору</a:t>
            </a:r>
            <a:r>
              <a:rPr b="1" lang="uk-UA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66680" y="1981080"/>
          <a:ext cx="7543440" cy="4114440"/>
        </p:xfrm>
        <a:graphic>
          <a:graphicData uri="http://schemas.openxmlformats.org/drawingml/2006/table">
            <a:tbl>
              <a:tblPr/>
              <a:tblGrid>
                <a:gridCol w="2514240"/>
                <a:gridCol w="2514600"/>
                <a:gridCol w="251460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Мати Вовчиц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Бал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Багі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міли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бр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аси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зум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льний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б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раведли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моглив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зум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юбляч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др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міли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2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едбачли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ірна Маугл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5075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66"/>
                </a:solidFill>
                <a:latin typeface="Tahoma"/>
              </a:rPr>
              <a:t>Найголовніші закони джунглі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896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Закон Джунглів завжди чимось обумовл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Закон дозволяє звірам полювати на людину тільки тоді, коли вони вчать своїх дітей убивати. Але і тоді не можна убивати людину в тих місцях, де полює згра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Кожен звір, який обзавівся сім'єю, може покинути свою згра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Кожен звір має привести своїх дітей на Раду Зграї, щоб показати їх інши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8497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Ніхто не має права убивати звірят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Усі джунглі твої. Ти можеш полювати дичину, яка тобі під силу, але ти не маєш права чіпати ніяку скотину, ні молоду, ні стар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Віддай частину їжі кволом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У лігві — володарка Мати, право печери — за Батьк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Слово вожака — закон для всі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20:10:27Z</dcterms:created>
  <dc:creator>XTreme</dc:creator>
  <dc:description/>
  <dc:language>en-US</dc:language>
  <cp:lastModifiedBy>Home</cp:lastModifiedBy>
  <dcterms:modified xsi:type="dcterms:W3CDTF">2011-02-13T20:48:53Z</dcterms:modified>
  <cp:revision>7</cp:revision>
  <dc:subject/>
  <dc:title>Головний закон джунглів і світ людей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03000000000001024140</vt:lpwstr>
  </property>
</Properties>
</file>