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FE9-F1AF-4FDD-AA41-1008286F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304-6EE8-4608-8438-23845BD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F84-5707-4121-B3FB-F3E6F47D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339-6C60-491A-A081-EC72A972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6B18-22A8-4DF2-A500-CA2F045A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5BFA-B893-448C-962C-2003570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DD09-32A8-4539-B0E7-13999490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9FA-F540-43B8-AEDB-7F3CD945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A3BD-EC6B-446D-A251-9F4E0EDA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755-8D20-4279-90AA-CE2EC3FC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EB23-FEDD-4E3C-9424-CC05DA9E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C4D-2C7E-4E73-AA93-A61E152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F2E-9EE1-43C2-B15C-C27B8E6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0658-3758-4029-BB8C-69053D7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BDBA-A413-4406-BADC-38071C18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0F93-B92A-4114-A40A-78AD9736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658-E277-4C46-AE87-D69DFA8D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F31-1ACC-4836-B54A-C79E499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C47-18A7-45BC-BED0-32A9919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90B-700A-4116-8272-AF4E982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C74-DC5C-4418-B3BA-231266E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E79-8584-4402-A98D-78213F7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B80-DA2E-4542-81C9-FC446990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8A0-C41E-4AA3-AA0C-F881107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861-6F7B-462D-B5B8-5D216573D03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DB9-958E-48EB-A9AA-9F12A91BD1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Казка “Мауглі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5840" y="1981080"/>
            <a:ext cx="41846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Джозе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Редьярд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Кіплінг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13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«Ми з тобою – </a:t>
            </a:r>
            <a:br>
              <a:rPr sz="5400"/>
            </a:b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однієї крові»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 протиставляється світ людей світу Джунглів у казці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ий літературний прийом використовує автор для зображення світу людей і звірів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Чому вчить каз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67280" y="2923920"/>
            <a:ext cx="47592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унглів Закони одвічні й нетлінні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. Р. Кіплі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92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Tahoma"/>
              </a:rPr>
              <a:t>Головний закон джунглів і світ люд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78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Мета: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ревірити рівень умінь учнів визначати головних і другорядних героїв твору, давати їм характер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вати уміння давати характеристику персонажам, використовуючи цитати з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сувати сенс протиставлення світу звірів і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віту людей у твор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глиблювати навички аналізу художнього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озвивати навички узагальнення прочита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ховувати позитивні моральні якості уч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Літературний диктант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712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орна, мов смола, і страшна, мов пек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ля такої нікчемної особи, як я, всяка обгризена кістка – вже справжній бенк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ев тигра, мов грім заповнив усю печер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і в неї спалахнули, мов дві зелені зірки в пітьмі. Вона сміливо глянула в розлючені очі Шер-Х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мав право блукати скрізь, де йому заманеться, бо їв лише горіхи, коріння та м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орна тінь упала посеред 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мотній Вовк, очевидно, стрибнув, але схиб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дочекався, коли його діти навчились бігати, і тоді в ні Племінних зборів повів їх на Скелю Ра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За поданими ілюстраціями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відтворити послідовність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подій у казці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72000" cy="31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764160" cy="310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683160"/>
            <a:ext cx="3887640" cy="290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527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744720" cy="287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3382920" cy="2962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7432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арактеристика героїв твору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1981080"/>
          <a:ext cx="7543440" cy="411444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ати Вовчиц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гі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могли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д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бач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рна Маугл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Tahoma"/>
              </a:rPr>
              <a:t>Найголовніші закони джунглі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жунглів завжди чимось обумов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озволяє звірам полювати на людину тільки тоді, коли вони вчать своїх дітей убивати. Але і тоді не можна убивати людину в тих місцях, де полює згр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, який обзавівся сім'єю, може покинути свою згра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 має привести своїх дітей на Раду Зграї, щоб показати їх інш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іхто не має права убивати звіря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сі джунглі твої. Ти можеш полювати дичину, яка тобі під силу, але ти не маєш права чіпати ніяку скотину, ні молоду, ні ста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дай частину їжі квол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 лігві — володарка Мати, право печери — за Бать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лово вожака — закон для всі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20:10:27Z</dcterms:created>
  <dc:creator>XTreme</dc:creator>
  <dc:description/>
  <dc:language>en-US</dc:language>
  <cp:lastModifiedBy>Home</cp:lastModifiedBy>
  <dcterms:modified xsi:type="dcterms:W3CDTF">2011-02-13T20:48:53Z</dcterms:modified>
  <cp:revision>7</cp:revision>
  <dc:subject/>
  <dc:title>Головний закон джунглів і світ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3000000000001024140</vt:lpwstr>
  </property>
</Properties>
</file>