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1913-B3DC-404F-9CB2-2A32DC4F1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BDC7-4037-4A81-9C34-DD740DCC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4D4B-BDEE-47B2-BA49-C2111554A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BF12-AA21-4FD4-9544-0BD35F89D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1010-612C-41D9-9BED-35BE5CD6A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3336-B05E-48D4-A85B-1420A44A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E398-A0A3-48CE-94C2-A4C6546D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2064-261F-408E-99EE-E81C42E6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F251-0D6A-4BC9-A0E3-9F4D3E29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EF4B-1EDC-4FE2-BC27-F544F86D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562D-C9FE-4B05-A706-E5D7F309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D0A2-2CA5-4FB2-9FA1-1CF02CF8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19B8-6AAD-4C56-9675-092E69B5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7B7B-1882-4A62-B98A-A3D53C10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3465-EE90-42D5-A372-1530841C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D557-66FE-4C0B-98E6-5A3DC11E4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9C48-B95F-43E5-BEBF-631A5FBFA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F328-7276-4F9E-B0C8-CB489F4F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FC7D-1024-4FB0-951F-31B997C4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7950-DFEF-4383-8AFD-1181E687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200B-BFF1-437E-BB03-9B72DF02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F2A5-BAE2-438E-B6B7-A6FD5E63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416E-087F-4A86-82F6-E799E7C8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D972-B6F1-4EFA-B3CB-AA115BCE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F8B1-5F80-4E4A-8C41-8241C231554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9224-C9AE-4F46-AC3A-12E2A47E52C4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aeaea"/>
                </a:solidFill>
                <a:latin typeface="Tahoma"/>
              </a:rPr>
              <a:t>Казка “Мауглі”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25840" y="1981080"/>
            <a:ext cx="41846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ffffff"/>
                </a:solidFill>
                <a:latin typeface="Tahoma"/>
              </a:rPr>
              <a:t>Джозеф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uk-UA" sz="6000" spc="-1" strike="noStrike">
                <a:solidFill>
                  <a:srgbClr val="ffffff"/>
                </a:solidFill>
                <a:latin typeface="Tahoma"/>
              </a:rPr>
              <a:t>Редьярд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ffffff"/>
                </a:solidFill>
                <a:latin typeface="Tahoma"/>
              </a:rPr>
              <a:t>Кіплінг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374328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80136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5400" spc="-1" strike="noStrike">
                <a:solidFill>
                  <a:srgbClr val="eaeaea"/>
                </a:solidFill>
                <a:latin typeface="Tahoma"/>
              </a:rPr>
              <a:t>«Ми з тобою – </a:t>
            </a:r>
            <a:br>
              <a:rPr sz="5400"/>
            </a:br>
            <a:r>
              <a:rPr b="0" i="1" lang="uk-UA" sz="5400" spc="-1" strike="noStrike">
                <a:solidFill>
                  <a:srgbClr val="eaeaea"/>
                </a:solidFill>
                <a:latin typeface="Tahoma"/>
              </a:rPr>
              <a:t>однієї крові»</a:t>
            </a:r>
            <a:br>
              <a:rPr sz="5400"/>
            </a:b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427280" y="691920"/>
            <a:ext cx="453708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Як протиставляється світ людей світу Джунглів у казці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Який літературний прийом використовує автор для зображення світу людей і звірів?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Чому вчить казк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0338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067280" y="2923920"/>
            <a:ext cx="47592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Джунглів Закони одвічні й нетлінні…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Дж. Р. Кіплін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374328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304560"/>
            <a:ext cx="7921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aeaea"/>
                </a:solidFill>
                <a:latin typeface="Tahoma"/>
              </a:rPr>
              <a:t>Головний закон джунглів і світ людей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6560" y="1981080"/>
            <a:ext cx="77835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Мета: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перевірити рівень умінь учнів визначати головних і другорядних героїв твору, давати їм характеристик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продовжити розвивати уміння давати характеристику персонажам, використовуючи цитати з текст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з’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сувати сенс протиставлення світу звірів і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світу людей у творі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поглиблювати навички аналізу художнього текст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розвивати навички узагальнення прочитаного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виховувати позитивні моральні якості учні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aeaea"/>
                </a:solidFill>
                <a:latin typeface="Tahoma"/>
              </a:rPr>
              <a:t>Літературний диктант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712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орна, мов смола, і страшна, мов пекл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Для такої нікчемної особи, як я, всяка обгризена кістка – вже справжній бенк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Рев тигра, мов грім заповнив усю печер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чі в неї спалахнули, мов дві зелені зірки в пітьмі. Вона сміливо глянула в розлючені очі Шер-Хан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Він мав право блукати скрізь, де йому заманеться, бо їв лише горіхи, коріння та мед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Чорна тінь упала посеред кол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Самотній Вовк, очевидно, стрибнув, але схиби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Він дочекався, коли його діти навчились бігати, і тоді в ні Племінних зборів повів їх на Скелю Рад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304920"/>
            <a:ext cx="7710480" cy="36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aeaea"/>
                </a:solidFill>
                <a:latin typeface="Tahoma"/>
              </a:rPr>
              <a:t>За поданими ілюстраціями </a:t>
            </a:r>
            <a:br>
              <a:rPr sz="3200"/>
            </a:br>
            <a:r>
              <a:rPr b="1" lang="uk-UA" sz="3200" spc="-1" strike="noStrike">
                <a:solidFill>
                  <a:srgbClr val="eaeaea"/>
                </a:solidFill>
                <a:latin typeface="Tahoma"/>
              </a:rPr>
              <a:t>відтворити послідовність </a:t>
            </a:r>
            <a:br>
              <a:rPr sz="3200"/>
            </a:br>
            <a:r>
              <a:rPr b="1" lang="uk-UA" sz="3200" spc="-1" strike="noStrike">
                <a:solidFill>
                  <a:srgbClr val="eaeaea"/>
                </a:solidFill>
                <a:latin typeface="Tahoma"/>
              </a:rPr>
              <a:t>подій у казці</a:t>
            </a:r>
            <a:r>
              <a:rPr b="1" lang="uk-UA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3672000" cy="3132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076720" y="260280"/>
            <a:ext cx="3764160" cy="3105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68360" y="3683160"/>
            <a:ext cx="3887640" cy="2903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5219640" y="3716280"/>
            <a:ext cx="352764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3744720" cy="2878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403280" y="3573360"/>
            <a:ext cx="3382920" cy="2962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932360" y="1125360"/>
            <a:ext cx="3743280" cy="30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Характеристика героїв твору</a:t>
            </a:r>
            <a:r>
              <a:rPr b="1" lang="uk-UA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66680" y="1981080"/>
          <a:ext cx="7543440" cy="4114440"/>
        </p:xfrm>
        <a:graphic>
          <a:graphicData uri="http://schemas.openxmlformats.org/drawingml/2006/table">
            <a:tbl>
              <a:tblPr/>
              <a:tblGrid>
                <a:gridCol w="2514240"/>
                <a:gridCol w="2514600"/>
                <a:gridCol w="251460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Мати Вовчиц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Бал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Багі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міли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бр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аси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зум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льний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б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раведли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моглив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зум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юбляч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др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міли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2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едбачли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ірна Маугл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5075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66"/>
                </a:solidFill>
                <a:latin typeface="Tahoma"/>
              </a:rPr>
              <a:t>Найголовніші закони джунглі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896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Закон Джунглів завжди чимось обумовл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Закон дозволяє звірам полювати на людину тільки тоді, коли вони вчать своїх дітей убивати. Але і тоді не можна убивати людину в тих місцях, де полює згра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Кожен звір, який обзавівся сім'єю, може покинути свою згра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Кожен звір має привести своїх дітей на Раду Зграї, щоб показати їх інши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8497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Ніхто не має права убивати звірят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Усі джунглі твої. Ти можеш полювати дичину, яка тобі під силу, але ти не маєш права чіпати ніяку скотину, ні молоду, ні стар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Віддай частину їжі кволом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У лігві — володарка Мати, право печери — за Батьк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Слово вожака — закон для всі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20:10:27Z</dcterms:created>
  <dc:creator>XTreme</dc:creator>
  <dc:description/>
  <dc:language>en-US</dc:language>
  <cp:lastModifiedBy>Home</cp:lastModifiedBy>
  <dcterms:modified xsi:type="dcterms:W3CDTF">2011-02-13T20:48:53Z</dcterms:modified>
  <cp:revision>7</cp:revision>
  <dc:subject/>
  <dc:title>Головний закон джунглів і світ людей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03000000000001024140</vt:lpwstr>
  </property>
</Properties>
</file>