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FB4-89DC-4F51-BDC2-9F19AA9E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DCB-2195-4842-8C25-BC61DE1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FEE-0105-4A6D-9B3C-FBBD89C4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633-9C10-4715-9A54-B7B9D046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F745-8BE3-49A9-9392-98AEB6FF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03A0-08F7-4213-ADB9-254D02E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6F0A-836D-41D7-8F6F-EC346CC4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BC4-EA13-4E09-A9AE-CC62F0A1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1B9-55E5-44C0-891E-58DD5B1E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CCA7-8EE8-438E-BC0D-43DA40A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E7B-CD44-41A9-B962-EEE8F69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38C-59AA-45DE-86E9-73FB672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2163-B868-4DC7-9796-77137A3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0F4E-E1EE-4C02-996B-E0FCE6C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83BF-4DF3-4363-B0DC-15B774AE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95B-1A87-4151-8BC4-D19885D6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BF4B-AD17-48A8-A3A8-CB16AFBB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DAB-F3B4-4E38-BE52-BCC5ACC6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09A-DAF3-4FC9-8123-2E64A88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DAF-1D20-47A0-8D57-83B4C6E0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CE0-7D46-4B94-B460-B4C5AEBA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31E-E0FB-4720-88DB-C0413BF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953-ABD3-4B60-AAF6-EF74EE8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B9E-1AB3-406E-914C-BF5668C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5E14-D587-48B8-9281-812315A816C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5761-6F8A-4B26-A0C7-226E4A2280F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Казка “Мауглі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5840" y="1981080"/>
            <a:ext cx="41846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Джозеф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Редьярд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Кіплінг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013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«Ми з тобою – </a:t>
            </a:r>
            <a:br>
              <a:rPr sz="5400"/>
            </a:b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однієї крові»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69192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 протиставляється світ людей світу Джунглів у казці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ий літературний прийом використовує автор для зображення світу людей і звірів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Чому вчить каз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67280" y="2923920"/>
            <a:ext cx="47592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унглів Закони одвічні й нетлінні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. Р. Кіплі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92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Tahoma"/>
              </a:rPr>
              <a:t>Головний закон джунглів і світ люд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783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Мета: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еревірити рівень умінь учнів визначати головних і другорядних героїв твору, давати їм характеристи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вати уміння давати характеристику персонажам, використовуючи цитати з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сувати сенс протиставлення світу звірів і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віту людей у твор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глиблювати навички аналізу художнього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озвивати навички узагальнення прочита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ховувати позитивні моральні якості уч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Літературний диктант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712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орна, мов смола, і страшна, мов пек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ля такої нікчемної особи, як я, всяка обгризена кістка – вже справжній бенк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ев тигра, мов грім заповнив усю печер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і в неї спалахнули, мов дві зелені зірки в пітьмі. Вона сміливо глянула в розлючені очі Шер-Х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мав право блукати скрізь, де йому заманеться, бо їв лише горіхи, коріння та ме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орна тінь упала посеред ко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мотній Вовк, очевидно, стрибнув, але схиби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дочекався, коли його діти навчились бігати, і тоді в ні Племінних зборів повів їх на Скелю Ра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За поданими ілюстраціями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відтворити послідовність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подій у казці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672000" cy="313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764160" cy="310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683160"/>
            <a:ext cx="3887640" cy="2903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3527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744720" cy="2878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3382920" cy="2962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7432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арактеристика героїв твору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1981080"/>
          <a:ext cx="7543440" cy="411444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  <a:gridCol w="25146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Мати Вовчиц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гі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могли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я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д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бач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рна Маугл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Tahoma"/>
              </a:rPr>
              <a:t>Найголовніші закони джунглі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жунглів завжди чимось обумов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озволяє звірам полювати на людину тільки тоді, коли вони вчать своїх дітей убивати. Але і тоді не можна убивати людину в тих місцях, де полює згр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, який обзавівся сім'єю, може покинути свою згра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 має привести своїх дітей на Раду Зграї, щоб показати їх інш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іхто не має права убивати звіря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сі джунглі твої. Ти можеш полювати дичину, яка тобі під силу, але ти не маєш права чіпати ніяку скотину, ні молоду, ні ста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дай частину їжі квол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 лігві — володарка Мати, право печери — за Бать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лово вожака — закон для всі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20:10:27Z</dcterms:created>
  <dc:creator>XTreme</dc:creator>
  <dc:description/>
  <dc:language>en-US</dc:language>
  <cp:lastModifiedBy>Home</cp:lastModifiedBy>
  <dcterms:modified xsi:type="dcterms:W3CDTF">2011-02-13T20:48:53Z</dcterms:modified>
  <cp:revision>7</cp:revision>
  <dc:subject/>
  <dc:title>Головний закон джунглів і світ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3000000000001024140</vt:lpwstr>
  </property>
</Properties>
</file>