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0199-070E-4C2B-9FA2-0C8C38E4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D2FF-FB54-4FA5-8EED-3469E8C6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74A2-0B61-452F-AA97-E5F3B058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0183-9E61-4F3A-9E71-89C362E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DCE-3634-4955-AA6D-FA20744A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B9A4-C145-4CCE-B095-44EBD9E8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512C-BA84-40BF-85FD-8E79D52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B6C-35A1-4618-9CEA-B9DFF45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143C-171D-4AA4-BD01-48E0A65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8A8A-28A7-451A-8148-A6E94E03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F33-07F5-4F30-95AF-7BFAA33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9225-1A6B-46A9-A77D-F6A3362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2E16-580E-490A-893F-0DBAAFF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CABA-6CB9-4940-A9B4-9C41416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35F0-A15D-494C-ADD0-EC17679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11E0-75A5-4BCA-93F4-5F644F6A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C212-F396-4DF4-A1D4-C69825C7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57E7-4FE0-49ED-ABFA-B86A525A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3488-E3F5-4D0C-AC4A-C3FBD585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A296-51FF-47A0-8853-FD38FCD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AF0B-4B5F-4086-A33B-3E16080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791A-9C1B-4902-AF58-E9B448F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3DAE-D13E-4CDF-BCAB-38B2E91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D363-4FC6-4B47-BBFC-55F330C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C812-F43B-47BD-BF34-0BC9B3BC53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4B7-2F40-4BE4-A004-11769D57BE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179" t="3060" r="1179" b="1949"/>
          <a:stretch/>
        </p:blipFill>
        <p:spPr>
          <a:xfrm>
            <a:off x="0" y="25236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0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3760" y="0"/>
            <a:ext cx="44164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066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0"/>
            <a:ext cx="5657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220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28720" y="0"/>
            <a:ext cx="5686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780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44560" y="0"/>
            <a:ext cx="565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Сумніших оповідей не знайдете,</a:t>
            </a:r>
            <a:br>
              <a:rPr sz="3800"/>
            </a:br>
            <a:r>
              <a:rPr b="0" i="1" lang="uk-UA" sz="3800" spc="-1" strike="noStrike">
                <a:solidFill>
                  <a:srgbClr val="ffffcc"/>
                </a:solidFill>
                <a:latin typeface="Brush Script MT"/>
              </a:rPr>
              <a:t>Ніж про любов Ромео і Джульєтт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14480" y="3213000"/>
            <a:ext cx="35150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24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-3240"/>
            <a:ext cx="8496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8000" y="274680"/>
            <a:ext cx="353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Ромео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і </a:t>
            </a:r>
            <a:br>
              <a:rPr sz="3800"/>
            </a:br>
            <a:r>
              <a:rPr b="1" i="1" lang="uk-UA" sz="3800" spc="-1" strike="noStrike">
                <a:solidFill>
                  <a:srgbClr val="ffffcc"/>
                </a:solidFill>
                <a:latin typeface="Baskerville Old Face"/>
              </a:rPr>
              <a:t>Джульєт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8000" y="2492280"/>
            <a:ext cx="3538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 трагед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.Шекспі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88200" y="328464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6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Однаково шляхетні дві сім'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 Вероні пишній, де проходить ді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Збували в ворожнечі дні св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Аж враз кривава скоїлась поді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Коханців двоє щирих, запальн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рожі ті утроби породи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Нещастя сталося у сім'ях тих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lackadder ITC"/>
              </a:rPr>
              <a:t>Вони одвічні звади припинили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38920" y="4032360"/>
            <a:ext cx="23050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2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4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2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4559400" cy="57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79840" y="503280"/>
            <a:ext cx="4664160" cy="57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8:16:42Z</dcterms:created>
  <dc:creator>Admin</dc:creator>
  <dc:description/>
  <dc:language>en-US</dc:language>
  <cp:lastModifiedBy>Admin</cp:lastModifiedBy>
  <dcterms:modified xsi:type="dcterms:W3CDTF">2011-01-16T10:13:07Z</dcterms:modified>
  <cp:revision>10</cp:revision>
  <dc:subject/>
  <dc:title>Слайд 1</dc:title>
</cp:coreProperties>
</file>