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D037-3D03-40DC-82FF-9EFE7AB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0172-427B-496C-8CE0-160DAA39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F2E4-FCFC-434F-96A9-7A87BAA3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7C56-2ED1-42C4-9490-D8DCBA7B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8C24-1244-4C88-8C06-8ADBCB72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6F5-CF13-4AA7-8317-768EB28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734D-0F53-4D95-B406-05604B8D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28EF-6BF0-4784-BE9B-F508287B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0684-FC76-41B6-BB58-49DC2ED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B3D-E275-41E3-937E-4ED21D96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9CBA-26E7-4CE2-B60F-1C9AB9C0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802E-EB5B-4518-8879-EF6BA12F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DB86-0D63-497C-ADA7-86B8EE7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86C-00F1-4475-A84A-57D6B90D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99E-6827-4CBA-B031-DD96D77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220-5CE2-42E4-9FCF-A2C73DA7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9F44-20CF-494B-9581-5273BF47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86F3-8ADA-4BE6-B631-F79B5797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1164-D081-4AAC-9DD3-8E35B37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6101-35BA-4BF1-B659-4D76D233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2B3D-670C-4A2A-BE84-7F72B07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2647-5B99-42FB-A133-D91E2AF8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A447-7984-4CE8-A43F-1C587CA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2412-FF2D-46E9-B168-5145A0D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032A-55C7-47E9-927D-A1566EDFC3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F55-6CC7-47B3-BC73-AEAC68EE9C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179" t="3060" r="1179" b="1949"/>
          <a:stretch/>
        </p:blipFill>
        <p:spPr>
          <a:xfrm>
            <a:off x="0" y="25236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3760" y="0"/>
            <a:ext cx="44164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06600" y="0"/>
            <a:ext cx="433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7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5447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220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2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0"/>
            <a:ext cx="568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780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06400" y="0"/>
            <a:ext cx="5731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Сумніших оповідей не знайдете,</a:t>
            </a:r>
            <a:br>
              <a:rPr sz="3800"/>
            </a:b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Ніж про любов Ромео і Джульєтт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14480" y="3213000"/>
            <a:ext cx="35150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24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8000" y="274680"/>
            <a:ext cx="353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Ромео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і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Джульєт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8000" y="2492280"/>
            <a:ext cx="3538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трагед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.Шекспі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88200" y="328464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6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Однаково шляхетні дві сім'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 Вероні пишній, де проходить ді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Збували в ворожнечі дні св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Аж враз кривава скоїлась поді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Коханців двоє щирих, запаль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рожі ті утроби породи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Нещастя сталося у сім'ях тих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ни одвічні звади припинили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38920" y="4032360"/>
            <a:ext cx="23050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2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4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2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6:42Z</dcterms:created>
  <dc:creator>Admin</dc:creator>
  <dc:description/>
  <dc:language>en-US</dc:language>
  <cp:lastModifiedBy>Admin</cp:lastModifiedBy>
  <dcterms:modified xsi:type="dcterms:W3CDTF">2011-01-16T10:13:07Z</dcterms:modified>
  <cp:revision>10</cp:revision>
  <dc:subject/>
  <dc:title>Слайд 1</dc:title>
</cp:coreProperties>
</file>