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4A6A-7D4F-4682-94AA-45135948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070A-8817-40C9-B097-9AC8D650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6657-FCC8-414C-BA36-02C4FE50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3E27-1B2E-478C-827F-33BD2EE1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BF47-C3DA-4D55-AC75-2DFEB588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4EE4-4205-4439-A825-9618AC70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E009-38CC-4FDB-9E4A-08BDAE54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B2C8-2035-4809-BF1D-7CF77249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BC62-4453-4224-95F0-3A3D113F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30EB-58CA-4187-A317-18C65F05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DE45-17BA-4F49-A6DF-10C143F3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537C-B926-478B-A78F-1C20E46C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DD28-9D31-4A55-A1DA-9A0394B0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576A-11A9-45A6-8763-E8008593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0899-AFC0-4A08-8D2F-C11C9A33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3E36-DC83-4A24-AFE4-CAD1DB76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2794-80A5-4B43-AB01-F48BF8B4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5A6E-EC66-4C2A-857C-34D097A5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6936-1AA4-4378-B9C2-94A5F159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15AB9-9595-4ECE-8A6E-4077E079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B5CF-B678-45BA-8D03-8D77A80F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F2D9-5CEE-4E01-B6D1-A47438DB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8357-6F44-41BE-B754-6EF8361D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F9FD-2A0D-483B-B806-56D5EE58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70DB-17F0-4E4F-A84F-15FA05F31C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EBC5-D782-4FC6-B08F-F66A349CAD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179" t="3060" r="1179" b="1949"/>
          <a:stretch/>
        </p:blipFill>
        <p:spPr>
          <a:xfrm>
            <a:off x="0" y="252360"/>
            <a:ext cx="9144000" cy="64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8444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46360" y="0"/>
            <a:ext cx="5651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92160" y="0"/>
            <a:ext cx="5359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06800" y="0"/>
            <a:ext cx="4730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63760" y="0"/>
            <a:ext cx="441648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06600" y="0"/>
            <a:ext cx="433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33400" y="0"/>
            <a:ext cx="5677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36640" y="0"/>
            <a:ext cx="567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03520" y="0"/>
            <a:ext cx="5736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43120" y="0"/>
            <a:ext cx="56577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5447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62200" y="0"/>
            <a:ext cx="5619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2248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28720" y="0"/>
            <a:ext cx="5686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780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06400" y="0"/>
            <a:ext cx="5731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44560" y="0"/>
            <a:ext cx="5654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800" spc="-1" strike="noStrike">
                <a:solidFill>
                  <a:srgbClr val="ffffcc"/>
                </a:solidFill>
                <a:latin typeface="Brush Script MT"/>
              </a:rPr>
              <a:t>Сумніших оповідей не знайдете,</a:t>
            </a:r>
            <a:br>
              <a:rPr sz="3800"/>
            </a:br>
            <a:r>
              <a:rPr b="0" i="1" lang="uk-UA" sz="3800" spc="-1" strike="noStrike">
                <a:solidFill>
                  <a:srgbClr val="ffffcc"/>
                </a:solidFill>
                <a:latin typeface="Brush Script MT"/>
              </a:rPr>
              <a:t>Ніж про любов Ромео і Джульєтти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14480" y="3213000"/>
            <a:ext cx="35150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24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-3240"/>
            <a:ext cx="8496000" cy="6864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8000" y="274680"/>
            <a:ext cx="353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Ромео </a:t>
            </a:r>
            <a:br>
              <a:rPr sz="3800"/>
            </a:b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і </a:t>
            </a:r>
            <a:br>
              <a:rPr sz="3800"/>
            </a:b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Джульєт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8000" y="2492280"/>
            <a:ext cx="3538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 трагедіє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.Шекспі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13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388200" y="3284640"/>
            <a:ext cx="1096920" cy="12240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6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2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42560" y="836280"/>
            <a:ext cx="76438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Однаково шляхетні дві сім'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 Вероні пишній, де проходить ді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Збували в ворожнечі дні сво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Аж враз кривава скоїлась поді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Коханців двоє щирих, запальн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орожі ті утроби породил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Нещастя сталося у сім'ях тих,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они одвічні звади припинили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38920" y="4032360"/>
            <a:ext cx="230508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2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24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36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48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44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2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39880" y="0"/>
            <a:ext cx="56642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8:16:42Z</dcterms:created>
  <dc:creator>Admin</dc:creator>
  <dc:description/>
  <dc:language>en-US</dc:language>
  <cp:lastModifiedBy>Admin</cp:lastModifiedBy>
  <dcterms:modified xsi:type="dcterms:W3CDTF">2011-01-16T10:13:07Z</dcterms:modified>
  <cp:revision>10</cp:revision>
  <dc:subject/>
  <dc:title>Слайд 1</dc:title>
</cp:coreProperties>
</file>