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43E8-54F3-42EC-868B-DE54AA2D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B6F1-EAA2-4A4E-B8D9-FACFA7C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D19A-4E6B-4DBC-8AE9-4CAC1C81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BCCB-C3C9-4D6A-81AA-493990D6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03B5-843C-454B-8CA9-37CCBB3C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C5EE-B300-4237-AEB6-BACEB605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F986-70F7-4C14-B969-C59D3681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2AB-313B-4AB5-8730-E2FA555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24CC-1AB4-4D41-A5C6-F980D13B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E9C9-E12C-4FFE-AB1E-B08ACBC4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2593-AC8F-4055-A63B-0B4E5C9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AFE2-ABFE-465B-86C6-E5F19B0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04C4-1D71-4672-BE09-98B45AF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36D7-C2B7-49A5-854C-FC7E37AB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1439-E9B7-4573-B3C2-0F256F52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00E5-3B6F-4AA1-8020-823AB1B1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587B-D3A5-47B3-B8BE-284A9C63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195A-0BEB-4A24-B63C-B879364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53DD-51E4-48E9-93D7-74A6D17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6FAF-7AFE-4B06-A379-14D4F17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71B4-BE0F-4CB8-BCAE-7A07F690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6B5F-4C52-4D60-9581-B3A5EE7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F186-9FCD-412A-B9B6-693072B3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178E-8059-4941-B627-5FF035C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F0D-4334-42D5-9A28-B4D401F487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781-A173-420F-B507-F688FD40B9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179" t="3060" r="1179" b="1949"/>
          <a:stretch/>
        </p:blipFill>
        <p:spPr>
          <a:xfrm>
            <a:off x="0" y="25236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3760" y="0"/>
            <a:ext cx="44164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06600" y="0"/>
            <a:ext cx="433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7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5447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220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2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0"/>
            <a:ext cx="568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780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06400" y="0"/>
            <a:ext cx="5731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Сумніших оповідей не знайдете,</a:t>
            </a:r>
            <a:br>
              <a:rPr sz="3800"/>
            </a:b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Ніж про любов Ромео і Джульєтт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14480" y="3213000"/>
            <a:ext cx="35150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24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8000" y="274680"/>
            <a:ext cx="353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Ромео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і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Джульєт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8000" y="2492280"/>
            <a:ext cx="3538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трагед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.Шекспі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88200" y="328464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6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Однаково шляхетні дві сім'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 Вероні пишній, де проходить ді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Збували в ворожнечі дні св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Аж враз кривава скоїлась поді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Коханців двоє щирих, запаль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рожі ті утроби породи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Нещастя сталося у сім'ях тих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ни одвічні звади припинили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38920" y="4032360"/>
            <a:ext cx="23050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2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4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2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6:42Z</dcterms:created>
  <dc:creator>Admin</dc:creator>
  <dc:description/>
  <dc:language>en-US</dc:language>
  <cp:lastModifiedBy>Admin</cp:lastModifiedBy>
  <dcterms:modified xsi:type="dcterms:W3CDTF">2011-01-16T10:13:07Z</dcterms:modified>
  <cp:revision>10</cp:revision>
  <dc:subject/>
  <dc:title>Слайд 1</dc:title>
</cp:coreProperties>
</file>