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80C6-BFA7-4597-A635-13CF5380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E538-C706-4318-B87D-9A359FCF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6DE0-7D19-4C67-9448-F2DDA8EE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C43D-CA5A-4C9F-A51A-3BD33798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6A4F-30FE-4467-8F11-3F4CF902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57EC-DE23-4199-8ED2-ACECC6D2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3FFD-C450-4169-AC34-9E90FA14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1259-F582-4B2B-879B-31D3E218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D38B-BD8F-48CB-BE03-D0A8E5FD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0301-BF96-4D35-982D-7FA8AFBF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9F31-117D-4BFF-93AA-6B4459EA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98B8-C9A4-450B-9D75-3BB66EB4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A82A-9DB2-472E-90CA-3B38F1A9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EA10-02A0-4B84-BF99-34D10E7F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189A-00D4-4CF4-B763-923D79F7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3E01-40C5-4DD6-A185-59B57623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D19F-FA09-49D2-8638-C598543C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A2C2-6B43-4F47-89D5-C6C67808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3DEB6-F3D7-4CEA-A7AE-A766DA99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24D2-ED06-4D5A-BDC2-7CE13170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DA64-2651-4093-9E8E-0CAE552A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9B29-A309-4642-9993-2A45C1F8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E775-2087-4A34-B97E-425DE351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37EB-4753-463F-AB99-605D077E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EBF6-0D6B-4317-A683-1A44968D57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12C2-4847-44D2-A0A3-D7CDC54672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179" t="3060" r="1179" b="1949"/>
          <a:stretch/>
        </p:blipFill>
        <p:spPr>
          <a:xfrm>
            <a:off x="0" y="252360"/>
            <a:ext cx="9144000" cy="64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8444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46360" y="0"/>
            <a:ext cx="5651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92160" y="0"/>
            <a:ext cx="5359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06800" y="0"/>
            <a:ext cx="4730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63760" y="0"/>
            <a:ext cx="441648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06600" y="0"/>
            <a:ext cx="433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33400" y="0"/>
            <a:ext cx="5677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36640" y="0"/>
            <a:ext cx="567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03520" y="0"/>
            <a:ext cx="5736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43120" y="0"/>
            <a:ext cx="56577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5447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62200" y="0"/>
            <a:ext cx="5619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2248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28720" y="0"/>
            <a:ext cx="5686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780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06400" y="0"/>
            <a:ext cx="5731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44560" y="0"/>
            <a:ext cx="5654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800" spc="-1" strike="noStrike">
                <a:solidFill>
                  <a:srgbClr val="ffffcc"/>
                </a:solidFill>
                <a:latin typeface="Brush Script MT"/>
              </a:rPr>
              <a:t>Сумніших оповідей не знайдете,</a:t>
            </a:r>
            <a:br>
              <a:rPr sz="3800"/>
            </a:br>
            <a:r>
              <a:rPr b="0" i="1" lang="uk-UA" sz="3800" spc="-1" strike="noStrike">
                <a:solidFill>
                  <a:srgbClr val="ffffcc"/>
                </a:solidFill>
                <a:latin typeface="Brush Script MT"/>
              </a:rPr>
              <a:t>Ніж про любов Ромео і Джульєтти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14480" y="3213000"/>
            <a:ext cx="35150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24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-3240"/>
            <a:ext cx="8496000" cy="6864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8000" y="274680"/>
            <a:ext cx="353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Ромео </a:t>
            </a:r>
            <a:br>
              <a:rPr sz="3800"/>
            </a:b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і </a:t>
            </a:r>
            <a:br>
              <a:rPr sz="3800"/>
            </a:b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Джульєт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8000" y="2492280"/>
            <a:ext cx="3538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 трагедіє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.Шекспі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13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388200" y="3284640"/>
            <a:ext cx="1096920" cy="12240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6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2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42560" y="836280"/>
            <a:ext cx="76438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Однаково шляхетні дві сім'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 Вероні пишній, де проходить ді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Збували в ворожнечі дні сво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Аж враз кривава скоїлась поді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Коханців двоє щирих, запальн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орожі ті утроби породил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Нещастя сталося у сім'ях тих,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они одвічні звади припинили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38920" y="4032360"/>
            <a:ext cx="230508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2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24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36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48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44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2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39880" y="0"/>
            <a:ext cx="56642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8:16:42Z</dcterms:created>
  <dc:creator>Admin</dc:creator>
  <dc:description/>
  <dc:language>en-US</dc:language>
  <cp:lastModifiedBy>Admin</cp:lastModifiedBy>
  <dcterms:modified xsi:type="dcterms:W3CDTF">2011-01-16T10:13:07Z</dcterms:modified>
  <cp:revision>10</cp:revision>
  <dc:subject/>
  <dc:title>Слайд 1</dc:title>
</cp:coreProperties>
</file>