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1131-C1CA-4853-908D-A23AE11D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A3C5-A373-492F-92E7-7416179D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9424-C00D-47CC-8364-3BB123C9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5C1D-02B2-4619-852E-D1CE3B5B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72A9-D5CE-4C74-B46E-49E4F7E9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ABF4-4733-4422-8995-92BE2670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1B48-A3EE-4ABB-8124-BEE91427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0C5C-11ED-4BAD-B115-91250562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5936-8656-4EF6-A35E-D0B4326F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7156-3D17-4366-AE84-5A7435C2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2552-A423-4280-8A8D-9A9FB0A9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AFBD-C335-4B8C-B080-CD9E967E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CBDD-7855-4BD8-AD6E-733D85A6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D750-6FCF-423E-B55A-6AC95F3F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E09B-5D2C-439B-9D0C-27734B87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565F-3071-4E08-93DF-FCA39348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E3A5-E2A8-4643-8363-889CE26F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8A0F9-BB70-4B5E-9C53-37A54154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AE60A-569F-4254-A3F9-34EC4627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7FE91-DF6E-44F1-BC6A-CEF34681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2A9C0-DADD-400B-8F0A-D92D5C4E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356C6-C068-4F98-AB27-FC48976F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E165-E8AB-4D3D-BE1E-31C06DB2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11D22-8367-48E0-8BE8-07EA2908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0F0CE-1019-474C-A111-5F426BB6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10DC5-4A8B-41A4-A426-3F75B9C7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D3927-E993-4DA7-BF0D-036FBDE7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7458A-0487-4543-B266-38933500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C5C71-D69F-49D6-BA63-3930575E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C1D29-A845-4174-9499-8A92D444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2C6D9-DA95-4CF4-9C15-79C45B56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2D5CE-508F-4292-A70E-C1E8C023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8D14D-7BF5-4380-8DF1-BB2D3484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22CF-AF85-46CC-AD39-77AA280B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5DD1B-57DD-43DF-B3A9-2F140428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99231-5A94-454E-BFD6-C283F1A8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25177-ED15-4E0F-9F6C-30CD709E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99EB4-801C-4C06-B7D4-F29BF2F7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F9904-C610-4C9B-A1A8-D566476C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56794-D262-4F26-9EE9-EE364F8E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942F4-F5C1-464A-81BC-BDAF2DB0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F9CF9-0FDC-4850-B528-5893EBB8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D6486-2343-4B66-A43B-3B2A8CED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BD0C5-0433-4BDE-86A2-C619CCEF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B9FF-B342-4A47-8F77-858EFD21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74D92-351E-4EC0-8B36-C0025662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20009-FBF5-4EFC-8FA1-03121EB5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39FD5-3577-407C-8FB2-3807D2A9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65F77-F311-43B2-BBBF-871E0202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B178B-C377-4CAD-AEE8-80D48E53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906EF-8A34-42E0-AE0B-2D2062C8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FB144-DADB-4832-AE60-ACD99A9D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23815-2474-4369-B972-0DE84CBC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179E7-6BF0-4F16-A582-588AB2AA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360B4-1F73-483D-9F0A-77D0FEFD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1E37-15D1-4FF3-92E8-E0935ADF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74CB4-67AC-4958-B9AB-5EBC7F02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B704D-542F-4339-8097-2ABDD6CE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FA45A-98BF-4D7C-80FF-C6E9B6BC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43F42-5CF6-4DEE-9387-C969D366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30C61-84C1-4722-BD5C-9D4BFAE6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924C9-F1D3-4099-BB38-F25BEE28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456AF-3618-4264-A9E3-F3DFB0D6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64BA1-5EA2-4B20-9618-C8BF3153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F85DB-0DEC-4F2C-96A2-0BADE417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3A78E-79DA-4BA3-BD2D-15EAAAF5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8560-B8C3-4D75-B1F2-FF5A78BB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43E80-D268-404C-BC4B-F0499499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2FFB5-35E2-45D2-9A32-40CD962E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49DAF-1653-4BDF-BAF3-D9AAFBC2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53B56-B4AD-418D-B7BF-3E7E4BAC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F6B7E-853F-47CA-87E9-E9921E2E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ABD0E-80E8-4FF7-A337-18E879F2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82432-DA36-4F46-ABC6-6EE348AA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8F489-6FD9-4AE3-8BC7-085A30D7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D64D3-AAFC-48E0-95B8-BB60AFEE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28803-3B02-43CD-8885-B9592156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A80-6092-44F3-A5F2-184A5D00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D8885-24D8-4C32-B7C8-74410EF0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FA445-D44F-46BB-9F42-2971E53A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597D4-E746-4925-B91A-6C631360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88FFA-8EA2-42E9-ABC4-5C9B6BAE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908AC-A9AF-4879-A982-68811DB4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695D-20A8-453B-A19A-B990ABCF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3364-371F-4DC6-BAE4-D12FFA3DD1C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0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F539-A383-40EB-992E-B23C43C2BED6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A0AF-A781-4016-9772-435C5D2154E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1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142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1888-21A1-4456-B47A-59674FCAC25E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8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B9F8-C633-4533-88D4-7A9A680A0270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10C1-3BA1-4F91-B541-614A9573A0FD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2747-D39D-40F0-9BB9-56534A691D6C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5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989640" y="908640"/>
            <a:ext cx="808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666"/>
                </a:solidFill>
                <a:latin typeface="Arial"/>
              </a:rPr>
              <a:t>ОМАР ХАЙЯМ -</a:t>
            </a:r>
            <a:r>
              <a:rPr b="1" lang="uk-UA" sz="5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84000" y="2708280"/>
            <a:ext cx="84596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3300"/>
                </a:solidFill>
                <a:latin typeface="Arial"/>
              </a:rPr>
              <a:t>ПЕРСЬКО-ТАДЖИЦЬКИЙ ПОЕТ І ВЧЕНИЙ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1357200" y="36432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книга омара х"/>
          <p:cNvPicPr/>
          <p:nvPr/>
        </p:nvPicPr>
        <p:blipFill>
          <a:blip r:embed="rId1"/>
          <a:stretch/>
        </p:blipFill>
        <p:spPr>
          <a:xfrm>
            <a:off x="3429000" y="428760"/>
            <a:ext cx="2286000" cy="2822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книга рубаи"/>
          <p:cNvPicPr/>
          <p:nvPr/>
        </p:nvPicPr>
        <p:blipFill>
          <a:blip r:embed="rId2"/>
          <a:stretch/>
        </p:blipFill>
        <p:spPr>
          <a:xfrm>
            <a:off x="6286680" y="0"/>
            <a:ext cx="2571480" cy="3564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книга хайяма"/>
          <p:cNvPicPr/>
          <p:nvPr/>
        </p:nvPicPr>
        <p:blipFill>
          <a:blip r:embed="rId3"/>
          <a:stretch/>
        </p:blipFill>
        <p:spPr>
          <a:xfrm>
            <a:off x="1000080" y="4357800"/>
            <a:ext cx="1785960" cy="22921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"/>
          <p:cNvPicPr/>
          <p:nvPr/>
        </p:nvPicPr>
        <p:blipFill>
          <a:blip r:embed="rId4"/>
          <a:stretch/>
        </p:blipFill>
        <p:spPr>
          <a:xfrm>
            <a:off x="5857920" y="3500280"/>
            <a:ext cx="2928960" cy="3357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"/>
          <p:cNvPicPr/>
          <p:nvPr/>
        </p:nvPicPr>
        <p:blipFill>
          <a:blip r:embed="rId5"/>
          <a:stretch/>
        </p:blipFill>
        <p:spPr>
          <a:xfrm>
            <a:off x="357120" y="0"/>
            <a:ext cx="2930760" cy="428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"/>
          <p:cNvPicPr/>
          <p:nvPr/>
        </p:nvPicPr>
        <p:blipFill>
          <a:blip r:embed="rId6"/>
          <a:stretch/>
        </p:blipFill>
        <p:spPr>
          <a:xfrm>
            <a:off x="3286080" y="3786120"/>
            <a:ext cx="2000160" cy="28846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5" name="Схема 5" descr=""/>
          <p:cNvPicPr/>
          <p:nvPr/>
        </p:nvPicPr>
        <p:blipFill>
          <a:blip r:embed="rId1"/>
          <a:stretch/>
        </p:blipFill>
        <p:spPr>
          <a:xfrm>
            <a:off x="341280" y="281160"/>
            <a:ext cx="8454960" cy="641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856440" y="856440"/>
            <a:ext cx="7759080" cy="97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  <a:ea typeface="Arial"/>
              </a:rPr>
              <a:t>Душанбе, Таджикистан.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  <a:ea typeface="Arial"/>
              </a:rPr>
              <a:t>Пам’ятник Омару Хайаму  у дворі  готелю «Авесто»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358040" cy="42865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71560" y="952200"/>
            <a:ext cx="8012160" cy="358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Омар Хайям – це поет, який славить бенкет життя, його чаша чарівна і сповнена людським розумом – перлинами мудрості всіх часів.</a:t>
            </a:r>
            <a:br>
              <a:rPr sz="2000"/>
            </a:b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uk-UA" sz="3200" spc="-1" strike="noStrike">
                <a:solidFill>
                  <a:srgbClr val="006666"/>
                </a:solidFill>
                <a:latin typeface="Arial"/>
              </a:rPr>
              <a:t>В. Державі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966600" y="1407960"/>
            <a:ext cx="2818080" cy="10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ОМАР</a:t>
            </a:r>
            <a:br>
              <a:rPr sz="2800"/>
            </a:b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ХАЙЯМ</a:t>
            </a:r>
            <a:br>
              <a:rPr sz="2800"/>
            </a:b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(1048 – 1131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3635280" y="3933360"/>
            <a:ext cx="5508720" cy="16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3" name="Picture 4" descr="поэт хайям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6666"/>
                </a:solidFill>
                <a:latin typeface="Arial"/>
              </a:rPr>
              <a:t>ПОВНЕ ІМ</a:t>
            </a:r>
            <a:r>
              <a:rPr b="0" lang="en-US" sz="4800" spc="-1" strike="noStrike">
                <a:solidFill>
                  <a:srgbClr val="006666"/>
                </a:solidFill>
                <a:latin typeface="Arial"/>
                <a:ea typeface="Arial"/>
              </a:rPr>
              <a:t>‘</a:t>
            </a:r>
            <a:r>
              <a:rPr b="0" lang="uk-UA" sz="4800" spc="-1" strike="noStrike">
                <a:solidFill>
                  <a:srgbClr val="006666"/>
                </a:solidFill>
                <a:latin typeface="Arial"/>
                <a:ea typeface="Arial"/>
              </a:rPr>
              <a:t>Я ПОЕТ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66"/>
                </a:solidFill>
                <a:latin typeface="Arial"/>
              </a:rPr>
              <a:t>Гіяс-ад-Дін-Абу-аль-Фахі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</a:rPr>
              <a:t>імена предків-дідусів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66"/>
                </a:solidFill>
                <a:latin typeface="Arial"/>
                <a:ea typeface="Arial"/>
              </a:rPr>
              <a:t>Омар  ібн Ібрагім  Хайям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ім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‘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я поет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    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ім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‘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я батьк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            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прізвищ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66"/>
                </a:solidFill>
                <a:latin typeface="Arial"/>
                <a:ea typeface="Arial"/>
              </a:rPr>
              <a:t>Нішапурі</a:t>
            </a:r>
            <a:r>
              <a:rPr b="1" lang="uk-UA" sz="36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місто народження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БІОГРАФІЧНА ДОВІД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62550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ІМ</a:t>
            </a:r>
            <a:r>
              <a:rPr b="0" lang="uk-UA" sz="1800" spc="-1" strike="noStrike">
                <a:solidFill>
                  <a:srgbClr val="003366"/>
                </a:solidFill>
                <a:latin typeface="Symbol"/>
                <a:ea typeface="Symbol"/>
              </a:rPr>
              <a:t>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Я ПРИ НАРОДЖЕННІ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Омар Хайя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ДАТА НАРОДЖЕННЯ:  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18 травня 1048 рок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МІСЦЕ НАРОДЖЕННЯ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Нішапур (сучасний Іран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ДАТА СМЕРТІ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4 грудня 1131 рок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МІСЦЕ СМЕРТІ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Нішапу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НАЦІОНАЛЬНІСТЬ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пер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МОВА ТВОРІВ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фарс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РІД ДІЯЛЬНОСТІ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поет, астроном, математик,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філософ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НАПРЯМОК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поезі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ЖАНР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руба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8" name="Picture 9" descr="х"/>
          <p:cNvPicPr/>
          <p:nvPr/>
        </p:nvPicPr>
        <p:blipFill>
          <a:blip r:embed="rId1"/>
          <a:stretch/>
        </p:blipFill>
        <p:spPr>
          <a:xfrm>
            <a:off x="6877080" y="2276640"/>
            <a:ext cx="2266920" cy="345744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Якби мені до рук скрижалі Долі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Я розписав би їх по власній волі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Із світу вигнав би всі смутки, болі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Чолом небес досяг, не жив би           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                                                  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долі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                                   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ОМАР ХАЙЯМ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639000" y="433080"/>
            <a:ext cx="7947720" cy="137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3300"/>
                </a:solidFill>
                <a:latin typeface="Arial"/>
              </a:rPr>
              <a:t>перелік почесних титулів </a:t>
            </a: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3300"/>
                </a:solidFill>
                <a:latin typeface="Arial"/>
              </a:rPr>
              <a:t>ОМАРА ХАЙЯМА 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«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Вчений муж століття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«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Доказ істини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«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Знавець грецької науки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«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Цар філософів Сходу і Заходу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ІМАМ (духовний вождь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рубайят"/>
          <p:cNvPicPr/>
          <p:nvPr/>
        </p:nvPicPr>
        <p:blipFill>
          <a:blip r:embed="rId1"/>
          <a:stretch/>
        </p:blipFill>
        <p:spPr>
          <a:xfrm>
            <a:off x="6072120" y="2428920"/>
            <a:ext cx="2857680" cy="42670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перс хайям"/>
          <p:cNvPicPr/>
          <p:nvPr/>
        </p:nvPicPr>
        <p:blipFill>
          <a:blip r:embed="rId2"/>
          <a:stretch/>
        </p:blipFill>
        <p:spPr>
          <a:xfrm>
            <a:off x="3071880" y="2143080"/>
            <a:ext cx="2663640" cy="42498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1928880" y="981000"/>
            <a:ext cx="62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66"/>
                </a:solidFill>
                <a:latin typeface="Arial"/>
              </a:rPr>
              <a:t>КНИЖКОВА ВИСТАВК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3"/>
          <a:stretch/>
        </p:blipFill>
        <p:spPr>
          <a:xfrm>
            <a:off x="7429680" y="0"/>
            <a:ext cx="1714320" cy="23558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1905120" cy="2857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Омар Хайям"/>
          <p:cNvPicPr/>
          <p:nvPr/>
        </p:nvPicPr>
        <p:blipFill>
          <a:blip r:embed="rId5"/>
          <a:stretch/>
        </p:blipFill>
        <p:spPr>
          <a:xfrm>
            <a:off x="214200" y="2681280"/>
            <a:ext cx="2332080" cy="41767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1:07:50Z</dcterms:created>
  <dc:creator>11111</dc:creator>
  <dc:description/>
  <dc:language>en-US</dc:language>
  <cp:lastModifiedBy>Admin</cp:lastModifiedBy>
  <dcterms:modified xsi:type="dcterms:W3CDTF">2011-01-07T15:48:38Z</dcterms:modified>
  <cp:revision>46</cp:revision>
  <dc:subject/>
  <dc:title>ОМАР ХАЙЯМ (1048 – 1131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