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510-1188-401D-9002-A389161B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068-5053-4782-A059-963A064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16F-847B-47C3-9D7C-671198C0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3B0-8817-454E-9314-3774705E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DDF4-29DE-4210-99E1-199F78BA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B07-C03D-46E7-93B5-0DED4690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541A-A066-4A5A-BF43-48271EA3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60A1-56BC-4C40-864C-00899E0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E699-1E71-4EEF-BD57-9241E31C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BD8D-F224-4DC0-8FB5-F914545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72A-9204-4827-8D4C-EF684725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55F-AA28-434D-A567-E26E13BE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9D6C-C8C4-4980-94A6-CF72D37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811F-E422-444B-B79B-603CAB6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2F65-C649-41F3-847F-C2BF2BD3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3879-20CD-478B-8275-6B0DAA46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286-5AF9-4B6F-81EB-95A106AB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C853-34BF-4B68-8932-D8096E4C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8021-5EF6-4EC2-BBDB-42502B62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3E72-834D-4510-9485-357F5AD9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DCF0-514A-406D-B2AA-B57DB537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6C51-6AE7-485F-917C-639989C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908-74D3-4C24-9AFD-4FEEF98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AD9F-AA4C-4D4A-B276-92A7ACA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1172-88F4-41E4-8E45-68B4391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5248-0029-44A1-97CF-B4D6640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9EBB-BBDE-4FAC-8DD1-4ABCA9F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48BA-5896-4CB1-87DD-9C57318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37C3-859D-416B-9E9C-2BF07DAA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2D80-AED4-449A-AC36-4F3D4F8B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20A5-C7B8-4045-A03C-69784FE8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C89C-4F7E-4AB0-9192-69EE6AA6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1767-4309-4204-BB72-C2A2CCCD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E12-F35E-4478-A30C-6974B7F7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3B0-FF2C-4D4C-90C7-DA78BFE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31B5-6443-4A3F-A5D9-40B51114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A8EE-BB07-4A4A-9E9D-AFDDFEE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65F7-AAE0-4A0F-8FB0-8B30ADD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1FE3-407C-4E82-8A53-66E2C38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1400-B206-4DFC-9B20-E9750C9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36A0-E106-4FF2-826F-E492E43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729F-9A90-461E-930A-44C35FD6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67E4-FB92-49BE-9168-80E7B1DC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D706-56DD-4DEE-B66A-8A09BDC8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1BC-2DDB-45BC-B044-B591B132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781A-676F-4544-8561-4F506A5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088B9-2CEE-4E42-BD17-3884313C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08F8-6ED8-47F7-9E6C-DF886C36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E81F-FBBF-41B7-B23A-A8B44EA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203D-DF69-4EA4-B003-EFD71F1E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32AF-156F-4AEB-ADD9-F8D9E6C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E535-44AA-45CD-BC4A-CEDE3D7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4D6D-4CD9-4015-97FF-607AEDF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46FB-80C5-451F-B54D-00E29601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7122-A5CA-46FC-A567-46B1A969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24A-2F02-4A56-B5F9-9E70AE4E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7BE2-FCF9-4443-A505-B6F7B5C2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B9C33-4C02-4D0C-AC69-A64437D5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523A-A5D2-4531-B461-D3E4325F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22E28-7122-4B26-B236-51FA4DD8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D45B-0409-4511-BF57-8CD519D8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4735-FAB2-418D-82CC-EB106EC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3A27-A8F6-492A-812A-CB1F805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A607-F209-4D9E-82C7-AAE043D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78B4-A144-4E2D-87DE-D1087F9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8462-7182-4FC6-BCFA-3634A9F9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824-5ACD-4008-9BF9-45703CC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79D0-F422-4DD3-B4AF-57E20C41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D62C5-6B5E-4A61-947E-E825C779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C6C2-CDA6-4DF6-9EB6-A7A83164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EC77-765F-4F6E-8ADC-A8119155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ECBFF-4372-483C-87C1-E8FC8DE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AB4FB-19CF-463F-9A3D-889451ED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E24F-5540-4F59-B921-0CBBD5F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EE4A-01E4-423A-A4B0-24EB5BC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7DAF0-F240-48A5-A587-A387B61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111CA-1020-4D4F-A4FB-2DE1108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DD7-1F0F-4A6B-8201-7AF1485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7BFF-495E-4A06-BEB6-98F6AEC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B8167-78DD-4A88-AE5A-D319253E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8827-B624-4EE9-934E-E8CAAB36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6DA70-5548-4488-8E47-BF2D9585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7F64-63A2-4B38-B7CF-352CBA5A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B06-5410-4886-9BDD-7547921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141-8301-46B3-BF78-AF3EA22EAC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16A9-510B-4A14-824B-2FD1E96CC4AC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D041-965D-4D13-858E-6D369D31CA2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4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DB3-0CEA-44EA-81F4-B98BB0641156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B62F-EA73-4E5E-BFDD-D34C9F359BF8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4D56-67FA-4D9A-A2F5-B59BD7EDCB99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F4D-1B30-4741-A9D8-4768BFF737FD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89640" y="908640"/>
            <a:ext cx="808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ОМАР ХАЙЯМ -</a:t>
            </a:r>
            <a:r>
              <a:rPr b="1" lang="uk-UA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270828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Arial"/>
              </a:rPr>
              <a:t>ПЕРСЬКО-ТАДЖИЦЬКИЙ ПОЕТ І ВЧЕН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книга омара х"/>
          <p:cNvPicPr/>
          <p:nvPr/>
        </p:nvPicPr>
        <p:blipFill>
          <a:blip r:embed="rId1"/>
          <a:stretch/>
        </p:blipFill>
        <p:spPr>
          <a:xfrm>
            <a:off x="3429000" y="42876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нига рубаи"/>
          <p:cNvPicPr/>
          <p:nvPr/>
        </p:nvPicPr>
        <p:blipFill>
          <a:blip r:embed="rId2"/>
          <a:stretch/>
        </p:blipFill>
        <p:spPr>
          <a:xfrm>
            <a:off x="6286680" y="0"/>
            <a:ext cx="2571480" cy="3564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книга хайяма"/>
          <p:cNvPicPr/>
          <p:nvPr/>
        </p:nvPicPr>
        <p:blipFill>
          <a:blip r:embed="rId3"/>
          <a:stretch/>
        </p:blipFill>
        <p:spPr>
          <a:xfrm>
            <a:off x="1000080" y="4357800"/>
            <a:ext cx="1785960" cy="229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2928960" cy="3357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5"/>
          <a:stretch/>
        </p:blipFill>
        <p:spPr>
          <a:xfrm>
            <a:off x="357120" y="0"/>
            <a:ext cx="2930760" cy="428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6"/>
          <a:stretch/>
        </p:blipFill>
        <p:spPr>
          <a:xfrm>
            <a:off x="3286080" y="3786120"/>
            <a:ext cx="2000160" cy="288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Схема 5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454960" cy="64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56440" y="856440"/>
            <a:ext cx="7759080" cy="97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Arial"/>
              </a:rPr>
              <a:t>Душанбе, Таджикистан.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Пам’ятник Омару Хайаму  у дворі  готелю «Авесто»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358040" cy="42865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71560" y="952200"/>
            <a:ext cx="8012160" cy="35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мар Хайям – це поет, який славить бенкет життя, його чаша чарівна і сповнена людським розумом – перлинами мудрості всіх часів.</a:t>
            </a:r>
            <a:br>
              <a:rPr sz="2000"/>
            </a:b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uk-UA" sz="3200" spc="-1" strike="noStrike">
                <a:solidFill>
                  <a:srgbClr val="006666"/>
                </a:solidFill>
                <a:latin typeface="Arial"/>
              </a:rPr>
              <a:t>В. Державі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6600" y="1407960"/>
            <a:ext cx="281808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ОМАР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ХАЙЯМ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(1048 – 113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635280" y="3933360"/>
            <a:ext cx="5508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3" name="Picture 4" descr="поэт хайям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66"/>
                </a:solidFill>
                <a:latin typeface="Arial"/>
              </a:rPr>
              <a:t>ПОВНЕ ІМ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‘</a:t>
            </a:r>
            <a:r>
              <a:rPr b="0" lang="uk-UA" sz="4800" spc="-1" strike="noStrike">
                <a:solidFill>
                  <a:srgbClr val="006666"/>
                </a:solidFill>
                <a:latin typeface="Arial"/>
                <a:ea typeface="Arial"/>
              </a:rPr>
              <a:t>Я ПОЕТ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Гіяс-ад-Дін-Абу-аль-Фахі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імена предків-дідусі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Омар  ібн Ібрагім  Хайя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пое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батьк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прізвищ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Нішапурі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місто народженн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ОГРАФІЧНА ДОВІ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62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</a:t>
            </a:r>
            <a:r>
              <a:rPr b="0" lang="uk-UA" sz="1800" spc="-1" strike="noStrike">
                <a:solidFill>
                  <a:srgbClr val="003366"/>
                </a:solidFill>
                <a:latin typeface="Symbol"/>
                <a:ea typeface="Symbol"/>
              </a:rPr>
              <a:t>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 ПРИ НАРОДЖЕНН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НАРОДЖЕННЯ: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8 травня 1048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НАРОДЖЕННЯ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 (сучасний Іра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4 грудня 1131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ЦІОНАЛЬНІСТЬ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ер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ОВА ТВОРІВ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арс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РІД ДІЯЛЬНОС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т, астроном, математик,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ілосо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ПРЯМОК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зі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ЖАНР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уба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9" descr="х"/>
          <p:cNvPicPr/>
          <p:nvPr/>
        </p:nvPicPr>
        <p:blipFill>
          <a:blip r:embed="rId1"/>
          <a:stretch/>
        </p:blipFill>
        <p:spPr>
          <a:xfrm>
            <a:off x="6877080" y="2276640"/>
            <a:ext cx="2266920" cy="3457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кби мені до рук скрижалі Д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 розписав би їх по власній в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з світу вигнав би всі смутки, б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Чолом небес досяг, не жив би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д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МАР ХАЙ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9000" y="433080"/>
            <a:ext cx="7947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перелік почесних титулів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ОМАРА ХАЙЯМ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Вчений муж столітт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Доказ істин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навець грецької наук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Цар філософів Сходу і Заходу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ІМАМ (духовний вождь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рубайят"/>
          <p:cNvPicPr/>
          <p:nvPr/>
        </p:nvPicPr>
        <p:blipFill>
          <a:blip r:embed="rId1"/>
          <a:stretch/>
        </p:blipFill>
        <p:spPr>
          <a:xfrm>
            <a:off x="6072120" y="242892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перс хайям"/>
          <p:cNvPicPr/>
          <p:nvPr/>
        </p:nvPicPr>
        <p:blipFill>
          <a:blip r:embed="rId2"/>
          <a:stretch/>
        </p:blipFill>
        <p:spPr>
          <a:xfrm>
            <a:off x="3071880" y="2143080"/>
            <a:ext cx="2663640" cy="424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1928880" y="98100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НИЖКОВА ВИСТАВ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Омар Хайям"/>
          <p:cNvPicPr/>
          <p:nvPr/>
        </p:nvPicPr>
        <p:blipFill>
          <a:blip r:embed="rId5"/>
          <a:stretch/>
        </p:blipFill>
        <p:spPr>
          <a:xfrm>
            <a:off x="214200" y="2681280"/>
            <a:ext cx="2332080" cy="4176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07:50Z</dcterms:created>
  <dc:creator>11111</dc:creator>
  <dc:description/>
  <dc:language>en-US</dc:language>
  <cp:lastModifiedBy>Admin</cp:lastModifiedBy>
  <dcterms:modified xsi:type="dcterms:W3CDTF">2011-01-07T15:48:38Z</dcterms:modified>
  <cp:revision>46</cp:revision>
  <dc:subject/>
  <dc:title>ОМАР ХАЙЯМ (1048 – 113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