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230-F0C4-4432-B00A-38E35412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B44-1247-4840-842C-4C7CA829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4D2-A5A6-4EA5-B795-1A4D3496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A83-41FA-43FD-9F98-6C97E26A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864A-4574-4488-98FB-AA4D0977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795F-9F04-4C23-97C6-305DC5AB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62AC-2C03-4573-B20E-88A9C17A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9588-10D6-408E-9B1B-F81D8A7B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C64-CD0A-4A61-95EA-AD214A9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ED0E-EB77-4116-BD0D-A86C7474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7B4E-FEB0-43CC-B23B-4B99533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887-5DD4-4693-A114-776FA23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FA41-942A-427E-A02B-F8B0B1C7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F710-4C05-46EE-8FE7-992590C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39D-9915-4E50-BCA0-91AD7D9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E918-5E7B-4EA9-A807-8F6BC73F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182-3734-4594-BE18-EF7E4094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61B2-5F76-40FC-B26A-282D9137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0896-47A2-4A99-86C3-799A909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DDDC-83DD-4885-9C17-0D0EA07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23C7-AB9C-4503-8DF2-EFA76B52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619F-D498-4C42-A759-C1C10664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200-0460-4D4B-B1E0-AE2844F1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6849-973E-443C-986E-43D0CC32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5869-78C7-43E1-9BDE-788D7055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CD9F-A60E-4ED3-AA80-69120F02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657C-11CB-4E76-87E5-FC76238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5C6A-947E-4272-992B-996A9772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F71B-42F7-4A24-A27D-DCB1E259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20D0-0C26-4579-89E3-56B34C16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5B97-0972-4A0A-ACCC-4331E951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0655A-8342-4EA5-8580-02B6D215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FD6B-2069-4756-A911-21602698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DB7-D17E-4E6C-A526-E4CC19E6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E23D-A8D8-4382-BC8A-ED3DF472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C50C6-6F00-4660-933D-45A33F23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6A3B-2AA4-4399-B077-15415FF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B0D3-8EC5-45B0-8A88-820191F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07598-9D0E-424B-B645-77D14E1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4605-C797-409D-BA18-AFCE823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7FBC-D2AD-421A-9FDD-9AFE1F2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3EBA-90D3-4900-B5D3-DA200E29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B58F-FA57-4AC8-B180-C89DF991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8563A-6D4B-4234-AAE9-17BD98E5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5D4-0FE7-489B-8F59-72DBFE37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BF30-7A4D-47E4-9C49-E0A41199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F8B8-3B79-465E-8192-1554C845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2C3D0-E8F2-4231-A754-1CBB3193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11B5F-B37A-4D22-8FE9-FE71E950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57E0-0790-4D25-8272-2861F5B2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BF376-CFB7-4CCE-8F2F-0D71C613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178F3-DFA3-48F6-8470-C113BE8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462F1-C9D1-4A82-A931-88F2A0B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B5FF4-DB4C-4F13-BE99-F28047C6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3190-C066-4539-BF25-FDFA8681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F65-F166-4724-B55D-D7522E1A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D44C-43C1-43E4-AFC4-74E55377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1983-B33C-4C79-926E-78CA6BA1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FE42B-3F6E-4C17-B044-3AC0148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21203-9FA2-4CF1-AB14-709DE2FC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19706-0F89-4BEF-AD45-823CD3C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EC08E-AE12-4C41-B7C0-AA8CB87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9735-591D-44C0-B851-1686E4E7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7D92-2113-4449-B515-787CDD4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0E5FB-BEA1-4FA0-9863-3AA278CA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0CFB9-DFD5-4CD1-A413-0E0BCF5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44A-2164-4B67-9399-C39CFF2E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683A-86E8-4042-875F-FA6B7A7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D347F-07E4-4993-9609-814E1F16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8EC4B-DDF9-4AD5-9ABE-C8F36F9C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3CC3-FB3C-4A22-A30F-A36E0931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DD47D-E123-4244-A2BD-95B81F61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F0BCB-2905-4BD7-B92B-79575EDA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4BBDB-6CAD-43CC-AC5F-3B7BAEE3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2F289-6413-4DD8-8DED-299F84B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81D1-662F-4079-ADC6-6FA176C6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DAFB8-D55C-434E-A7CA-5D2FA6C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F29-F36D-463F-A38C-E387F59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5E426-2188-4482-9929-DDA496E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5DAB0-2505-42C5-88D7-3DEBA32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95735-33E4-4785-9A42-3061D27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3DDC3-6E3F-4693-9853-50BAA3A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A113-8CB0-4973-BD89-739DEB37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E2F-F7AE-440A-8A3A-15F5D65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52D-9B6C-4930-8FD0-A685B2CAA1D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896E-556E-414F-95E5-869D829B1C04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C3EA-B1C4-4CB7-A489-B898EA69F31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42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75D7-301C-415B-A224-9A5DAB7510D9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684-D45F-4EA4-85C2-C24889463585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A5E1-33F5-4CD2-8726-64024271B9D6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AE4B-95FF-4E41-AE9B-941C871EFC75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89640" y="908640"/>
            <a:ext cx="808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ОМАР ХАЙЯМ -</a:t>
            </a:r>
            <a:r>
              <a:rPr b="1" lang="uk-UA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000" y="270828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Arial"/>
              </a:rPr>
              <a:t>ПЕРСЬКО-ТАДЖИЦЬКИЙ ПОЕТ І ВЧЕН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книга омара х"/>
          <p:cNvPicPr/>
          <p:nvPr/>
        </p:nvPicPr>
        <p:blipFill>
          <a:blip r:embed="rId1"/>
          <a:stretch/>
        </p:blipFill>
        <p:spPr>
          <a:xfrm>
            <a:off x="3429000" y="42876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нига рубаи"/>
          <p:cNvPicPr/>
          <p:nvPr/>
        </p:nvPicPr>
        <p:blipFill>
          <a:blip r:embed="rId2"/>
          <a:stretch/>
        </p:blipFill>
        <p:spPr>
          <a:xfrm>
            <a:off x="6286680" y="0"/>
            <a:ext cx="2571480" cy="3564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книга хайяма"/>
          <p:cNvPicPr/>
          <p:nvPr/>
        </p:nvPicPr>
        <p:blipFill>
          <a:blip r:embed="rId3"/>
          <a:stretch/>
        </p:blipFill>
        <p:spPr>
          <a:xfrm>
            <a:off x="1000080" y="4357800"/>
            <a:ext cx="1785960" cy="229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4"/>
          <a:stretch/>
        </p:blipFill>
        <p:spPr>
          <a:xfrm>
            <a:off x="5857920" y="3500280"/>
            <a:ext cx="2928960" cy="3357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5"/>
          <a:stretch/>
        </p:blipFill>
        <p:spPr>
          <a:xfrm>
            <a:off x="357120" y="0"/>
            <a:ext cx="2930760" cy="428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6"/>
          <a:stretch/>
        </p:blipFill>
        <p:spPr>
          <a:xfrm>
            <a:off x="3286080" y="3786120"/>
            <a:ext cx="2000160" cy="288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Схема 5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454960" cy="64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56440" y="856440"/>
            <a:ext cx="7759080" cy="97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Arial"/>
              </a:rPr>
              <a:t>Душанбе, Таджикистан.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Пам’ятник Омару Хайаму  у дворі  готелю «Авесто»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358040" cy="42865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71560" y="952200"/>
            <a:ext cx="8012160" cy="35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мар Хайям – це поет, який славить бенкет життя, його чаша чарівна і сповнена людським розумом – перлинами мудрості всіх часів.</a:t>
            </a:r>
            <a:br>
              <a:rPr sz="2000"/>
            </a:b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uk-UA" sz="3200" spc="-1" strike="noStrike">
                <a:solidFill>
                  <a:srgbClr val="006666"/>
                </a:solidFill>
                <a:latin typeface="Arial"/>
              </a:rPr>
              <a:t>В. Державі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66600" y="1407960"/>
            <a:ext cx="281808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ОМАР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ХАЙЯМ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(1048 – 113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635280" y="3933360"/>
            <a:ext cx="55087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3" name="Picture 4" descr="поэт хайям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66"/>
                </a:solidFill>
                <a:latin typeface="Arial"/>
              </a:rPr>
              <a:t>ПОВНЕ ІМ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‘</a:t>
            </a:r>
            <a:r>
              <a:rPr b="0" lang="uk-UA" sz="4800" spc="-1" strike="noStrike">
                <a:solidFill>
                  <a:srgbClr val="006666"/>
                </a:solidFill>
                <a:latin typeface="Arial"/>
                <a:ea typeface="Arial"/>
              </a:rPr>
              <a:t>Я ПОЕТ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Гіяс-ад-Дін-Абу-аль-Фахі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імена предків-дідусів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Омар  ібн Ібрагім  Хайя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пое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батьк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прізвищ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Нішапурі</a:t>
            </a:r>
            <a:r>
              <a:rPr b="1" lang="uk-UA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місто народженн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ОГРАФІЧНА ДОВІ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62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М</a:t>
            </a:r>
            <a:r>
              <a:rPr b="0" lang="uk-UA" sz="1800" spc="-1" strike="noStrike">
                <a:solidFill>
                  <a:srgbClr val="003366"/>
                </a:solidFill>
                <a:latin typeface="Symbol"/>
                <a:ea typeface="Symbol"/>
              </a:rPr>
              <a:t>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 ПРИ НАРОДЖЕНН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НАРОДЖЕННЯ: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18 травня 1048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НАРОДЖЕННЯ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 (сучасний Іра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4 грудня 1131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ЦІОНАЛЬНІСТЬ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ер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ОВА ТВОРІВ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арс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РІД ДІЯЛЬНОС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т, астроном, математик,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ілосо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ПРЯМОК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зі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ЖАНР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уба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9" descr="х"/>
          <p:cNvPicPr/>
          <p:nvPr/>
        </p:nvPicPr>
        <p:blipFill>
          <a:blip r:embed="rId1"/>
          <a:stretch/>
        </p:blipFill>
        <p:spPr>
          <a:xfrm>
            <a:off x="6877080" y="2276640"/>
            <a:ext cx="2266920" cy="3457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кби мені до рук скрижалі Д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 розписав би їх по власній в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з світу вигнав би всі смутки, б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Чолом небес досяг, не жив би 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д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МАР ХАЙ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9000" y="433080"/>
            <a:ext cx="794772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перелік почесних титулів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ОМАРА ХАЙЯМ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Вчений муж столітт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Доказ істин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навець грецької наук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Цар філософів Сходу і Заходу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ІМАМ (духовний вождь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рубайят"/>
          <p:cNvPicPr/>
          <p:nvPr/>
        </p:nvPicPr>
        <p:blipFill>
          <a:blip r:embed="rId1"/>
          <a:stretch/>
        </p:blipFill>
        <p:spPr>
          <a:xfrm>
            <a:off x="6072120" y="2428920"/>
            <a:ext cx="2857680" cy="4267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перс хайям"/>
          <p:cNvPicPr/>
          <p:nvPr/>
        </p:nvPicPr>
        <p:blipFill>
          <a:blip r:embed="rId2"/>
          <a:stretch/>
        </p:blipFill>
        <p:spPr>
          <a:xfrm>
            <a:off x="3071880" y="2143080"/>
            <a:ext cx="2663640" cy="4249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1928880" y="981000"/>
            <a:ext cx="62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КНИЖКОВА ВИСТАВ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355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Омар Хайям"/>
          <p:cNvPicPr/>
          <p:nvPr/>
        </p:nvPicPr>
        <p:blipFill>
          <a:blip r:embed="rId5"/>
          <a:stretch/>
        </p:blipFill>
        <p:spPr>
          <a:xfrm>
            <a:off x="214200" y="2681280"/>
            <a:ext cx="2332080" cy="4176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07:50Z</dcterms:created>
  <dc:creator>11111</dc:creator>
  <dc:description/>
  <dc:language>en-US</dc:language>
  <cp:lastModifiedBy>Admin</cp:lastModifiedBy>
  <dcterms:modified xsi:type="dcterms:W3CDTF">2011-01-07T15:48:38Z</dcterms:modified>
  <cp:revision>46</cp:revision>
  <dc:subject/>
  <dc:title>ОМАР ХАЙЯМ (1048 – 113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