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6F3-93B5-437C-AC5C-4F0CA568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F37-B734-4787-BBBD-1C3BF24D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E37-85D8-4490-A099-30D36C10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F98-1D29-4303-BDA4-9D1FD405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B1B3-31E3-4717-A7ED-A6E0F026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499C-EC5D-4C6D-BDD9-222A719F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9038-7CA7-495C-925D-5DAA690B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9F9B-335F-42D4-90DB-6EECC25B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4BCE-A5A6-44C5-B7A3-47A33EB1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0920-5769-44CF-B5F8-0855EB97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2A02-9BBF-447F-A8D2-75FB63F4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F9E-C4A7-44F1-B9A6-1E917FD0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C97E-536C-4151-98A1-96A82798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4AE4-103E-4469-B084-4D0007C1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894D-ED8E-48A6-B6CD-39349A24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66C8-A4A0-4CF6-BC9D-7922E87D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4438-07CB-404C-84E1-F4387E9B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8A88-CCD7-49DA-86B0-CCC77D72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F6CB-D938-4A6B-9D68-68C32D8F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9C93-85B1-4A6E-AB89-DE58D2AF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06D1A-5905-4AEC-97AE-0B78D5FC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63B9-53A8-470C-95A4-D93B4EF7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6CE-3A86-4663-9AB2-1202D68A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8A59-CEB7-4EF7-AC1B-8053C236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BCF0-11E1-4C3C-B902-7B1685D8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621A-5D78-44FC-AA4D-E0C02E9F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16B7-2A27-4D49-A18B-BBB0FE47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5454-CEBF-45F3-BCA0-EA499371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86791-0C7E-4EDA-93DB-D5ACDA30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1C615-58C8-4010-827E-2BAEC54C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6965-60ED-45BF-BECE-21218CCC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0DB34-819C-4519-AF6C-10B98F71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E2D13-3BDB-41F8-8331-7382BE75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505-5301-40FD-A4FC-A721A9D0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F3550-67E8-465D-ABED-275544B8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768DF-9146-4C7F-9AF5-991626DB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5334F-25BB-409A-BA02-56C05383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C9630-5010-45DF-8F91-9450C8E6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A214C-8C3C-44E0-81CB-41E9D93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1074C-FE6D-4804-910B-C13D8C8B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A129D-B6E6-4ED2-A1F0-58935085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7A8E-37C0-4C9F-B8E4-D7241CDE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E73F7-95FD-4136-8CFA-F0D9A9B2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A9708-C4DE-43A5-BB69-D9EFA531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913-FCD5-4824-BD78-FFF9F759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E754D-56F2-4A86-B9A6-4A8146E5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92E60-E7E7-4A70-B103-187D49DE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03938-F65A-4ECF-9F00-BF2496BF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231F2-D5D0-4ED8-AFCC-ECC7B4B6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BD498-36B6-4DEC-B172-65027515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5F642-37BA-4416-A173-0A118526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E7E13-9BC8-48F2-9D6D-0F48DB8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982E9-36DE-4DF9-934B-CEF33C10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59995-7B04-4AE5-B01C-3DBA2C01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BC68E-7273-4A38-9B28-40651D91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D01-31A2-49C2-A80F-A7B6F6D9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EA921-B3AC-4285-9F3E-D2AE4610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AF662-D580-4D33-B382-D4391AE4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73953-B363-44DF-80E5-5155FF01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9632E-EADF-4AA0-9E22-5F6AF942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906A4-9488-493B-A01E-4D3DFD21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AABB3-00B9-4439-B0A0-81F841D7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82B1-9FE4-4249-9BAA-8C0EE26C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F2954-15FA-4CE7-B066-F66AAEE3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D1E7D-D6AE-457D-BCE8-1FAFBCE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291B1-4700-461F-B3A1-ECD4CB21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4C6-F959-4971-9516-CC38AAAD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C2830-5D3C-4AF9-B504-D823CBFE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BCC23-A478-43C9-A12B-1F4EF729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B295F-D919-47EA-A184-40CD6454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7F0AE-7F9C-4C35-B83F-05CA0D62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95ABE-7E52-4288-897D-1F6807AB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84387-E9F5-4D91-9EB6-DC9E0E7B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9195F-E6AF-46BF-B830-EC939455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AF5A2-7203-4F18-88FC-9976919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56DCC-9CA4-48D5-B7B4-21805595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C61D8-D738-4CF8-B7FD-1562F076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837-2A6F-48B1-90BB-E319EDEA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05483-8A28-4468-B754-9D7EB10B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7111C-BF38-4284-B5B0-722644BB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F41E9-6BCC-4718-9876-398EF264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A5F8C-AD1A-41EC-9450-E921B858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F4204-26DD-4C16-A2FC-DB0E5F3C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E09-2B17-497B-BFCB-C241C82A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988C-0853-43B0-BADB-CA347D7ABC3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CA69-B991-4028-B6B6-8EBB46D24C5F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3548-20D6-48C2-8262-D8234A5A446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42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8A37-8062-4099-8281-723C2A57F3CE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3C3F-F84A-4481-A323-9096D16FF886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6D4A-B364-42DE-87F1-BD09561A68EA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DA7E-52DB-48A4-93ED-5C0B667292CA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89640" y="908640"/>
            <a:ext cx="808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ОМАР ХАЙЯМ -</a:t>
            </a:r>
            <a:r>
              <a:rPr b="1" lang="uk-UA" sz="5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000" y="2708280"/>
            <a:ext cx="8459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Arial"/>
              </a:rPr>
              <a:t>ПЕРСЬКО-ТАДЖИЦЬКИЙ ПОЕТ І ВЧЕНИЙ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357200" y="36432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книга омара х"/>
          <p:cNvPicPr/>
          <p:nvPr/>
        </p:nvPicPr>
        <p:blipFill>
          <a:blip r:embed="rId1"/>
          <a:stretch/>
        </p:blipFill>
        <p:spPr>
          <a:xfrm>
            <a:off x="3429000" y="428760"/>
            <a:ext cx="2286000" cy="2822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книга рубаи"/>
          <p:cNvPicPr/>
          <p:nvPr/>
        </p:nvPicPr>
        <p:blipFill>
          <a:blip r:embed="rId2"/>
          <a:stretch/>
        </p:blipFill>
        <p:spPr>
          <a:xfrm>
            <a:off x="6286680" y="0"/>
            <a:ext cx="2571480" cy="3564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книга хайяма"/>
          <p:cNvPicPr/>
          <p:nvPr/>
        </p:nvPicPr>
        <p:blipFill>
          <a:blip r:embed="rId3"/>
          <a:stretch/>
        </p:blipFill>
        <p:spPr>
          <a:xfrm>
            <a:off x="1000080" y="4357800"/>
            <a:ext cx="1785960" cy="2292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4"/>
          <a:stretch/>
        </p:blipFill>
        <p:spPr>
          <a:xfrm>
            <a:off x="5857920" y="3500280"/>
            <a:ext cx="2928960" cy="3357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5"/>
          <a:stretch/>
        </p:blipFill>
        <p:spPr>
          <a:xfrm>
            <a:off x="357120" y="0"/>
            <a:ext cx="2930760" cy="428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6"/>
          <a:stretch/>
        </p:blipFill>
        <p:spPr>
          <a:xfrm>
            <a:off x="3286080" y="3786120"/>
            <a:ext cx="2000160" cy="28846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5" name="Схема 5" descr=""/>
          <p:cNvPicPr/>
          <p:nvPr/>
        </p:nvPicPr>
        <p:blipFill>
          <a:blip r:embed="rId1"/>
          <a:stretch/>
        </p:blipFill>
        <p:spPr>
          <a:xfrm>
            <a:off x="341280" y="281160"/>
            <a:ext cx="8454960" cy="64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56440" y="856440"/>
            <a:ext cx="7759080" cy="97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Arial"/>
              </a:rPr>
              <a:t>Душанбе, Таджикистан.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Пам’ятник Омару Хайаму  у дворі  готелю «Авесто»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358040" cy="42865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71560" y="952200"/>
            <a:ext cx="8012160" cy="35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Омар Хайям – це поет, який славить бенкет життя, його чаша чарівна і сповнена людським розумом – перлинами мудрості всіх часів.</a:t>
            </a:r>
            <a:br>
              <a:rPr sz="2000"/>
            </a:b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uk-UA" sz="3200" spc="-1" strike="noStrike">
                <a:solidFill>
                  <a:srgbClr val="006666"/>
                </a:solidFill>
                <a:latin typeface="Arial"/>
              </a:rPr>
              <a:t>В. Державі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66600" y="1407960"/>
            <a:ext cx="281808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ОМАР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ХАЙЯМ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(1048 – 113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3635280" y="3933360"/>
            <a:ext cx="550872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3" name="Picture 4" descr="поэт хайям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6666"/>
                </a:solidFill>
                <a:latin typeface="Arial"/>
              </a:rPr>
              <a:t>ПОВНЕ ІМ</a:t>
            </a:r>
            <a:r>
              <a:rPr b="0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‘</a:t>
            </a:r>
            <a:r>
              <a:rPr b="0" lang="uk-UA" sz="4800" spc="-1" strike="noStrike">
                <a:solidFill>
                  <a:srgbClr val="006666"/>
                </a:solidFill>
                <a:latin typeface="Arial"/>
                <a:ea typeface="Arial"/>
              </a:rPr>
              <a:t>Я ПОЕТ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</a:rPr>
              <a:t>Гіяс-ад-Дін-Абу-аль-Фахі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імена предків-дідусів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Омар  ібн Ібрагім  Хайям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поет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батьк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прізвищ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Нішапурі</a:t>
            </a:r>
            <a:r>
              <a:rPr b="1" lang="uk-UA" sz="36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місто народженн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БІОГРАФІЧНА ДОВІД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6255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ІМ</a:t>
            </a:r>
            <a:r>
              <a:rPr b="0" lang="uk-UA" sz="1800" spc="-1" strike="noStrike">
                <a:solidFill>
                  <a:srgbClr val="003366"/>
                </a:solidFill>
                <a:latin typeface="Symbol"/>
                <a:ea typeface="Symbol"/>
              </a:rPr>
              <a:t>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Я ПРИ НАРОДЖЕНН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Омар Хайя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НАРОДЖЕННЯ: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18 травня 1048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НАРОДЖЕННЯ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 (сучасний Іран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4 грудня 1131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ЦІОНАЛЬНІСТЬ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ер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ОВА ТВОРІВ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арс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РІД ДІЯЛЬНОС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т, астроном, математик,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ілосо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ПРЯМОК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зі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ЖАНР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руба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8" name="Picture 9" descr="х"/>
          <p:cNvPicPr/>
          <p:nvPr/>
        </p:nvPicPr>
        <p:blipFill>
          <a:blip r:embed="rId1"/>
          <a:stretch/>
        </p:blipFill>
        <p:spPr>
          <a:xfrm>
            <a:off x="6877080" y="2276640"/>
            <a:ext cx="2266920" cy="34574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кби мені до рук скрижалі Д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 розписав би їх по власній в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Із світу вигнав би всі смутки, б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Чолом небес досяг, не жив би       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             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д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МАР ХАЙЯ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39000" y="433080"/>
            <a:ext cx="794772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перелік почесних титулів </a:t>
            </a: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ОМАРА ХАЙЯМ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Вчений муж столітт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Доказ істин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Знавець грецької наук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Цар філософів Сходу і Заходу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ІМАМ (духовний вождь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рубайят"/>
          <p:cNvPicPr/>
          <p:nvPr/>
        </p:nvPicPr>
        <p:blipFill>
          <a:blip r:embed="rId1"/>
          <a:stretch/>
        </p:blipFill>
        <p:spPr>
          <a:xfrm>
            <a:off x="6072120" y="2428920"/>
            <a:ext cx="2857680" cy="4267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перс хайям"/>
          <p:cNvPicPr/>
          <p:nvPr/>
        </p:nvPicPr>
        <p:blipFill>
          <a:blip r:embed="rId2"/>
          <a:stretch/>
        </p:blipFill>
        <p:spPr>
          <a:xfrm>
            <a:off x="3071880" y="2143080"/>
            <a:ext cx="2663640" cy="42498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1928880" y="981000"/>
            <a:ext cx="62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КНИЖКОВА ВИСТАВ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2355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Омар Хайям"/>
          <p:cNvPicPr/>
          <p:nvPr/>
        </p:nvPicPr>
        <p:blipFill>
          <a:blip r:embed="rId5"/>
          <a:stretch/>
        </p:blipFill>
        <p:spPr>
          <a:xfrm>
            <a:off x="214200" y="2681280"/>
            <a:ext cx="2332080" cy="41767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07:50Z</dcterms:created>
  <dc:creator>11111</dc:creator>
  <dc:description/>
  <dc:language>en-US</dc:language>
  <cp:lastModifiedBy>Admin</cp:lastModifiedBy>
  <dcterms:modified xsi:type="dcterms:W3CDTF">2011-01-07T15:48:38Z</dcterms:modified>
  <cp:revision>46</cp:revision>
  <dc:subject/>
  <dc:title>ОМАР ХАЙЯМ (1048 – 113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