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6FEC-5AC7-4D37-B322-B96504E5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A283-5506-4299-98E3-3B72168C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17D4-1F38-45F2-8500-B1385F4A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D616-7562-4696-AF60-A5E93667D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EFC9-BD19-403B-B1F0-61669DCDF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8EC9-ED3C-42D4-B60B-78F7FC5D6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A42F-4058-42C4-9287-C7B7ADA0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301F-1438-4DFA-8E44-D6066351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84BC-320D-412C-B819-1DA9CA90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98B9-5E86-48E8-9417-42B88D9C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A518-2100-4593-9CDC-6666CB92A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D0EDD-11A2-4E99-9E75-BA98452D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3ECE9-1D8C-4D61-89BA-BB0E7D1C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50E5-6C1E-4212-A937-4D0352DB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3B47-9997-4248-B63D-32DF1D347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11E5-A9A6-49AF-B3EC-00B36098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A7849-9A46-4D5E-AF38-38A399635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88F43-C058-4B22-81CF-C95C2D86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7570C-D30C-4E9F-8221-1890AE5B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4AF50-085C-44CD-802B-BAC345DC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234E4-3080-4B24-BE15-87353B45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1304C-925F-4987-A319-D27DF6C7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195-C286-423B-84DA-07BAB939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13106-57FE-41A7-B980-B393E6571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0CDBD-E792-4A14-B1D4-D7CB70DD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7AA618-711B-43A9-B2F2-AFAC4957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6D838-F6EB-496E-9BF7-21899850E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FA752-5C31-46D3-8FD7-2F278A13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0C0A0-C852-43C9-9511-71972FBD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2C3AC-E6E1-43CF-80D1-3E8B0BC0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31074-16A2-41C0-B870-714077937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3FF6E-4822-429F-960F-C2DB2F189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ECB94-E875-4B5D-9FB2-5BD9EF09C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B6A0-9E00-4A6D-993C-FC9448F5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CBD8FF-A8AB-43C3-93CE-C95DB1DC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C7059-EEC8-4358-A505-42AEF622D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C903A1-565B-4479-BFB1-E85F7CFC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860BA-8811-4985-80CA-1A513F67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FD2FC-4119-4CC9-9ADF-0D5CD782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F9022-6FBB-4382-B5D7-4F1EAC76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271BC-CFDB-40B9-BCAC-4A9114D59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665F5-A743-4EC8-9EAB-AA516B17F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AC1F1-6974-4E61-9612-1A915F33F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D0579-AA3D-4A0A-91E7-BDD411A80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E6A7-3168-42BC-9832-AA009A5D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ACE325-BBF0-4152-BDFA-84B78043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8BC0B-7D2D-43A3-BE56-B80A68FE1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F470F-2FB5-43A1-92DC-BEB394B1C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4DC0D-0F51-4C03-8D5F-0FB2977B9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D1679-F4D2-47C8-8862-55AEF270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EA9A0-C351-46F1-B06E-2237EDF34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A49BF0-5A12-448E-BAB7-E8D5397F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4257B-0485-473E-B706-73739840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39A00-DB01-4769-872D-078A0DED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85D14A-D98D-4EFA-A2FF-0203370D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FCAA-0FF3-4467-B03E-0F79FCCF1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EAC770-70B4-49CF-9C98-23123CDBB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8B2E64-F018-4146-858C-5956A6456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21C17-069E-4B43-9DE3-6FEFCB86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3238A-4F06-47ED-A644-F8CE2C147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0981AB-0F99-4AE0-BA76-1C47FC125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53160F-058D-44B8-9408-995060922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237999-455A-47FD-A499-EA15EDEF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B4290-F200-4B0E-AD10-F03C9A971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81E080-3C5D-49F0-965E-A88FA277A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AB13F-6502-4F97-935E-4E9BBAFD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FCDC-DEC9-468E-9618-C82DB11A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9AED0-D8B8-43A4-87E3-2A3D293F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52E483-7D94-4381-A14D-DBA7399D1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4AB703-7611-4AE3-AE88-DB9A0F274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96C8AC-70D9-4E2A-BA4F-63DFF620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F1219D-740D-4B26-AB86-473C61DAB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70B2D-223A-4AAE-AB2D-9EA60A90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CDD9A0-4701-4F0D-8443-942AEB7D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24ED7C-E789-4050-8C14-FD807EDD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E8343-10F1-40A2-B684-977403586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4BAF7-635B-486D-8A27-BFE611AD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B973-9B88-4B7E-A167-11B9F25EF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2BC847-59EB-4D62-9D5D-7DEE1D77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A4F16-8652-4767-B6E7-C380948A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C859EA-BB20-4CB9-AD8D-DB2E1F11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84B6E-BE11-4EF0-8985-846C42454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B434E5-F21F-4D3A-BFEE-8C707F3BA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8F60-0288-4F16-89EC-B847DD79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8809-C111-4C63-9BE8-D181737284A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49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0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F4DA3-00FD-4A05-939E-2231BFFCFA98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96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97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C8717-81DA-4602-AA63-B178B833DCAF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1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142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28FB-AA82-450D-B2CF-B9A5741DB419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8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F36AA-A39D-49C2-9A5B-2709E4181D37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A0A1-A254-4455-A83B-7820C89668EF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69BE-676A-4FF7-9A7A-9CC99E324E7A}" type="slidenum">
              <a:rPr b="1" lang="ru-RU" sz="1000" spc="-1" strike="noStrike">
                <a:solidFill>
                  <a:srgbClr val="a7a399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d5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989640" y="908640"/>
            <a:ext cx="80816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6666"/>
                </a:solidFill>
                <a:latin typeface="Arial"/>
              </a:rPr>
              <a:t>ОМАР ХАЙЯМ -</a:t>
            </a:r>
            <a:r>
              <a:rPr b="1" lang="uk-UA" sz="5400" spc="-1" strike="noStrike">
                <a:solidFill>
                  <a:srgbClr val="006666"/>
                </a:solidFill>
                <a:latin typeface="Arial"/>
              </a:rPr>
              <a:t> </a:t>
            </a:r>
            <a:endParaRPr b="1" lang="en-US" sz="5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684000" y="2708280"/>
            <a:ext cx="84596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3300"/>
                </a:solidFill>
                <a:latin typeface="Arial"/>
              </a:rPr>
              <a:t>ПЕРСЬКО-ТАДЖИЦЬКИЙ ПОЕТ І ВЧЕНИЙ</a:t>
            </a:r>
            <a:endParaRPr b="0" lang="en-US" sz="3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17" name="Picture 2" descr=""/>
          <p:cNvPicPr/>
          <p:nvPr/>
        </p:nvPicPr>
        <p:blipFill>
          <a:blip r:embed="rId1"/>
          <a:stretch/>
        </p:blipFill>
        <p:spPr>
          <a:xfrm>
            <a:off x="1357200" y="364320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4" descr="книга омара х"/>
          <p:cNvPicPr/>
          <p:nvPr/>
        </p:nvPicPr>
        <p:blipFill>
          <a:blip r:embed="rId1"/>
          <a:stretch/>
        </p:blipFill>
        <p:spPr>
          <a:xfrm>
            <a:off x="3429000" y="428760"/>
            <a:ext cx="2286000" cy="28224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книга рубаи"/>
          <p:cNvPicPr/>
          <p:nvPr/>
        </p:nvPicPr>
        <p:blipFill>
          <a:blip r:embed="rId2"/>
          <a:stretch/>
        </p:blipFill>
        <p:spPr>
          <a:xfrm>
            <a:off x="6286680" y="0"/>
            <a:ext cx="2571480" cy="356400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книга хайяма"/>
          <p:cNvPicPr/>
          <p:nvPr/>
        </p:nvPicPr>
        <p:blipFill>
          <a:blip r:embed="rId3"/>
          <a:stretch/>
        </p:blipFill>
        <p:spPr>
          <a:xfrm>
            <a:off x="1000080" y="4357800"/>
            <a:ext cx="1785960" cy="22921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"/>
          <p:cNvPicPr/>
          <p:nvPr/>
        </p:nvPicPr>
        <p:blipFill>
          <a:blip r:embed="rId4"/>
          <a:stretch/>
        </p:blipFill>
        <p:spPr>
          <a:xfrm>
            <a:off x="5857920" y="3500280"/>
            <a:ext cx="2928960" cy="3357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"/>
          <p:cNvPicPr/>
          <p:nvPr/>
        </p:nvPicPr>
        <p:blipFill>
          <a:blip r:embed="rId5"/>
          <a:stretch/>
        </p:blipFill>
        <p:spPr>
          <a:xfrm>
            <a:off x="357120" y="0"/>
            <a:ext cx="2930760" cy="428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3" descr=""/>
          <p:cNvPicPr/>
          <p:nvPr/>
        </p:nvPicPr>
        <p:blipFill>
          <a:blip r:embed="rId6"/>
          <a:stretch/>
        </p:blipFill>
        <p:spPr>
          <a:xfrm>
            <a:off x="3286080" y="3786120"/>
            <a:ext cx="2000160" cy="288468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d6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45" name="Схема 5" descr=""/>
          <p:cNvPicPr/>
          <p:nvPr/>
        </p:nvPicPr>
        <p:blipFill>
          <a:blip r:embed="rId1"/>
          <a:stretch/>
        </p:blipFill>
        <p:spPr>
          <a:xfrm>
            <a:off x="341280" y="281160"/>
            <a:ext cx="8454960" cy="6411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 txBox="1"/>
          <p:nvPr/>
        </p:nvSpPr>
        <p:spPr>
          <a:xfrm>
            <a:off x="856440" y="856440"/>
            <a:ext cx="7759080" cy="97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6666"/>
                </a:solidFill>
                <a:latin typeface="Arial"/>
                <a:ea typeface="Arial"/>
              </a:rPr>
              <a:t>Душанбе, Таджикистан.</a:t>
            </a:r>
            <a:br>
              <a:rPr sz="2000"/>
            </a:br>
            <a:r>
              <a:rPr b="1" lang="ru-RU" sz="2000" spc="-1" strike="noStrike">
                <a:solidFill>
                  <a:srgbClr val="006666"/>
                </a:solidFill>
                <a:latin typeface="Arial"/>
                <a:ea typeface="Arial"/>
              </a:rPr>
              <a:t>Пам’ятник Омару Хайаму  у дворі  готелю «Авесто»</a:t>
            </a:r>
            <a:br>
              <a:rPr sz="2000"/>
            </a:br>
            <a:endParaRPr b="1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9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358040" cy="42865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71560" y="952200"/>
            <a:ext cx="8012160" cy="358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66"/>
                </a:solidFill>
                <a:latin typeface="Arial"/>
              </a:rPr>
              <a:t>Омар Хайям – це поет, який славить бенкет життя, його чаша чарівна і сповнена людським розумом – перлинами мудрості всіх часів.</a:t>
            </a:r>
            <a:br>
              <a:rPr sz="2000"/>
            </a:br>
            <a:r>
              <a:rPr b="1" lang="uk-UA" sz="2000" spc="-1" strike="noStrike">
                <a:solidFill>
                  <a:srgbClr val="006666"/>
                </a:solidFill>
                <a:latin typeface="Arial"/>
              </a:rPr>
              <a:t>                                                                            </a:t>
            </a:r>
            <a:r>
              <a:rPr b="1" i="1" lang="uk-UA" sz="3200" spc="-1" strike="noStrike">
                <a:solidFill>
                  <a:srgbClr val="006666"/>
                </a:solidFill>
                <a:latin typeface="Arial"/>
              </a:rPr>
              <a:t>В. Державін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966600" y="1407960"/>
            <a:ext cx="2818080" cy="10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ОМАР</a:t>
            </a:r>
            <a:br>
              <a:rPr sz="2800"/>
            </a:b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ХАЙЯМ</a:t>
            </a:r>
            <a:br>
              <a:rPr sz="2800"/>
            </a:b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(1048 – 1131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3635280" y="3933360"/>
            <a:ext cx="5508720" cy="16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3" name="Picture 4" descr="поэт хайям"/>
          <p:cNvPicPr/>
          <p:nvPr/>
        </p:nvPicPr>
        <p:blipFill>
          <a:blip r:embed="rId1"/>
          <a:stretch/>
        </p:blipFill>
        <p:spPr>
          <a:xfrm>
            <a:off x="363528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006666"/>
                </a:solidFill>
                <a:latin typeface="Arial"/>
              </a:rPr>
              <a:t>ПОВНЕ ІМ</a:t>
            </a:r>
            <a:r>
              <a:rPr b="0" lang="en-US" sz="4800" spc="-1" strike="noStrike">
                <a:solidFill>
                  <a:srgbClr val="006666"/>
                </a:solidFill>
                <a:latin typeface="Arial"/>
                <a:ea typeface="Arial"/>
              </a:rPr>
              <a:t>‘</a:t>
            </a:r>
            <a:r>
              <a:rPr b="0" lang="uk-UA" sz="4800" spc="-1" strike="noStrike">
                <a:solidFill>
                  <a:srgbClr val="006666"/>
                </a:solidFill>
                <a:latin typeface="Arial"/>
                <a:ea typeface="Arial"/>
              </a:rPr>
              <a:t>Я ПОЕТА</a:t>
            </a:r>
            <a:endParaRPr b="1" lang="en-US" sz="4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66"/>
                </a:solidFill>
                <a:latin typeface="Arial"/>
              </a:rPr>
              <a:t>Гіяс-ад-Дін-Абу-аль-Фахі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3366"/>
                </a:solidFill>
                <a:latin typeface="Arial"/>
              </a:rPr>
              <a:t>         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</a:rPr>
              <a:t>імена предків-дідусів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66"/>
                </a:solidFill>
                <a:latin typeface="Arial"/>
                <a:ea typeface="Arial"/>
              </a:rPr>
              <a:t>Омар  ібн Ібрагім  Хайям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ім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‘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я поет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  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ім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‘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я батька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                 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прізвище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66"/>
                </a:solidFill>
                <a:latin typeface="Arial"/>
                <a:ea typeface="Arial"/>
              </a:rPr>
              <a:t>Нішапурі</a:t>
            </a:r>
            <a:r>
              <a:rPr b="1" lang="uk-UA" sz="3600" spc="-1" strike="noStrike">
                <a:solidFill>
                  <a:srgbClr val="003366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(</a:t>
            </a:r>
            <a:r>
              <a:rPr b="1" i="1" lang="uk-UA" sz="1800" spc="-1" strike="noStrike">
                <a:solidFill>
                  <a:srgbClr val="003366"/>
                </a:solidFill>
                <a:latin typeface="Arial"/>
                <a:ea typeface="Arial"/>
              </a:rPr>
              <a:t>місто народження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4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6666"/>
                </a:solidFill>
                <a:latin typeface="Arial"/>
              </a:rPr>
              <a:t>БІОГРАФІЧНА ДОВІД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62550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ІМ</a:t>
            </a:r>
            <a:r>
              <a:rPr b="0" lang="uk-UA" sz="1800" spc="-1" strike="noStrike">
                <a:solidFill>
                  <a:srgbClr val="003366"/>
                </a:solidFill>
                <a:latin typeface="Symbol"/>
                <a:ea typeface="Symbol"/>
              </a:rPr>
              <a:t></a:t>
            </a: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Я ПРИ НАРОДЖЕНН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Омар Хайям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АТА НАРОДЖЕННЯ:  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18 травня 1048 рок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МІСЦЕ НАРОДЖЕННЯ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Нішапур (сучасний Іран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ДАТА СМЕРТ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4 грудня 1131 року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МІСЦЕ СМЕРТ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Нішапур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АЦІОНАЛЬНІСТЬ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перс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МОВА ТВОРІВ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фарсі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РІД ДІЯЛЬНОСТІ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поет, астроном, математик,    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                                  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філософ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НАПРЯМОК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поезія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3366"/>
                </a:solidFill>
                <a:latin typeface="Arial"/>
              </a:rPr>
              <a:t>ЖАНР: </a:t>
            </a:r>
            <a:r>
              <a:rPr b="1" lang="uk-UA" sz="1800" spc="-1" strike="noStrike">
                <a:solidFill>
                  <a:srgbClr val="003366"/>
                </a:solidFill>
                <a:latin typeface="Arial"/>
              </a:rPr>
              <a:t>рубаї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28" name="Picture 9" descr="х"/>
          <p:cNvPicPr/>
          <p:nvPr/>
        </p:nvPicPr>
        <p:blipFill>
          <a:blip r:embed="rId1"/>
          <a:stretch/>
        </p:blipFill>
        <p:spPr>
          <a:xfrm>
            <a:off x="6877080" y="2276640"/>
            <a:ext cx="2266920" cy="345744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826920" y="234936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Якби мені до рук скрижалі Долі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Я розписав би їх по власній волі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Із світу вигнав би всі смутки, болі,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Чолом небес досяг, не жив би            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                                                  </a:t>
            </a: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долі!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6666"/>
                </a:solidFill>
                <a:latin typeface="Arial"/>
              </a:rPr>
              <a:t>                                     </a:t>
            </a:r>
            <a:r>
              <a:rPr b="0" lang="uk-UA" sz="3200" spc="-1" strike="noStrike">
                <a:solidFill>
                  <a:srgbClr val="006666"/>
                </a:solidFill>
                <a:latin typeface="Arial"/>
              </a:rPr>
              <a:t>ОМАР ХАЙЯМ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639000" y="433080"/>
            <a:ext cx="7947720" cy="137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3300"/>
                </a:solidFill>
                <a:latin typeface="Arial"/>
              </a:rPr>
              <a:t>перелік почесних титулів </a:t>
            </a:r>
            <a:r>
              <a:rPr b="1" lang="uk-UA" sz="40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uk-UA" sz="4000" spc="-1" strike="noStrike">
                <a:solidFill>
                  <a:srgbClr val="003300"/>
                </a:solidFill>
                <a:latin typeface="Arial"/>
              </a:rPr>
              <a:t>ОМАРА ХАЙЯМА :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Вчений муж століття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Доказ істини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Знавець грецької науки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«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</a:rPr>
              <a:t>Цар філософів Сходу і Заходу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  <a:ea typeface="Arial"/>
              </a:rPr>
              <a:t>»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;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 </a:t>
            </a:r>
            <a:r>
              <a:rPr b="1" lang="uk-UA" sz="3200" spc="-1" strike="noStrike">
                <a:solidFill>
                  <a:srgbClr val="003366"/>
                </a:solidFill>
                <a:latin typeface="Arial"/>
                <a:ea typeface="Arial"/>
              </a:rPr>
              <a:t>ІМАМ (духовний вождь)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advTm="7000">
    <p:fade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4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4" descr="рубайят"/>
          <p:cNvPicPr/>
          <p:nvPr/>
        </p:nvPicPr>
        <p:blipFill>
          <a:blip r:embed="rId1"/>
          <a:stretch/>
        </p:blipFill>
        <p:spPr>
          <a:xfrm>
            <a:off x="6072120" y="2428920"/>
            <a:ext cx="2857680" cy="426708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5" descr="перс хайям"/>
          <p:cNvPicPr/>
          <p:nvPr/>
        </p:nvPicPr>
        <p:blipFill>
          <a:blip r:embed="rId2"/>
          <a:stretch/>
        </p:blipFill>
        <p:spPr>
          <a:xfrm>
            <a:off x="3071880" y="2143080"/>
            <a:ext cx="2663640" cy="4249800"/>
          </a:xfrm>
          <a:prstGeom prst="rect">
            <a:avLst/>
          </a:prstGeom>
          <a:ln w="0">
            <a:noFill/>
          </a:ln>
        </p:spPr>
      </p:pic>
      <p:sp>
        <p:nvSpPr>
          <p:cNvPr id="334" name="Text Box 7"/>
          <p:cNvSpPr/>
          <p:nvPr/>
        </p:nvSpPr>
        <p:spPr>
          <a:xfrm>
            <a:off x="1928880" y="981000"/>
            <a:ext cx="624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3366"/>
                </a:solidFill>
                <a:latin typeface="Arial"/>
              </a:rPr>
              <a:t>КНИЖКОВА ВИСТАВКА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335" name="Picture 2" descr=""/>
          <p:cNvPicPr/>
          <p:nvPr/>
        </p:nvPicPr>
        <p:blipFill>
          <a:blip r:embed="rId3"/>
          <a:stretch/>
        </p:blipFill>
        <p:spPr>
          <a:xfrm>
            <a:off x="7429680" y="0"/>
            <a:ext cx="1714320" cy="23558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3" descr=""/>
          <p:cNvPicPr/>
          <p:nvPr/>
        </p:nvPicPr>
        <p:blipFill>
          <a:blip r:embed="rId4"/>
          <a:stretch/>
        </p:blipFill>
        <p:spPr>
          <a:xfrm>
            <a:off x="0" y="0"/>
            <a:ext cx="1905120" cy="28576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Омар Хайям"/>
          <p:cNvPicPr/>
          <p:nvPr/>
        </p:nvPicPr>
        <p:blipFill>
          <a:blip r:embed="rId5"/>
          <a:stretch/>
        </p:blipFill>
        <p:spPr>
          <a:xfrm>
            <a:off x="214200" y="2681280"/>
            <a:ext cx="2332080" cy="4176720"/>
          </a:xfrm>
          <a:prstGeom prst="rect">
            <a:avLst/>
          </a:prstGeom>
          <a:ln w="0">
            <a:noFill/>
          </a:ln>
        </p:spPr>
      </p:pic>
    </p:spTree>
  </p:cSld>
  <p:transition advTm="7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8T11:07:50Z</dcterms:created>
  <dc:creator>11111</dc:creator>
  <dc:description/>
  <dc:language>en-US</dc:language>
  <cp:lastModifiedBy>Admin</cp:lastModifiedBy>
  <dcterms:modified xsi:type="dcterms:W3CDTF">2011-01-07T15:48:38Z</dcterms:modified>
  <cp:revision>46</cp:revision>
  <dc:subject/>
  <dc:title>ОМАР ХАЙЯМ (1048 – 1131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