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0854-E060-4899-9B30-D1D085D4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D95F-E769-4D9D-A7AD-6979D0B1D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55CD-C7FB-4621-8A0C-BAA54AF1B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C82C-A53B-47CC-8488-3FB9F955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4EB7-6E90-40FC-9855-77CA2187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081F-CCAA-423D-86BE-4C0F5E6F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9620-177E-4E10-9A25-D8BBC233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5C3A-BE6D-4032-9BEB-173757FA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8B95-46DB-4EFB-A4A2-E6E36368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8668-D4E8-46F0-94EB-E569D1090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C4BB-A876-4E00-A12E-53E3E767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4516-12BB-4BAF-86C9-BFB0A7CE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C37B-9562-43CA-AC7E-9C76FB94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0999-293E-4306-B304-53AC637F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0F49-FD9D-4E14-B7A3-39EE0F31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5FE1-B51A-44DB-A0D8-EF6BF56C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524B-687A-4C8F-BA56-6C70EC83C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9DF80-DE10-4ADC-84B5-D0135151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D9C49-4A8F-4F56-92A9-38C4642FE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586DC-0B5F-4780-8D07-7BA4B385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6CFBD-A1B1-4D66-8AB9-06F0CEDF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041E7-DF46-4F39-BA3D-12C68CDF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5CD0-4BA8-4FB5-B08E-97020C4F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A6C52-97C5-4725-BD9A-CBC3AC9F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5FF9A-83E5-4A62-8949-89F71B2C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21B31-A1AE-4FD3-AAAA-424D021C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65535-306E-409B-B954-1CC62CCE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0F40B-5D32-484F-BD29-057D6084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4D444-95FB-45BC-887E-FDBE0FFC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6B5BE-78CD-43F8-97D2-87585993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1B021-B1C5-44D0-8377-0220811D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3FBE8-8E9D-45A0-978E-A1D00EED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4CD59-3FCE-4D82-80D4-D7C33AE4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9789-B3EE-40D8-AEED-2E4E7558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52F4F-1743-4F68-958A-2E0843F5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D476A-F421-4AF6-9C6B-8D23D03D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089F6-EAA6-44B1-81BD-34360BD1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3ED2B-F957-497A-8C23-A3AFE3CC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317ED-CB43-4198-9E52-F0C3E7FE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3E398-C404-4D1E-BB41-D26621D0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8E3A4-7C72-4014-B27B-CD6C65AB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3FC07-7084-4105-AADE-DAFD1EF6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8AD29-66EC-43DD-8138-6DA7B026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188E0-51F7-4A61-8EDA-310146A46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D7C6-2E2E-4384-887F-0819138C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F75F4-2E31-4030-82A8-96F9D2963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19828-9BD6-49C7-A302-A0ACB4E8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EFCFF-80D3-4879-AC05-364C7460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2F0BB-91A8-41D5-823E-E455BDD2F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56D46-D1EC-4961-8C89-EC00DCB2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5C136-94D5-413B-9193-29CE15B8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A8B50C-25DE-4FF7-9F7B-3F84D3B6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83E56-664B-4A05-B830-98E6BF3D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166B5-05F4-493F-8501-E309C180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A4F4C-A0BD-47E9-B8C3-8608DA76A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1F0E-1F23-4DC2-855C-5879BE25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E2408-7036-4F7B-93C1-9889501D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AE619-223D-4DC3-A55B-84E9C02E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405918-56C6-4045-BE3B-0E100B55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BC5EF-AB92-40B6-B466-841FA22C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BFA77B-C39E-4B5A-8F15-607005E7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CC7FC-299E-44D4-814F-6F33A159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EE330-04CE-40C9-ADC2-8349796B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EEB79-5FBF-4259-878A-45533B2B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CADC2-F706-418B-9D28-86890FCD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DE527-1839-42A1-9A6F-6CDE21AB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9F52-DF9B-431A-8826-4BD67892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60E97-23AA-429D-BFE8-3EF4520A2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07D9B-ECC9-4033-B859-3A61996A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15BEC-0613-4C71-8D8D-348CC6FD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DDC58-1106-4A8A-9EE9-D3CBD83BA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A8A9A-7805-4A8B-9FED-9B78C5A3C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14462-870A-4017-8CD9-FD003B62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677A1-8AF1-4312-A1FE-9A688217D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2B44C-5D91-4808-ACD5-80DFF1B5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A68F39-FCE7-48DF-8F22-72D214F5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4C83F-3B7D-41EB-BF4A-3DC41E76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840F-0361-4455-950D-C31E94AE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D32E3-C232-41B7-A545-C0DB12AB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1CF08-DA07-4541-A17F-D533BFF2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62E024-DD4C-4719-9F73-D0E02219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20B53-C9C8-45FF-A04D-6CC414EC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4ED956-DACC-4135-B557-D6BEBFAD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383E-EE12-4209-85AF-D7C626CA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109D-98D0-4667-816E-8F9DC051CA9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0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FC1E-27D1-40AE-84FB-231706A011CB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B9176-7366-48E3-9A9D-87CD587DB626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1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142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09AD-E737-4F2F-A170-7CE8980D1A58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8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60B0-ADD2-4058-8A89-BE41CB89FD1C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2A16-503B-4F8A-AFA3-C72EF8E0C63C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CF89-543D-4EFC-B0D9-3D032433FAD8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5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989640" y="908640"/>
            <a:ext cx="808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6666"/>
                </a:solidFill>
                <a:latin typeface="Arial"/>
              </a:rPr>
              <a:t>ОМАР ХАЙЯМ -</a:t>
            </a:r>
            <a:r>
              <a:rPr b="1" lang="uk-UA" sz="5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84000" y="2708280"/>
            <a:ext cx="84596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3300"/>
                </a:solidFill>
                <a:latin typeface="Arial"/>
              </a:rPr>
              <a:t>ПЕРСЬКО-ТАДЖИЦЬКИЙ ПОЕТ І ВЧЕНИЙ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1357200" y="36432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книга омара х"/>
          <p:cNvPicPr/>
          <p:nvPr/>
        </p:nvPicPr>
        <p:blipFill>
          <a:blip r:embed="rId1"/>
          <a:stretch/>
        </p:blipFill>
        <p:spPr>
          <a:xfrm>
            <a:off x="3429000" y="428760"/>
            <a:ext cx="2286000" cy="2822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книга рубаи"/>
          <p:cNvPicPr/>
          <p:nvPr/>
        </p:nvPicPr>
        <p:blipFill>
          <a:blip r:embed="rId2"/>
          <a:stretch/>
        </p:blipFill>
        <p:spPr>
          <a:xfrm>
            <a:off x="6286680" y="0"/>
            <a:ext cx="2571480" cy="3564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книга хайяма"/>
          <p:cNvPicPr/>
          <p:nvPr/>
        </p:nvPicPr>
        <p:blipFill>
          <a:blip r:embed="rId3"/>
          <a:stretch/>
        </p:blipFill>
        <p:spPr>
          <a:xfrm>
            <a:off x="1000080" y="4357800"/>
            <a:ext cx="1785960" cy="22921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"/>
          <p:cNvPicPr/>
          <p:nvPr/>
        </p:nvPicPr>
        <p:blipFill>
          <a:blip r:embed="rId4"/>
          <a:stretch/>
        </p:blipFill>
        <p:spPr>
          <a:xfrm>
            <a:off x="5857920" y="3500280"/>
            <a:ext cx="2928960" cy="3357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"/>
          <p:cNvPicPr/>
          <p:nvPr/>
        </p:nvPicPr>
        <p:blipFill>
          <a:blip r:embed="rId5"/>
          <a:stretch/>
        </p:blipFill>
        <p:spPr>
          <a:xfrm>
            <a:off x="357120" y="0"/>
            <a:ext cx="2930760" cy="428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"/>
          <p:cNvPicPr/>
          <p:nvPr/>
        </p:nvPicPr>
        <p:blipFill>
          <a:blip r:embed="rId6"/>
          <a:stretch/>
        </p:blipFill>
        <p:spPr>
          <a:xfrm>
            <a:off x="3286080" y="3786120"/>
            <a:ext cx="2000160" cy="28846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5" name="Схема 5" descr=""/>
          <p:cNvPicPr/>
          <p:nvPr/>
        </p:nvPicPr>
        <p:blipFill>
          <a:blip r:embed="rId1"/>
          <a:stretch/>
        </p:blipFill>
        <p:spPr>
          <a:xfrm>
            <a:off x="341280" y="281160"/>
            <a:ext cx="8454960" cy="641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856440" y="856440"/>
            <a:ext cx="7759080" cy="97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  <a:ea typeface="Arial"/>
              </a:rPr>
              <a:t>Душанбе, Таджикистан.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  <a:ea typeface="Arial"/>
              </a:rPr>
              <a:t>Пам’ятник Омару Хайаму  у дворі  готелю «Авесто»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358040" cy="42865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71560" y="952200"/>
            <a:ext cx="8012160" cy="358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Омар Хайям – це поет, який славить бенкет життя, його чаша чарівна і сповнена людським розумом – перлинами мудрості всіх часів.</a:t>
            </a:r>
            <a:br>
              <a:rPr sz="2000"/>
            </a:b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uk-UA" sz="3200" spc="-1" strike="noStrike">
                <a:solidFill>
                  <a:srgbClr val="006666"/>
                </a:solidFill>
                <a:latin typeface="Arial"/>
              </a:rPr>
              <a:t>В. Державі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966600" y="1407960"/>
            <a:ext cx="2818080" cy="10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ОМАР</a:t>
            </a:r>
            <a:br>
              <a:rPr sz="2800"/>
            </a:b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ХАЙЯМ</a:t>
            </a:r>
            <a:br>
              <a:rPr sz="2800"/>
            </a:b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(1048 – 1131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3635280" y="3933360"/>
            <a:ext cx="5508720" cy="16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3" name="Picture 4" descr="поэт хайям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6666"/>
                </a:solidFill>
                <a:latin typeface="Arial"/>
              </a:rPr>
              <a:t>ПОВНЕ ІМ</a:t>
            </a:r>
            <a:r>
              <a:rPr b="0" lang="en-US" sz="4800" spc="-1" strike="noStrike">
                <a:solidFill>
                  <a:srgbClr val="006666"/>
                </a:solidFill>
                <a:latin typeface="Arial"/>
                <a:ea typeface="Arial"/>
              </a:rPr>
              <a:t>‘</a:t>
            </a:r>
            <a:r>
              <a:rPr b="0" lang="uk-UA" sz="4800" spc="-1" strike="noStrike">
                <a:solidFill>
                  <a:srgbClr val="006666"/>
                </a:solidFill>
                <a:latin typeface="Arial"/>
                <a:ea typeface="Arial"/>
              </a:rPr>
              <a:t>Я ПОЕТ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66"/>
                </a:solidFill>
                <a:latin typeface="Arial"/>
              </a:rPr>
              <a:t>Гіяс-ад-Дін-Абу-аль-Фахі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</a:rPr>
              <a:t>імена предків-дідусів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66"/>
                </a:solidFill>
                <a:latin typeface="Arial"/>
                <a:ea typeface="Arial"/>
              </a:rPr>
              <a:t>Омар  ібн Ібрагім  Хайям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ім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‘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я поет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     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ім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‘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я батьк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             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прізвищ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66"/>
                </a:solidFill>
                <a:latin typeface="Arial"/>
                <a:ea typeface="Arial"/>
              </a:rPr>
              <a:t>Нішапурі</a:t>
            </a:r>
            <a:r>
              <a:rPr b="1" lang="uk-UA" sz="36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місто народження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БІОГРАФІЧНА ДОВІД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62550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ІМ</a:t>
            </a:r>
            <a:r>
              <a:rPr b="0" lang="uk-UA" sz="1800" spc="-1" strike="noStrike">
                <a:solidFill>
                  <a:srgbClr val="003366"/>
                </a:solidFill>
                <a:latin typeface="Symbol"/>
                <a:ea typeface="Symbol"/>
              </a:rPr>
              <a:t>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Я ПРИ НАРОДЖЕННІ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Омар Хайя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ДАТА НАРОДЖЕННЯ:  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18 травня 1048 рок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МІСЦЕ НАРОДЖЕННЯ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Нішапур (сучасний Іран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ДАТА СМЕРТІ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4 грудня 1131 рок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МІСЦЕ СМЕРТІ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Нішапу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НАЦІОНАЛЬНІСТЬ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пер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МОВА ТВОРІВ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фарс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РІД ДІЯЛЬНОСТІ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поет, астроном, математик,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філософ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НАПРЯМОК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поезі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ЖАНР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руба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8" name="Picture 9" descr="х"/>
          <p:cNvPicPr/>
          <p:nvPr/>
        </p:nvPicPr>
        <p:blipFill>
          <a:blip r:embed="rId1"/>
          <a:stretch/>
        </p:blipFill>
        <p:spPr>
          <a:xfrm>
            <a:off x="6877080" y="2276640"/>
            <a:ext cx="2266920" cy="345744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Якби мені до рук скрижалі Долі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Я розписав би їх по власній волі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Із світу вигнав би всі смутки, болі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Чолом небес досяг, не жив би           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                                                  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долі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                                   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ОМАР ХАЙЯМ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639000" y="433080"/>
            <a:ext cx="7947720" cy="137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3300"/>
                </a:solidFill>
                <a:latin typeface="Arial"/>
              </a:rPr>
              <a:t>перелік почесних титулів </a:t>
            </a: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3300"/>
                </a:solidFill>
                <a:latin typeface="Arial"/>
              </a:rPr>
              <a:t>ОМАРА ХАЙЯМА 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«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Вчений муж століття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«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Доказ істини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«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Знавець грецької науки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«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Цар філософів Сходу і Заходу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ІМАМ (духовний вождь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рубайят"/>
          <p:cNvPicPr/>
          <p:nvPr/>
        </p:nvPicPr>
        <p:blipFill>
          <a:blip r:embed="rId1"/>
          <a:stretch/>
        </p:blipFill>
        <p:spPr>
          <a:xfrm>
            <a:off x="6072120" y="2428920"/>
            <a:ext cx="2857680" cy="42670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перс хайям"/>
          <p:cNvPicPr/>
          <p:nvPr/>
        </p:nvPicPr>
        <p:blipFill>
          <a:blip r:embed="rId2"/>
          <a:stretch/>
        </p:blipFill>
        <p:spPr>
          <a:xfrm>
            <a:off x="3071880" y="2143080"/>
            <a:ext cx="2663640" cy="42498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1928880" y="981000"/>
            <a:ext cx="62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66"/>
                </a:solidFill>
                <a:latin typeface="Arial"/>
              </a:rPr>
              <a:t>КНИЖКОВА ВИСТАВКА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3"/>
          <a:stretch/>
        </p:blipFill>
        <p:spPr>
          <a:xfrm>
            <a:off x="7429680" y="0"/>
            <a:ext cx="1714320" cy="23558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1905120" cy="2857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Омар Хайям"/>
          <p:cNvPicPr/>
          <p:nvPr/>
        </p:nvPicPr>
        <p:blipFill>
          <a:blip r:embed="rId5"/>
          <a:stretch/>
        </p:blipFill>
        <p:spPr>
          <a:xfrm>
            <a:off x="214200" y="2681280"/>
            <a:ext cx="2332080" cy="41767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1:07:50Z</dcterms:created>
  <dc:creator>11111</dc:creator>
  <dc:description/>
  <dc:language>en-US</dc:language>
  <cp:lastModifiedBy>Admin</cp:lastModifiedBy>
  <dcterms:modified xsi:type="dcterms:W3CDTF">2011-01-07T15:48:38Z</dcterms:modified>
  <cp:revision>46</cp:revision>
  <dc:subject/>
  <dc:title>ОМАР ХАЙЯМ (1048 – 1131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