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DA4B-A51E-4650-915C-A350BBD73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E88F-3535-4F0A-9C49-1EBF88E2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023C-8BC9-4A42-9AB6-BFF3A2EEF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29C5-C2A3-4BA7-95A9-1CF4AD18C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4185-12FA-4804-9D28-3F45E557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0318-3D38-4987-8A01-834DB4A2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1762-ED29-4EF2-9E9F-BD0CF979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6D24-9E84-4BA7-8FA0-6D5782B9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4457-E536-4D9A-BB62-D1E20353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AE06-5CA4-4DA4-969A-FA7AA3F6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9E8A-7428-4229-9055-5C3B76B6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CD90-9B52-4954-A77E-7D2F008C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23F3-4888-44C9-85C5-EDF9BFF2D0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Заставка_Вин"/>
          <p:cNvPicPr/>
          <p:nvPr/>
        </p:nvPicPr>
        <p:blipFill>
          <a:blip r:embed="rId1"/>
          <a:stretch/>
        </p:blipFill>
        <p:spPr>
          <a:xfrm>
            <a:off x="0" y="0"/>
            <a:ext cx="2484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808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0000"/>
                </a:solidFill>
                <a:latin typeface="Monotype Corsiva"/>
              </a:rPr>
              <a:t>Словосполучення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771640" y="3860280"/>
            <a:ext cx="6120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Monotype Corsiva"/>
              </a:rPr>
              <a:t>Освіта – скарб;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Monotype Corsiva"/>
              </a:rPr>
              <a:t>праця – ключ до ньог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П.Буас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268000" y="512640"/>
            <a:ext cx="33116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. Вкажіть словосполученн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а) За рого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б) буду писа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в) дружна родин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г) дорослі й ді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. Укажіть поширене словосполученн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а) Жити в дерев'яному будинк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б) рання весн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в) цікава книг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г) борщ з буряк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Знайдіть з-поміж сполучень слів не словосполученн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а) Сильний дощ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б) читати газет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в) миття посуд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г) повіяв віте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435640" y="404280"/>
            <a:ext cx="35352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Складіть словосполучення за поданими схем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Яка?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Коли?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000"/>
            </a:b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З наведених пар слів утворіть словосполучення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Жити, Україн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книга, Катерина Іванів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. Випишіть з речення всі словосполученн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У тихій воді було видно синє глибоке неб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Заставка_Вин"/>
          <p:cNvPicPr/>
          <p:nvPr/>
        </p:nvPicPr>
        <p:blipFill>
          <a:blip r:embed="rId1"/>
          <a:stretch/>
        </p:blipFill>
        <p:spPr>
          <a:xfrm>
            <a:off x="0" y="0"/>
            <a:ext cx="24843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7" name="Группа 5"/>
          <p:cNvGrpSpPr/>
          <p:nvPr/>
        </p:nvGrpSpPr>
        <p:grpSpPr>
          <a:xfrm>
            <a:off x="5651640" y="1268280"/>
            <a:ext cx="1171440" cy="371520"/>
            <a:chOff x="5651640" y="1268280"/>
            <a:chExt cx="1171440" cy="371520"/>
          </a:xfrm>
        </p:grpSpPr>
        <p:sp>
          <p:nvSpPr>
            <p:cNvPr id="48" name="Овал 6"/>
            <p:cNvSpPr/>
            <p:nvPr/>
          </p:nvSpPr>
          <p:spPr>
            <a:xfrm>
              <a:off x="5651640" y="1373040"/>
              <a:ext cx="276120" cy="2667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Овал 7"/>
            <p:cNvSpPr/>
            <p:nvPr/>
          </p:nvSpPr>
          <p:spPr>
            <a:xfrm>
              <a:off x="6546960" y="1373040"/>
              <a:ext cx="276120" cy="2667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Умножение 8"/>
            <p:cNvSpPr/>
            <p:nvPr/>
          </p:nvSpPr>
          <p:spPr>
            <a:xfrm>
              <a:off x="6546960" y="1373040"/>
              <a:ext cx="228600" cy="26676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" name="Группа 9"/>
            <p:cNvGrpSpPr/>
            <p:nvPr/>
          </p:nvGrpSpPr>
          <p:grpSpPr>
            <a:xfrm>
              <a:off x="5803560" y="1268280"/>
              <a:ext cx="886320" cy="209880"/>
              <a:chOff x="5803560" y="1268280"/>
              <a:chExt cx="886320" cy="209880"/>
            </a:xfrm>
          </p:grpSpPr>
          <p:sp>
            <p:nvSpPr>
              <p:cNvPr id="52" name="Прямая соединительная линия 10"/>
              <p:cNvSpPr/>
              <p:nvPr/>
            </p:nvSpPr>
            <p:spPr>
              <a:xfrm flipV="1">
                <a:off x="6689880" y="1268280"/>
                <a:ext cx="0" cy="209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Прямая соединительная линия 11"/>
              <p:cNvSpPr/>
              <p:nvPr/>
            </p:nvSpPr>
            <p:spPr>
              <a:xfrm flipH="1">
                <a:off x="5803560" y="1268280"/>
                <a:ext cx="885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54" name="Прямая со стрелкой 12"/>
              <p:cNvCxnSpPr/>
              <p:nvPr/>
            </p:nvCxnSpPr>
            <p:spPr>
              <a:xfrm>
                <a:off x="5803560" y="1268280"/>
                <a:ext cx="1080" cy="21024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55" name="Группа 13"/>
          <p:cNvGrpSpPr/>
          <p:nvPr/>
        </p:nvGrpSpPr>
        <p:grpSpPr>
          <a:xfrm>
            <a:off x="7451640" y="1292400"/>
            <a:ext cx="1171800" cy="371160"/>
            <a:chOff x="7451640" y="1292400"/>
            <a:chExt cx="1171800" cy="371160"/>
          </a:xfrm>
        </p:grpSpPr>
        <p:sp>
          <p:nvSpPr>
            <p:cNvPr id="56" name="Овал 14"/>
            <p:cNvSpPr/>
            <p:nvPr/>
          </p:nvSpPr>
          <p:spPr>
            <a:xfrm>
              <a:off x="7451640" y="1397160"/>
              <a:ext cx="276120" cy="266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Овал 15"/>
            <p:cNvSpPr/>
            <p:nvPr/>
          </p:nvSpPr>
          <p:spPr>
            <a:xfrm>
              <a:off x="8347320" y="1397160"/>
              <a:ext cx="276120" cy="266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Умножение 16"/>
            <p:cNvSpPr/>
            <p:nvPr/>
          </p:nvSpPr>
          <p:spPr>
            <a:xfrm>
              <a:off x="8347320" y="1397160"/>
              <a:ext cx="228600" cy="26640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" name="Группа 17"/>
            <p:cNvGrpSpPr/>
            <p:nvPr/>
          </p:nvGrpSpPr>
          <p:grpSpPr>
            <a:xfrm>
              <a:off x="7603560" y="1292400"/>
              <a:ext cx="886320" cy="209880"/>
              <a:chOff x="7603560" y="1292400"/>
              <a:chExt cx="886320" cy="209880"/>
            </a:xfrm>
          </p:grpSpPr>
          <p:sp>
            <p:nvSpPr>
              <p:cNvPr id="60" name="Прямая соединительная линия 18"/>
              <p:cNvSpPr/>
              <p:nvPr/>
            </p:nvSpPr>
            <p:spPr>
              <a:xfrm flipV="1">
                <a:off x="8489880" y="1292400"/>
                <a:ext cx="0" cy="209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Прямая соединительная линия 19"/>
              <p:cNvSpPr/>
              <p:nvPr/>
            </p:nvSpPr>
            <p:spPr>
              <a:xfrm flipH="1">
                <a:off x="7603560" y="1292400"/>
                <a:ext cx="885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62" name="Прямая со стрелкой 20"/>
              <p:cNvCxnSpPr/>
              <p:nvPr/>
            </p:nvCxnSpPr>
            <p:spPr>
              <a:xfrm>
                <a:off x="7603560" y="1292400"/>
                <a:ext cx="1080" cy="21024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411280" y="189000"/>
            <a:ext cx="6553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Покликання – це маленький паросток таланту. Без любові до праці цей маленький паросток може засохнути на пні. Знайти своє покликання – це і є джерело щаст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Подобається людині те, у що вона вклала частинку власної душі. </a:t>
            </a:r>
            <a:r>
              <a:rPr b="0" lang="uk-UA" sz="3000" spc="-1" strike="noStrike" u="sng">
                <a:solidFill>
                  <a:srgbClr val="000000"/>
                </a:solidFill>
                <a:uFillTx/>
                <a:latin typeface="Calibri"/>
              </a:rPr>
              <a:t>Не гребуй найпростішою, «брудною» працею (працю) – з неї починається творчість (творчості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000" spc="-1" strike="noStrike" u="sng">
                <a:solidFill>
                  <a:srgbClr val="000000"/>
                </a:solidFill>
                <a:uFillTx/>
                <a:latin typeface="Calibri"/>
              </a:rPr>
              <a:t>Праця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 і Людина,  </a:t>
            </a:r>
            <a:r>
              <a:rPr b="0" lang="uk-UA" sz="3000" spc="-1" strike="noStrike" u="sng">
                <a:solidFill>
                  <a:srgbClr val="000000"/>
                </a:solidFill>
                <a:uFillTx/>
                <a:latin typeface="Calibri"/>
              </a:rPr>
              <a:t>Людина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 і Праця – ось мати і батько всіх істин. Любов до праці не витягнеш із кишені і не вкладеш в руки маленькій людині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Це </a:t>
            </a:r>
            <a:r>
              <a:rPr b="0" lang="uk-UA" sz="3000" spc="-1" strike="noStrike" u="sng">
                <a:solidFill>
                  <a:srgbClr val="000000"/>
                </a:solidFill>
                <a:uFillTx/>
                <a:latin typeface="Calibri"/>
              </a:rPr>
              <a:t>скарб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, який треба добувати працею і тільки працею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Заставка_Вин"/>
          <p:cNvPicPr/>
          <p:nvPr/>
        </p:nvPicPr>
        <p:blipFill>
          <a:blip r:embed="rId1"/>
          <a:stretch/>
        </p:blipFill>
        <p:spPr>
          <a:xfrm>
            <a:off x="0" y="0"/>
            <a:ext cx="248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95280" y="-360"/>
            <a:ext cx="69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68000" y="1773360"/>
            <a:ext cx="6875640" cy="2735280"/>
          </a:xfrm>
          <a:prstGeom prst="rect">
            <a:avLst/>
          </a:prstGeom>
          <a:solidFill>
            <a:srgbClr val="ff0000"/>
          </a:solidFill>
          <a:ln w="25560">
            <a:solidFill>
              <a:srgbClr val="f79646"/>
            </a:solidFill>
            <a:miter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на + Праця = Скар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Заставка_Вин"/>
          <p:cNvPicPr/>
          <p:nvPr/>
        </p:nvPicPr>
        <p:blipFill>
          <a:blip r:embed="rId1"/>
          <a:stretch/>
        </p:blipFill>
        <p:spPr>
          <a:xfrm>
            <a:off x="0" y="0"/>
            <a:ext cx="248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Заставка_Вин"/>
          <p:cNvPicPr/>
          <p:nvPr/>
        </p:nvPicPr>
        <p:blipFill>
          <a:blip r:embed="rId1"/>
          <a:stretch/>
        </p:blipFill>
        <p:spPr>
          <a:xfrm>
            <a:off x="0" y="0"/>
            <a:ext cx="248436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Порад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339640" y="134136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Monotype Corsiva"/>
              </a:rPr>
              <a:t>Уранці, коли прокинувся, спитай себе: «Що я маю зробити?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Monotype Corsiva"/>
              </a:rPr>
              <a:t>Увечері, перш ніж заснути, спитай себе: «Що я зробив?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1:58:17Z</dcterms:created>
  <dc:creator>User</dc:creator>
  <dc:description/>
  <dc:language>en-US</dc:language>
  <cp:lastModifiedBy>МАН</cp:lastModifiedBy>
  <dcterms:modified xsi:type="dcterms:W3CDTF">2013-04-10T11:29:36Z</dcterms:modified>
  <cp:revision>7</cp:revision>
  <dc:subject/>
  <dc:title>Морфологічна будова слова. Творення слів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809000000000001024140</vt:lpwstr>
  </property>
</Properties>
</file>