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png" ContentType="image/png"/>
  <Override PartName="/ppt/media/image9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15480" y="754200"/>
            <a:ext cx="496260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24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D2151B76-5DF2-4DEE-842D-6D8C707C0BD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B3CDD23D-05E6-43F0-8976-0D848714CF8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B5D49536-17F7-409C-BE34-76F7F9C90D0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1850B72D-E916-48C5-92F0-A4BC5445121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89000"/>
                <a:tab algn="l" pos="265284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CA317ED5-D64E-437A-BDBD-A50C222917F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8A1-0CE6-4804-9360-54FF3950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D41-24F0-439E-BEDC-C571F8BD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947-29ED-4EBA-8A06-3975C2B5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EC8-E4BE-4549-BF89-DD379BF5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87A-1090-4F7F-BCEB-269079B8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AF4-ABE3-42CD-AD4B-ECDFC216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639-4BEA-47E6-AFBE-51EC5A55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549-42D0-45D8-93DC-C687EFEE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E1E-4F8F-4DAF-8EFB-41A1E951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DD4-1C96-4D96-9F4C-F41C2C2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CED-C3F6-4264-AE3C-93B7540C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0F8-BE46-4541-AB80-12866D0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29312-E462-4256-A9AA-EBF0A28904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лова, сполучення слів, які часто вживаємо неправи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едме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ця, помилка, затишно, завжд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тий, олень, дочка, дрова, бесі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ятель, верба, решето, солом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адцять, листоп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1564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51892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60000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03236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2764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83200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72728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7964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376000" y="2916360"/>
            <a:ext cx="7164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608000" y="2843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71640" y="2916360"/>
            <a:ext cx="7164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62472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079640" y="4140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526920" y="421164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76720" y="4211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769080" y="4140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584360" y="5435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92720" y="5435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13600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201080" y="1692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52360" y="610920"/>
            <a:ext cx="741528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ляхом технічного прогре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згадку про цю поді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пройшов через конкур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ступного тиж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рати уч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инив би так сам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чинним законодав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кли снігові кучуг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75528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Monotype Corsiva"/>
              </a:rPr>
              <a:t>Ми повинні оберігати рідну мову від засмічування. І як застерігає М. Рильський: “Не майте гніву до моїх порад,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Monotype Corsiva"/>
              </a:rPr>
              <a:t>і не лінуйтесь доглядать свій сад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16360" y="4140360"/>
            <a:ext cx="2311560" cy="2317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6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олодіжний сле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tangle 2" descr=""/>
          <p:cNvPicPr/>
          <p:nvPr/>
        </p:nvPicPr>
        <p:blipFill>
          <a:blip r:embed="rId2"/>
          <a:stretch/>
        </p:blipFill>
        <p:spPr>
          <a:xfrm>
            <a:off x="3240" y="974880"/>
            <a:ext cx="4637160" cy="5862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к говорять всі, і я буду говорити (18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ні однаково, як говорять (10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к легше спілкуватися, багато слів незрозумілі дорослим (13 учні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ленгові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машка – домашня роб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Жесть – ж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ет – І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боси – грош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 – комп'ю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уто – гар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біла – сотовий телеф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узон – муз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рєша – трену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чка - маш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іпчик – чолові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SzPct val="102805"/>
              <a:buBlip>
                <a:blip r:embed="rId1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рєш – 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8000"/>
                            </p:stCondLst>
                            <p:childTnLst>
                              <p:par>
                                <p:cTn id="6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5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9000"/>
                            </p:stCondLst>
                            <p:childTnLst>
                              <p:par>
                                <p:cTn id="6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9500"/>
                            </p:stCondLst>
                            <p:childTnLst>
                              <p:par>
                                <p:cTn id="6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ідредагуйте тек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 фітіль таке зморозив. Підкатує до шкета весь з таким шноб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й велік поганя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ів і почесав. А тут молекула. А він давай випендрюватися. Варежку раззявив. І як дерябнеться. Сам з фінгалом. Молекула ледве не з котушок, а велик гикнувся. Во ржач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8581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 хлопець таке учудив. Під'їжджає  до малюка такий поваж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й покататися на велосип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ів і поїхав. А тут дівчина. А він перед нею давай вихвалятися. Рота розкрив. І як впаде! Сам із синцем. Дівчина мало не знепритомніла, а велосипед зламав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е сміху бу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593640" y="324000"/>
            <a:ext cx="9486720" cy="6624360"/>
            <a:chOff x="593640" y="324000"/>
            <a:chExt cx="9486720" cy="6624360"/>
          </a:xfrm>
        </p:grpSpPr>
        <p:cxnSp>
          <p:nvCxnSpPr>
            <p:cNvPr id="139" name="_s34822"/>
            <p:cNvCxnSpPr>
              <a:stCxn id="140" idx="0"/>
              <a:endCxn id="141" idx="9"/>
            </p:cNvCxnSpPr>
            <p:nvPr/>
          </p:nvCxnSpPr>
          <p:spPr>
            <a:xfrm rot="10800000">
              <a:off x="3755160" y="984600"/>
              <a:ext cx="2034720" cy="5633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_s34823"/>
            <p:cNvCxnSpPr>
              <a:stCxn id="143" idx="0"/>
              <a:endCxn id="141" idx="8"/>
            </p:cNvCxnSpPr>
            <p:nvPr/>
          </p:nvCxnSpPr>
          <p:spPr>
            <a:xfrm flipV="1">
              <a:off x="3303000" y="984960"/>
              <a:ext cx="453600" cy="5633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_s34824"/>
            <p:cNvCxnSpPr>
              <a:stCxn id="145" idx="0"/>
              <a:endCxn id="141" idx="7"/>
            </p:cNvCxnSpPr>
            <p:nvPr/>
          </p:nvCxnSpPr>
          <p:spPr>
            <a:xfrm rot="10800000">
              <a:off x="3755160" y="984600"/>
              <a:ext cx="2034720" cy="463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" name="_s34825"/>
            <p:cNvCxnSpPr>
              <a:stCxn id="147" idx="0"/>
              <a:endCxn id="141" idx="6"/>
            </p:cNvCxnSpPr>
            <p:nvPr/>
          </p:nvCxnSpPr>
          <p:spPr>
            <a:xfrm flipV="1">
              <a:off x="3303000" y="984960"/>
              <a:ext cx="453600" cy="463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" name="_s34826"/>
            <p:cNvCxnSpPr>
              <a:stCxn id="149" idx="0"/>
              <a:endCxn id="141" idx="5"/>
            </p:cNvCxnSpPr>
            <p:nvPr/>
          </p:nvCxnSpPr>
          <p:spPr>
            <a:xfrm rot="10800000">
              <a:off x="3755160" y="984600"/>
              <a:ext cx="2034720" cy="364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_s34827"/>
            <p:cNvCxnSpPr>
              <a:stCxn id="151" idx="0"/>
              <a:endCxn id="141" idx="4"/>
            </p:cNvCxnSpPr>
            <p:nvPr/>
          </p:nvCxnSpPr>
          <p:spPr>
            <a:xfrm flipV="1">
              <a:off x="3303000" y="984960"/>
              <a:ext cx="453600" cy="364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_s34828"/>
            <p:cNvCxnSpPr>
              <a:stCxn id="153" idx="0"/>
              <a:endCxn id="141" idx="3"/>
            </p:cNvCxnSpPr>
            <p:nvPr/>
          </p:nvCxnSpPr>
          <p:spPr>
            <a:xfrm rot="10800000">
              <a:off x="3755160" y="984600"/>
              <a:ext cx="2034720" cy="2652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_s34829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7769880" y="1354680"/>
              <a:ext cx="331560" cy="1581840"/>
            </a:xfrm>
            <a:prstGeom prst="bentConnector3">
              <a:avLst>
                <a:gd name="adj1" fmla="val 3445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_s34830"/>
            <p:cNvCxnSpPr>
              <a:stCxn id="158" idx="0"/>
              <a:endCxn id="156" idx="1"/>
            </p:cNvCxnSpPr>
            <p:nvPr/>
          </p:nvCxnSpPr>
          <p:spPr>
            <a:xfrm flipH="1" flipV="1" rot="5400000">
              <a:off x="6188760" y="1355040"/>
              <a:ext cx="331560" cy="1581480"/>
            </a:xfrm>
            <a:prstGeom prst="bentConnector3">
              <a:avLst>
                <a:gd name="adj1" fmla="val 3445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_s34831"/>
            <p:cNvCxnSpPr>
              <a:stCxn id="160" idx="0"/>
              <a:endCxn id="141" idx="2"/>
            </p:cNvCxnSpPr>
            <p:nvPr/>
          </p:nvCxnSpPr>
          <p:spPr>
            <a:xfrm flipV="1">
              <a:off x="3303000" y="984600"/>
              <a:ext cx="453600" cy="2652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34832"/>
            <p:cNvCxnSpPr>
              <a:stCxn id="156" idx="0"/>
              <a:endCxn id="141" idx="1"/>
            </p:cNvCxnSpPr>
            <p:nvPr/>
          </p:nvCxnSpPr>
          <p:spPr>
            <a:xfrm rot="10800000">
              <a:off x="3755160" y="984600"/>
              <a:ext cx="2034720" cy="664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" name="_s34833"/>
            <p:cNvCxnSpPr>
              <a:stCxn id="163" idx="0"/>
              <a:endCxn id="141" idx="0"/>
            </p:cNvCxnSpPr>
            <p:nvPr/>
          </p:nvCxnSpPr>
          <p:spPr>
            <a:xfrm flipV="1">
              <a:off x="3303000" y="984600"/>
              <a:ext cx="453600" cy="664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_s34834"/>
            <p:cNvSpPr/>
            <p:nvPr/>
          </p:nvSpPr>
          <p:spPr>
            <a:xfrm>
              <a:off x="2400480" y="3240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4200" spc="-1" strike="noStrike">
                  <a:solidFill>
                    <a:srgbClr val="000000"/>
                  </a:solidFill>
                  <a:latin typeface="Times New Roman"/>
                </a:rPr>
                <a:t>ЛЕКСИКА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34835"/>
            <p:cNvSpPr/>
            <p:nvPr/>
          </p:nvSpPr>
          <p:spPr>
            <a:xfrm>
              <a:off x="593640" y="131724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АКТИВ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34836"/>
            <p:cNvSpPr/>
            <p:nvPr/>
          </p:nvSpPr>
          <p:spPr>
            <a:xfrm>
              <a:off x="5788800" y="131724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ПАСИВ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34837"/>
            <p:cNvSpPr/>
            <p:nvPr/>
          </p:nvSpPr>
          <p:spPr>
            <a:xfrm>
              <a:off x="593640" y="33048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НЕОЛОГІЗ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34838"/>
            <p:cNvSpPr/>
            <p:nvPr/>
          </p:nvSpPr>
          <p:spPr>
            <a:xfrm>
              <a:off x="4207680" y="23112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АРХАЇЗ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4839"/>
            <p:cNvSpPr/>
            <p:nvPr/>
          </p:nvSpPr>
          <p:spPr>
            <a:xfrm>
              <a:off x="7369920" y="23112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uk-UA" sz="27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uk-UA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ІСТОРИЧН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4840"/>
            <p:cNvSpPr/>
            <p:nvPr/>
          </p:nvSpPr>
          <p:spPr>
            <a:xfrm>
              <a:off x="5788800" y="33048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ОМОНІ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4841"/>
            <p:cNvSpPr/>
            <p:nvPr/>
          </p:nvSpPr>
          <p:spPr>
            <a:xfrm>
              <a:off x="593640" y="42984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ЗАСТАРІЛ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4842"/>
            <p:cNvSpPr/>
            <p:nvPr/>
          </p:nvSpPr>
          <p:spPr>
            <a:xfrm>
              <a:off x="5788800" y="42984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СИНОНІ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34843"/>
            <p:cNvSpPr/>
            <p:nvPr/>
          </p:nvSpPr>
          <p:spPr>
            <a:xfrm>
              <a:off x="593640" y="52920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БАГАТОЗНАЧ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34844"/>
            <p:cNvSpPr/>
            <p:nvPr/>
          </p:nvSpPr>
          <p:spPr>
            <a:xfrm>
              <a:off x="5788800" y="529200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АНТОНІ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4845"/>
            <p:cNvSpPr/>
            <p:nvPr/>
          </p:nvSpPr>
          <p:spPr>
            <a:xfrm>
              <a:off x="593640" y="628596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ІНШОМОВН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4846"/>
            <p:cNvSpPr/>
            <p:nvPr/>
          </p:nvSpPr>
          <p:spPr>
            <a:xfrm>
              <a:off x="5788800" y="6285960"/>
              <a:ext cx="2710440" cy="6624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2300" spc="-1" strike="noStrike">
                  <a:solidFill>
                    <a:srgbClr val="000000"/>
                  </a:solidFill>
                  <a:latin typeface="Arial"/>
                </a:rPr>
                <a:t>ПАРОНІМ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92000" y="324000"/>
            <a:ext cx="8209080" cy="6696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84360" y="6713640"/>
            <a:ext cx="60498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Л Е К С И К О Л О Г І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84360" y="3984480"/>
            <a:ext cx="15843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старілі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28720" y="3095640"/>
            <a:ext cx="1440000" cy="62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Багатозначні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05080" y="1998720"/>
            <a:ext cx="129528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Неологіз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56000" y="1258920"/>
            <a:ext cx="129708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ароні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29080" y="1501920"/>
            <a:ext cx="129564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Антоні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81800" y="2495520"/>
            <a:ext cx="12952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Синоні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69080" y="4356000"/>
            <a:ext cx="115272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Омоні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21080" y="4384800"/>
            <a:ext cx="432000" cy="21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45080" y="2475000"/>
            <a:ext cx="2016000" cy="62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Слова іншомовного походж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47640" y="395280"/>
            <a:ext cx="8209080" cy="66960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584360" y="1258920"/>
            <a:ext cx="6337440" cy="5924520"/>
            <a:chOff x="1584360" y="1258920"/>
            <a:chExt cx="6337440" cy="5924520"/>
          </a:xfrm>
        </p:grpSpPr>
        <p:sp>
          <p:nvSpPr>
            <p:cNvPr id="177" name=""/>
            <p:cNvSpPr/>
            <p:nvPr/>
          </p:nvSpPr>
          <p:spPr>
            <a:xfrm>
              <a:off x="1584360" y="6713640"/>
              <a:ext cx="604980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uk-UA" sz="1800" spc="-1" strike="noStrike">
                  <a:solidFill>
                    <a:srgbClr val="ff0000"/>
                  </a:solidFill>
                  <a:latin typeface="Arial"/>
                </a:rPr>
                <a:t>                      </a:t>
              </a:r>
              <a:r>
                <a:rPr b="1" lang="uk-UA" sz="2400" spc="-1" strike="noStrike">
                  <a:solidFill>
                    <a:srgbClr val="ff0000"/>
                  </a:solidFill>
                  <a:latin typeface="Arial"/>
                </a:rPr>
                <a:t>Л Е К С И К О Л О Г І 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84360" y="3984480"/>
              <a:ext cx="158436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Застарілі сло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28720" y="3095640"/>
              <a:ext cx="1440000" cy="62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Багатозначні сло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5080" y="1998720"/>
              <a:ext cx="129528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Неологіз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56000" y="1258920"/>
              <a:ext cx="129708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600" spc="-1" strike="noStrike">
                  <a:solidFill>
                    <a:srgbClr val="000000"/>
                  </a:solidFill>
                  <a:latin typeface="Arial"/>
                </a:rPr>
                <a:t>Пароні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29080" y="1501920"/>
              <a:ext cx="129564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Антоні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81800" y="2495520"/>
              <a:ext cx="129528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Синоні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69080" y="4356000"/>
              <a:ext cx="1152720" cy="47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Омоні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21080" y="4384800"/>
              <a:ext cx="432000" cy="21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45080" y="2475000"/>
              <a:ext cx="2016000" cy="62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uk-UA" sz="1400" spc="-1" strike="noStrike">
                  <a:solidFill>
                    <a:srgbClr val="000000"/>
                  </a:solidFill>
                  <a:latin typeface="Arial"/>
                </a:rPr>
                <a:t>Слова іншомовного походже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91640" y="826560"/>
            <a:ext cx="8780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У душі виношуємо слово,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Лагідне й безжалісне, ніби криця.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Мово рідна, мова колискова,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совісті народної дзвіниц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9640" y="0"/>
            <a:ext cx="2521080" cy="2122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-289080" y="5580000"/>
            <a:ext cx="273708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Документи\Казка\фоны школьные 3\7mDYPiHDUZ.jpg"/>
          <p:cNvPicPr/>
          <p:nvPr/>
        </p:nvPicPr>
        <p:blipFill>
          <a:blip r:embed="rId2"/>
          <a:stretch/>
        </p:blipFill>
        <p:spPr>
          <a:xfrm>
            <a:off x="0" y="0"/>
            <a:ext cx="101170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414600" y="1846440"/>
            <a:ext cx="1843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:\Документи\Казка\школа\631e38170a19.png"/>
          <p:cNvPicPr/>
          <p:nvPr/>
        </p:nvPicPr>
        <p:blipFill>
          <a:blip r:embed="rId3"/>
          <a:stretch/>
        </p:blipFill>
        <p:spPr>
          <a:xfrm rot="18317400">
            <a:off x="557280" y="130320"/>
            <a:ext cx="2387520" cy="2387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580400" y="4859280"/>
            <a:ext cx="7183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Узагальнюючий урок з теми “Лексика”. Слов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4360" y="2195640"/>
            <a:ext cx="720072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Monotype Corsiva"/>
              </a:rPr>
              <a:t>Культура мовлення – духовне обличчя люди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Заставка_Вин"/>
          <p:cNvPicPr/>
          <p:nvPr/>
        </p:nvPicPr>
        <p:blipFill>
          <a:blip r:embed="rId2"/>
          <a:stretch/>
        </p:blipFill>
        <p:spPr>
          <a:xfrm>
            <a:off x="0" y="0"/>
            <a:ext cx="27385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2376360" y="231120"/>
            <a:ext cx="734400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бомбою ста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душі тря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всіх хвилюва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 – моє реме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С.Караванс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5199120" y="6297480"/>
            <a:ext cx="366552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66ff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2260440" y="127080"/>
            <a:ext cx="7621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Документи\Казка\фоны школьные 3\7mDYPiHDUZ.jpg"/>
          <p:cNvPicPr/>
          <p:nvPr/>
        </p:nvPicPr>
        <p:blipFill>
          <a:blip r:embed="rId2"/>
          <a:stretch/>
        </p:blipFill>
        <p:spPr>
          <a:xfrm>
            <a:off x="0" y="0"/>
            <a:ext cx="101170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3414600" y="1846440"/>
            <a:ext cx="1843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:\Документи\Казка\школа\631e38170a19.png"/>
          <p:cNvPicPr/>
          <p:nvPr/>
        </p:nvPicPr>
        <p:blipFill>
          <a:blip r:embed="rId3"/>
          <a:stretch/>
        </p:blipFill>
        <p:spPr>
          <a:xfrm rot="18317400">
            <a:off x="557280" y="130320"/>
            <a:ext cx="2387520" cy="2387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580400" y="4859280"/>
            <a:ext cx="7183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Узагальнюючий урок з теми “Лексика”. Слов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84360" y="2195640"/>
            <a:ext cx="720072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Monotype Corsiva"/>
              </a:rPr>
              <a:t>Культура мовлення – духовне обличчя люди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Заставка_Вин"/>
          <p:cNvPicPr/>
          <p:nvPr/>
        </p:nvPicPr>
        <p:blipFill>
          <a:blip r:embed="rId2"/>
          <a:stretch/>
        </p:blipFill>
        <p:spPr>
          <a:xfrm>
            <a:off x="0" y="0"/>
            <a:ext cx="27385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2376360" y="231120"/>
            <a:ext cx="734400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бомбою ста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душі тря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, щоб всіх хвилюва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Кинути слово – моє реме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С.Караванс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5199120" y="6297480"/>
            <a:ext cx="366552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66ff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66ff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260440" y="127080"/>
            <a:ext cx="7621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9" descr="ц4"/>
          <p:cNvPicPr/>
          <p:nvPr/>
        </p:nvPicPr>
        <p:blipFill>
          <a:blip r:embed="rId2"/>
          <a:stretch/>
        </p:blipFill>
        <p:spPr>
          <a:xfrm>
            <a:off x="1263600" y="6993000"/>
            <a:ext cx="571680" cy="542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ц4"/>
          <p:cNvPicPr/>
          <p:nvPr/>
        </p:nvPicPr>
        <p:blipFill>
          <a:blip r:embed="rId3"/>
          <a:stretch/>
        </p:blipFill>
        <p:spPr>
          <a:xfrm>
            <a:off x="1549440" y="648180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ц4"/>
          <p:cNvPicPr/>
          <p:nvPr/>
        </p:nvPicPr>
        <p:blipFill>
          <a:blip r:embed="rId4"/>
          <a:stretch/>
        </p:blipFill>
        <p:spPr>
          <a:xfrm>
            <a:off x="1157400" y="6480000"/>
            <a:ext cx="571320" cy="543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Чи виправите ви співбесідника, якщо той припуститься помил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2" descr=""/>
          <p:cNvPicPr/>
          <p:nvPr/>
        </p:nvPicPr>
        <p:blipFill>
          <a:blip r:embed="rId5"/>
          <a:stretch/>
        </p:blipFill>
        <p:spPr>
          <a:xfrm>
            <a:off x="0" y="934920"/>
            <a:ext cx="4782960" cy="6167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84720" y="2123640"/>
            <a:ext cx="48960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б не образити             (15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б не виявитися безтактним (10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ам допускаю помилки     (9 учні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9" descr="ц4"/>
          <p:cNvPicPr/>
          <p:nvPr/>
        </p:nvPicPr>
        <p:blipFill>
          <a:blip r:embed="rId2"/>
          <a:stretch/>
        </p:blipFill>
        <p:spPr>
          <a:xfrm>
            <a:off x="1263600" y="6993000"/>
            <a:ext cx="571680" cy="54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ц4"/>
          <p:cNvPicPr/>
          <p:nvPr/>
        </p:nvPicPr>
        <p:blipFill>
          <a:blip r:embed="rId3"/>
          <a:stretch/>
        </p:blipFill>
        <p:spPr>
          <a:xfrm>
            <a:off x="1549440" y="648180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ц4"/>
          <p:cNvPicPr/>
          <p:nvPr/>
        </p:nvPicPr>
        <p:blipFill>
          <a:blip r:embed="rId4"/>
          <a:stretch/>
        </p:blipFill>
        <p:spPr>
          <a:xfrm>
            <a:off x="1157400" y="6480000"/>
            <a:ext cx="571320" cy="543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Чи виправите ви співбесідника, якщо той припуститься помил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2" descr=""/>
          <p:cNvPicPr/>
          <p:nvPr/>
        </p:nvPicPr>
        <p:blipFill>
          <a:blip r:embed="rId5"/>
          <a:stretch/>
        </p:blipFill>
        <p:spPr>
          <a:xfrm>
            <a:off x="0" y="934920"/>
            <a:ext cx="4782960" cy="6167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84720" y="2123640"/>
            <a:ext cx="48960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подобається, коли говорять безграмотно          (8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ама стараюсь говорити правильно, вірно, і вважаю, що маю право робити зауваження (6 учні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лова, сполучення слів, які часто вживаємо неправи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едме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ця, помилка, затишно, завжд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тий, олень, дочка, дрова, бесі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ятель, верба, решето, соломи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адцять, листоп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1564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51892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60000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03236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2764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832000" y="1619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2728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07964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376000" y="2916360"/>
            <a:ext cx="7164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08000" y="284328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71640" y="2916360"/>
            <a:ext cx="7164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624720" y="2916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079640" y="4140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526920" y="4211640"/>
            <a:ext cx="71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176720" y="4211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769080" y="4140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584360" y="5435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92720" y="543564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8136000" y="161928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201080" y="1692360"/>
            <a:ext cx="71280" cy="21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52360" y="610920"/>
            <a:ext cx="741528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ляхом технічного прогре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згадку про цю поді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пройшов через конкур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ступного тиж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рати уч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инив би так сам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чинним законодав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SzPct val="10287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кли снігові кучуг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6:40:24Z</dcterms:created>
  <dc:creator>Министерсвто Образования и Науки</dc:creator>
  <dc:description/>
  <dc:language>en-US</dc:language>
  <cp:lastModifiedBy>Министерсвто Образования и Науки</cp:lastModifiedBy>
  <dcterms:modified xsi:type="dcterms:W3CDTF">2012-12-27T06:51:37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e000000000001024140</vt:lpwstr>
  </property>
</Properties>
</file>