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4.png" ContentType="image/png"/>
  <Override PartName="/ppt/media/image9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4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12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915480" y="754200"/>
            <a:ext cx="496260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4624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624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3480"/>
                <a:tab algn="l" pos="1327320"/>
                <a:tab algn="l" pos="1989000"/>
                <a:tab algn="l" pos="265284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  <a:tab algn="l" pos="9456840"/>
                <a:tab algn="l" pos="9867960"/>
                <a:tab algn="l" pos="10279080"/>
                <a:tab algn="l" pos="106902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3480"/>
                <a:tab algn="l" pos="1327320"/>
                <a:tab algn="l" pos="1989000"/>
                <a:tab algn="l" pos="265284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  <a:tab algn="l" pos="9456840"/>
                <a:tab algn="l" pos="9867960"/>
                <a:tab algn="l" pos="10279080"/>
                <a:tab algn="l" pos="10690200"/>
              </a:tabLst>
            </a:pPr>
            <a:fld id="{3C9D5434-73BA-471C-821F-76CDCB1E3FA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3480"/>
                <a:tab algn="l" pos="1327320"/>
                <a:tab algn="l" pos="1989000"/>
                <a:tab algn="l" pos="265284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  <a:tab algn="l" pos="9456840"/>
                <a:tab algn="l" pos="9867960"/>
                <a:tab algn="l" pos="10279080"/>
                <a:tab algn="l" pos="10690200"/>
              </a:tabLst>
            </a:pPr>
            <a:fld id="{78898EA8-0252-48AD-A917-60D01C76FD7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3480"/>
                <a:tab algn="l" pos="1327320"/>
                <a:tab algn="l" pos="1989000"/>
                <a:tab algn="l" pos="265284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  <a:tab algn="l" pos="9456840"/>
                <a:tab algn="l" pos="9867960"/>
                <a:tab algn="l" pos="10279080"/>
                <a:tab algn="l" pos="10690200"/>
              </a:tabLst>
            </a:pPr>
            <a:fld id="{FDD14A54-7631-4717-B936-052B480DD60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3480"/>
                <a:tab algn="l" pos="1327320"/>
                <a:tab algn="l" pos="1989000"/>
                <a:tab algn="l" pos="265284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  <a:tab algn="l" pos="9456840"/>
                <a:tab algn="l" pos="9867960"/>
                <a:tab algn="l" pos="10279080"/>
                <a:tab algn="l" pos="10690200"/>
              </a:tabLst>
            </a:pPr>
            <a:fld id="{837ECDB5-FFD2-4D43-B6AB-8F0DD28B44D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3480"/>
                <a:tab algn="l" pos="1327320"/>
                <a:tab algn="l" pos="1989000"/>
                <a:tab algn="l" pos="265284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  <a:tab algn="l" pos="9456840"/>
                <a:tab algn="l" pos="9867960"/>
                <a:tab algn="l" pos="10279080"/>
                <a:tab algn="l" pos="10690200"/>
              </a:tabLst>
            </a:pPr>
            <a:fld id="{95B0C373-127D-4DAA-80DB-933E4E6B161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7638-4A9F-4428-9E79-81EC988B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F107-BE13-4C73-971A-415B21B7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4A1-35CD-4E05-B62F-B93E1725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3401-5540-4F51-B1D4-E7E47C81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5D8A-8987-4964-893A-056C00E7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0E02-24A3-40C5-9800-B7454A71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73A-AA43-446C-9A5C-4EED54F0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B90-AD60-441F-8011-CFECB41A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080-62E8-4DAE-A171-F562EF10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EA36-8EDD-4EC4-9491-8EA45E58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EFD5-E355-4EF9-BB44-211C4CD2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D89-EE1F-4D61-82D6-55BEB641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A4D0B-FEC7-4B85-80DB-1A8FA662CF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лова, сполучення слів, які часто вживаємо неправи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едме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иця, помилка, затишно, завжд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стий, олень, дочка, дрова, бесі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ятель, верба, решето, соломи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динадцять, листоп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15640" y="161928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518920" y="161928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600000" y="161928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032360" y="161928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27640" y="161928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832000" y="161928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727280" y="2916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79640" y="2916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376000" y="2916360"/>
            <a:ext cx="7164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608000" y="284328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471640" y="2916360"/>
            <a:ext cx="7164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624720" y="2916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079640" y="4140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526920" y="421164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176720" y="421164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769080" y="4140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584360" y="543564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392720" y="543564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136000" y="161928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201080" y="1692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9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9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52360" y="610920"/>
            <a:ext cx="7415280" cy="604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Шляхом технічного прогре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згадку про цю поді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е пройшов через конкур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ступного тиж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рати уча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инив би так сам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гідно з чинним законодав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никли снігові кучуг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000"/>
                            </p:stCondLst>
                            <p:childTnLst>
                              <p:par>
                                <p:cTn id="4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7000"/>
                            </p:stCondLst>
                            <p:childTnLst>
                              <p:par>
                                <p:cTn id="5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640" y="755280"/>
            <a:ext cx="87854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Monotype Corsiva"/>
              </a:rPr>
              <a:t>Ми повинні оберігати рідну мову від засмічування. І як застерігає М. Рильський: “Не майте гніву до моїх порад,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Monotype Corsiva"/>
              </a:rPr>
              <a:t>і не лінуйтесь доглядать свій сад”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16360" y="4140360"/>
            <a:ext cx="2311560" cy="2317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6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олодіжний сле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Rectangle 2" descr=""/>
          <p:cNvPicPr/>
          <p:nvPr/>
        </p:nvPicPr>
        <p:blipFill>
          <a:blip r:embed="rId2"/>
          <a:stretch/>
        </p:blipFill>
        <p:spPr>
          <a:xfrm>
            <a:off x="3240" y="974880"/>
            <a:ext cx="4637160" cy="5862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13080" y="1768320"/>
            <a:ext cx="4459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к говорять всі, і я буду говорити (18 учнів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ні однаково, як говорять (10 учнів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к легше спілкуватися, багато слів незрозумілі дорослим (13 учні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5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6500"/>
                            </p:stCondLst>
                            <p:childTnLst>
                              <p:par>
                                <p:cTn id="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ленгові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машка – домашня робо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Жесть – ж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нет – Інтер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абоси – грош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мп – комп'ют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руто – гар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13080" y="1768320"/>
            <a:ext cx="4459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біла – сотовий телефо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узон – муз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10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рєша – тренува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1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чка - маш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1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іпчик – чолові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1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рєш – д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6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0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000"/>
                            </p:stCondLst>
                            <p:childTnLst>
                              <p:par>
                                <p:cTn id="5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4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7000"/>
                            </p:stCondLst>
                            <p:childTnLst>
                              <p:par>
                                <p:cTn id="5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7500"/>
                            </p:stCondLst>
                            <p:childTnLst>
                              <p:par>
                                <p:cTn id="6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8000"/>
                            </p:stCondLst>
                            <p:childTnLst>
                              <p:par>
                                <p:cTn id="6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8500"/>
                            </p:stCondLst>
                            <p:childTnLst>
                              <p:par>
                                <p:cTn id="6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9000"/>
                            </p:stCondLst>
                            <p:childTnLst>
                              <p:par>
                                <p:cTn id="6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9500"/>
                            </p:stCondLst>
                            <p:childTnLst>
                              <p:par>
                                <p:cTn id="6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8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ідредагуйте текс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дин фітіль таке зморозив. Підкатує до шкета весь з таким шнобе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ай велік поганя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ів і почесав. А тут молекула. А він давай випендрюватися. Варежку раззявив. І як дерябнеться. Сам з фінгалом. Молекула ледве не з котушок, а велик гикнувся. Во ржач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8581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дин хлопець таке учудив. Під'їжджає  до малюка такий поваж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ай покататися на велосип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ів і поїхав. А тут дівчина. А він перед нею давай вихвалятися. Рота розкрив. І як впаде! Сам із синцем. Дівчина мало не знепритомніла, а велосипед зламав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це сміху бу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593640" y="324000"/>
            <a:ext cx="9486720" cy="6624360"/>
            <a:chOff x="593640" y="324000"/>
            <a:chExt cx="9486720" cy="6624360"/>
          </a:xfrm>
        </p:grpSpPr>
        <p:cxnSp>
          <p:nvCxnSpPr>
            <p:cNvPr id="139" name="_s34822"/>
            <p:cNvCxnSpPr>
              <a:stCxn id="140" idx="0"/>
              <a:endCxn id="141" idx="9"/>
            </p:cNvCxnSpPr>
            <p:nvPr/>
          </p:nvCxnSpPr>
          <p:spPr>
            <a:xfrm rot="10800000">
              <a:off x="3755160" y="984600"/>
              <a:ext cx="2034720" cy="5633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" name="_s34823"/>
            <p:cNvCxnSpPr>
              <a:stCxn id="143" idx="0"/>
              <a:endCxn id="141" idx="8"/>
            </p:cNvCxnSpPr>
            <p:nvPr/>
          </p:nvCxnSpPr>
          <p:spPr>
            <a:xfrm flipV="1">
              <a:off x="3303000" y="984960"/>
              <a:ext cx="453600" cy="5633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" name="_s34824"/>
            <p:cNvCxnSpPr>
              <a:stCxn id="145" idx="0"/>
              <a:endCxn id="141" idx="7"/>
            </p:cNvCxnSpPr>
            <p:nvPr/>
          </p:nvCxnSpPr>
          <p:spPr>
            <a:xfrm rot="10800000">
              <a:off x="3755160" y="984600"/>
              <a:ext cx="2034720" cy="463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" name="_s34825"/>
            <p:cNvCxnSpPr>
              <a:stCxn id="147" idx="0"/>
              <a:endCxn id="141" idx="6"/>
            </p:cNvCxnSpPr>
            <p:nvPr/>
          </p:nvCxnSpPr>
          <p:spPr>
            <a:xfrm flipV="1">
              <a:off x="3303000" y="984960"/>
              <a:ext cx="453600" cy="463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" name="_s34826"/>
            <p:cNvCxnSpPr>
              <a:stCxn id="149" idx="0"/>
              <a:endCxn id="141" idx="5"/>
            </p:cNvCxnSpPr>
            <p:nvPr/>
          </p:nvCxnSpPr>
          <p:spPr>
            <a:xfrm rot="10800000">
              <a:off x="3755160" y="984600"/>
              <a:ext cx="2034720" cy="364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" name="_s34827"/>
            <p:cNvCxnSpPr>
              <a:stCxn id="151" idx="0"/>
              <a:endCxn id="141" idx="4"/>
            </p:cNvCxnSpPr>
            <p:nvPr/>
          </p:nvCxnSpPr>
          <p:spPr>
            <a:xfrm flipV="1">
              <a:off x="3303000" y="984960"/>
              <a:ext cx="453600" cy="364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_s34828"/>
            <p:cNvCxnSpPr>
              <a:stCxn id="153" idx="0"/>
              <a:endCxn id="141" idx="3"/>
            </p:cNvCxnSpPr>
            <p:nvPr/>
          </p:nvCxnSpPr>
          <p:spPr>
            <a:xfrm rot="10800000">
              <a:off x="3755160" y="984600"/>
              <a:ext cx="2034720" cy="2652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_s34829"/>
            <p:cNvCxnSpPr>
              <a:stCxn id="155" idx="0"/>
              <a:endCxn id="156" idx="2"/>
            </p:cNvCxnSpPr>
            <p:nvPr/>
          </p:nvCxnSpPr>
          <p:spPr>
            <a:xfrm flipV="1" rot="16200000">
              <a:off x="7769880" y="1354680"/>
              <a:ext cx="331560" cy="1581840"/>
            </a:xfrm>
            <a:prstGeom prst="bentConnector3">
              <a:avLst>
                <a:gd name="adj1" fmla="val 3445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" name="_s34830"/>
            <p:cNvCxnSpPr>
              <a:stCxn id="158" idx="0"/>
              <a:endCxn id="156" idx="1"/>
            </p:cNvCxnSpPr>
            <p:nvPr/>
          </p:nvCxnSpPr>
          <p:spPr>
            <a:xfrm flipH="1" flipV="1" rot="5400000">
              <a:off x="6188760" y="1355040"/>
              <a:ext cx="331560" cy="1581480"/>
            </a:xfrm>
            <a:prstGeom prst="bentConnector3">
              <a:avLst>
                <a:gd name="adj1" fmla="val 3445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" name="_s34831"/>
            <p:cNvCxnSpPr>
              <a:stCxn id="160" idx="0"/>
              <a:endCxn id="141" idx="2"/>
            </p:cNvCxnSpPr>
            <p:nvPr/>
          </p:nvCxnSpPr>
          <p:spPr>
            <a:xfrm flipV="1">
              <a:off x="3303000" y="984600"/>
              <a:ext cx="453600" cy="2652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_s34832"/>
            <p:cNvCxnSpPr>
              <a:stCxn id="156" idx="0"/>
              <a:endCxn id="141" idx="1"/>
            </p:cNvCxnSpPr>
            <p:nvPr/>
          </p:nvCxnSpPr>
          <p:spPr>
            <a:xfrm rot="10800000">
              <a:off x="3755160" y="984600"/>
              <a:ext cx="2034720" cy="664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" name="_s34833"/>
            <p:cNvCxnSpPr>
              <a:stCxn id="163" idx="0"/>
              <a:endCxn id="141" idx="0"/>
            </p:cNvCxnSpPr>
            <p:nvPr/>
          </p:nvCxnSpPr>
          <p:spPr>
            <a:xfrm flipV="1">
              <a:off x="3303000" y="984600"/>
              <a:ext cx="453600" cy="664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1" name="_s34834"/>
            <p:cNvSpPr/>
            <p:nvPr/>
          </p:nvSpPr>
          <p:spPr>
            <a:xfrm>
              <a:off x="2400480" y="32400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00cc99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4200" spc="-1" strike="noStrike">
                  <a:solidFill>
                    <a:srgbClr val="000000"/>
                  </a:solidFill>
                  <a:latin typeface="Times New Roman"/>
                </a:rPr>
                <a:t>ЛЕКСИКА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34835"/>
            <p:cNvSpPr/>
            <p:nvPr/>
          </p:nvSpPr>
          <p:spPr>
            <a:xfrm>
              <a:off x="593640" y="131724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300" spc="-1" strike="noStrike">
                  <a:solidFill>
                    <a:srgbClr val="000000"/>
                  </a:solidFill>
                  <a:latin typeface="Arial"/>
                </a:rPr>
                <a:t>АКТИВ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34836"/>
            <p:cNvSpPr/>
            <p:nvPr/>
          </p:nvSpPr>
          <p:spPr>
            <a:xfrm>
              <a:off x="5788800" y="131724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300" spc="-1" strike="noStrike">
                  <a:solidFill>
                    <a:srgbClr val="000000"/>
                  </a:solidFill>
                  <a:latin typeface="Arial"/>
                </a:rPr>
                <a:t>ПАСИВ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34837"/>
            <p:cNvSpPr/>
            <p:nvPr/>
          </p:nvSpPr>
          <p:spPr>
            <a:xfrm>
              <a:off x="593640" y="330480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300" spc="-1" strike="noStrike">
                  <a:solidFill>
                    <a:srgbClr val="000000"/>
                  </a:solidFill>
                  <a:latin typeface="Arial"/>
                </a:rPr>
                <a:t>НЕОЛОГІЗМ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34838"/>
            <p:cNvSpPr/>
            <p:nvPr/>
          </p:nvSpPr>
          <p:spPr>
            <a:xfrm>
              <a:off x="4207680" y="231120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300" spc="-1" strike="noStrike">
                  <a:solidFill>
                    <a:srgbClr val="000000"/>
                  </a:solidFill>
                  <a:latin typeface="Arial"/>
                </a:rPr>
                <a:t>АРХАЇЗМ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34839"/>
            <p:cNvSpPr/>
            <p:nvPr/>
          </p:nvSpPr>
          <p:spPr>
            <a:xfrm>
              <a:off x="7369920" y="231120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uk-UA" sz="27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uk-UA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ІСТОРИЧНІ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СЛОВ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34840"/>
            <p:cNvSpPr/>
            <p:nvPr/>
          </p:nvSpPr>
          <p:spPr>
            <a:xfrm>
              <a:off x="5788800" y="330480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300" spc="-1" strike="noStrike">
                  <a:solidFill>
                    <a:srgbClr val="000000"/>
                  </a:solidFill>
                  <a:latin typeface="Arial"/>
                </a:rPr>
                <a:t>ОМОНІМ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34841"/>
            <p:cNvSpPr/>
            <p:nvPr/>
          </p:nvSpPr>
          <p:spPr>
            <a:xfrm>
              <a:off x="593640" y="429840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ЗАСТАРІЛІ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СЛОВ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34842"/>
            <p:cNvSpPr/>
            <p:nvPr/>
          </p:nvSpPr>
          <p:spPr>
            <a:xfrm>
              <a:off x="5788800" y="429840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300" spc="-1" strike="noStrike">
                  <a:solidFill>
                    <a:srgbClr val="000000"/>
                  </a:solidFill>
                  <a:latin typeface="Arial"/>
                </a:rPr>
                <a:t>СИНОНІМ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34843"/>
            <p:cNvSpPr/>
            <p:nvPr/>
          </p:nvSpPr>
          <p:spPr>
            <a:xfrm>
              <a:off x="593640" y="529200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БАГАТОЗНАЧ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СЛОВ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34844"/>
            <p:cNvSpPr/>
            <p:nvPr/>
          </p:nvSpPr>
          <p:spPr>
            <a:xfrm>
              <a:off x="5788800" y="529200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300" spc="-1" strike="noStrike">
                  <a:solidFill>
                    <a:srgbClr val="000000"/>
                  </a:solidFill>
                  <a:latin typeface="Arial"/>
                </a:rPr>
                <a:t>АНТОНІМ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34845"/>
            <p:cNvSpPr/>
            <p:nvPr/>
          </p:nvSpPr>
          <p:spPr>
            <a:xfrm>
              <a:off x="593640" y="628596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ІНШОМОВНІ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СЛОВ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34846"/>
            <p:cNvSpPr/>
            <p:nvPr/>
          </p:nvSpPr>
          <p:spPr>
            <a:xfrm>
              <a:off x="5788800" y="628596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300" spc="-1" strike="noStrike">
                  <a:solidFill>
                    <a:srgbClr val="000000"/>
                  </a:solidFill>
                  <a:latin typeface="Arial"/>
                </a:rPr>
                <a:t>ПАРОНІМ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92000" y="324000"/>
            <a:ext cx="8209080" cy="6696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84360" y="6713640"/>
            <a:ext cx="604980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Л Е К С И К О Л О Г І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84360" y="3984480"/>
            <a:ext cx="158436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Застарілі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28720" y="3095640"/>
            <a:ext cx="1440000" cy="62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Багатозначні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05080" y="1998720"/>
            <a:ext cx="129528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Неологіз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56000" y="1258920"/>
            <a:ext cx="129708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ароні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29080" y="1501920"/>
            <a:ext cx="129564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Антоні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81800" y="2495520"/>
            <a:ext cx="129528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Синоні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69080" y="4356000"/>
            <a:ext cx="115272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Омоні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21080" y="4384800"/>
            <a:ext cx="432000" cy="218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45080" y="2475000"/>
            <a:ext cx="2016000" cy="62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Слова іншомовного походж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47640" y="395280"/>
            <a:ext cx="8209080" cy="66960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1584360" y="1258920"/>
            <a:ext cx="6337440" cy="5924520"/>
            <a:chOff x="1584360" y="1258920"/>
            <a:chExt cx="6337440" cy="5924520"/>
          </a:xfrm>
        </p:grpSpPr>
        <p:sp>
          <p:nvSpPr>
            <p:cNvPr id="177" name=""/>
            <p:cNvSpPr/>
            <p:nvPr/>
          </p:nvSpPr>
          <p:spPr>
            <a:xfrm>
              <a:off x="1584360" y="6713640"/>
              <a:ext cx="6049800" cy="46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uk-UA" sz="1800" spc="-1" strike="noStrike">
                  <a:solidFill>
                    <a:srgbClr val="ff0000"/>
                  </a:solidFill>
                  <a:latin typeface="Arial"/>
                </a:rPr>
                <a:t>                      </a:t>
              </a:r>
              <a:r>
                <a:rPr b="1" lang="uk-UA" sz="2400" spc="-1" strike="noStrike">
                  <a:solidFill>
                    <a:srgbClr val="ff0000"/>
                  </a:solidFill>
                  <a:latin typeface="Arial"/>
                </a:rPr>
                <a:t>Л Е К С И К О Л О Г І 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84360" y="3984480"/>
              <a:ext cx="1584360" cy="46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uk-UA" sz="1400" spc="-1" strike="noStrike">
                  <a:solidFill>
                    <a:srgbClr val="000000"/>
                  </a:solidFill>
                  <a:latin typeface="Arial"/>
                </a:rPr>
                <a:t>Застарілі сло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28720" y="3095640"/>
              <a:ext cx="1440000" cy="62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uk-UA" sz="1400" spc="-1" strike="noStrike">
                  <a:solidFill>
                    <a:srgbClr val="000000"/>
                  </a:solidFill>
                  <a:latin typeface="Arial"/>
                </a:rPr>
                <a:t>Багатозначні сло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5080" y="1998720"/>
              <a:ext cx="1295280" cy="46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uk-UA" sz="1400" spc="-1" strike="noStrike">
                  <a:solidFill>
                    <a:srgbClr val="000000"/>
                  </a:solidFill>
                  <a:latin typeface="Arial"/>
                </a:rPr>
                <a:t>Неологіз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56000" y="1258920"/>
              <a:ext cx="1297080" cy="46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uk-UA" sz="1600" spc="-1" strike="noStrike">
                  <a:solidFill>
                    <a:srgbClr val="000000"/>
                  </a:solidFill>
                  <a:latin typeface="Arial"/>
                </a:rPr>
                <a:t>Пароні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29080" y="1501920"/>
              <a:ext cx="1295640" cy="46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uk-UA" sz="1400" spc="-1" strike="noStrike">
                  <a:solidFill>
                    <a:srgbClr val="000000"/>
                  </a:solidFill>
                  <a:latin typeface="Arial"/>
                </a:rPr>
                <a:t>Антоні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81800" y="2495520"/>
              <a:ext cx="1295280" cy="46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uk-UA" sz="1400" spc="-1" strike="noStrike">
                  <a:solidFill>
                    <a:srgbClr val="000000"/>
                  </a:solidFill>
                  <a:latin typeface="Arial"/>
                </a:rPr>
                <a:t>Синоні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69080" y="4356000"/>
              <a:ext cx="1152720" cy="47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uk-UA" sz="1400" spc="-1" strike="noStrike">
                  <a:solidFill>
                    <a:srgbClr val="000000"/>
                  </a:solidFill>
                  <a:latin typeface="Arial"/>
                </a:rPr>
                <a:t>Омоні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21080" y="4384800"/>
              <a:ext cx="432000" cy="21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1800" spc="-1" strike="noStrike">
                  <a:solidFill>
                    <a:srgbClr val="ff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18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1800" spc="-1" strike="noStrike">
                  <a:solidFill>
                    <a:srgbClr val="ff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1800" spc="-1" strike="noStrike">
                  <a:solidFill>
                    <a:srgbClr val="ff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18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1800" spc="-1" strike="noStrike">
                  <a:solidFill>
                    <a:srgbClr val="ff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18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45080" y="2475000"/>
              <a:ext cx="2016000" cy="62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uk-UA" sz="1400" spc="-1" strike="noStrike">
                  <a:solidFill>
                    <a:srgbClr val="000000"/>
                  </a:solidFill>
                  <a:latin typeface="Arial"/>
                </a:rPr>
                <a:t>Слова іншомовного походженн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91640" y="826560"/>
            <a:ext cx="8780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Monotype Corsiva"/>
              </a:rPr>
              <a:t>У душі виношуємо слово,</a:t>
            </a:r>
            <a:br>
              <a:rPr sz="5400"/>
            </a:br>
            <a:r>
              <a:rPr b="0" lang="uk-UA" sz="5400" spc="-1" strike="noStrike">
                <a:solidFill>
                  <a:srgbClr val="000000"/>
                </a:solidFill>
                <a:latin typeface="Monotype Corsiva"/>
              </a:rPr>
              <a:t>Лагідне й безжалісне, ніби криця.</a:t>
            </a:r>
            <a:br>
              <a:rPr sz="5400"/>
            </a:br>
            <a:r>
              <a:rPr b="0" lang="uk-UA" sz="5400" spc="-1" strike="noStrike">
                <a:solidFill>
                  <a:srgbClr val="000000"/>
                </a:solidFill>
                <a:latin typeface="Monotype Corsiva"/>
              </a:rPr>
              <a:t>Мово рідна, мова колискова,</a:t>
            </a:r>
            <a:br>
              <a:rPr sz="5400"/>
            </a:br>
            <a:r>
              <a:rPr b="0" lang="uk-UA" sz="5400" spc="-1" strike="noStrike">
                <a:solidFill>
                  <a:srgbClr val="000000"/>
                </a:solidFill>
                <a:latin typeface="Monotype Corsiva"/>
              </a:rPr>
              <a:t>совісті народної дзвіниц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559640" y="0"/>
            <a:ext cx="2521080" cy="2122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-289080" y="5580000"/>
            <a:ext cx="2737080" cy="19796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Документи\Казка\фоны школьные 3\7mDYPiHDUZ.jpg"/>
          <p:cNvPicPr/>
          <p:nvPr/>
        </p:nvPicPr>
        <p:blipFill>
          <a:blip r:embed="rId2"/>
          <a:stretch/>
        </p:blipFill>
        <p:spPr>
          <a:xfrm>
            <a:off x="0" y="0"/>
            <a:ext cx="1011708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414600" y="1846440"/>
            <a:ext cx="1843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D:\Документи\Казка\школа\631e38170a19.png"/>
          <p:cNvPicPr/>
          <p:nvPr/>
        </p:nvPicPr>
        <p:blipFill>
          <a:blip r:embed="rId3"/>
          <a:stretch/>
        </p:blipFill>
        <p:spPr>
          <a:xfrm rot="18317400">
            <a:off x="557280" y="130320"/>
            <a:ext cx="2387520" cy="2387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1580400" y="4859280"/>
            <a:ext cx="7183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Узагальнюючий урок з теми “Лексика”. Слов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4360" y="2195640"/>
            <a:ext cx="7200720" cy="19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Monotype Corsiva"/>
              </a:rPr>
              <a:t>Культура мовлення – духовне обличчя людин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Заставка_Вин"/>
          <p:cNvPicPr/>
          <p:nvPr/>
        </p:nvPicPr>
        <p:blipFill>
          <a:blip r:embed="rId2"/>
          <a:stretch/>
        </p:blipFill>
        <p:spPr>
          <a:xfrm>
            <a:off x="0" y="0"/>
            <a:ext cx="27385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2376360" y="231120"/>
            <a:ext cx="7344000" cy="55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Кинути слово, щоб бомбою стал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Кинути слово, щоб душі трясл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Кинути слово, щоб всіх хвилювал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Кинути слово – моє ремесл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С.Каравансь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3"/>
          <p:cNvSpPr txBox="1"/>
          <p:nvPr/>
        </p:nvSpPr>
        <p:spPr>
          <a:xfrm>
            <a:off x="5199120" y="6297480"/>
            <a:ext cx="3665520" cy="11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00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66ff"/>
                </a:solidFill>
                <a:miter/>
              </a:ln>
              <a:solidFill>
                <a:srgbClr val="00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2260440" y="127080"/>
            <a:ext cx="7621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Документи\Казка\фоны школьные 3\7mDYPiHDUZ.jpg"/>
          <p:cNvPicPr/>
          <p:nvPr/>
        </p:nvPicPr>
        <p:blipFill>
          <a:blip r:embed="rId2"/>
          <a:stretch/>
        </p:blipFill>
        <p:spPr>
          <a:xfrm>
            <a:off x="0" y="0"/>
            <a:ext cx="1011708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3414600" y="1846440"/>
            <a:ext cx="1843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D:\Документи\Казка\школа\631e38170a19.png"/>
          <p:cNvPicPr/>
          <p:nvPr/>
        </p:nvPicPr>
        <p:blipFill>
          <a:blip r:embed="rId3"/>
          <a:stretch/>
        </p:blipFill>
        <p:spPr>
          <a:xfrm rot="18317400">
            <a:off x="557280" y="130320"/>
            <a:ext cx="2387520" cy="2387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580400" y="4859280"/>
            <a:ext cx="7183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Узагальнюючий урок з теми “Лексика”. Слов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84360" y="2195640"/>
            <a:ext cx="7200720" cy="19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Monotype Corsiva"/>
              </a:rPr>
              <a:t>Культура мовлення – духовне обличчя людин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Заставка_Вин"/>
          <p:cNvPicPr/>
          <p:nvPr/>
        </p:nvPicPr>
        <p:blipFill>
          <a:blip r:embed="rId2"/>
          <a:stretch/>
        </p:blipFill>
        <p:spPr>
          <a:xfrm>
            <a:off x="0" y="0"/>
            <a:ext cx="2738520" cy="7559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2376360" y="231120"/>
            <a:ext cx="7344000" cy="55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Кинути слово, щоб бомбою стал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Кинути слово, щоб душі трясл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Кинути слово, щоб всіх хвилювал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Кинути слово – моє ремесл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С.Каравансь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>
            <a:off x="5199120" y="6297480"/>
            <a:ext cx="3665520" cy="11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00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66ff"/>
                </a:solidFill>
                <a:miter/>
              </a:ln>
              <a:solidFill>
                <a:srgbClr val="00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2260440" y="127080"/>
            <a:ext cx="7621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9" descr="ц4"/>
          <p:cNvPicPr/>
          <p:nvPr/>
        </p:nvPicPr>
        <p:blipFill>
          <a:blip r:embed="rId2"/>
          <a:stretch/>
        </p:blipFill>
        <p:spPr>
          <a:xfrm>
            <a:off x="1263600" y="6993000"/>
            <a:ext cx="571680" cy="542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ц4"/>
          <p:cNvPicPr/>
          <p:nvPr/>
        </p:nvPicPr>
        <p:blipFill>
          <a:blip r:embed="rId3"/>
          <a:stretch/>
        </p:blipFill>
        <p:spPr>
          <a:xfrm>
            <a:off x="1549440" y="6481800"/>
            <a:ext cx="571320" cy="542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9" descr="ц4"/>
          <p:cNvPicPr/>
          <p:nvPr/>
        </p:nvPicPr>
        <p:blipFill>
          <a:blip r:embed="rId4"/>
          <a:stretch/>
        </p:blipFill>
        <p:spPr>
          <a:xfrm>
            <a:off x="1157400" y="6480000"/>
            <a:ext cx="571320" cy="543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Чи виправите ви співбесідника, якщо той припуститься помил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Rectangle 2" descr=""/>
          <p:cNvPicPr/>
          <p:nvPr/>
        </p:nvPicPr>
        <p:blipFill>
          <a:blip r:embed="rId5"/>
          <a:stretch/>
        </p:blipFill>
        <p:spPr>
          <a:xfrm>
            <a:off x="0" y="934920"/>
            <a:ext cx="4782960" cy="61675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84720" y="2123640"/>
            <a:ext cx="489600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Щоб не образити             (15 учнів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Щоб не виявитися безтактним (10 учнів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ам допускаю помилки     (9 учні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9" descr="ц4"/>
          <p:cNvPicPr/>
          <p:nvPr/>
        </p:nvPicPr>
        <p:blipFill>
          <a:blip r:embed="rId2"/>
          <a:stretch/>
        </p:blipFill>
        <p:spPr>
          <a:xfrm>
            <a:off x="1263600" y="6993000"/>
            <a:ext cx="571680" cy="542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9" descr="ц4"/>
          <p:cNvPicPr/>
          <p:nvPr/>
        </p:nvPicPr>
        <p:blipFill>
          <a:blip r:embed="rId3"/>
          <a:stretch/>
        </p:blipFill>
        <p:spPr>
          <a:xfrm>
            <a:off x="1549440" y="6481800"/>
            <a:ext cx="571320" cy="542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9" descr="ц4"/>
          <p:cNvPicPr/>
          <p:nvPr/>
        </p:nvPicPr>
        <p:blipFill>
          <a:blip r:embed="rId4"/>
          <a:stretch/>
        </p:blipFill>
        <p:spPr>
          <a:xfrm>
            <a:off x="1157400" y="6480000"/>
            <a:ext cx="571320" cy="543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Чи виправите ви співбесідника, якщо той припуститься помил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2" descr=""/>
          <p:cNvPicPr/>
          <p:nvPr/>
        </p:nvPicPr>
        <p:blipFill>
          <a:blip r:embed="rId5"/>
          <a:stretch/>
        </p:blipFill>
        <p:spPr>
          <a:xfrm>
            <a:off x="0" y="934920"/>
            <a:ext cx="4782960" cy="6167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84720" y="2123640"/>
            <a:ext cx="489600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 подобається, коли говорять безграмотно          (8 учнів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ама стараюсь говорити правильно, вірно, і вважаю, що маю право робити зауваження (6 учнів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лова, сполучення слів, які часто вживаємо неправи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едме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иця, помилка, затишно, завжд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стий, олень, дочка, дрова, бесі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ятель, верба, решето, соломи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динадцять, листоп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015640" y="161928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518920" y="161928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600000" y="161928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032360" y="161928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327640" y="161928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832000" y="161928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727280" y="2916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079640" y="2916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376000" y="2916360"/>
            <a:ext cx="7164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608000" y="284328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471640" y="2916360"/>
            <a:ext cx="7164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624720" y="2916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079640" y="4140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526920" y="421164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176720" y="421164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769080" y="4140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584360" y="543564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392720" y="543564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8136000" y="161928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201080" y="1692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5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52360" y="610920"/>
            <a:ext cx="7415280" cy="604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Шляхом технічного прогре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згадку про цю поді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е пройшов через конкур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ступного тиж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рати уча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инив би так сам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гідно з чинним законодав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никли снігові кучуг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3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6:40:24Z</dcterms:created>
  <dc:creator>Министерсвто Образования и Науки</dc:creator>
  <dc:description/>
  <dc:language>en-US</dc:language>
  <cp:lastModifiedBy>Министерсвто Образования и Науки</cp:lastModifiedBy>
  <dcterms:modified xsi:type="dcterms:W3CDTF">2012-12-27T06:51:37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e000000000001024140</vt:lpwstr>
  </property>
</Properties>
</file>