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3.wmf" ContentType="image/x-wmf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type.wav" ContentType="audio/x-wav"/>
  <Override PartName="/ppt/media/image17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139-44D1-4789-89A4-B75EAE5D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EC4-EF88-40CA-8B43-1CB572B3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895-8DC8-4D7D-98A4-1F460665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391-C12F-453E-A422-49A86165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01DA-19A5-4A98-B17D-FA6547B7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0C0A-169D-461E-9CEB-3D125B3A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32B8-DDDF-4550-939C-D57D9293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0AFF-8363-42C0-B905-183B37E0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DA6C-57CE-4155-95F5-1DAF84BA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ADC4-7BBD-41B6-8E31-2E227A0A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AEA1-A67A-497E-B6F7-D435624A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4C7-79F1-4B2E-ADC8-2B5FA220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B105-EAA0-4CA2-BA30-0311B4E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FE7A-7642-4446-9149-07C605C9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303B-315A-46F0-8BAE-53B2A6D4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CC7D-8DBF-4C37-94F0-E3D27DC4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7B1F-7DF9-491B-874C-6C515AEB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5C3B3-D623-4D21-A9DB-DA9AAD43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C510-B469-4B07-8329-B187BF1B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F3B56-FC57-49F7-ACA9-14BBA821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4B83-63CC-45A5-A001-F48D7535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E83E-58AD-49B1-BC7E-EE5DF7F0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886-D959-40F9-8D04-EB70267A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5298-CA3B-4CC4-8D46-17BF3244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F011-4B17-4509-9AA3-DA0CA5B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33E2-DD0F-4554-9F28-44FDA4D8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40CDB-A12D-4581-BB57-C3EC71B1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3D95-3F5A-4BF9-A8A2-2FF5C834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277E-8DBF-4528-A63C-67B4727D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6136-5AD1-43EA-9ADB-F85774B0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5C713-ACFB-4F50-B9FF-E138FE59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B2A93-2E08-4414-8669-C64AD0CC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8044E-8360-474F-A3FE-0E44FDF6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1FD-2A20-47BE-A390-5A85DC56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0FED6-1F8E-46D3-AC92-DB39D220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6D04-0E93-4377-A091-66D866FD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354C2-58B6-4853-8088-BCCA88D2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56776-1788-4E7A-ACD0-3CD7A892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EF62C-3A67-47CF-A4FD-C5F40B5C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5C4B8-8872-4E43-B3C4-FF545B66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B2E2-5596-45B9-A34B-0386CED2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32480-904A-4AA7-AAA9-B6854CC9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106EE-54BE-4C7D-A328-6ADA91FC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387-57F9-4F15-9A6E-89108812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139-62BE-4AC4-9AE5-5E129B20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3BF-D17D-471F-81C4-4A76D56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33A-FE87-4B47-B311-C027A83E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DF3-9B7C-44A8-963E-052DB833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3F7E-33B1-4321-8DF9-06F0EAEA8824}" type="slidenum"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44C0-7410-4C4D-95B3-277F3CE24D77}" type="slidenum"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A1D2-6FD2-4FDA-B86D-B759CAACF4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6EA4-C613-46E2-8DC4-D3957D166E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ravo-porada.com.ua/practice/57-inshi-dokumenty/363-avtobografja-zrazok.html" TargetMode="External"/><Relationship Id="rId2" Type="http://schemas.openxmlformats.org/officeDocument/2006/relationships/hyperlink" Target="http://dilomova.org.ua/?p=109" TargetMode="External"/><Relationship Id="rId3" Type="http://schemas.openxmlformats.org/officeDocument/2006/relationships/hyperlink" Target="http://pidruchniki.ws/12800528/dokumentoznavstvo/avtobiografiya" TargetMode="External"/><Relationship Id="rId4" Type="http://schemas.openxmlformats.org/officeDocument/2006/relationships/hyperlink" Target="http://myreferatik.in.ua/load/referat_1_kurs/ukrajinska_mova/avtobiografija_rekviziti/13-1-0-73" TargetMode="External"/><Relationship Id="rId5" Type="http://schemas.openxmlformats.org/officeDocument/2006/relationships/hyperlink" Target="http://lubbook.net/book_221_glava_26_Tema_26._Avtob&#1110;ograf&#1110;ja.KH.html" TargetMode="External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zhegov.org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8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k.wikipedia.org/wiki" TargetMode="External"/><Relationship Id="rId2" Type="http://schemas.openxmlformats.org/officeDocument/2006/relationships/hyperlink" Target="http://uk.wikipedia.org/wiki" TargetMode="External"/><Relationship Id="rId3" Type="http://schemas.openxmlformats.org/officeDocument/2006/relationships/hyperlink" Target="http://uk.wikipedia.org/wiki" TargetMode="External"/><Relationship Id="rId4" Type="http://schemas.openxmlformats.org/officeDocument/2006/relationships/hyperlink" Target="http://uk.wikipedia.org/wiki" TargetMode="External"/><Relationship Id="rId5" Type="http://schemas.openxmlformats.org/officeDocument/2006/relationships/hyperlink" Target="http://uk.wikipedia.org/wiki" TargetMode="External"/><Relationship Id="rId6" Type="http://schemas.openxmlformats.org/officeDocument/2006/relationships/hyperlink" Target="http://uk.wikipedia.org/wiki" TargetMode="External"/><Relationship Id="rId7" Type="http://schemas.openxmlformats.org/officeDocument/2006/relationships/hyperlink" Target="http://uk.wikipedia.org/wiki" TargetMode="External"/><Relationship Id="rId8" Type="http://schemas.openxmlformats.org/officeDocument/2006/relationships/hyperlink" Target="http://uk.wikipedia.org/wiki" TargetMode="External"/><Relationship Id="rId9" Type="http://schemas.openxmlformats.org/officeDocument/2006/relationships/hyperlink" Target="http://uk.wikipedia.org/wiki" TargetMode="External"/><Relationship Id="rId10" Type="http://schemas.openxmlformats.org/officeDocument/2006/relationships/hyperlink" Target="http://pidruchniki.ws/1376102539488/dokumentoznavstvo/ofitsiyno-diloviy_stil_movni_normi" TargetMode="External"/><Relationship Id="rId11" Type="http://schemas.openxmlformats.org/officeDocument/2006/relationships/hyperlink" Target="http://dilomova.org.ua/?p=53" TargetMode="External"/><Relationship Id="rId12" Type="http://schemas.openxmlformats.org/officeDocument/2006/relationships/hyperlink" Target="http://subject.com.ua/ukrmova/zno/324.html" TargetMode="External"/><Relationship Id="rId13" Type="http://schemas.openxmlformats.org/officeDocument/2006/relationships/hyperlink" Target="http://www.br.com.ua/referats/Dilovodstvo/4018.htm?dl" TargetMode="External"/><Relationship Id="rId14" Type="http://schemas.openxmlformats.org/officeDocument/2006/relationships/hyperlink" Target="http://cpk.org.ua/index.php?option=com_content&amp;view=article&amp;id=552" TargetMode="External"/><Relationship Id="rId15" Type="http://schemas.openxmlformats.org/officeDocument/2006/relationships/hyperlink" Target="http://www.br.com.ua/referats/Dilovodstvo/80472.htm" TargetMode="External"/><Relationship Id="rId16" Type="http://schemas.openxmlformats.org/officeDocument/2006/relationships/hyperlink" Target="http://shkolyar.in.ua/styli-movlennya" TargetMode="External"/><Relationship Id="rId17" Type="http://schemas.openxmlformats.org/officeDocument/2006/relationships/hyperlink" Target="http://www.refine.org.ua/pageid-1103-1.html" TargetMode="External"/><Relationship Id="rId18" Type="http://schemas.openxmlformats.org/officeDocument/2006/relationships/image" Target="../media/image10.png"/><Relationship Id="rId19" Type="http://schemas.openxmlformats.org/officeDocument/2006/relationships/image" Target="../media/image11.jpeg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hyperlink" Target="http://uk.wikipedia.org/wiki" TargetMode="External"/><Relationship Id="rId3" Type="http://schemas.openxmlformats.org/officeDocument/2006/relationships/hyperlink" Target="http://misce.info/zayvi.php" TargetMode="External"/><Relationship Id="rId4" Type="http://schemas.openxmlformats.org/officeDocument/2006/relationships/hyperlink" Target="http://dilomova.org.ua/?p=107" TargetMode="External"/><Relationship Id="rId5" Type="http://schemas.openxmlformats.org/officeDocument/2006/relationships/hyperlink" Target="http://pidruchniki.ws/1356061539514/dokumentoznavstvo/zayava_rekviziti_oformlyuvannya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71320" y="-360"/>
            <a:ext cx="7715160" cy="37148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 Black"/>
              </a:rPr>
              <a:t>Веб – квест з української мови для учнів 9 кла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рок розвитку мовл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дготувала учитель української мови КЗ “Зеленівська ЗОШ І – ІІІ ступенів природничо – математичного напрям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отова Наталія Петрі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4005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250920" y="3716280"/>
            <a:ext cx="83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ілові папери.  Заява.   Автобіографі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  <p:sndAc>
      <p:stSnd>
        <p:snd r:embed="rId1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143080" y="2071440"/>
            <a:ext cx="5786640" cy="4786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Назвіть основні складові частини автобіограф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Детально поясніть, що таке автобіографі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З яких реквізитів складається автобіографі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50920" y="189000"/>
            <a:ext cx="839304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в д а н н я     І   І    г р у п і      м о в н и к і в    :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Рисунок 3" descr="http://www.idea.com.ua/products/ub30885.jpg"/>
          <p:cNvPicPr/>
          <p:nvPr/>
        </p:nvPicPr>
        <p:blipFill>
          <a:blip r:embed="rId1"/>
          <a:srcRect l="20911" t="46969" r="8346" b="0"/>
          <a:stretch/>
        </p:blipFill>
        <p:spPr>
          <a:xfrm>
            <a:off x="7000920" y="4143240"/>
            <a:ext cx="185724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071440" y="1499760"/>
            <a:ext cx="7072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://pravo-porada.com.ua/practice/57-inshi-dokumenty/363-avtobografja-zrazok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http://dilomova.org.ua/?p=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http://pidruchniki.ws/12800528/dokumentoznavstvo/avtobiografi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http://myreferatik.in.ua/load/referat_1_kurs/ukrajinska_mova/avtobiografija_rekviziti/13-1-0-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http://lubbook.net/book_221_glava_26_Tema_26._Avtob%D1%96ograf%D1%96ja.KH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c0835"/>
                </a:solidFill>
                <a:latin typeface="Arial"/>
              </a:rPr>
              <a:t>http://uk.wikipedia.org/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кутник 4"/>
          <p:cNvSpPr/>
          <p:nvPr/>
        </p:nvSpPr>
        <p:spPr>
          <a:xfrm>
            <a:off x="2214720" y="0"/>
            <a:ext cx="657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004d"/>
                </a:solidFill>
                <a:latin typeface="Impact"/>
              </a:rPr>
              <a:t>В а м    д о п о м о ж у т 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004d"/>
                </a:solidFill>
                <a:latin typeface="Impact"/>
              </a:rPr>
              <a:t>такі ресурси Інтернет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j0205582"/>
          <p:cNvPicPr/>
          <p:nvPr/>
        </p:nvPicPr>
        <p:blipFill>
          <a:blip r:embed="rId6"/>
          <a:stretch/>
        </p:blipFill>
        <p:spPr>
          <a:xfrm>
            <a:off x="7500960" y="5572080"/>
            <a:ext cx="1197000" cy="1098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071800" y="2214360"/>
            <a:ext cx="6572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://www.ozhegov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http://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lingvistics_dictionary.academic.ru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http://dic.academic.ru/dic.nsf/lingvistic/67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http://www.efremova.info/word/leksicheskij.html#.UqXq3PRdWp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кутник 4" descr=""/>
          <p:cNvPicPr/>
          <p:nvPr/>
        </p:nvPicPr>
        <p:blipFill>
          <a:blip r:embed="rId2"/>
          <a:stretch/>
        </p:blipFill>
        <p:spPr>
          <a:xfrm>
            <a:off x="1779480" y="92160"/>
            <a:ext cx="7809120" cy="1968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cards_h10"/>
          <p:cNvPicPr/>
          <p:nvPr/>
        </p:nvPicPr>
        <p:blipFill>
          <a:blip r:embed="rId3"/>
          <a:stretch/>
        </p:blipFill>
        <p:spPr>
          <a:xfrm>
            <a:off x="5286240" y="3971880"/>
            <a:ext cx="3000600" cy="2398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214720" y="4214880"/>
            <a:ext cx="6400800" cy="23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dc0835"/>
                </a:solidFill>
                <a:latin typeface="Arial"/>
              </a:rPr>
              <a:t>    </a:t>
            </a:r>
            <a:r>
              <a:rPr b="1" lang="uk-UA" sz="4800" spc="-1" strike="noStrike">
                <a:solidFill>
                  <a:srgbClr val="dc0835"/>
                </a:solidFill>
                <a:latin typeface="Arial"/>
              </a:rPr>
              <a:t>є характерним для всіх ділових папері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000080" y="476280"/>
            <a:ext cx="7858080" cy="33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   прослухал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ступи груп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Що ж,  на вашу думку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Рисунок 3" descr="http://im4-tub-ua.yandex.net/i?id=218997078-61-72&amp;n=21"/>
          <p:cNvPicPr/>
          <p:nvPr/>
        </p:nvPicPr>
        <p:blipFill>
          <a:blip r:embed="rId1"/>
          <a:stretch/>
        </p:blipFill>
        <p:spPr>
          <a:xfrm>
            <a:off x="785880" y="4286160"/>
            <a:ext cx="1768320" cy="143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3b929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63b92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63b929"/>
                </a:solidFill>
                <a:latin typeface="Arial"/>
              </a:rPr>
              <a:t>ясуйте, чи правильно оформлені заяви, за потреби відредагу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3b929"/>
                </a:solidFill>
                <a:latin typeface="Arial"/>
              </a:rPr>
              <a:t>Прокоментуйте зроблені виправ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3b929"/>
                </a:solidFill>
                <a:latin typeface="Arial"/>
              </a:rPr>
              <a:t>Самостійно складіть заяву та збережіть у власній теці, що є на робочому сто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3b929"/>
                </a:solidFill>
                <a:latin typeface="Arial"/>
              </a:rPr>
              <a:t>За потреби зверніться до зраз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771640" y="333360"/>
            <a:ext cx="525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нувальні вправ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  <p:sndAc>
      <p:stSnd>
        <p:snd r:embed="rId1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3b929"/>
                </a:solidFill>
                <a:latin typeface="Arial"/>
              </a:rPr>
              <a:t>Керуйтеся трьома загальними питанн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c0835"/>
                </a:solidFill>
                <a:latin typeface="Arial"/>
              </a:rPr>
              <a:t>З ким розмовля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c0835"/>
                </a:solidFill>
                <a:latin typeface="Arial"/>
              </a:rPr>
              <a:t>Що хочу сказа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c0835"/>
                </a:solidFill>
                <a:latin typeface="Arial"/>
              </a:rPr>
              <a:t>Навіщо це хочу сказа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3b929"/>
                </a:solidFill>
                <a:latin typeface="Arial"/>
              </a:rPr>
              <a:t>Подумайте, як сказати правильно, як сказати зрозуміло, як сказати цікаво, як сказати переконли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2050920" y="260280"/>
            <a:ext cx="69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іграйте діалог за ситуаціями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  <p:sndAc>
      <p:stSnd>
        <p:snd r:embed="rId4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438280" y="1700280"/>
            <a:ext cx="6400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66ff"/>
                </a:solidFill>
                <a:latin typeface="Arial"/>
              </a:rPr>
              <a:t>Один з учнів – керівник фірми, а інший – претендент на вакантну посаду у цій фірм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66ff"/>
                </a:solidFill>
                <a:latin typeface="Arial"/>
              </a:rPr>
              <a:t>Член приймальної комісії навчального закладу й абітуріє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У тексті діалогу ввести розповідь про вимоги до оформлення за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700360" y="549360"/>
            <a:ext cx="61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к л а д і т ь      д і а л о г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  <p:sndAc>
      <p:stSnd>
        <p:snd r:embed="rId1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з проханням зарахувати до навчання до 10 – го класу або допустити до складання вступних іспитів в училище чи колед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116000" y="404640"/>
            <a:ext cx="781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ладіть і запишіть заяву 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" name="Рисунок 3" descr="http://im4-tub-ua.yandex.net/i?id=218997078-61-72&amp;n=21"/>
          <p:cNvPicPr/>
          <p:nvPr/>
        </p:nvPicPr>
        <p:blipFill>
          <a:blip r:embed="rId4"/>
          <a:stretch/>
        </p:blipFill>
        <p:spPr>
          <a:xfrm>
            <a:off x="6143760" y="4857840"/>
            <a:ext cx="2625480" cy="178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356920" y="2071800"/>
            <a:ext cx="6481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c0835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dc0835"/>
                </a:solidFill>
                <a:latin typeface="Arial"/>
              </a:rPr>
              <a:t>Тепер ви знаєте, що означає слово “автобіографія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c0835"/>
                </a:solidFill>
                <a:latin typeface="Arial"/>
              </a:rPr>
              <a:t>Якщо вам треба написати автобіографію, за допомогою звертайтесь  до  роботи гру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WordArt 4" descr=""/>
          <p:cNvPicPr/>
          <p:nvPr/>
        </p:nvPicPr>
        <p:blipFill>
          <a:blip r:embed="rId1"/>
          <a:stretch/>
        </p:blipFill>
        <p:spPr>
          <a:xfrm>
            <a:off x="2017800" y="19080"/>
            <a:ext cx="6242040" cy="234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438280" y="220500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c0835"/>
                </a:solidFill>
                <a:latin typeface="Arial"/>
              </a:rPr>
              <a:t>Скажіть, чи доречним є поєднання слів “моя автобіографія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c0835"/>
                </a:solidFill>
                <a:latin typeface="Arial"/>
              </a:rPr>
              <a:t>З</a:t>
            </a:r>
            <a:r>
              <a:rPr b="1" lang="en-US" sz="2800" spc="-1" strike="noStrike">
                <a:solidFill>
                  <a:srgbClr val="dc0835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dc0835"/>
                </a:solidFill>
                <a:latin typeface="Arial"/>
              </a:rPr>
              <a:t>ясуйте, які реквізити автобіографії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c0835"/>
                </a:solidFill>
                <a:latin typeface="Arial"/>
              </a:rPr>
              <a:t>Опрацюйте зразок автобіографії в підруч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c0835"/>
                </a:solidFill>
                <a:latin typeface="Arial"/>
              </a:rPr>
              <a:t>Відредагуйте текст автобіографії. Збережіть його для переві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2340000" y="476280"/>
            <a:ext cx="648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ап Вишня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оя автобіографі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Чи доводиться людям у житті складати заяву, автобіографі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Що ви про це знає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Як ви вважаєте, для чого нам пропонується така те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Яку мету ви ставите перед собо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Що хочете дізнатися, чого навчитися,  беручи участь у проекті? Озвучте відпові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3276720" y="404640"/>
            <a:ext cx="4752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 вашу  думк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8" name="Picture 7" descr="сканирование0034"/>
          <p:cNvPicPr/>
          <p:nvPr/>
        </p:nvPicPr>
        <p:blipFill>
          <a:blip r:embed="rId1"/>
          <a:stretch/>
        </p:blipFill>
        <p:spPr>
          <a:xfrm>
            <a:off x="428760" y="642960"/>
            <a:ext cx="1857240" cy="24955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000160" y="2000160"/>
            <a:ext cx="6400800" cy="4500720"/>
          </a:xfrm>
          <a:prstGeom prst="rect">
            <a:avLst/>
          </a:prstGeom>
          <a:solidFill>
            <a:srgbClr val="d0bef5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c0835"/>
                </a:solidFill>
                <a:latin typeface="Arial"/>
              </a:rPr>
              <a:t>Що вивчили на уроці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c0835"/>
                </a:solidFill>
                <a:latin typeface="Arial"/>
              </a:rPr>
              <a:t>Що з</a:t>
            </a:r>
            <a:r>
              <a:rPr b="1" lang="en-US" sz="4400" spc="-1" strike="noStrike">
                <a:solidFill>
                  <a:srgbClr val="dc0835"/>
                </a:solidFill>
                <a:latin typeface="Arial"/>
              </a:rPr>
              <a:t>’</a:t>
            </a:r>
            <a:r>
              <a:rPr b="1" lang="uk-UA" sz="4400" spc="-1" strike="noStrike">
                <a:solidFill>
                  <a:srgbClr val="dc0835"/>
                </a:solidFill>
                <a:latin typeface="Arial"/>
              </a:rPr>
              <a:t>ясув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c0835"/>
                </a:solidFill>
                <a:latin typeface="Arial"/>
              </a:rPr>
              <a:t>Запиші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c0835"/>
                </a:solidFill>
                <a:latin typeface="Arial"/>
              </a:rPr>
              <a:t>висновки 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c0835"/>
                </a:solidFill>
                <a:latin typeface="Arial"/>
              </a:rPr>
              <a:t>зош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2268360" y="404640"/>
            <a:ext cx="601848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загальнення вивченого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Мікрофон»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0" name="Рисунок 3" descr="http://knygy.com.ua/pictures/l/9789660340305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6786720" y="3929040"/>
            <a:ext cx="2143080" cy="26686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928520" y="1600200"/>
            <a:ext cx="69102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Arial"/>
              </a:rPr>
              <a:t>Видатний оратор давнього Риму сказав так: “Найкраща у світі мета – стати хорошою людиною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Arial"/>
              </a:rPr>
              <a:t>Чи достатньо цього, щоб називати себе людиною у повному розумінні цього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Arial"/>
              </a:rPr>
              <a:t>Коли людина стає Людиною: у 18, 30 чи 50 рокі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Arial"/>
              </a:rPr>
              <a:t>Пам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33cc"/>
                </a:solidFill>
                <a:latin typeface="Arial"/>
              </a:rPr>
              <a:t>ятаєте, як у Г.Сковороди: “Любов народжує любов. Коли я хочу, щоб мене любили, я сам перший люблю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2771640" y="333360"/>
            <a:ext cx="489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ідсумок урок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3" name="Picture 7" descr="сканирование0034"/>
          <p:cNvPicPr/>
          <p:nvPr/>
        </p:nvPicPr>
        <p:blipFill>
          <a:blip r:embed="rId1"/>
          <a:stretch/>
        </p:blipFill>
        <p:spPr>
          <a:xfrm>
            <a:off x="214200" y="500040"/>
            <a:ext cx="201636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438280" y="1916280"/>
            <a:ext cx="6400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c0835"/>
                </a:solidFill>
                <a:latin typeface="Arial"/>
              </a:rPr>
              <a:t>Уважно перечитайте матеріал підручника з даної те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c0835"/>
                </a:solidFill>
                <a:latin typeface="Arial"/>
              </a:rPr>
              <a:t>Складіть і напишіть автобіографі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843280" y="620640"/>
            <a:ext cx="547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є завданн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6" name="Picture 8" descr="PC71"/>
          <p:cNvPicPr/>
          <p:nvPr/>
        </p:nvPicPr>
        <p:blipFill>
          <a:blip r:embed="rId1"/>
          <a:stretch/>
        </p:blipFill>
        <p:spPr>
          <a:xfrm>
            <a:off x="6143760" y="4643280"/>
            <a:ext cx="212400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43080" y="1285920"/>
            <a:ext cx="6696000" cy="557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Навчитися правильно складати життєво необхідні документи – заяву й автобіографію, дотримуватися при цьому офіційно – ділового сти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озвивати орфографічну і пунктуаційну грамотність, удосконалювати навички роботи з різними джерелами: підручни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комп</a:t>
            </a:r>
            <a:r>
              <a:rPr b="1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̕ ютером, таблиц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Розвивати культуру ділового спілкування, увагу, пам̕ ять, творче і логічне мислення, усне і писем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      </a:t>
            </a:r>
            <a:r>
              <a:rPr b="1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зв̕ язне мис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Вчитися б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       </a:t>
            </a:r>
            <a:r>
              <a:rPr b="1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уваж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Виховувати життє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творчу позиц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5"/>
          <p:cNvSpPr txBox="1"/>
          <p:nvPr/>
        </p:nvSpPr>
        <p:spPr>
          <a:xfrm>
            <a:off x="2771640" y="333360"/>
            <a:ext cx="51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е   завданн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Рисунок 3" descr="http://im3-tub-ua.yandex.net/i?id=115580075-21-72&amp;n=21"/>
          <p:cNvPicPr/>
          <p:nvPr/>
        </p:nvPicPr>
        <p:blipFill>
          <a:blip r:embed="rId1"/>
          <a:stretch/>
        </p:blipFill>
        <p:spPr>
          <a:xfrm>
            <a:off x="6429240" y="5143680"/>
            <a:ext cx="2286000" cy="143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285920" y="1357200"/>
            <a:ext cx="7215120" cy="5500800"/>
          </a:xfrm>
          <a:prstGeom prst="rect">
            <a:avLst/>
          </a:prstGeom>
          <a:solidFill>
            <a:srgbClr val="ffad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dc083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ержавна мова у нас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країнс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dc083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аме нею оприлюднюю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кументи найвищих органів вл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dc083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країнською мовою оформлюються тексти ділових папер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dc083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ступаючи до будь – якого навчального закладу чи влаштовуючись на роботу, кожному доводиться оформлювати відповідні докумен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dc083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формлювати треба правильно, тому й кажемо, що тема “Ділові папери. Заява. Автобіографія” є дуже важлив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dc083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 зараз пригадайте, які ділові папери ви вже вчилися складат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dc083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ля того, щоб урок був цікавий та плідний, ви повинні підготуват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785960" y="285840"/>
            <a:ext cx="525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верніть увагу 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Рисунок 3" descr="http://im5-tub-ua.yandex.net/i?id=620076110-02-72&amp;n=21"/>
          <p:cNvPicPr/>
          <p:nvPr/>
        </p:nvPicPr>
        <p:blipFill>
          <a:blip r:embed="rId1"/>
          <a:stretch/>
        </p:blipFill>
        <p:spPr>
          <a:xfrm>
            <a:off x="6929280" y="1214280"/>
            <a:ext cx="2035440" cy="143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6000" y="2142720"/>
            <a:ext cx="6400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Розділіться на 3 гру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Оберіть лідера гру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Визначте питання,  над якими ви будете працюв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Розподіліть об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язки в груп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Вивчіть необхідну друковану й електронну літературу з тем, знайдіть ілюстративний матері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Створіть презентацію, підготуйте виступ на уро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285840" y="0"/>
            <a:ext cx="728640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 л я    ц ь о г 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7" name="Picture 5" descr="do56"/>
          <p:cNvPicPr/>
          <p:nvPr/>
        </p:nvPicPr>
        <p:blipFill>
          <a:blip r:embed="rId4"/>
          <a:stretch/>
        </p:blipFill>
        <p:spPr>
          <a:xfrm>
            <a:off x="6356520" y="422280"/>
            <a:ext cx="2216160" cy="16365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http://im4-tub-ua.yandex.net/i?id=218997078-61-72&amp;n=21"/>
          <p:cNvPicPr/>
          <p:nvPr/>
        </p:nvPicPr>
        <p:blipFill>
          <a:blip r:embed="rId5"/>
          <a:stretch/>
        </p:blipFill>
        <p:spPr>
          <a:xfrm>
            <a:off x="7000920" y="5214960"/>
            <a:ext cx="1768320" cy="1432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do56"/>
          <p:cNvPicPr/>
          <p:nvPr/>
        </p:nvPicPr>
        <p:blipFill>
          <a:blip r:embed="rId6"/>
          <a:stretch/>
        </p:blipFill>
        <p:spPr>
          <a:xfrm>
            <a:off x="5429160" y="923760"/>
            <a:ext cx="2214720" cy="163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do56"/>
          <p:cNvPicPr/>
          <p:nvPr/>
        </p:nvPicPr>
        <p:blipFill>
          <a:blip r:embed="rId7"/>
          <a:stretch/>
        </p:blipFill>
        <p:spPr>
          <a:xfrm>
            <a:off x="6356520" y="1211400"/>
            <a:ext cx="250164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8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43000" y="2071440"/>
            <a:ext cx="6500880" cy="4786200"/>
          </a:xfrm>
          <a:prstGeom prst="rect">
            <a:avLst/>
          </a:prstGeom>
          <a:solidFill>
            <a:srgbClr val="e8d1fd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Повторити стилі мов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Опрацювати ознаки офіційно – ділового сти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Дізнатися, що характерно для текстів офіційно – ділового сти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Познайомитися з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зразками  текстів даного стилю.</a:t>
            </a:r>
            <a:r>
              <a:rPr b="1" lang="uk-UA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500040" y="285840"/>
            <a:ext cx="8215200" cy="18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в д а н н я    г р у п і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 З н а в ц і    с т и л і с т и к и  »       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8310600" y="461160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4" descr="http://www.idea.com.ua/products/ub30885.jpg"/>
          <p:cNvPicPr/>
          <p:nvPr/>
        </p:nvPicPr>
        <p:blipFill>
          <a:blip r:embed="rId1"/>
          <a:srcRect l="0" t="0" r="0" b="9441"/>
          <a:stretch/>
        </p:blipFill>
        <p:spPr>
          <a:xfrm>
            <a:off x="7072200" y="4071960"/>
            <a:ext cx="207180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142720" y="1928880"/>
            <a:ext cx="7000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</a:t>
            </a:r>
            <a:r>
              <a:rPr b="0" lang="uk-UA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uk</a:t>
            </a:r>
            <a:r>
              <a:rPr b="0" lang="uk-UA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.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wikipedia</a:t>
            </a:r>
            <a:r>
              <a:rPr b="0" lang="uk-UA" sz="1800" spc="-1" strike="noStrike" u="sng">
                <a:solidFill>
                  <a:srgbClr val="e4005c"/>
                </a:solidFill>
                <a:uFillTx/>
                <a:latin typeface="Arial"/>
                <a:hlinkClick r:id="rId6"/>
              </a:rPr>
              <a:t>.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7"/>
              </a:rPr>
              <a:t>org</a:t>
            </a:r>
            <a:r>
              <a:rPr b="0" lang="uk-UA" sz="1800" spc="-1" strike="noStrike" u="sng">
                <a:solidFill>
                  <a:srgbClr val="e4005c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9"/>
              </a:rPr>
              <a:t>wiki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10"/>
              </a:rPr>
              <a:t>http://pidruchniki.ws/1376102539488/dokumentoznavstvo/ofitsiyno-diloviy_stil_movni_nor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11"/>
              </a:rPr>
              <a:t>http://dilomova.org.ua/?p=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12"/>
              </a:rPr>
              <a:t>http://subject.com.ua/ukrmova/zno/32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13"/>
              </a:rPr>
              <a:t>http://www.br.com.ua/referats/Dilovodstvo/4018.htm?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14"/>
              </a:rPr>
              <a:t>http://cpk.org.ua/index.php?option=com_content&amp;view=article&amp;id=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15"/>
              </a:rPr>
              <a:t>http://www.br.com.ua/referats/Dilovodstvo/8047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16"/>
              </a:rPr>
              <a:t>http://shkolyar.in.ua/styli-movlen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17"/>
              </a:rPr>
              <a:t>http://www.refine.org.ua/pageid-1103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Прямокутник 4" descr=""/>
          <p:cNvPicPr/>
          <p:nvPr/>
        </p:nvPicPr>
        <p:blipFill>
          <a:blip r:embed="rId18"/>
          <a:stretch/>
        </p:blipFill>
        <p:spPr>
          <a:xfrm>
            <a:off x="1779480" y="212760"/>
            <a:ext cx="7371000" cy="1719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PC71"/>
          <p:cNvPicPr/>
          <p:nvPr/>
        </p:nvPicPr>
        <p:blipFill>
          <a:blip r:embed="rId19"/>
          <a:stretch/>
        </p:blipFill>
        <p:spPr>
          <a:xfrm>
            <a:off x="7215120" y="5572080"/>
            <a:ext cx="166680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0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143080" y="2071440"/>
            <a:ext cx="5958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c00b3"/>
                </a:solidFill>
                <a:latin typeface="Times New Roman"/>
                <a:ea typeface="Times New Roman"/>
              </a:rPr>
              <a:t>Опрацювати загальні відомості про ділові пап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c00b3"/>
                </a:solidFill>
                <a:latin typeface="Times New Roman"/>
                <a:ea typeface="Times New Roman"/>
              </a:rPr>
              <a:t>Що таке документ як основний вид документі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c00b3"/>
                </a:solidFill>
                <a:latin typeface="Times New Roman"/>
                <a:ea typeface="Times New Roman"/>
              </a:rPr>
              <a:t>Розкрити загальні принципи складання паперів ділового сти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c00b3"/>
                </a:solidFill>
                <a:latin typeface="Times New Roman"/>
                <a:ea typeface="Times New Roman"/>
              </a:rPr>
              <a:t>Підготувати  мовний матеріал: “ Заява як різновид документа, розкрити її призначення”. </a:t>
            </a:r>
            <a:r>
              <a:rPr b="0" lang="ru-RU" sz="2800" spc="-1" strike="noStrike">
                <a:solidFill>
                  <a:srgbClr val="3c00b3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3c00b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250920" y="189000"/>
            <a:ext cx="80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в д а н н я     І    г р у п і      м о в н и к і в    :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J0076130"/>
          <p:cNvPicPr/>
          <p:nvPr/>
        </p:nvPicPr>
        <p:blipFill>
          <a:blip r:embed="rId1"/>
          <a:stretch/>
        </p:blipFill>
        <p:spPr>
          <a:xfrm>
            <a:off x="8434440" y="500040"/>
            <a:ext cx="709560" cy="25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2214720" y="2000160"/>
          <a:ext cx="6500520" cy="5089680"/>
        </p:xfrm>
        <a:graphic>
          <a:graphicData uri="http://schemas.openxmlformats.org/drawingml/2006/table">
            <a:tbl>
              <a:tblPr/>
              <a:tblGrid>
                <a:gridCol w="6500520"/>
              </a:tblGrid>
              <a:tr h="50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2"/>
                        </a:rPr>
                        <a:t>http://uk.wikipedia.org/wiki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3"/>
                        </a:rPr>
                        <a:t>http://misce.info/zayvi.ph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4"/>
                        </a:rPr>
                        <a:t>http://dilomova.org.ua/?p=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5"/>
                        </a:rPr>
                        <a:t>http://pidruchniki.ws/1356061539514/dokumentoznavstvo/zayava_rekviziti_oformlyuvan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WordArt 23"/>
          <p:cNvSpPr txBox="1"/>
          <p:nvPr/>
        </p:nvSpPr>
        <p:spPr>
          <a:xfrm>
            <a:off x="468360" y="476280"/>
            <a:ext cx="72468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а м    д о п о м о ж у т 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акі ресурси інтернет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9:00:08Z</dcterms:created>
  <dc:creator>Unknown</dc:creator>
  <dc:description/>
  <dc:language>en-US</dc:language>
  <cp:lastModifiedBy>Админ</cp:lastModifiedBy>
  <dcterms:modified xsi:type="dcterms:W3CDTF">2013-12-18T18:55:12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140</vt:lpwstr>
  </property>
</Properties>
</file>