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15A-E6A4-4FE4-A648-18300EA8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6FD-9596-4E43-AC7F-5EFB0453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F29-F342-4C96-9B23-7F94CCEF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48E-6EDB-4B4F-898D-C4E3FD01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9AA2-E454-457E-99A1-66772A51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C46C-5AA6-4BBA-BEC4-2AD9EA8F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C93C-A377-4639-BAB6-2D145FD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F951-1688-43BA-9A95-FE3313D6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A332-FF97-4049-8B1D-FDE29B9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D353-C8AD-486B-BB55-748E2F6B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E47F-A6E5-434B-9685-7311A1E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D9E-FD66-4CF8-8964-0BBC452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22EB-44EC-42B9-A59F-A8327CBB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1E5A-2EB0-4645-BCC8-731D14A7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1279-5266-4E9F-94B2-B5B939D6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9685-AB8C-46DA-9D91-86D03C95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7434-7718-47E2-8CDF-6C624176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45F-1FC4-4293-82F1-D6CA166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94B-9741-48FE-8FD2-2DB31A76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A31-136A-4366-B7A1-0F5701D8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81B-9303-419D-962A-75B4F46B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E56-7765-4BD9-879C-B2E0C6BE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876-29D8-4418-93F4-82150C1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03D-01EB-4A44-B45D-438118D5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A072-B5E6-463E-BCD0-57AD27413A32}" type="slidenum"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4173-D195-4401-979F-0A10FAA2CF10}" type="slidenum"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050920" y="522900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Мова ділових папе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Іотова Н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900000" y="3141720"/>
            <a:ext cx="784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вні проблемні ситуації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ректору сьомої середньої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 учнів Шпака Мико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інчука Ярослава, Шевчук Парасі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що вчаться у дев'ятому кла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я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водим до Вашого відо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 на екскурсію ми не поїде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 час нам потрібний улі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деякого підробі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симо внесені кош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вернути через послуги пош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Підп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411280" y="333360"/>
            <a:ext cx="57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митро Білоус "Заява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142720" y="1143000"/>
            <a:ext cx="6735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 мене немає жодного сумніву в тому, що я народився, хоч під час мого появлення на світ білий і потім – років, мабуть, із десять підряд – мати казали, що мене ви-тягли із колодязя, коли напували корову Ори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рапилася ця подія 1 листопа-да (ст. стилю) 1889 року, в містеч-ку Груні Зінківського повіту на Полтавщи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ласне, подія ця трапилася не в самому містечку, а в хуторі Чеч-ві біля Груні, в маєткові фон Рот, де мій батько працював у пан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500120" y="0"/>
            <a:ext cx="69166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п Вишня " Моя    автобіографія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050560" y="333000"/>
            <a:ext cx="709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атьки мої були як узагалі бать-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атьків батько був у Лебедині шевцем. Материн батько був у Груні хліборо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либшої генеалогії не довелося мені прослідити. Батько взагалі не дуже любив про родичів розказува-ти, а коли було спитаєш у баби (батькової матері) про діда там чи про прадіда, вона завжди казала: “Отаке стерво було, як і ти оце! Покою від їх не було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4005c"/>
                </a:solidFill>
                <a:latin typeface="Arial"/>
              </a:rPr>
              <a:t>Для довідок. Генеалогія – родовід, історія 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14720" y="1999800"/>
            <a:ext cx="64008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 якого стилю мовлення належать ці тексти. Відповідь аргументув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вдяки яким мовним засобам автор досягає комічного ефек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віщо автор вживає тавтологі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3419640" y="333360"/>
            <a:ext cx="374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майт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Рисунок 3" descr="http://im4-tub-ua.yandex.net/i?id=218997078-61-72&amp;n=21"/>
          <p:cNvPicPr/>
          <p:nvPr/>
        </p:nvPicPr>
        <p:blipFill>
          <a:blip r:embed="rId1"/>
          <a:stretch/>
        </p:blipFill>
        <p:spPr>
          <a:xfrm>
            <a:off x="7000920" y="5143680"/>
            <a:ext cx="1768320" cy="143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7:26:40Z</dcterms:created>
  <dc:creator>Unknown</dc:creator>
  <dc:description/>
  <dc:language>en-US</dc:language>
  <cp:lastModifiedBy>Админ</cp:lastModifiedBy>
  <dcterms:modified xsi:type="dcterms:W3CDTF">2013-12-18T19:00:0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3000000000001024140</vt:lpwstr>
  </property>
</Properties>
</file>