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165A-5181-43A0-A401-22030C4B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CA56-3107-4E3D-B35B-E4A0DFB7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D47B-E08F-4A36-83D7-51447D6F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EB54-6A97-448C-92BC-73D988FE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2D8D-D263-48DA-9914-29DA6F1A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EB5C-4DC1-4F0A-AD80-BC4DDFAE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C307-7F7A-4829-ADB1-2242A10B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F0DF-8C97-43F8-9754-AA0352C4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9F40-802A-47EB-80B3-1E0868CD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FBB7-E017-4CDA-A394-43AF6BCE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F4DF-C430-4DEE-AB8C-35FEEC53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2F5-FF97-445B-B30A-A129B522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B722-16FF-4A35-8E65-9A7A0AC0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E3E8-C5C7-49E7-84EB-3797ED4F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F257-2CFD-493E-9361-06D21A39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AB81-29FF-4C84-849F-5282799E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0829-9684-49BD-85B0-886E5FA2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4D600-3362-45EE-BB95-D6E933D2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99E34-4925-4F78-B7AF-3ECA842C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C35B7-0513-4D5C-85C2-FC7E6F61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15F00-5762-460B-BA5B-F240E401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6E1B0-B83B-4898-8B98-53A3751D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4F9-26E8-473B-BEBB-05EC593A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884E3-430E-41EB-AD42-10854EAE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4679D-4998-4D02-9AED-E773001B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090D1-EE9B-4771-8CD7-E0AB5DEA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0E79B-724D-429D-92FD-287E8F07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07602-0E53-4924-84BE-64062599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749F6-6E14-4C2A-9897-CD8F9BFF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E556F-DE5D-4BDE-BF6B-E806A51E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063-7D88-459A-A55B-1D7DC778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7F6A-3A8C-49E9-9DD9-813AF37C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7D5-4A62-4538-9F51-60AD5B41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A463-1041-43E9-84D0-72741471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8E5D-5C77-4797-A195-53B47F03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B226-F4FB-4E3F-A7B1-356448D2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981A-8138-443D-8011-DC76577B9EA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2244-6FFB-4FA5-9DD1-5819886182A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3813-FFAE-49AB-95F7-4753A370917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 Black"/>
              </a:rPr>
              <a:t>СПОЛУЧ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7" descr="save2"/>
          <p:cNvPicPr/>
          <p:nvPr/>
        </p:nvPicPr>
        <p:blipFill>
          <a:blip r:embed="rId1"/>
          <a:stretch/>
        </p:blipFill>
        <p:spPr>
          <a:xfrm>
            <a:off x="179280" y="907920"/>
            <a:ext cx="3467160" cy="28116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814920" y="1071720"/>
            <a:ext cx="532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Сполучник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c0504d"/>
                </a:solidFill>
                <a:latin typeface="Times New Roman"/>
              </a:rPr>
              <a:t>– незмінна службова частина          </a:t>
            </a:r>
            <a:br>
              <a:rPr sz="2000"/>
            </a:br>
            <a:r>
              <a:rPr b="1" lang="uk-UA" sz="2000" spc="-1" strike="noStrike">
                <a:solidFill>
                  <a:srgbClr val="c0504d"/>
                </a:solidFill>
                <a:latin typeface="Times New Roman"/>
              </a:rPr>
              <a:t>                         мови, що сполучає однорідні </a:t>
            </a:r>
            <a:br>
              <a:rPr sz="2000"/>
            </a:br>
            <a:r>
              <a:rPr b="1" lang="uk-UA" sz="2000" spc="-1" strike="noStrike">
                <a:solidFill>
                  <a:srgbClr val="c0504d"/>
                </a:solidFill>
                <a:latin typeface="Times New Roman"/>
              </a:rPr>
              <a:t>                         члени речення та частини     </a:t>
            </a:r>
            <a:br>
              <a:rPr sz="2000"/>
            </a:br>
            <a:r>
              <a:rPr b="1" lang="uk-UA" sz="2000" spc="-1" strike="noStrike">
                <a:solidFill>
                  <a:srgbClr val="c0504d"/>
                </a:solidFill>
                <a:latin typeface="Times New Roman"/>
              </a:rPr>
              <a:t>                         складного реч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250920" y="414972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Ми не забудемо пісні,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800" spc="-1" strike="noStrike" u="sng">
                <a:solidFill>
                  <a:srgbClr val="c0504d"/>
                </a:solidFill>
                <a:uFillTx/>
                <a:latin typeface="Times New Roman"/>
              </a:rPr>
              <a:t>що</a:t>
            </a:r>
            <a:r>
              <a:rPr b="1" lang="uk-UA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їх навчала мати</a:t>
            </a:r>
            <a:r>
              <a:rPr b="1" lang="uk-UA" sz="2800" spc="-1" strike="noStrike">
                <a:solidFill>
                  <a:srgbClr val="c0504d"/>
                </a:solidFill>
                <a:latin typeface="Times New Roman"/>
              </a:rPr>
              <a:t> (М. Лукі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Землю</a:t>
            </a:r>
            <a:r>
              <a:rPr b="1" lang="uk-UA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i="1" lang="uk-UA" sz="2800" spc="-1" strike="noStrike" u="sng">
                <a:solidFill>
                  <a:srgbClr val="c0504d"/>
                </a:solidFill>
                <a:uFillTx/>
                <a:latin typeface="Times New Roman"/>
              </a:rPr>
              <a:t>й</a:t>
            </a:r>
            <a:r>
              <a:rPr b="1" lang="uk-UA" sz="2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небо пташки славословлять піснями дзвінкими</a:t>
            </a:r>
            <a:r>
              <a:rPr b="1" lang="uk-UA" sz="2800" spc="-1" strike="noStrike">
                <a:solidFill>
                  <a:srgbClr val="c0504d"/>
                </a:solidFill>
                <a:latin typeface="Times New Roman"/>
              </a:rPr>
              <a:t> (О. Олес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01 01 Дорожка 1.mp3" descr=""/>
          <p:cNvPicPr/>
          <p:nvPr/>
        </p:nvPicPr>
        <p:blipFill>
          <a:blip r:embed="rId2"/>
          <a:stretch/>
        </p:blipFill>
        <p:spPr>
          <a:xfrm>
            <a:off x="428760" y="59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</a:rPr>
              <a:t>Сполучники сурядност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11280" y="162864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розділові: </a:t>
            </a: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або, чи, хоч, або…або, чи…ч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                  </a:t>
            </a: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хоч…хоч, то…то, не то… не                   </a:t>
            </a:r>
            <a:br>
              <a:rPr sz="3600"/>
            </a:b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                  то, чи то … чи то.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save3"/>
          <p:cNvPicPr/>
          <p:nvPr/>
        </p:nvPicPr>
        <p:blipFill>
          <a:blip r:embed="rId1"/>
          <a:stretch/>
        </p:blipFill>
        <p:spPr>
          <a:xfrm>
            <a:off x="6143760" y="3571920"/>
            <a:ext cx="2520720" cy="24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</a:rPr>
              <a:t>Сполучники підрядност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11280" y="1628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часові:</a:t>
            </a: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 коли, як, доки, перед тим як,</a:t>
            </a:r>
            <a:br>
              <a:rPr sz="3600"/>
            </a:b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             після того як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save5"/>
          <p:cNvPicPr/>
          <p:nvPr/>
        </p:nvPicPr>
        <p:blipFill>
          <a:blip r:embed="rId1"/>
          <a:stretch/>
        </p:blipFill>
        <p:spPr>
          <a:xfrm>
            <a:off x="611280" y="2997360"/>
            <a:ext cx="2557440" cy="31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</a:rPr>
              <a:t>Сполучники підрядност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1280" y="1628640"/>
            <a:ext cx="82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причинові: </a:t>
            </a: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бо, тому що, через те що,              </a:t>
            </a:r>
            <a:br>
              <a:rPr sz="3600"/>
            </a:b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                    завдяки тому щ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save5"/>
          <p:cNvPicPr/>
          <p:nvPr/>
        </p:nvPicPr>
        <p:blipFill>
          <a:blip r:embed="rId1"/>
          <a:stretch/>
        </p:blipFill>
        <p:spPr>
          <a:xfrm>
            <a:off x="611280" y="2997360"/>
            <a:ext cx="255744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</a:rPr>
              <a:t>Сполучники підрядност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11280" y="1628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мети:</a:t>
            </a: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 щоб, для того щоб, аб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save5"/>
          <p:cNvPicPr/>
          <p:nvPr/>
        </p:nvPicPr>
        <p:blipFill>
          <a:blip r:embed="rId1"/>
          <a:stretch/>
        </p:blipFill>
        <p:spPr>
          <a:xfrm>
            <a:off x="611280" y="2997360"/>
            <a:ext cx="255744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</a:rPr>
              <a:t>Сполучники підрядност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11280" y="1628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умовні:</a:t>
            </a: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 як, якщо, якби, коли б, кол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save5"/>
          <p:cNvPicPr/>
          <p:nvPr/>
        </p:nvPicPr>
        <p:blipFill>
          <a:blip r:embed="rId1"/>
          <a:stretch/>
        </p:blipFill>
        <p:spPr>
          <a:xfrm>
            <a:off x="611280" y="2997360"/>
            <a:ext cx="255744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</a:rPr>
              <a:t>Сполучники підрядност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611280" y="1628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допустові:</a:t>
            </a: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 хоч, незважаючи на те що,    </a:t>
            </a:r>
            <a:br>
              <a:rPr sz="3600"/>
            </a:b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                  дарма щ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save5"/>
          <p:cNvPicPr/>
          <p:nvPr/>
        </p:nvPicPr>
        <p:blipFill>
          <a:blip r:embed="rId1"/>
          <a:stretch/>
        </p:blipFill>
        <p:spPr>
          <a:xfrm>
            <a:off x="611280" y="2997360"/>
            <a:ext cx="255744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</a:rPr>
              <a:t>Сполучники підрядност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11280" y="1628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порівняльні:</a:t>
            </a: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 як, наче, неначе, мов,     </a:t>
            </a:r>
            <a:br>
              <a:rPr sz="3600"/>
            </a:b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                      мовб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save5"/>
          <p:cNvPicPr/>
          <p:nvPr/>
        </p:nvPicPr>
        <p:blipFill>
          <a:blip r:embed="rId1"/>
          <a:stretch/>
        </p:blipFill>
        <p:spPr>
          <a:xfrm>
            <a:off x="611280" y="2997360"/>
            <a:ext cx="255744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</a:rPr>
              <a:t>Сполучники підрядност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11280" y="1628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з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ясувальні: </a:t>
            </a: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що, щоб, як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save5"/>
          <p:cNvPicPr/>
          <p:nvPr/>
        </p:nvPicPr>
        <p:blipFill>
          <a:blip r:embed="rId1"/>
          <a:stretch/>
        </p:blipFill>
        <p:spPr>
          <a:xfrm>
            <a:off x="611280" y="2997360"/>
            <a:ext cx="2557440" cy="31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</a:rPr>
              <a:t>За будовою розрізняють сполу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71680" y="17859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прості:</a:t>
            </a: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0" i="1" lang="uk-UA" sz="3600" spc="-1" strike="noStrike">
                <a:solidFill>
                  <a:srgbClr val="c0504d"/>
                </a:solidFill>
                <a:latin typeface="Times New Roman"/>
              </a:rPr>
              <a:t>і, а, але, чи</a:t>
            </a:r>
            <a:r>
              <a:rPr b="0" i="1" lang="en-US" sz="3600" spc="-1" strike="noStrike">
                <a:solidFill>
                  <a:srgbClr val="c0504d"/>
                </a:solidFill>
                <a:latin typeface="Times New Roman"/>
              </a:rPr>
              <a:t>,</a:t>
            </a:r>
            <a:r>
              <a:rPr b="0" i="1" lang="uk-UA" sz="3600" spc="-1" strike="noStrike">
                <a:solidFill>
                  <a:srgbClr val="c0504d"/>
                </a:solidFill>
                <a:latin typeface="Times New Roman"/>
              </a:rPr>
              <a:t> б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save8"/>
          <p:cNvPicPr/>
          <p:nvPr/>
        </p:nvPicPr>
        <p:blipFill>
          <a:blip r:embed="rId1"/>
          <a:stretch/>
        </p:blipFill>
        <p:spPr>
          <a:xfrm>
            <a:off x="611280" y="2925720"/>
            <a:ext cx="2417760" cy="30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</a:rPr>
              <a:t>За будовою розрізняють сполу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11280" y="1628640"/>
            <a:ext cx="82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складні, що утворені поєднанням в одне слово двох частин мови</a:t>
            </a:r>
            <a:r>
              <a:rPr b="1" lang="uk-UA" sz="36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0" i="1" lang="uk-UA" sz="3600" spc="-1" strike="noStrike">
                <a:solidFill>
                  <a:srgbClr val="c0504d"/>
                </a:solidFill>
                <a:latin typeface="Times New Roman"/>
              </a:rPr>
              <a:t>зате (за + те), якщо (як + щ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save8"/>
          <p:cNvPicPr/>
          <p:nvPr/>
        </p:nvPicPr>
        <p:blipFill>
          <a:blip r:embed="rId1"/>
          <a:stretch/>
        </p:blipFill>
        <p:spPr>
          <a:xfrm>
            <a:off x="617400" y="3429000"/>
            <a:ext cx="241776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</a:rPr>
              <a:t>Запам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’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</a:rPr>
              <a:t>ята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save3"/>
          <p:cNvPicPr/>
          <p:nvPr/>
        </p:nvPicPr>
        <p:blipFill>
          <a:blip r:embed="rId1"/>
          <a:stretch/>
        </p:blipFill>
        <p:spPr>
          <a:xfrm>
            <a:off x="539640" y="3068640"/>
            <a:ext cx="2519640" cy="24890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611280" y="1628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Сполучники не мають лексичного значенн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</a:rPr>
              <a:t>За будовою розрізняють сполу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611280" y="1628640"/>
            <a:ext cx="82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складні, що утворені з кількох слів:</a:t>
            </a:r>
            <a:r>
              <a:rPr b="1" lang="uk-UA" sz="36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0" i="1" lang="uk-UA" sz="3600" spc="-1" strike="noStrike">
                <a:solidFill>
                  <a:srgbClr val="c0504d"/>
                </a:solidFill>
                <a:latin typeface="Times New Roman"/>
              </a:rPr>
              <a:t>тому що, через те що, для того щоб, завдяки тому щ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save8"/>
          <p:cNvPicPr/>
          <p:nvPr/>
        </p:nvPicPr>
        <p:blipFill>
          <a:blip r:embed="rId1"/>
          <a:stretch/>
        </p:blipFill>
        <p:spPr>
          <a:xfrm>
            <a:off x="617400" y="3429000"/>
            <a:ext cx="241776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Times New Roman"/>
              </a:rPr>
              <a:t>Список літератури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500040" y="135720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500040" y="1785960"/>
            <a:ext cx="820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504d"/>
                </a:solidFill>
                <a:latin typeface="Times New Roman"/>
              </a:rPr>
              <a:t>Олександра Глазова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, </a:t>
            </a:r>
            <a:r>
              <a:rPr b="1" lang="uk-UA" sz="2800" spc="-1" strike="noStrike">
                <a:solidFill>
                  <a:srgbClr val="c0504d"/>
                </a:solidFill>
                <a:latin typeface="Times New Roman"/>
              </a:rPr>
              <a:t>Юрій Кузнецов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504d"/>
                </a:solidFill>
                <a:latin typeface="Times New Roman"/>
              </a:rPr>
              <a:t>      </a:t>
            </a:r>
            <a:r>
              <a:rPr b="1" lang="uk-UA" sz="2800" spc="-1" strike="noStrike">
                <a:solidFill>
                  <a:srgbClr val="c0504d"/>
                </a:solidFill>
                <a:latin typeface="Times New Roman"/>
              </a:rPr>
              <a:t>Рідна мова.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 - </a:t>
            </a:r>
            <a:r>
              <a:rPr b="1" lang="uk-UA" sz="2800" spc="-1" strike="noStrike">
                <a:solidFill>
                  <a:srgbClr val="c0504d"/>
                </a:solidFill>
                <a:latin typeface="Times New Roman"/>
              </a:rPr>
              <a:t> Київ: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“</a:t>
            </a:r>
            <a:r>
              <a:rPr b="1" lang="uk-UA" sz="2800" spc="-1" strike="noStrike">
                <a:solidFill>
                  <a:srgbClr val="c0504d"/>
                </a:solidFill>
                <a:latin typeface="Times New Roman"/>
              </a:rPr>
              <a:t>Зодіак-Еко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” - </a:t>
            </a:r>
            <a:r>
              <a:rPr b="1" lang="uk-UA" sz="2800" spc="-1" strike="noStrike">
                <a:solidFill>
                  <a:srgbClr val="c0504d"/>
                </a:solidFill>
                <a:latin typeface="Times New Roman"/>
              </a:rPr>
              <a:t> 2007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504d"/>
                </a:solidFill>
                <a:latin typeface="Times New Roman"/>
              </a:rPr>
              <a:t>2. С.А. Омельчук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.</a:t>
            </a:r>
            <a:r>
              <a:rPr b="1" lang="uk-UA" sz="2800" spc="-1" strike="noStrike">
                <a:solidFill>
                  <a:srgbClr val="c0504d"/>
                </a:solidFill>
                <a:latin typeface="Times New Roman"/>
              </a:rPr>
              <a:t> Українська мова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 - </a:t>
            </a:r>
            <a:r>
              <a:rPr b="1" lang="uk-UA" sz="2800" spc="-1" strike="noStrike">
                <a:solidFill>
                  <a:srgbClr val="c0504d"/>
                </a:solidFill>
                <a:latin typeface="Times New Roman"/>
              </a:rPr>
              <a:t> Харків: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c0504d"/>
                </a:solidFill>
                <a:latin typeface="Times New Roman"/>
              </a:rPr>
              <a:t>Основа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”</a:t>
            </a:r>
            <a:r>
              <a:rPr b="1" lang="uk-UA" sz="2800" spc="-1" strike="noStrike">
                <a:solidFill>
                  <a:srgbClr val="c0504d"/>
                </a:solidFill>
                <a:latin typeface="Times New Roman"/>
              </a:rPr>
              <a:t>, - </a:t>
            </a:r>
            <a:r>
              <a:rPr b="1" lang="ru-RU" sz="2800" spc="-1" strike="noStrike">
                <a:solidFill>
                  <a:srgbClr val="c0504d"/>
                </a:solidFill>
                <a:latin typeface="Times New Roman"/>
              </a:rPr>
              <a:t> 200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504d"/>
                </a:solidFill>
                <a:latin typeface="Times New Roman"/>
              </a:rPr>
              <a:t>3. Л.Г. Морозова. Українська мова. - 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“</a:t>
            </a:r>
            <a:r>
              <a:rPr b="1" lang="uk-UA" sz="2800" spc="-1" strike="noStrike">
                <a:solidFill>
                  <a:srgbClr val="c0504d"/>
                </a:solidFill>
                <a:latin typeface="Times New Roman"/>
              </a:rPr>
              <a:t>Ранок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”</a:t>
            </a:r>
            <a:r>
              <a:rPr b="1" lang="uk-UA" sz="2800" spc="-1" strike="noStrike">
                <a:solidFill>
                  <a:srgbClr val="c0504d"/>
                </a:solidFill>
                <a:latin typeface="Times New Roman"/>
              </a:rPr>
              <a:t>, -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1" descr="save9"/>
          <p:cNvPicPr/>
          <p:nvPr/>
        </p:nvPicPr>
        <p:blipFill>
          <a:blip r:embed="rId1"/>
          <a:stretch/>
        </p:blipFill>
        <p:spPr>
          <a:xfrm>
            <a:off x="6929280" y="142920"/>
            <a:ext cx="20923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20"/>
                            </p:stCondLst>
                            <p:childTnLst>
                              <p:par>
                                <p:cTn id="8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5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save1"/>
          <p:cNvPicPr/>
          <p:nvPr/>
        </p:nvPicPr>
        <p:blipFill>
          <a:blip r:embed="rId1"/>
          <a:stretch/>
        </p:blipFill>
        <p:spPr>
          <a:xfrm>
            <a:off x="2556000" y="254160"/>
            <a:ext cx="4559040" cy="585144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</a:rPr>
              <a:t>Запам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’</a:t>
            </a:r>
            <a:r>
              <a:rPr b="1" lang="uk-UA" sz="4400" spc="-1" strike="noStrike">
                <a:solidFill>
                  <a:srgbClr val="002060"/>
                </a:solidFill>
                <a:latin typeface="Times New Roman"/>
              </a:rPr>
              <a:t>ята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save3"/>
          <p:cNvPicPr/>
          <p:nvPr/>
        </p:nvPicPr>
        <p:blipFill>
          <a:blip r:embed="rId1"/>
          <a:stretch/>
        </p:blipFill>
        <p:spPr>
          <a:xfrm>
            <a:off x="1714680" y="3110040"/>
            <a:ext cx="1523880" cy="15048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611280" y="19731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Сполучники не є членами реченн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</a:rPr>
              <a:t>За своїм призначенням сполучники  поділяють на такі розряд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539640" y="3645000"/>
            <a:ext cx="82296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сполучники сурядності та сполучники підряднос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</a:rPr>
              <a:t>Сполучники сурядност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11280" y="1413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поєднують однорідні члени або рівноправні частини складного реченн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save4"/>
          <p:cNvPicPr/>
          <p:nvPr/>
        </p:nvPicPr>
        <p:blipFill>
          <a:blip r:embed="rId1"/>
          <a:stretch/>
        </p:blipFill>
        <p:spPr>
          <a:xfrm>
            <a:off x="5724360" y="3500280"/>
            <a:ext cx="2629080" cy="29718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755640" y="28861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Times New Roman"/>
              </a:rPr>
              <a:t>Прислухайся до всіх,</a:t>
            </a: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0" i="1" lang="uk-UA" sz="3600" spc="-1" strike="noStrike" u="sng">
                <a:solidFill>
                  <a:srgbClr val="c0504d"/>
                </a:solidFill>
                <a:uFillTx/>
                <a:latin typeface="Times New Roman"/>
              </a:rPr>
              <a:t>а</a:t>
            </a: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0000"/>
                </a:solidFill>
                <a:latin typeface="Times New Roman"/>
              </a:rPr>
              <a:t>вирішуй сам</a:t>
            </a: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               (Народна творчість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</a:rPr>
              <a:t>Сполучники підрядност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42960" y="12859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поєднують головну й запитну частини складного реченн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save4"/>
          <p:cNvPicPr/>
          <p:nvPr/>
        </p:nvPicPr>
        <p:blipFill>
          <a:blip r:embed="rId1"/>
          <a:stretch/>
        </p:blipFill>
        <p:spPr>
          <a:xfrm>
            <a:off x="357120" y="4000680"/>
            <a:ext cx="2629080" cy="26143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714240" y="27147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Times New Roman"/>
              </a:rPr>
              <a:t>Слово сказав таке міцне,</a:t>
            </a: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0" i="1" lang="uk-UA" sz="3600" spc="-1" strike="noStrike" u="sng">
                <a:solidFill>
                  <a:srgbClr val="c0504d"/>
                </a:solidFill>
                <a:uFillTx/>
                <a:latin typeface="Times New Roman"/>
              </a:rPr>
              <a:t>що</a:t>
            </a: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0000"/>
                </a:solidFill>
                <a:latin typeface="Times New Roman"/>
              </a:rPr>
              <a:t>на ньому хоч палац зводь </a:t>
            </a: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(Народна творчість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229600" cy="23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Times New Roman"/>
              </a:rPr>
              <a:t>За своїм значенням сполучники сурядності та підрядності поділяються на груп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</a:rPr>
              <a:t>Сполучники сурядност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611280" y="1628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єднальні:</a:t>
            </a: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 і (й), та (у значенні і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                 </a:t>
            </a: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і…і, ні…ні, ані…ані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save3"/>
          <p:cNvPicPr/>
          <p:nvPr/>
        </p:nvPicPr>
        <p:blipFill>
          <a:blip r:embed="rId1"/>
          <a:stretch/>
        </p:blipFill>
        <p:spPr>
          <a:xfrm>
            <a:off x="6156360" y="3141720"/>
            <a:ext cx="2521080" cy="248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</a:rPr>
              <a:t>Сполучники сурядност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611280" y="1628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протиставні:</a:t>
            </a: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 а, але, та (у значенні але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                       </a:t>
            </a:r>
            <a:r>
              <a:rPr b="0" lang="uk-UA" sz="3600" spc="-1" strike="noStrike">
                <a:solidFill>
                  <a:srgbClr val="c0504d"/>
                </a:solidFill>
                <a:latin typeface="Times New Roman"/>
              </a:rPr>
              <a:t>проте, зате, однак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save3"/>
          <p:cNvPicPr/>
          <p:nvPr/>
        </p:nvPicPr>
        <p:blipFill>
          <a:blip r:embed="rId1"/>
          <a:stretch/>
        </p:blipFill>
        <p:spPr>
          <a:xfrm>
            <a:off x="6156360" y="3141720"/>
            <a:ext cx="2521080" cy="2489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08:42:39Z</dcterms:created>
  <dc:creator>Office</dc:creator>
  <dc:description/>
  <dc:language>en-US</dc:language>
  <cp:lastModifiedBy>Admin</cp:lastModifiedBy>
  <dcterms:modified xsi:type="dcterms:W3CDTF">2014-05-06T10:10:32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5000000000001024140</vt:lpwstr>
  </property>
</Properties>
</file>