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28E-ED8C-4B81-A2C8-6A905B89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3BE-2A2E-413F-8434-5FDB4DB5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849-3A07-4DAA-9FB6-E92869A2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6C2-F643-43EA-86E1-DB6C424C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F3DF-B344-4B51-8E30-E5B7F186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1B81-0F7D-454D-BEC6-C742621A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FFB4-E8EE-43AB-8FA4-96B18840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ADE6-A57E-409D-B377-28A69708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D36A-9B30-456F-8D0E-93A8235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F1FA-9405-458D-A6CD-6BF296CF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B77F-3F92-4FBD-A02C-B051AD19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974-27DC-4AA8-A2EB-E983A49E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1EA1-86E4-4288-AB38-28858B1A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4248-7D32-4348-B4A1-225206B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BFA9-6CAF-4044-9B06-900967F7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26DC-34C9-4616-9E32-D3507C69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2706-71E8-44D4-BACF-83B982F0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689-1F42-42A5-8317-40C531A4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043-F7E2-4E54-BB43-CD145030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EBB-21C1-4839-A497-B0CEBAF6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87E-FCA8-4A43-B6CE-AF707703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1C8-5568-4FAD-84A8-F41B5B2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B3F-CF4E-406F-B4AE-0B9EE55A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E70-6483-4AB7-9EBB-996B394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B79-9B0C-4C1E-A2C1-ADE3F71216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1D7A-FFAA-42D2-B55A-59B50C986413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Прийменник </a:t>
            </a:r>
            <a:br>
              <a:rPr sz="3600"/>
            </a:b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як службова частина мови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31640" y="4797000"/>
            <a:ext cx="74898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5" name="01 01 Дорожка 1.mp3" descr=""/>
          <p:cNvPicPr/>
          <p:nvPr/>
        </p:nvPicPr>
        <p:blipFill>
          <a:blip r:embed="rId2"/>
          <a:stretch/>
        </p:blipFill>
        <p:spPr>
          <a:xfrm>
            <a:off x="1835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Способи творення похідних прийменників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28720" y="1341360"/>
            <a:ext cx="1150920" cy="5183280"/>
          </a:xfrm>
          <a:prstGeom prst="rect">
            <a:avLst/>
          </a:prstGeom>
          <a:solidFill>
            <a:srgbClr val="0000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І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І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Й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627280" y="1557360"/>
            <a:ext cx="3529080" cy="122400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36699"/>
                </a:solidFill>
                <a:latin typeface="Times New Roman"/>
              </a:rPr>
              <a:t>УТВОРЕНІ ШЛЯХОМ ПОЄДНАННЯ </a:t>
            </a: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36699"/>
                </a:solidFill>
                <a:latin typeface="Times New Roman"/>
              </a:rPr>
              <a:t>ДВОХ І БІЛЬШЕ </a:t>
            </a: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36699"/>
                </a:solidFill>
                <a:latin typeface="Times New Roman"/>
              </a:rPr>
              <a:t>НЕ ПОХІДНИХ ПРИЙМЕННИКІВ</a:t>
            </a: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627280" y="3357720"/>
            <a:ext cx="3529080" cy="122364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36699"/>
                </a:solidFill>
                <a:latin typeface="Times New Roman"/>
              </a:rPr>
              <a:t>УТВОРЕНІ ШЛЯХОМ ПЕРЕХОДУ </a:t>
            </a: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36699"/>
                </a:solidFill>
                <a:latin typeface="Times New Roman"/>
              </a:rPr>
              <a:t>ІМЕННИКІВ АБО ПРИСЛІВНИКІВ</a:t>
            </a: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627280" y="5157720"/>
            <a:ext cx="3529080" cy="11527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36699"/>
                </a:solidFill>
                <a:latin typeface="Times New Roman"/>
              </a:rPr>
              <a:t>УТВОРЕНІ ШЛЯХОМ ПОЄДНАННЯ </a:t>
            </a: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36699"/>
                </a:solidFill>
                <a:latin typeface="Times New Roman"/>
              </a:rPr>
              <a:t>ІМЕННИКІВ ЧИ ПРИСЛІВНИКІВ</a:t>
            </a: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36699"/>
                </a:solidFill>
                <a:latin typeface="Times New Roman"/>
              </a:rPr>
              <a:t>З НЕПОХІДНИМИ </a:t>
            </a: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36699"/>
                </a:solidFill>
                <a:latin typeface="Times New Roman"/>
              </a:rPr>
              <a:t>ПРИЙМЕННИКАМИ</a:t>
            </a: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6948360" y="1341360"/>
            <a:ext cx="1800360" cy="158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з-поміж,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задля,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поза, попід,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з-над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6948360" y="3068640"/>
            <a:ext cx="1800360" cy="158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коло, кінець,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протягом,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навколо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6948360" y="4869000"/>
            <a:ext cx="1800360" cy="158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з метою,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у справі,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в інтересах,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на відміну від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050920" y="2133720"/>
            <a:ext cx="503280" cy="0"/>
          </a:xfrm>
          <a:prstGeom prst="line">
            <a:avLst/>
          </a:prstGeom>
          <a:ln w="572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2050920" y="3860640"/>
            <a:ext cx="503280" cy="0"/>
          </a:xfrm>
          <a:prstGeom prst="line">
            <a:avLst/>
          </a:prstGeom>
          <a:ln w="572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050920" y="5661000"/>
            <a:ext cx="503280" cy="0"/>
          </a:xfrm>
          <a:prstGeom prst="line">
            <a:avLst/>
          </a:prstGeom>
          <a:ln w="572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6300720" y="2133720"/>
            <a:ext cx="503280" cy="0"/>
          </a:xfrm>
          <a:prstGeom prst="line">
            <a:avLst/>
          </a:prstGeom>
          <a:ln w="572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00720" y="3860640"/>
            <a:ext cx="503280" cy="0"/>
          </a:xfrm>
          <a:prstGeom prst="line">
            <a:avLst/>
          </a:prstGeom>
          <a:ln w="572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6300720" y="5661000"/>
            <a:ext cx="503280" cy="0"/>
          </a:xfrm>
          <a:prstGeom prst="line">
            <a:avLst/>
          </a:prstGeom>
          <a:ln w="572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52680" y="115560"/>
            <a:ext cx="7340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БУДОВА  ПРИЙМЕННИКІВ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547640" y="1773360"/>
            <a:ext cx="2016360" cy="718920"/>
          </a:xfrm>
          <a:prstGeom prst="rect">
            <a:avLst/>
          </a:prstGeom>
          <a:solidFill>
            <a:srgbClr val="0066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ості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140360" y="1773360"/>
            <a:ext cx="2016000" cy="718920"/>
          </a:xfrm>
          <a:prstGeom prst="rect">
            <a:avLst/>
          </a:prstGeom>
          <a:solidFill>
            <a:srgbClr val="0066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кладні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732720" y="1773360"/>
            <a:ext cx="2016000" cy="718920"/>
          </a:xfrm>
          <a:prstGeom prst="rect">
            <a:avLst/>
          </a:prstGeom>
          <a:solidFill>
            <a:srgbClr val="0066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складені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1547640" y="3141720"/>
            <a:ext cx="1944720" cy="244800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448000"/>
              <a:gd name="textAreaBottom" fmla="*/ 2353320 h 2448000"/>
            </a:gdLst>
            <a:ahLst/>
            <a:rect l="textAreaLeft" t="textAreaTop" r="textAreaRight" b="textAreaBottom"/>
            <a:pathLst>
              <a:path w="21600" h="27189">
                <a:moveTo>
                  <a:pt x="3600" y="0"/>
                </a:moveTo>
                <a:arcTo wR="3600" hR="3600" stAng="16200000" swAng="-5400000"/>
                <a:lnTo>
                  <a:pt x="0" y="23589"/>
                </a:lnTo>
                <a:arcTo wR="3600" hR="3600" stAng="10800000" swAng="-5400000"/>
                <a:lnTo>
                  <a:pt x="18000" y="27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без, до, по,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при, край,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мимо, коло, з,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перед, кінець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4140360" y="3141720"/>
            <a:ext cx="1944360" cy="2448000"/>
          </a:xfrm>
          <a:custGeom>
            <a:avLst/>
            <a:gdLst>
              <a:gd name="textAreaLeft" fmla="*/ 94680 w 1944360"/>
              <a:gd name="textAreaRight" fmla="*/ 1849680 w 1944360"/>
              <a:gd name="textAreaTop" fmla="*/ 94680 h 2448000"/>
              <a:gd name="textAreaBottom" fmla="*/ 2353320 h 2448000"/>
            </a:gdLst>
            <a:ahLst/>
            <a:rect l="textAreaLeft" t="textAreaTop" r="textAreaRight" b="textAreaBottom"/>
            <a:pathLst>
              <a:path w="21600" h="27194">
                <a:moveTo>
                  <a:pt x="3600" y="0"/>
                </a:moveTo>
                <a:arcTo wR="3600" hR="3600" stAng="16200000" swAng="-5400000"/>
                <a:lnTo>
                  <a:pt x="0" y="23594"/>
                </a:lnTo>
                <a:arcTo wR="3600" hR="3600" stAng="10800000" swAng="-5400000"/>
                <a:lnTo>
                  <a:pt x="18000" y="271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з-над, із-за,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з-поза, поміж,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поза, з-поміж,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заради, довкола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6732720" y="3141720"/>
            <a:ext cx="1944720" cy="244800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448000"/>
              <a:gd name="textAreaBottom" fmla="*/ 2353320 h 2448000"/>
            </a:gdLst>
            <a:ahLst/>
            <a:rect l="textAreaLeft" t="textAreaTop" r="textAreaRight" b="textAreaBottom"/>
            <a:pathLst>
              <a:path w="21600" h="27189">
                <a:moveTo>
                  <a:pt x="3600" y="0"/>
                </a:moveTo>
                <a:arcTo wR="3600" hR="3600" stAng="16200000" swAng="-5400000"/>
                <a:lnTo>
                  <a:pt x="0" y="23589"/>
                </a:lnTo>
                <a:arcTo wR="3600" hR="3600" stAng="10800000" swAng="-5400000"/>
                <a:lnTo>
                  <a:pt x="18000" y="27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згідно з,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відповідно до,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у зв'язку з,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66ff"/>
                </a:solidFill>
                <a:latin typeface="Times New Roman"/>
              </a:rPr>
              <a:t>незважаючи на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2484360" y="1052640"/>
            <a:ext cx="1008000" cy="57600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6588000" y="1052640"/>
            <a:ext cx="1297080" cy="50472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5076720" y="981000"/>
            <a:ext cx="0" cy="64764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20720" y="188640"/>
            <a:ext cx="69120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Правопис прийменників</a:t>
            </a:r>
            <a:r>
              <a:rPr b="0" lang="uk-UA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1547640" y="1413000"/>
            <a:ext cx="1800360" cy="863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РАЗОМ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6804000" y="1413000"/>
            <a:ext cx="1800360" cy="863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ЧЕРЕЗ ДЕФІС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4211640" y="1413000"/>
            <a:ext cx="1800360" cy="863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ОКРЕМО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619280" y="2924280"/>
            <a:ext cx="1800360" cy="2808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понад, вздовж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навкруги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назустріч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поруч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попід, довкола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211640" y="2924280"/>
            <a:ext cx="1800360" cy="2808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згідно з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незважаючи на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за винятком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з метою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під час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незалежно від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877080" y="2924280"/>
            <a:ext cx="1800360" cy="2808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з-за, із-за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з-над, з-під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з-поміж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з-посеред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ff"/>
                </a:solidFill>
                <a:latin typeface="Times New Roman"/>
              </a:rPr>
              <a:t>з-поза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076720" y="907920"/>
            <a:ext cx="0" cy="43200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6012000" y="836640"/>
            <a:ext cx="1655640" cy="36036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484360" y="765000"/>
            <a:ext cx="1656000" cy="43200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411280" y="2349360"/>
            <a:ext cx="0" cy="43200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5076720" y="2349360"/>
            <a:ext cx="0" cy="43200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7740720" y="2349360"/>
            <a:ext cx="0" cy="43200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Похідні прийменники </a:t>
            </a:r>
            <a:br>
              <a:rPr sz="3600"/>
            </a:b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пишуться РАЗОМ: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8560" y="1820520"/>
            <a:ext cx="79930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825"/>
              </a:spcBef>
              <a:buClr>
                <a:srgbClr val="00b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b000"/>
                </a:solidFill>
                <a:latin typeface="Arial"/>
              </a:rPr>
              <a:t>утворені від прислівників;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b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b000"/>
                </a:solidFill>
                <a:latin typeface="Arial"/>
              </a:rPr>
              <a:t>утворені від іменників;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00b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b000"/>
                </a:solidFill>
                <a:latin typeface="Arial"/>
              </a:rPr>
              <a:t>утворені від інших прийменників.</a:t>
            </a:r>
            <a:endParaRPr b="1" lang="en-US" sz="33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1692360" y="4219560"/>
            <a:ext cx="3313080" cy="3673440"/>
          </a:xfrm>
          <a:prstGeom prst="pi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Не всяка дорога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проходить коло села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506920" y="4148280"/>
            <a:ext cx="3313080" cy="3673440"/>
          </a:xfrm>
          <a:prstGeom prst="pi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Сидить батько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кінець стола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i="1" lang="uk-UA" sz="2000" spc="-1" strike="noStrike">
                <a:solidFill>
                  <a:srgbClr val="0066ff"/>
                </a:solidFill>
                <a:latin typeface="Times New Roman"/>
              </a:rPr>
              <a:t>руки схил</a:t>
            </a: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ився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Похідні прийменники </a:t>
            </a:r>
            <a:br>
              <a:rPr sz="3600"/>
            </a:b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пишуться ОКРЕМО: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0160" y="1341360"/>
            <a:ext cx="7772400" cy="24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Arial"/>
              </a:rPr>
              <a:t>утворені шляхом поєднання прислівників з непохідними прийменниками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Arial"/>
              </a:rPr>
              <a:t>утворені шляхом поєднання іменників з непохідними прийменникам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187280" y="3357720"/>
            <a:ext cx="4248360" cy="3384360"/>
          </a:xfrm>
          <a:prstGeom prst="irregularSeal2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Минають тисячі років,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і голова комети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зменшується </a:t>
            </a:r>
            <a:r>
              <a:rPr b="0" lang="uk-UA" sz="1800" spc="-1" strike="noStrike" u="sng">
                <a:solidFill>
                  <a:srgbClr val="0033cc"/>
                </a:solidFill>
                <a:uFillTx/>
                <a:latin typeface="Times New Roman"/>
              </a:rPr>
              <a:t>за рахунок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танення льоду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4932360" y="3500280"/>
            <a:ext cx="4248000" cy="3213360"/>
          </a:xfrm>
          <a:prstGeom prst="irregularSeal2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Учні взяли ноутбук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у комп'ютерному центрі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з метою підготовки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проекту з історії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ff"/>
                </a:solidFill>
                <a:latin typeface="Times New Roman"/>
              </a:rPr>
              <a:t>Похідні прийменники </a:t>
            </a:r>
            <a:br>
              <a:rPr sz="4000"/>
            </a:br>
            <a:r>
              <a:rPr b="1" lang="uk-UA" sz="4000" spc="-1" strike="noStrike">
                <a:solidFill>
                  <a:srgbClr val="0066ff"/>
                </a:solidFill>
                <a:latin typeface="Times New Roman"/>
              </a:rPr>
              <a:t>пишуться ЧЕРЕЗ ДЕФІС: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утворені шляхом приєднання до прийменника з (із) інших прийменників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2124000" y="3357720"/>
            <a:ext cx="6408720" cy="2950920"/>
          </a:xfrm>
          <a:prstGeom prst="flowChartPunchedTap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Хустинка в неї зсунулась набік,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і </a:t>
            </a:r>
            <a:r>
              <a:rPr b="1" i="1" lang="uk-UA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-під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 неї вибилась хмарка лляного волосся,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білого й легкого як пу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144000" cy="62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Verdana"/>
              </a:rPr>
              <a:t>Алгоритм правопису прийменників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792000" y="620640"/>
            <a:ext cx="428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Чи це похідний прийменник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з  І частиною з (із)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095640" y="2637000"/>
            <a:ext cx="42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2. Це злиття непохідних прийменників?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932360" y="4219560"/>
            <a:ext cx="42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imes New Roman"/>
              </a:rPr>
              <a:t>3. Це злиття непохідного прийменника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imes New Roman"/>
              </a:rPr>
              <a:t>з іменником чи прислівником?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10" name="Group 36"/>
          <p:cNvGrpSpPr/>
          <p:nvPr/>
        </p:nvGrpSpPr>
        <p:grpSpPr>
          <a:xfrm>
            <a:off x="1401840" y="1341360"/>
            <a:ext cx="2593800" cy="1728720"/>
            <a:chOff x="1401840" y="1341360"/>
            <a:chExt cx="2593800" cy="1728720"/>
          </a:xfrm>
        </p:grpSpPr>
        <p:grpSp>
          <p:nvGrpSpPr>
            <p:cNvPr id="211" name="Group 14"/>
            <p:cNvGrpSpPr/>
            <p:nvPr/>
          </p:nvGrpSpPr>
          <p:grpSpPr>
            <a:xfrm>
              <a:off x="1906560" y="1341360"/>
              <a:ext cx="1656000" cy="720720"/>
              <a:chOff x="1906560" y="1341360"/>
              <a:chExt cx="1656000" cy="720720"/>
            </a:xfrm>
          </p:grpSpPr>
          <p:sp>
            <p:nvSpPr>
              <p:cNvPr id="212" name="Line 7"/>
              <p:cNvSpPr/>
              <p:nvPr/>
            </p:nvSpPr>
            <p:spPr>
              <a:xfrm>
                <a:off x="2770200" y="1341360"/>
                <a:ext cx="0" cy="50472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13" name="Line 9"/>
              <p:cNvSpPr/>
              <p:nvPr/>
            </p:nvSpPr>
            <p:spPr>
              <a:xfrm>
                <a:off x="1906560" y="1846080"/>
                <a:ext cx="1656000" cy="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>
                <a:off x="3562560" y="1846080"/>
                <a:ext cx="0" cy="2160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15" name="Line 11"/>
              <p:cNvSpPr/>
              <p:nvPr/>
            </p:nvSpPr>
            <p:spPr>
              <a:xfrm>
                <a:off x="1906560" y="1846080"/>
                <a:ext cx="0" cy="2160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16" name="Rectangle 12"/>
            <p:cNvSpPr/>
            <p:nvPr/>
          </p:nvSpPr>
          <p:spPr>
            <a:xfrm>
              <a:off x="1474920" y="199044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ТАК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3130560" y="199044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НІ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1401840" y="2636640"/>
              <a:ext cx="86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Дефіс 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9" name="Line 16"/>
            <p:cNvSpPr/>
            <p:nvPr/>
          </p:nvSpPr>
          <p:spPr>
            <a:xfrm>
              <a:off x="3562560" y="2349360"/>
              <a:ext cx="0" cy="360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0" name="Line 17"/>
            <p:cNvSpPr/>
            <p:nvPr/>
          </p:nvSpPr>
          <p:spPr>
            <a:xfrm>
              <a:off x="1835280" y="2349360"/>
              <a:ext cx="0" cy="360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3780000" y="3068640"/>
            <a:ext cx="2520720" cy="1730160"/>
            <a:chOff x="3780000" y="3068640"/>
            <a:chExt cx="2520720" cy="1730160"/>
          </a:xfrm>
        </p:grpSpPr>
        <p:grpSp>
          <p:nvGrpSpPr>
            <p:cNvPr id="222" name="Group 18"/>
            <p:cNvGrpSpPr/>
            <p:nvPr/>
          </p:nvGrpSpPr>
          <p:grpSpPr>
            <a:xfrm>
              <a:off x="4211640" y="3068640"/>
              <a:ext cx="1656000" cy="720720"/>
              <a:chOff x="4211640" y="3068640"/>
              <a:chExt cx="1656000" cy="720720"/>
            </a:xfrm>
          </p:grpSpPr>
          <p:sp>
            <p:nvSpPr>
              <p:cNvPr id="223" name="Line 19"/>
              <p:cNvSpPr/>
              <p:nvPr/>
            </p:nvSpPr>
            <p:spPr>
              <a:xfrm>
                <a:off x="5075280" y="3068640"/>
                <a:ext cx="0" cy="50472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4" name="Line 20"/>
              <p:cNvSpPr/>
              <p:nvPr/>
            </p:nvSpPr>
            <p:spPr>
              <a:xfrm>
                <a:off x="4211640" y="3573360"/>
                <a:ext cx="1656000" cy="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5" name="Line 21"/>
              <p:cNvSpPr/>
              <p:nvPr/>
            </p:nvSpPr>
            <p:spPr>
              <a:xfrm>
                <a:off x="5867640" y="3573360"/>
                <a:ext cx="0" cy="2160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26" name="Line 22"/>
              <p:cNvSpPr/>
              <p:nvPr/>
            </p:nvSpPr>
            <p:spPr>
              <a:xfrm>
                <a:off x="4211640" y="3573360"/>
                <a:ext cx="0" cy="2160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27" name="Rectangle 23"/>
            <p:cNvSpPr/>
            <p:nvPr/>
          </p:nvSpPr>
          <p:spPr>
            <a:xfrm>
              <a:off x="3780000" y="37177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ТАК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8" name="Rectangle 24"/>
            <p:cNvSpPr/>
            <p:nvPr/>
          </p:nvSpPr>
          <p:spPr>
            <a:xfrm>
              <a:off x="5435640" y="37177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НІ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9" name="Rectangle 25"/>
            <p:cNvSpPr/>
            <p:nvPr/>
          </p:nvSpPr>
          <p:spPr>
            <a:xfrm>
              <a:off x="3780000" y="4365360"/>
              <a:ext cx="86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Дефіс</a:t>
              </a:r>
              <a:r>
                <a:rPr b="0" lang="uk-UA" sz="1800" spc="-1" strike="noStrike">
                  <a:solidFill>
                    <a:srgbClr val="336699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0" name="Line 26"/>
            <p:cNvSpPr/>
            <p:nvPr/>
          </p:nvSpPr>
          <p:spPr>
            <a:xfrm>
              <a:off x="4213440" y="4078080"/>
              <a:ext cx="0" cy="360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31" name="Group 42"/>
          <p:cNvGrpSpPr/>
          <p:nvPr/>
        </p:nvGrpSpPr>
        <p:grpSpPr>
          <a:xfrm>
            <a:off x="5867280" y="4938840"/>
            <a:ext cx="2521080" cy="1730160"/>
            <a:chOff x="5867280" y="4938840"/>
            <a:chExt cx="2521080" cy="1730160"/>
          </a:xfrm>
        </p:grpSpPr>
        <p:grpSp>
          <p:nvGrpSpPr>
            <p:cNvPr id="232" name="Group 27"/>
            <p:cNvGrpSpPr/>
            <p:nvPr/>
          </p:nvGrpSpPr>
          <p:grpSpPr>
            <a:xfrm>
              <a:off x="6299280" y="4938840"/>
              <a:ext cx="1655640" cy="720720"/>
              <a:chOff x="6299280" y="4938840"/>
              <a:chExt cx="1655640" cy="720720"/>
            </a:xfrm>
          </p:grpSpPr>
          <p:sp>
            <p:nvSpPr>
              <p:cNvPr id="233" name="Line 28"/>
              <p:cNvSpPr/>
              <p:nvPr/>
            </p:nvSpPr>
            <p:spPr>
              <a:xfrm>
                <a:off x="7162560" y="4938840"/>
                <a:ext cx="0" cy="50472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34" name="Line 29"/>
              <p:cNvSpPr/>
              <p:nvPr/>
            </p:nvSpPr>
            <p:spPr>
              <a:xfrm>
                <a:off x="6299280" y="5443560"/>
                <a:ext cx="1655640" cy="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35" name="Line 30"/>
              <p:cNvSpPr/>
              <p:nvPr/>
            </p:nvSpPr>
            <p:spPr>
              <a:xfrm>
                <a:off x="7954920" y="5443560"/>
                <a:ext cx="0" cy="2160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36" name="Line 31"/>
              <p:cNvSpPr/>
              <p:nvPr/>
            </p:nvSpPr>
            <p:spPr>
              <a:xfrm>
                <a:off x="6299280" y="5443560"/>
                <a:ext cx="0" cy="2160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32"/>
            <p:cNvSpPr/>
            <p:nvPr/>
          </p:nvSpPr>
          <p:spPr>
            <a:xfrm>
              <a:off x="5867280" y="5587920"/>
              <a:ext cx="86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ТАК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8" name="Rectangle 33"/>
            <p:cNvSpPr/>
            <p:nvPr/>
          </p:nvSpPr>
          <p:spPr>
            <a:xfrm>
              <a:off x="7523280" y="55879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НІ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9" name="Rectangle 34"/>
            <p:cNvSpPr/>
            <p:nvPr/>
          </p:nvSpPr>
          <p:spPr>
            <a:xfrm>
              <a:off x="5867280" y="6235560"/>
              <a:ext cx="865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Дефіс 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0" name="Line 35"/>
            <p:cNvSpPr/>
            <p:nvPr/>
          </p:nvSpPr>
          <p:spPr>
            <a:xfrm>
              <a:off x="6300720" y="5948280"/>
              <a:ext cx="0" cy="360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1" name="Rectangle 39"/>
            <p:cNvSpPr/>
            <p:nvPr/>
          </p:nvSpPr>
          <p:spPr>
            <a:xfrm>
              <a:off x="7523280" y="6234120"/>
              <a:ext cx="86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336699"/>
                  </a:solidFill>
                  <a:latin typeface="Times New Roman"/>
                </a:rPr>
                <a:t>Окремо</a:t>
              </a:r>
              <a:r>
                <a:rPr b="0" lang="uk-UA" sz="1800" spc="-1" strike="noStrike">
                  <a:solidFill>
                    <a:srgbClr val="336699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2" name="Line 40"/>
            <p:cNvSpPr/>
            <p:nvPr/>
          </p:nvSpPr>
          <p:spPr>
            <a:xfrm>
              <a:off x="7956720" y="5946840"/>
              <a:ext cx="0" cy="360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43" name="Line 41"/>
          <p:cNvSpPr/>
          <p:nvPr/>
        </p:nvSpPr>
        <p:spPr>
          <a:xfrm>
            <a:off x="5867280" y="4076640"/>
            <a:ext cx="0" cy="360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8160" y="189000"/>
            <a:ext cx="802656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Виконайте тестові завдання: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0160" y="1125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Arial"/>
              </a:rPr>
              <a:t>Визначте правильну відповідь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Прийменник – це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а) змінна самостійна частина мови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б) не змінна самостійна частина мови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в) змінна службова частина мови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г) незмінна службова частина мов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43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Verdana"/>
              </a:rPr>
              <a:t>2. З яким відмінком вживається прийменник у поданому реченні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8000" y="1676520"/>
            <a:ext cx="788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336699"/>
                </a:solidFill>
                <a:latin typeface="Times New Roman"/>
              </a:rPr>
              <a:t>Тече вода з-під явора…</a:t>
            </a:r>
            <a:r>
              <a:rPr b="0" i="1" lang="uk-UA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336699"/>
                </a:solidFill>
                <a:latin typeface="Times New Roman"/>
              </a:rPr>
              <a:t>(Т.Шевченко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а) з родовим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б) зі знахідним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в) з місцевим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г) з називним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96000" y="2421000"/>
            <a:ext cx="2768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5640" y="247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Verdana"/>
              </a:rPr>
              <a:t>3. У якому реченні прийменник написано правильно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6699"/>
                </a:solidFill>
                <a:latin typeface="Times New Roman"/>
              </a:rPr>
              <a:t>а) Три явори з попід грому нахилились низько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6699"/>
                </a:solidFill>
                <a:latin typeface="Times New Roman"/>
              </a:rPr>
              <a:t>б) Під час бою враження Козакова     поступово змінювались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6699"/>
                </a:solidFill>
                <a:latin typeface="Times New Roman"/>
              </a:rPr>
              <a:t>в) І про між нас живе ця людин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336699"/>
                </a:solidFill>
                <a:latin typeface="Times New Roman"/>
              </a:rPr>
              <a:t>г) Якось дощ линув по серед ночі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4076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84360" y="1052640"/>
            <a:ext cx="759600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Я  така частина мови,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	</a:t>
            </a: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Що належить до службових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	</a:t>
            </a: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Я буваю лиш одним: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	</a:t>
            </a: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Похідним – непохідним.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	</a:t>
            </a: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Задля, посеред, крім, в, під, на, за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	</a:t>
            </a: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І для мене це знаменно,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	</a:t>
            </a:r>
            <a:r>
              <a:rPr b="1" lang="uk-UA" sz="3600" spc="-1" strike="noStrike">
                <a:solidFill>
                  <a:srgbClr val="0033cc"/>
                </a:solidFill>
                <a:latin typeface="Monotype Corsiva"/>
              </a:rPr>
              <a:t>Що всі звуть мене…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Verdana"/>
              </a:rPr>
              <a:t>(О.Фесенко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8560" y="4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Verdana"/>
              </a:rPr>
              <a:t>4. Який прийменник слід вставити у реченні на місці крапок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i="1" lang="uk-UA" sz="3600" spc="-1" strike="noStrike">
                <a:solidFill>
                  <a:srgbClr val="336699"/>
                </a:solidFill>
                <a:latin typeface="Times New Roman"/>
              </a:rPr>
              <a:t>І блідий місяць на ту пору…хмари де-де виглядав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а) з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б) із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в) зі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г) із-з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47624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7280" cy="62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Verdana"/>
              </a:rPr>
              <a:t>5. Укажіть складений прийменник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03280" y="1341000"/>
            <a:ext cx="3960720" cy="27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а) близько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б) всупереч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в) проти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г) у зв'язку з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>
            <a:lum bright="12000"/>
          </a:blip>
          <a:srcRect l="0" t="0" r="38" b="0"/>
          <a:stretch/>
        </p:blipFill>
        <p:spPr>
          <a:xfrm>
            <a:off x="5580000" y="3213000"/>
            <a:ext cx="356400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63280" y="139320"/>
            <a:ext cx="6946920" cy="62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Verdana"/>
              </a:rPr>
              <a:t>Розподільне завдання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1266840"/>
            <a:ext cx="745020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33cc"/>
                </a:solidFill>
                <a:latin typeface="Verdana"/>
              </a:rPr>
              <a:t>Прийменники записати у три колонки: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uk-UA" sz="2800" spc="-1" strike="noStrike">
                <a:solidFill>
                  <a:srgbClr val="0033cc"/>
                </a:solidFill>
                <a:latin typeface="Verdana"/>
              </a:rPr>
              <a:t>у І – прості,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uk-UA" sz="2800" spc="-1" strike="noStrike">
                <a:solidFill>
                  <a:srgbClr val="0033cc"/>
                </a:solidFill>
                <a:latin typeface="Verdana"/>
              </a:rPr>
              <a:t>у ІІ – складні,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uk-UA" sz="2800" spc="-1" strike="noStrike">
                <a:solidFill>
                  <a:srgbClr val="0033cc"/>
                </a:solidFill>
                <a:latin typeface="Verdana"/>
              </a:rPr>
              <a:t>а в ІІІ – складені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258920" y="3645000"/>
            <a:ext cx="7777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i="1" lang="uk-UA" sz="3200" spc="-1" strike="noStrike">
                <a:solidFill>
                  <a:srgbClr val="0033cc"/>
                </a:solidFill>
                <a:latin typeface="Verdana"/>
              </a:rPr>
              <a:t>за, понад, у, поперед, згідно з, </a:t>
            </a:r>
            <a:br>
              <a:rPr sz="3200"/>
            </a:br>
            <a:r>
              <a:rPr b="0" i="1" lang="uk-UA" sz="3200" spc="-1" strike="noStrike">
                <a:solidFill>
                  <a:srgbClr val="0033cc"/>
                </a:solidFill>
                <a:latin typeface="Verdana"/>
              </a:rPr>
              <a:t>з-поміж, мимо, у зв'язку з, при, в, заради, відповідно до, із-за, незважаючи на, довкола, до, без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18920" y="115560"/>
            <a:ext cx="673092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cc"/>
                </a:solidFill>
                <a:latin typeface="Verdana"/>
              </a:rPr>
              <a:t>Знайди помилку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7280" y="1676520"/>
            <a:ext cx="795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Знати по газетах – знати з газет 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   </a:t>
            </a: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По цілих днях – цілими дня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   </a:t>
            </a: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Добрий по натурі – доброї вдачі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   </a:t>
            </a:r>
            <a:r>
              <a:rPr b="1" lang="uk-UA" sz="3200" spc="-1" strike="noStrike">
                <a:solidFill>
                  <a:srgbClr val="336699"/>
                </a:solidFill>
                <a:latin typeface="Verdana"/>
              </a:rPr>
              <a:t>По напрямку до лісу – у напрямі до лісу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52680" y="18900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ff"/>
                </a:solidFill>
                <a:latin typeface="Times New Roman"/>
              </a:rPr>
              <a:t>Список використаної літератури: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32000" y="1244160"/>
            <a:ext cx="7488000" cy="47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6699"/>
                </a:solidFill>
                <a:latin typeface="Arial"/>
              </a:rPr>
              <a:t>Єрмоленко С.Я., Сичова В.Т., Рідна мова:підручник для ? Класу. –К.:Грамота, 2007.-296с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6699"/>
                </a:solidFill>
                <a:latin typeface="Arial"/>
              </a:rPr>
              <a:t>Омельчук С.А., Ляшкевич А.І., Чаловська М.В. Усі уроки української мови в 7 класі /Упорядник С.А.Омельчук.-Х.: Вид.група “Основа: ПП Тріада+”,  2007.-352с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6699"/>
                </a:solidFill>
                <a:latin typeface="Arial"/>
              </a:rPr>
              <a:t>Шабельник Т.М. Рідна мова. 7 клас:Плани-конспекти уроків.-Харків:Веста:Видавництво “Ранок”, 2009.-288с. – (Майстер-клас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6699"/>
                </a:solidFill>
                <a:latin typeface="Arial"/>
              </a:rPr>
              <a:t>Шляхова Г.Т., Тихоша В.І., Корольчук А.М. та ін. Українська мова.5-12 класи: Програма для загальноосвітніх навчальних закладів.-К.:ВТФ “Перун”, 2005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64" name="Picture 4" descr="j0232915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1600" y="3068280"/>
            <a:ext cx="4713120" cy="70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00"/>
                </a:solidFill>
                <a:latin typeface="Verdana"/>
              </a:rPr>
              <a:t>ПРИЙМЕННИК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692360" y="549360"/>
            <a:ext cx="3024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близько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716360" y="1700280"/>
            <a:ext cx="1871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із-за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292720" y="404640"/>
            <a:ext cx="15127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про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156360" y="5516640"/>
            <a:ext cx="180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між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2050920" y="5805360"/>
            <a:ext cx="19447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попри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7380360" y="1773360"/>
            <a:ext cx="143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над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24360" y="4653000"/>
            <a:ext cx="10810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в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7093080" y="907920"/>
            <a:ext cx="115236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за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908000" y="4221000"/>
            <a:ext cx="17272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крізь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547640" y="2997360"/>
            <a:ext cx="863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у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979640" y="1557360"/>
            <a:ext cx="17287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через 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985080" y="4076640"/>
            <a:ext cx="21589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понад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80000" y="4797360"/>
            <a:ext cx="12952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на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Ключові питання</a:t>
            </a:r>
            <a:r>
              <a:rPr b="0" lang="uk-UA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Verdana"/>
              </a:rPr>
              <a:t>Прийменник як службова частина мов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Verdana"/>
              </a:rPr>
              <a:t>Смислові відношенн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Verdana"/>
              </a:rPr>
              <a:t>Уживання  прийменників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Verdana"/>
              </a:rPr>
              <a:t>Походження прийменників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Verdana"/>
              </a:rPr>
              <a:t>Способи творенн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Verdana"/>
              </a:rPr>
              <a:t>Будова прийменників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Verdana"/>
              </a:rPr>
              <a:t>Правопис прийменників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Що таке прийменник?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676520"/>
            <a:ext cx="817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33cc"/>
                </a:solidFill>
                <a:latin typeface="Verdana"/>
              </a:rPr>
              <a:t>Прийменник – це службова частина мови, що виступає разом із відмінковою формою іменника, займенника, прикметника та числівника для вираження залежності її від інших слів у словосполученні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0033cc"/>
                </a:solidFill>
                <a:latin typeface="Verdana"/>
              </a:rPr>
              <a:t>Про нього створюють багато-багато легенд і чарівних казок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4920" y="1440"/>
            <a:ext cx="19447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586560" cy="62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Смислові відношення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18" name="Group 22"/>
          <p:cNvGrpSpPr/>
          <p:nvPr/>
        </p:nvGrpSpPr>
        <p:grpSpPr>
          <a:xfrm>
            <a:off x="1260360" y="907920"/>
            <a:ext cx="3024360" cy="1297080"/>
            <a:chOff x="1260360" y="907920"/>
            <a:chExt cx="3024360" cy="1297080"/>
          </a:xfrm>
        </p:grpSpPr>
        <p:sp>
          <p:nvSpPr>
            <p:cNvPr id="119" name="AutoShape 4"/>
            <p:cNvSpPr/>
            <p:nvPr/>
          </p:nvSpPr>
          <p:spPr>
            <a:xfrm>
              <a:off x="1260360" y="1269720"/>
              <a:ext cx="3024360" cy="935280"/>
            </a:xfrm>
            <a:prstGeom prst="irregularSeal1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ffffff"/>
                  </a:solidFill>
                  <a:latin typeface="Times New Roman"/>
                </a:rPr>
                <a:t>підійшли до гори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1908000" y="907920"/>
              <a:ext cx="1656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e00"/>
                  </a:solidFill>
                  <a:latin typeface="Times New Roman"/>
                </a:rPr>
                <a:t>просторові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21" name="Group 23"/>
          <p:cNvGrpSpPr/>
          <p:nvPr/>
        </p:nvGrpSpPr>
        <p:grpSpPr>
          <a:xfrm>
            <a:off x="5508720" y="836640"/>
            <a:ext cx="3024000" cy="1295280"/>
            <a:chOff x="5508720" y="836640"/>
            <a:chExt cx="3024000" cy="1295280"/>
          </a:xfrm>
        </p:grpSpPr>
        <p:sp>
          <p:nvSpPr>
            <p:cNvPr id="122" name="AutoShape 5"/>
            <p:cNvSpPr/>
            <p:nvPr/>
          </p:nvSpPr>
          <p:spPr>
            <a:xfrm>
              <a:off x="5508720" y="1197000"/>
              <a:ext cx="3024000" cy="934920"/>
            </a:xfrm>
            <a:prstGeom prst="irregularSeal1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ffffff"/>
                  </a:solidFill>
                  <a:latin typeface="Times New Roman"/>
                </a:rPr>
                <a:t>погодився з радістю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6227640" y="836640"/>
              <a:ext cx="1656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e00"/>
                  </a:solidFill>
                  <a:latin typeface="Times New Roman"/>
                </a:rPr>
                <a:t>способу дії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1619280" y="2205000"/>
            <a:ext cx="3024000" cy="1295280"/>
            <a:chOff x="1619280" y="2205000"/>
            <a:chExt cx="3024000" cy="1295280"/>
          </a:xfrm>
        </p:grpSpPr>
        <p:sp>
          <p:nvSpPr>
            <p:cNvPr id="125" name="AutoShape 7"/>
            <p:cNvSpPr/>
            <p:nvPr/>
          </p:nvSpPr>
          <p:spPr>
            <a:xfrm>
              <a:off x="1619280" y="2565360"/>
              <a:ext cx="3024000" cy="934920"/>
            </a:xfrm>
            <a:prstGeom prst="irregularSeal1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ffffff"/>
                  </a:solidFill>
                  <a:latin typeface="Times New Roman"/>
                </a:rPr>
                <a:t>років зо два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2268360" y="2205000"/>
              <a:ext cx="1656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e00"/>
                  </a:solidFill>
                  <a:latin typeface="Times New Roman"/>
                </a:rPr>
                <a:t>кількісні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27" name="Group 24"/>
          <p:cNvGrpSpPr/>
          <p:nvPr/>
        </p:nvGrpSpPr>
        <p:grpSpPr>
          <a:xfrm>
            <a:off x="5219640" y="2205000"/>
            <a:ext cx="3024000" cy="1295280"/>
            <a:chOff x="5219640" y="2205000"/>
            <a:chExt cx="3024000" cy="1295280"/>
          </a:xfrm>
        </p:grpSpPr>
        <p:sp>
          <p:nvSpPr>
            <p:cNvPr id="128" name="AutoShape 6"/>
            <p:cNvSpPr/>
            <p:nvPr/>
          </p:nvSpPr>
          <p:spPr>
            <a:xfrm>
              <a:off x="5219640" y="2565360"/>
              <a:ext cx="3024000" cy="934920"/>
            </a:xfrm>
            <a:prstGeom prst="irregularSeal1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ffffff"/>
                  </a:solidFill>
                  <a:latin typeface="Times New Roman"/>
                </a:rPr>
                <a:t>келихи з кришталю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5868720" y="2205000"/>
              <a:ext cx="1656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e00"/>
                  </a:solidFill>
                  <a:latin typeface="Times New Roman"/>
                </a:rPr>
                <a:t>означальні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30" name="Group 26"/>
          <p:cNvGrpSpPr/>
          <p:nvPr/>
        </p:nvGrpSpPr>
        <p:grpSpPr>
          <a:xfrm>
            <a:off x="684360" y="3571920"/>
            <a:ext cx="3024000" cy="1297080"/>
            <a:chOff x="684360" y="3571920"/>
            <a:chExt cx="3024000" cy="1297080"/>
          </a:xfrm>
        </p:grpSpPr>
        <p:sp>
          <p:nvSpPr>
            <p:cNvPr id="131" name="AutoShape 9"/>
            <p:cNvSpPr/>
            <p:nvPr/>
          </p:nvSpPr>
          <p:spPr>
            <a:xfrm>
              <a:off x="684360" y="3934080"/>
              <a:ext cx="3024000" cy="934920"/>
            </a:xfrm>
            <a:prstGeom prst="irregularSeal1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ffffff"/>
                  </a:solidFill>
                  <a:latin typeface="Times New Roman"/>
                </a:rPr>
                <a:t>знов про закон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1547640" y="3571920"/>
              <a:ext cx="1656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e00"/>
                  </a:solidFill>
                  <a:latin typeface="Times New Roman"/>
                </a:rPr>
                <a:t>об'єктні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3276720" y="4365720"/>
            <a:ext cx="3024000" cy="1294920"/>
            <a:chOff x="3276720" y="4365720"/>
            <a:chExt cx="3024000" cy="1294920"/>
          </a:xfrm>
        </p:grpSpPr>
        <p:sp>
          <p:nvSpPr>
            <p:cNvPr id="134" name="AutoShape 8"/>
            <p:cNvSpPr/>
            <p:nvPr/>
          </p:nvSpPr>
          <p:spPr>
            <a:xfrm>
              <a:off x="3276720" y="4725720"/>
              <a:ext cx="3024000" cy="934920"/>
            </a:xfrm>
            <a:prstGeom prst="irregularSeal1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ffffff"/>
                  </a:solidFill>
                  <a:latin typeface="Times New Roman"/>
                </a:rPr>
                <a:t>зроблю за день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3995640" y="4365720"/>
              <a:ext cx="1656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e00"/>
                  </a:solidFill>
                  <a:latin typeface="Times New Roman"/>
                </a:rPr>
                <a:t>часові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36" name="Group 28"/>
          <p:cNvGrpSpPr/>
          <p:nvPr/>
        </p:nvGrpSpPr>
        <p:grpSpPr>
          <a:xfrm>
            <a:off x="6084720" y="3573360"/>
            <a:ext cx="3024360" cy="1295280"/>
            <a:chOff x="6084720" y="3573360"/>
            <a:chExt cx="3024360" cy="1295280"/>
          </a:xfrm>
        </p:grpSpPr>
        <p:sp>
          <p:nvSpPr>
            <p:cNvPr id="137" name="AutoShape 10"/>
            <p:cNvSpPr/>
            <p:nvPr/>
          </p:nvSpPr>
          <p:spPr>
            <a:xfrm>
              <a:off x="6084720" y="3933720"/>
              <a:ext cx="3024360" cy="934920"/>
            </a:xfrm>
            <a:prstGeom prst="irregularSeal1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ffffff"/>
                  </a:solidFill>
                  <a:latin typeface="Times New Roman"/>
                </a:rPr>
                <a:t>плаче з горя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6697800" y="3573360"/>
              <a:ext cx="1655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e00"/>
                  </a:solidFill>
                  <a:latin typeface="Times New Roman"/>
                </a:rPr>
                <a:t>причини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39" name="Group 29"/>
          <p:cNvGrpSpPr/>
          <p:nvPr/>
        </p:nvGrpSpPr>
        <p:grpSpPr>
          <a:xfrm>
            <a:off x="5651640" y="5445000"/>
            <a:ext cx="3024000" cy="1297080"/>
            <a:chOff x="5651640" y="5445000"/>
            <a:chExt cx="3024000" cy="1297080"/>
          </a:xfrm>
        </p:grpSpPr>
        <p:sp>
          <p:nvSpPr>
            <p:cNvPr id="140" name="AutoShape 11"/>
            <p:cNvSpPr/>
            <p:nvPr/>
          </p:nvSpPr>
          <p:spPr>
            <a:xfrm>
              <a:off x="5651640" y="5807160"/>
              <a:ext cx="3024000" cy="934920"/>
            </a:xfrm>
            <a:prstGeom prst="irregularSeal1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ffffff"/>
                  </a:solidFill>
                  <a:latin typeface="Times New Roman"/>
                </a:rPr>
                <a:t>ночують при негоді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6372360" y="5445000"/>
              <a:ext cx="1655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e00"/>
                  </a:solidFill>
                  <a:latin typeface="Times New Roman"/>
                </a:rPr>
                <a:t>умови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42" name="Group 30"/>
          <p:cNvGrpSpPr/>
          <p:nvPr/>
        </p:nvGrpSpPr>
        <p:grpSpPr>
          <a:xfrm>
            <a:off x="611280" y="5373720"/>
            <a:ext cx="3024000" cy="1368360"/>
            <a:chOff x="611280" y="5373720"/>
            <a:chExt cx="3024000" cy="1368360"/>
          </a:xfrm>
        </p:grpSpPr>
        <p:sp>
          <p:nvSpPr>
            <p:cNvPr id="143" name="AutoShape 12"/>
            <p:cNvSpPr/>
            <p:nvPr/>
          </p:nvSpPr>
          <p:spPr>
            <a:xfrm>
              <a:off x="611280" y="5807160"/>
              <a:ext cx="3024000" cy="934920"/>
            </a:xfrm>
            <a:prstGeom prst="irregularSeal1">
              <a:avLst/>
            </a:prstGeom>
            <a:solidFill>
              <a:srgbClr val="66c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ffffff"/>
                  </a:solidFill>
                  <a:latin typeface="Times New Roman"/>
                </a:rPr>
                <a:t>ішов за правду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4" name="Rectangle 21"/>
            <p:cNvSpPr/>
            <p:nvPr/>
          </p:nvSpPr>
          <p:spPr>
            <a:xfrm>
              <a:off x="1187280" y="5373720"/>
              <a:ext cx="1656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e00"/>
                  </a:solidFill>
                  <a:latin typeface="Times New Roman"/>
                </a:rPr>
                <a:t>мети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45" name="Line 31"/>
          <p:cNvSpPr/>
          <p:nvPr/>
        </p:nvSpPr>
        <p:spPr>
          <a:xfrm flipH="1">
            <a:off x="2987280" y="692280"/>
            <a:ext cx="2089080" cy="288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Line 32"/>
          <p:cNvSpPr/>
          <p:nvPr/>
        </p:nvSpPr>
        <p:spPr>
          <a:xfrm>
            <a:off x="5219640" y="717480"/>
            <a:ext cx="1800360" cy="216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1280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Уживання прийменників</a:t>
            </a:r>
            <a:r>
              <a:rPr b="0" lang="uk-UA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42920" y="1197000"/>
          <a:ext cx="7772400" cy="5256360"/>
        </p:xfrm>
        <a:graphic>
          <a:graphicData uri="http://schemas.openxmlformats.org/drawingml/2006/table">
            <a:tbl>
              <a:tblPr/>
              <a:tblGrid>
                <a:gridCol w="2676600"/>
                <a:gridCol w="509580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ідмінки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риклади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одовий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існя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без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слів; сидить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кінець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столу; позичив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знайомого; садять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вздовж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алеї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Давальний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біг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навздогін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нам; вийшло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всупереч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сподіванням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Знахідний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крізь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туман не видно; приїде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через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місяць; стукав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вікно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рудний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видніється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лісом; стоїть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перед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очима; зустріч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 з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ним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Місцевий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(місцевий відмінок ніколи не вживається без прийменника)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тоїть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при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дорозі; піднімається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по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драбині; встає </a:t>
                      </a:r>
                      <a:r>
                        <a:rPr b="0" lang="uk-UA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uk-UA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шостій годині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47640" y="189000"/>
            <a:ext cx="381636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Порівняйте: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03280" y="1251000"/>
          <a:ext cx="7305840" cy="5138640"/>
        </p:xfrm>
        <a:graphic>
          <a:graphicData uri="http://schemas.openxmlformats.org/drawingml/2006/table">
            <a:tbl>
              <a:tblPr/>
              <a:tblGrid>
                <a:gridCol w="2516400"/>
                <a:gridCol w="4789440"/>
              </a:tblGrid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Прийменники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Інші частини мов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Прислівник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Квіти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навколо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хати,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близько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другої години,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близько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сотні, був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поруч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з ним, сидить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кінець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столу, стоїть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край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села, почекай </a:t>
                      </a:r>
                      <a:r>
                        <a:rPr b="0" i="1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коло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хвіртки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Подивилась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навколо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, стояли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поруч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, підійшли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близько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Іменник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Широке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коло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, щасливий </a:t>
                      </a:r>
                      <a:r>
                        <a:rPr b="0" lang="uk-UA" sz="2400" spc="-1" strike="noStrike" u="sng">
                          <a:solidFill>
                            <a:srgbClr val="336699"/>
                          </a:solidFill>
                          <a:uFillTx/>
                          <a:latin typeface="Times New Roman"/>
                          <a:ea typeface="Times New Roman"/>
                        </a:rPr>
                        <a:t>кінець</a:t>
                      </a:r>
                      <a:r>
                        <a:rPr b="0" lang="uk-UA" sz="24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, далекий край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4392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Походження</a:t>
            </a:r>
            <a:r>
              <a:rPr b="0" lang="uk-UA" sz="36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uk-UA" sz="3600" spc="-1" strike="noStrike">
                <a:solidFill>
                  <a:srgbClr val="0066ff"/>
                </a:solidFill>
                <a:latin typeface="Verdana"/>
              </a:rPr>
              <a:t>прийменників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46200" y="1557360"/>
            <a:ext cx="3097080" cy="64764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епохідні (первинні)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35640" y="1557360"/>
            <a:ext cx="3097080" cy="64764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хідні (вторинні)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47640" y="2779560"/>
            <a:ext cx="3095640" cy="288144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Times New Roman"/>
              </a:rPr>
              <a:t>без, в (у), до,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Times New Roman"/>
              </a:rPr>
              <a:t>для, з, за, об,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Times New Roman"/>
              </a:rPr>
              <a:t>від, на, над, по,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Times New Roman"/>
              </a:rPr>
              <a:t>під, між, при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5435640" y="2779560"/>
            <a:ext cx="3095640" cy="2881440"/>
          </a:xfrm>
          <a:prstGeom prst="rect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Times New Roman"/>
              </a:rPr>
              <a:t>з-під, з-поміж, поза,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Times New Roman"/>
              </a:rPr>
              <a:t>понад, заради, край,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Times New Roman"/>
              </a:rPr>
              <a:t>у разі,шляхом,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Times New Roman"/>
              </a:rPr>
              <a:t>навколо, обабіч,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6699"/>
                </a:solidFill>
                <a:latin typeface="Times New Roman"/>
              </a:rPr>
              <a:t>поблизу, близько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2916360" y="692280"/>
            <a:ext cx="2232000" cy="64908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5651640" y="765000"/>
            <a:ext cx="1873080" cy="576360"/>
          </a:xfrm>
          <a:prstGeom prst="line">
            <a:avLst/>
          </a:prstGeom>
          <a:ln w="381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8:18:07Z</dcterms:created>
  <dc:creator>Admin</dc:creator>
  <dc:description/>
  <dc:language>en-US</dc:language>
  <cp:lastModifiedBy>Admin</cp:lastModifiedBy>
  <dcterms:modified xsi:type="dcterms:W3CDTF">2014-05-06T10:11:09Z</dcterms:modified>
  <cp:revision>35</cp:revision>
  <dc:subject/>
  <dc:title>Прийменник  як службова частина мов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4140</vt:lpwstr>
  </property>
</Properties>
</file>