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798-B0E7-46D4-B9A2-CB6298D7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E8E-6CE2-4CDD-A13E-20A26C7F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299-D67A-415D-BCE2-FF660742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153-2F30-4497-B128-85985440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758-58EC-4DC9-9933-F7CB389C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FCD-E8F4-4CA8-A0B6-1C326C5C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3A1-6F1D-4812-8DFC-C38A9FCF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44B-6A34-4D2F-8D0F-3B10791A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CC3-FCC8-478A-9C90-3E359A7C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692-A06F-44E6-9C90-C8081466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94D-5819-4D44-AE54-B4C1C05A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CFC-077B-48F9-B174-5CD90B32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7206-51F5-43F7-9735-CC272B200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403280" y="1533600"/>
            <a:ext cx="6445440" cy="5208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66840" y="92160"/>
            <a:ext cx="64008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993300"/>
                </a:solidFill>
                <a:latin typeface="Garamond"/>
              </a:rPr>
              <a:t>Сполучник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042920" y="1846440"/>
            <a:ext cx="6400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993300"/>
                </a:solidFill>
                <a:latin typeface="Monotype Corsiva"/>
              </a:rPr>
              <a:t>Можна все на світ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993300"/>
                </a:solidFill>
                <a:latin typeface="Monotype Corsiva"/>
              </a:rPr>
              <a:t>вибирати, сину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993300"/>
                </a:solidFill>
                <a:latin typeface="Monotype Corsiva"/>
              </a:rPr>
              <a:t>Вибрати не мож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993300"/>
                </a:solidFill>
                <a:latin typeface="Monotype Corsiva"/>
              </a:rPr>
              <a:t>тільки Батьківщ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993300"/>
                </a:solidFill>
                <a:latin typeface="Monotype Corsiva"/>
              </a:rPr>
              <a:t>В.Симон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1 01 Дорожка 1 (2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807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79280" y="189000"/>
            <a:ext cx="8785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100" spc="-1" strike="noStrike">
                <a:solidFill>
                  <a:srgbClr val="cc0000"/>
                </a:solidFill>
                <a:latin typeface="Arial"/>
              </a:rPr>
              <a:t>Скориставшись таблицею, визначте в поданих реченнях сполучники та однозвучні з ними займенники з прийменника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08000" y="2060640"/>
            <a:ext cx="87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Індик хоч не співає, зате багато дум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е за те вовка б'ють, що сірий, а за те, що овечку з'ї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Хоч мороз припікає. Зате комарів нем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cc0000"/>
                </a:solidFill>
                <a:latin typeface="Arial"/>
              </a:rPr>
              <a:t>Поясніть написання виділених у реченнях слів, користуючись таблиц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11280" y="1773360"/>
            <a:ext cx="3382920" cy="1295280"/>
          </a:xfrm>
          <a:prstGeom prst="rect">
            <a:avLst/>
          </a:prstGeom>
          <a:solidFill>
            <a:srgbClr val="e55a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Якби ви вчились та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як треба, то й мудрі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би була св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Т.Шевч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4718160" y="1773360"/>
            <a:ext cx="3670200" cy="1368360"/>
          </a:xfrm>
          <a:prstGeom prst="rect">
            <a:avLst/>
          </a:prstGeom>
          <a:solidFill>
            <a:srgbClr val="e55a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Як би я тепер хоті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 мале човенце сі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 далеко на схід сонц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олотим шляхом попли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Леся Украї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68360" y="3141720"/>
            <a:ext cx="40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буває членом реч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має лексичного знач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є наголос на другому скла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жна замінити інш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луч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4788000" y="3141720"/>
            <a:ext cx="403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 членом реч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є лексичне значе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є наголос на слові я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"/>
          <p:cNvSpPr/>
          <p:nvPr/>
        </p:nvSpPr>
        <p:spPr>
          <a:xfrm rot="18936600">
            <a:off x="178920" y="620280"/>
            <a:ext cx="3384720" cy="1873440"/>
          </a:xfrm>
          <a:prstGeom prst="irregularSeal1">
            <a:avLst/>
          </a:prstGeom>
          <a:solidFill>
            <a:srgbClr val="f1a99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Уваг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3851280" y="1052640"/>
            <a:ext cx="460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e55a4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магання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e55a4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08000" y="3213000"/>
            <a:ext cx="8785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i="1" lang="uk-UA" sz="3600" spc="-1" strike="noStrike">
                <a:solidFill>
                  <a:srgbClr val="cc0000"/>
                </a:solidFill>
                <a:latin typeface="Arial"/>
              </a:rPr>
              <a:t>За три хвилини придумайте речення, де слово що в одному випадку виступало б сполучником, </a:t>
            </a:r>
            <a:br>
              <a:rPr sz="3600"/>
            </a:br>
            <a:r>
              <a:rPr b="0" i="1" lang="uk-UA" sz="3600" spc="-1" strike="noStrike">
                <a:solidFill>
                  <a:srgbClr val="cc0000"/>
                </a:solidFill>
                <a:latin typeface="Arial"/>
              </a:rPr>
              <a:t>а в іншому – сполучним сло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08000" y="3213000"/>
            <a:ext cx="87850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i="1" lang="uk-UA" sz="3600" spc="-1" strike="noStrike">
                <a:solidFill>
                  <a:srgbClr val="cc0000"/>
                </a:solidFill>
                <a:latin typeface="Arial"/>
              </a:rPr>
              <a:t>Пригадайте зі свого життя випадок, до якого б пасувало прислів'я </a:t>
            </a:r>
            <a:r>
              <a:rPr b="1" i="1" lang="uk-UA" sz="3600" spc="-1" strike="noStrike">
                <a:solidFill>
                  <a:srgbClr val="cc0000"/>
                </a:solidFill>
                <a:latin typeface="Times New Roman"/>
              </a:rPr>
              <a:t>“Якби знав, де впаду, то соломки підстелив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i="1" lang="uk-UA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i="1" lang="uk-UA" sz="3600" spc="-1" strike="noStrike">
                <a:solidFill>
                  <a:srgbClr val="cc0000"/>
                </a:solidFill>
                <a:latin typeface="Arial"/>
              </a:rPr>
              <a:t>Розкажіть про нього у класі. У розповіді вживайте сполуч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 rot="20265000">
            <a:off x="-109440" y="404640"/>
            <a:ext cx="4752720" cy="230508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0000"/>
                </a:solidFill>
                <a:latin typeface="Times New Roman"/>
              </a:rPr>
              <a:t>Усміхні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00"/>
                </a:solidFill>
                <a:latin typeface="Garamond"/>
              </a:rPr>
              <a:t>Розбір сполучника </a:t>
            </a:r>
            <a:br>
              <a:rPr sz="4000"/>
            </a:br>
            <a:r>
              <a:rPr b="1" lang="uk-UA" sz="4000" spc="-1" strike="noStrike">
                <a:solidFill>
                  <a:srgbClr val="cc0000"/>
                </a:solidFill>
                <a:latin typeface="Garamond"/>
              </a:rPr>
              <a:t>як частини м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912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55a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5a43"/>
                </a:solidFill>
                <a:latin typeface="Arial"/>
              </a:rPr>
              <a:t>Сполучник. Що він з'єдну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55a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5a43"/>
                </a:solidFill>
                <a:latin typeface="Arial"/>
              </a:rPr>
              <a:t>Який він за значенням: сурядності чи підряд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55a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5a43"/>
                </a:solidFill>
                <a:latin typeface="Arial"/>
              </a:rPr>
              <a:t>Який він за будовою: простий, складний чи скла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55a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5a43"/>
                </a:solidFill>
                <a:latin typeface="Arial"/>
              </a:rPr>
              <a:t>Особливості написання (якщо є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rcRect l="0" t="0" r="19" b="0"/>
          <a:stretch/>
        </p:blipFill>
        <p:spPr>
          <a:xfrm>
            <a:off x="179280" y="115920"/>
            <a:ext cx="8785440" cy="6640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640" y="1584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cc0000"/>
                </a:solidFill>
                <a:latin typeface="Garamond"/>
              </a:rPr>
              <a:t>Написати твір-мініатюру, використовуючи сполучники </a:t>
            </a:r>
            <a:br>
              <a:rPr sz="3200"/>
            </a:br>
            <a:r>
              <a:rPr b="1" lang="uk-UA" sz="3200" spc="-1" strike="noStrike">
                <a:solidFill>
                  <a:srgbClr val="cc0000"/>
                </a:solidFill>
                <a:latin typeface="Garamond"/>
              </a:rPr>
              <a:t>“Парк узимку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69840" y="5013360"/>
            <a:ext cx="2198520" cy="1704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0000"/>
                </a:solidFill>
                <a:latin typeface="Monotype Corsiva"/>
              </a:rPr>
              <a:t>Список використаної літерату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.Глазова. Рідна мова. Підручник. 7кл.-Київ-”Зодіак-ЕКО”-2007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.Олійник. Українська мова. Підручник для8-9класів середньої школи.-Київ.-”Амфора”.-1997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.А.Омельчук. Усі уроки української мови в 7 класі.-Харків.-”Основа”.-2007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905120" y="115920"/>
            <a:ext cx="5114880" cy="3762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c0000"/>
                </a:solidFill>
                <a:latin typeface="Arial"/>
              </a:rPr>
              <a:t>Сполучник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3300"/>
                </a:solidFill>
                <a:latin typeface="Garamond"/>
              </a:rPr>
              <a:t>Ознаки властивості сполуч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987640" y="1052640"/>
            <a:ext cx="3168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Уживається для зв'яз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однорідних члені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частин складного реч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або окремих речень у текс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335640" y="3429000"/>
            <a:ext cx="255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Незмінне 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79280" y="3500280"/>
            <a:ext cx="2664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Лексичного знач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не ма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203640" y="580536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Не виступає в рол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членів р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3348000" y="2852640"/>
            <a:ext cx="2592360" cy="244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3300"/>
                </a:solidFill>
                <a:latin typeface="Garamond"/>
              </a:rPr>
              <a:t>СПОЛУЧ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3300"/>
                </a:solidFill>
                <a:latin typeface="Garamond"/>
              </a:rPr>
              <a:t>як частина м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643280" y="2492280"/>
            <a:ext cx="0" cy="360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5900400" y="3860640"/>
            <a:ext cx="4316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 flipH="1">
            <a:off x="2916000" y="3860640"/>
            <a:ext cx="4316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4716360" y="5300640"/>
            <a:ext cx="0" cy="360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993300"/>
                </a:solidFill>
                <a:latin typeface="Garamond"/>
              </a:rPr>
              <a:t>Сполучник </a:t>
            </a:r>
            <a:br>
              <a:rPr sz="4800"/>
            </a:br>
            <a:r>
              <a:rPr b="1" lang="uk-UA" sz="4800" spc="-1" strike="noStrike">
                <a:solidFill>
                  <a:srgbClr val="993300"/>
                </a:solidFill>
                <a:latin typeface="Garamond"/>
              </a:rPr>
              <a:t>як службова частина мов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cc0000"/>
                </a:solidFill>
                <a:latin typeface="Arial"/>
              </a:rPr>
              <a:t>Сполучник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незмінна службова частина мови, що сполучає однорідні члени речення та частини складного реч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4000" spc="-1" strike="noStrike">
                <a:solidFill>
                  <a:srgbClr val="000000"/>
                </a:solidFill>
                <a:latin typeface="Times New Roman"/>
              </a:rPr>
              <a:t>Лише борись, а щастя не втеч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3300"/>
                </a:solidFill>
                <a:latin typeface="Garamond"/>
              </a:rPr>
              <a:t>Види сполучників за значенн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684360" y="1268280"/>
            <a:ext cx="3671640" cy="151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СПОЛУЧНИКИ СУРЯДНОСТ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4861080" y="1268280"/>
            <a:ext cx="3671640" cy="151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СПОЛУЧНИКИ ПІДРЯД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611280" y="2781360"/>
            <a:ext cx="3744720" cy="2448000"/>
          </a:xfrm>
          <a:prstGeom prst="hexagon">
            <a:avLst>
              <a:gd name="adj" fmla="val 38243"/>
              <a:gd name="vf" fmla="val 1154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єднують однорід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лени речення і пр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чення у складно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і незалеж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дне від о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4932360" y="2781360"/>
            <a:ext cx="3745080" cy="2448000"/>
          </a:xfrm>
          <a:prstGeom prst="hexagon">
            <a:avLst>
              <a:gd name="adj" fmla="val 38246"/>
              <a:gd name="vf" fmla="val 1154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в'язують прості реч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складно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яких одне за зміс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порядковане інш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5364000" y="5157720"/>
            <a:ext cx="2951280" cy="1440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Що, щоб, мов, немов, 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971640" y="5157720"/>
            <a:ext cx="2950920" cy="1440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І, й, також, але, за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однак, або, чи, 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3300"/>
                </a:solidFill>
                <a:latin typeface="Garamond"/>
              </a:rPr>
              <a:t>Групи сполучників сурядності </a:t>
            </a:r>
            <a:br>
              <a:rPr sz="4000"/>
            </a:br>
            <a:r>
              <a:rPr b="1" lang="uk-UA" sz="4000" spc="-1" strike="noStrike">
                <a:solidFill>
                  <a:srgbClr val="993300"/>
                </a:solidFill>
                <a:latin typeface="Garamond"/>
              </a:rPr>
              <a:t>за значенн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0"/>
          <p:cNvGrpSpPr/>
          <p:nvPr/>
        </p:nvGrpSpPr>
        <p:grpSpPr>
          <a:xfrm>
            <a:off x="250920" y="1843200"/>
            <a:ext cx="8712000" cy="3890880"/>
            <a:chOff x="250920" y="1843200"/>
            <a:chExt cx="8712000" cy="3890880"/>
          </a:xfrm>
        </p:grpSpPr>
        <p:sp>
          <p:nvSpPr>
            <p:cNvPr id="66" name="Rectangle 4"/>
            <p:cNvSpPr/>
            <p:nvPr/>
          </p:nvSpPr>
          <p:spPr>
            <a:xfrm>
              <a:off x="250920" y="1916280"/>
              <a:ext cx="2232000" cy="64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3300"/>
                  </a:solidFill>
                  <a:latin typeface="Arial"/>
                </a:rPr>
                <a:t>ЄДНАЛЬНІ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250920" y="3427560"/>
              <a:ext cx="2232000" cy="64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3300"/>
                  </a:solidFill>
                  <a:latin typeface="Arial"/>
                </a:rPr>
                <a:t>ПРОТИСТАВНІ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250920" y="4940280"/>
              <a:ext cx="2232000" cy="649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993300"/>
                  </a:solidFill>
                  <a:latin typeface="Arial"/>
                </a:rPr>
                <a:t>РОЗДІЛОВІ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2914560" y="1844640"/>
              <a:ext cx="3240000" cy="865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993300"/>
                  </a:solidFill>
                  <a:latin typeface="Arial"/>
                </a:rPr>
                <a:t>Виражаю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993300"/>
                  </a:solidFill>
                  <a:latin typeface="Arial"/>
                </a:rPr>
                <a:t>поєднання або приєднан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2914560" y="3355920"/>
              <a:ext cx="3240000" cy="865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993300"/>
                  </a:solidFill>
                  <a:latin typeface="Arial"/>
                </a:rPr>
                <a:t>Виражаю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993300"/>
                  </a:solidFill>
                  <a:latin typeface="Arial"/>
                </a:rPr>
                <a:t>протиставленн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993300"/>
                  </a:solidFill>
                  <a:latin typeface="Arial"/>
                </a:rPr>
                <a:t>або зіставлен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2914560" y="4869000"/>
              <a:ext cx="3240000" cy="865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993300"/>
                  </a:solidFill>
                  <a:latin typeface="Arial"/>
                </a:rPr>
                <a:t>Виражають несумісніс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993300"/>
                  </a:solidFill>
                  <a:latin typeface="Arial"/>
                </a:rPr>
                <a:t>понять або чергування яви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6588000" y="1843200"/>
              <a:ext cx="2303640" cy="865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І, й, та, також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не тільки але (а)й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ні…н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6586560" y="3355920"/>
              <a:ext cx="2376360" cy="865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, але, та(у знач.але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проте, зате, одна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6586560" y="4869000"/>
              <a:ext cx="2376360" cy="865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бо, чи, то…то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бо…або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чи то…чи то, чи…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>
              <a:off x="2482920" y="2276640"/>
              <a:ext cx="5032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6154560" y="2276640"/>
              <a:ext cx="4320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6"/>
            <p:cNvSpPr/>
            <p:nvPr/>
          </p:nvSpPr>
          <p:spPr>
            <a:xfrm>
              <a:off x="6154560" y="3789360"/>
              <a:ext cx="4320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7"/>
            <p:cNvSpPr/>
            <p:nvPr/>
          </p:nvSpPr>
          <p:spPr>
            <a:xfrm>
              <a:off x="6154560" y="5300640"/>
              <a:ext cx="4320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8"/>
            <p:cNvSpPr/>
            <p:nvPr/>
          </p:nvSpPr>
          <p:spPr>
            <a:xfrm>
              <a:off x="2482920" y="3789360"/>
              <a:ext cx="4316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9"/>
            <p:cNvSpPr/>
            <p:nvPr/>
          </p:nvSpPr>
          <p:spPr>
            <a:xfrm>
              <a:off x="2482920" y="5300640"/>
              <a:ext cx="4316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3300"/>
                </a:solidFill>
                <a:latin typeface="Garamond"/>
              </a:rPr>
              <a:t>Групи сполучників сурядності </a:t>
            </a:r>
            <a:br>
              <a:rPr sz="4000"/>
            </a:br>
            <a:r>
              <a:rPr b="1" lang="uk-UA" sz="4000" spc="-1" strike="noStrike">
                <a:solidFill>
                  <a:srgbClr val="993300"/>
                </a:solidFill>
                <a:latin typeface="Garamond"/>
              </a:rPr>
              <a:t>за значенн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84360" y="1413000"/>
            <a:ext cx="2016000" cy="576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РИЧИНОВ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4360" y="2133720"/>
            <a:ext cx="2016000" cy="576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ЧАС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684360" y="2924280"/>
            <a:ext cx="2016000" cy="576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84360" y="3716280"/>
            <a:ext cx="2016000" cy="576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МОВ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684360" y="4508640"/>
            <a:ext cx="2016000" cy="576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ОПУСТО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84360" y="5300640"/>
            <a:ext cx="2016000" cy="576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РІВНЯЛЬН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684360" y="6093000"/>
            <a:ext cx="2016000" cy="576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ЯСУВАЛЬ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4427640" y="1413000"/>
            <a:ext cx="432108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том у що, бо, через те щ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оскільки, у зв'язку з тим щ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 rot="16200000">
            <a:off x="3420000" y="1195920"/>
            <a:ext cx="432000" cy="1008360"/>
          </a:xfrm>
          <a:prstGeom prst="downArrow">
            <a:avLst>
              <a:gd name="adj1" fmla="val 50000"/>
              <a:gd name="adj2" fmla="val 583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427640" y="2205000"/>
            <a:ext cx="4321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коли, щойно, як тільки,лед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після того як, з того часу як, п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"/>
          <p:cNvSpPr/>
          <p:nvPr/>
        </p:nvSpPr>
        <p:spPr>
          <a:xfrm rot="16200000">
            <a:off x="3420360" y="1987920"/>
            <a:ext cx="431640" cy="1008360"/>
          </a:xfrm>
          <a:prstGeom prst="downArrow">
            <a:avLst>
              <a:gd name="adj1" fmla="val 50000"/>
              <a:gd name="adj2" fmla="val 5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4427640" y="2997360"/>
            <a:ext cx="432108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щоб, для того щоб, аби, з тим щ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 rot="16200000">
            <a:off x="3420360" y="2779920"/>
            <a:ext cx="431640" cy="1008360"/>
          </a:xfrm>
          <a:prstGeom prst="downArrow">
            <a:avLst>
              <a:gd name="adj1" fmla="val 50000"/>
              <a:gd name="adj2" fmla="val 5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4427640" y="3789360"/>
            <a:ext cx="4321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якщо, коли, колиб, я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8"/>
          <p:cNvSpPr/>
          <p:nvPr/>
        </p:nvSpPr>
        <p:spPr>
          <a:xfrm rot="16200000">
            <a:off x="3420000" y="3572280"/>
            <a:ext cx="432000" cy="1008360"/>
          </a:xfrm>
          <a:prstGeom prst="downArrow">
            <a:avLst>
              <a:gd name="adj1" fmla="val 50000"/>
              <a:gd name="adj2" fmla="val 583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4427640" y="4581360"/>
            <a:ext cx="4321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хоча, не зважаючи на те щ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дарма що, х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0"/>
          <p:cNvSpPr/>
          <p:nvPr/>
        </p:nvSpPr>
        <p:spPr>
          <a:xfrm rot="16200000">
            <a:off x="3420360" y="4364280"/>
            <a:ext cx="431640" cy="1008360"/>
          </a:xfrm>
          <a:prstGeom prst="downArrow">
            <a:avLst>
              <a:gd name="adj1" fmla="val 50000"/>
              <a:gd name="adj2" fmla="val 5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4427640" y="5300640"/>
            <a:ext cx="4321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як, мов, мовби, немов, немовб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ніби, наче, начебто, ніби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2"/>
          <p:cNvSpPr/>
          <p:nvPr/>
        </p:nvSpPr>
        <p:spPr>
          <a:xfrm rot="16200000">
            <a:off x="3420360" y="5083560"/>
            <a:ext cx="431640" cy="1008360"/>
          </a:xfrm>
          <a:prstGeom prst="downArrow">
            <a:avLst>
              <a:gd name="adj1" fmla="val 50000"/>
              <a:gd name="adj2" fmla="val 5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4427640" y="6093000"/>
            <a:ext cx="432108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що, як, щ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4"/>
          <p:cNvSpPr/>
          <p:nvPr/>
        </p:nvSpPr>
        <p:spPr>
          <a:xfrm rot="16200000">
            <a:off x="3420360" y="5875560"/>
            <a:ext cx="431640" cy="1008360"/>
          </a:xfrm>
          <a:prstGeom prst="downArrow">
            <a:avLst>
              <a:gd name="adj1" fmla="val 50000"/>
              <a:gd name="adj2" fmla="val 5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3300"/>
                </a:solidFill>
                <a:latin typeface="Garamond"/>
              </a:rPr>
              <a:t>За будовою розрізняють сполу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324000" y="2347920"/>
            <a:ext cx="2592360" cy="158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3300"/>
                </a:solidFill>
                <a:latin typeface="Garamond"/>
              </a:rPr>
              <a:t>ПР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3348000" y="2421000"/>
            <a:ext cx="2592360" cy="158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3300"/>
                </a:solidFill>
                <a:latin typeface="Garamond"/>
              </a:rPr>
              <a:t>СКЛАД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6300720" y="2347920"/>
            <a:ext cx="2592360" cy="158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3300"/>
                </a:solidFill>
                <a:latin typeface="Garamond"/>
              </a:rPr>
              <a:t>СКЛАДЕ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50920" y="4221000"/>
            <a:ext cx="2592360" cy="2016360"/>
          </a:xfrm>
          <a:prstGeom prst="rect">
            <a:avLst/>
          </a:prstGeom>
          <a:solidFill>
            <a:srgbClr val="e55a4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І, й, а, але, чи, 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3276720" y="4221000"/>
            <a:ext cx="2592360" cy="2016360"/>
          </a:xfrm>
          <a:prstGeom prst="rect">
            <a:avLst/>
          </a:prstGeom>
          <a:solidFill>
            <a:srgbClr val="e55a4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зате (за+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якби (як+б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якщо (як+щ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6227640" y="4221000"/>
            <a:ext cx="2592360" cy="2016360"/>
          </a:xfrm>
          <a:prstGeom prst="rect">
            <a:avLst/>
          </a:prstGeom>
          <a:solidFill>
            <a:srgbClr val="e55a4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ffff"/>
                </a:solidFill>
                <a:latin typeface="Times New Roman"/>
              </a:rPr>
              <a:t>тому щ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ffff"/>
                </a:solidFill>
                <a:latin typeface="Times New Roman"/>
              </a:rPr>
              <a:t>через те щ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ffff"/>
                </a:solidFill>
                <a:latin typeface="Times New Roman"/>
              </a:rPr>
              <a:t>для того щоб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ffff"/>
                </a:solidFill>
                <a:latin typeface="Times New Roman"/>
              </a:rPr>
              <a:t>дарма щ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ffff"/>
                </a:solidFill>
                <a:latin typeface="Times New Roman"/>
              </a:rPr>
              <a:t>у міру того як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ffff"/>
                </a:solidFill>
                <a:latin typeface="Times New Roman"/>
              </a:rPr>
              <a:t>так щ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 rot="3447600">
            <a:off x="2539080" y="1010520"/>
            <a:ext cx="287280" cy="1511280"/>
          </a:xfrm>
          <a:prstGeom prst="downArrow">
            <a:avLst>
              <a:gd name="adj1" fmla="val 50000"/>
              <a:gd name="adj2" fmla="val 131516"/>
            </a:avLst>
          </a:prstGeom>
          <a:solidFill>
            <a:srgbClr val="f1a99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 rot="18510000">
            <a:off x="6336360" y="1088280"/>
            <a:ext cx="287280" cy="1511640"/>
          </a:xfrm>
          <a:prstGeom prst="downArrow">
            <a:avLst>
              <a:gd name="adj1" fmla="val 50000"/>
              <a:gd name="adj2" fmla="val 131548"/>
            </a:avLst>
          </a:prstGeom>
          <a:solidFill>
            <a:srgbClr val="f1a99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4500720" y="1341360"/>
            <a:ext cx="250560" cy="1044720"/>
          </a:xfrm>
          <a:prstGeom prst="downArrow">
            <a:avLst>
              <a:gd name="adj1" fmla="val 50000"/>
              <a:gd name="adj2" fmla="val 104239"/>
            </a:avLst>
          </a:prstGeom>
          <a:solidFill>
            <a:srgbClr val="f1a99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993300"/>
                </a:solidFill>
                <a:latin typeface="Garamond"/>
              </a:rPr>
              <a:t>Написання сполучникі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Складні сполучники пишуться разом: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щоб, нібито, проте, немов, неначеб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У складених сполучниках усі слова пишуться окремо: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тому що, дарма що, так що, для того щоб, після того як, та 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 rot="18936600">
            <a:off x="34560" y="3787560"/>
            <a:ext cx="2808360" cy="1512720"/>
          </a:xfrm>
          <a:prstGeom prst="irregularSeal1">
            <a:avLst/>
          </a:prstGeom>
          <a:solidFill>
            <a:srgbClr val="f1a99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Уваг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35280" y="3645000"/>
            <a:ext cx="52052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cc0000"/>
                </a:solidFill>
                <a:latin typeface="Arial"/>
              </a:rPr>
              <a:t>ЗАПАМЯТАЙТЕ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>
                <a:solidFill>
                  <a:srgbClr val="993300"/>
                </a:solidFill>
                <a:latin typeface="Arial"/>
              </a:rPr>
              <a:t>Кому при складених сполучниках ставлять один раз, перед усім сполучн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993300"/>
                </a:solidFill>
                <a:latin typeface="Garamond"/>
              </a:rPr>
              <a:t>Правопис сполучникі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280" y="907920"/>
            <a:ext cx="889344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олучники </a:t>
            </a:r>
            <a:r>
              <a:rPr b="1" i="1" lang="uk-UA" sz="2800" spc="-1" strike="noStrike">
                <a:solidFill>
                  <a:srgbClr val="cc0000"/>
                </a:solidFill>
                <a:latin typeface="Arial"/>
              </a:rPr>
              <a:t>зате, проте, щоб, якб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треба відрізняти від однозвучних із ними самостійних частин мови, які з прийменниками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ро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та часткою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пишуть окрем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57080" y="2924280"/>
            <a:ext cx="3383280" cy="936360"/>
          </a:xfrm>
          <a:prstGeom prst="rect">
            <a:avLst/>
          </a:prstGeom>
          <a:solidFill>
            <a:srgbClr val="e55a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получники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ате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р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149800" y="2924280"/>
            <a:ext cx="3167280" cy="936360"/>
          </a:xfrm>
          <a:prstGeom prst="rect">
            <a:avLst/>
          </a:prstGeom>
          <a:solidFill>
            <a:srgbClr val="e55a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йменн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 прийменник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ро те, за 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8360" y="4005360"/>
            <a:ext cx="40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 мають лексичного знач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 відповідають на пит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 є членами реч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жуть бути заміне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олучниками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але, од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5003640" y="4005360"/>
            <a:ext cx="360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ють лексичне знач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повідають на пит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Є членами реч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 можуть бути заміне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олуч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2484360" y="3933720"/>
            <a:ext cx="0" cy="3589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6804000" y="3933720"/>
            <a:ext cx="0" cy="3589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6:44:43Z</dcterms:created>
  <dc:creator>Admin</dc:creator>
  <dc:description/>
  <dc:language>en-US</dc:language>
  <cp:lastModifiedBy>Admin</cp:lastModifiedBy>
  <dcterms:modified xsi:type="dcterms:W3CDTF">2014-05-06T10:10:51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04000000000001024140</vt:lpwstr>
  </property>
</Properties>
</file>