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54CB-208B-498C-9DD6-85FAFF257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8E0C-C6FD-48D9-9E84-B9E1611424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684-7818-4C83-81B3-11D0FF411B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CE3-E732-4A1D-A820-629D9D7B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6C9-35F3-4A21-875F-54778487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01E-D9C3-4E13-89A8-99AFA40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F48-6C1A-4711-8A00-973E6B22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FEA-5207-4CC9-BB70-2C62F786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BB62-1A88-4246-AA62-CB1D3C24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5BF7-A88A-4C94-928D-53169B6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E23E-BB94-4BD6-AF6A-32B18E5B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337-C11F-412C-8E37-7B70FBA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935B-1941-4591-ABEB-034F886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AFF3-5DF9-421C-92FD-739A9EB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2F3-4D02-40E5-9769-D47B192E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23AF-A211-4846-9146-46625268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1D6B-9E23-4469-86B1-DD1ECC5C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835-ECA5-4B5C-B8E4-C13BAF31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E3AF-A20D-42D1-B43E-7D5E28ED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9BFF-3DD3-4BFB-BE67-DF517C08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6FF9F-D508-4A2F-8A1A-2F4D6180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92126-F6D9-4373-A28E-7E8A1772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1F9B9-BB00-45DA-8279-0481EAA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FF58D-144D-43C1-B783-50B2533B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67E6A-7AA3-489D-91E2-2347A16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EA9-C227-493D-ABBA-68CEF088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E4FC2-4477-43EE-860E-C13588A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B1279-C739-4882-A1CD-C80C2136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55BF8-1591-42FD-94EA-CA40F14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948E6-5333-423C-96D1-60D48DE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1C792-B71B-4053-916E-534216B5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E5A3F-06F1-4401-AFFD-C1F6EE01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71A8D-0673-4CEE-BD1B-B06E724A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A9D9-F17B-40F0-B3B3-71882BE4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A223-4C02-4561-9F5E-8393631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257F-D037-46FD-9096-A6F04EA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B3A-F3D9-4069-B1D0-00133297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479A-45E1-4A1C-98DE-19AA43F2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E081-0960-47A7-9367-60D7C996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8221-E1BD-44F3-B489-D8DBE33A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D972-AE4A-4463-9A6F-6C76FF7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0C60-27A2-4E22-83F7-DFF77B1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3FEC-DA15-4EE2-8AC8-CAA0D79B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69404-7189-4C8A-A1D6-A39F047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3D7C-7A39-44D3-BF31-C46AC4C5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B213-5605-4FF9-B14B-EAA6A0F1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33C53-A069-455C-8FCF-324ABC01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84D-7E1F-4666-8B06-548F077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DA546-82AB-4F50-AD31-741FD15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DEDAF-6D24-4AF4-B0D1-A9F1219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637A5-2A23-4608-9295-1D42C26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855D1-E8ED-4ED9-BAD4-C8B0E2E5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B9834-F458-49A4-8918-77B086B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FDF49-FB4E-4A13-93A4-FBA96951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70256-15DA-40AE-9B9F-B2725261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0129A-32D6-4344-99D7-72E6C7A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A36FE-5947-46A6-B5F9-1CC871C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20AB0-9A5E-4B50-AA63-048A4928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0A5-B720-4E4A-AB2E-D9D2262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521B7-968F-45F8-A5E8-240E11DA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798DF-87B7-4345-811A-D2FC4396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2CA70-1893-40C4-B89C-70182FF4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C8A2A9-BEA1-45CA-B6B2-F8BECB9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7D328-5A54-425F-A575-81DDB5CE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22C88-E3CC-42C4-AFFD-03C3438A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D371F-1ED0-4EFB-9CAF-5D4C755D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D0FBE-8290-4ED7-9D8A-077DF72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B37E0-7946-498A-A928-A68BB024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2027A-2048-4228-9AFE-3FEA5A1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FDE-6B50-4881-B104-9B1D699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9405A-C780-4A01-BFE7-26E4C188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14157-4253-48A7-BE2F-A76F9EA0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020CC-588D-436C-9EC9-A64AEA5B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799F6-2AC7-4F35-8A94-3E85BCEC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3CCF16-0014-44AC-AE9F-9B734B59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17DB2-8A08-485F-9309-3C2E89F6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B7885-A38E-4E58-9952-BE6756AF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31653-07FB-40A0-B4DE-CC3B147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B0761-A1CF-404E-A55D-9A54171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B25A7-1C0D-4200-82A1-62F12DA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821-889C-4032-ABE2-6BDE0AEA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CAFA1-F3CF-4AA9-95F6-7B1C79A1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93742-DA74-4484-B734-F5615D8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1C8DE-79B7-4F34-A64D-5F6EB45E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11649-7083-4EC7-9290-62CE2D0C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3872D-0B00-483C-BCA2-0E6D405F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F16-10F5-4219-999E-42A4341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E8A4-A594-405B-BCC1-E8486CEF169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67A5-B0EC-4264-8A92-72AD24098D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CDBB-364B-4140-8C4B-CD0F1AF241FD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A98-85B6-4A06-8123-B99B655A13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CB4C-ED43-4BE6-A9EE-0ABC9137147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76E4-9961-4A86-B5AF-3CAF37B8353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CA8A-E2F5-407F-9FA6-0201E81CA669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49F-45E9-4553-93CC-80D76D4D8BB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BE8-4907-4837-88EC-17FF3D5E83E6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9AB0-80AB-4E12-9EBE-B723F11A06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6407-6294-42D9-A581-E63B6BC5BFA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53A-43A0-457A-90D9-15D270CF25C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32B0-7B10-407E-AF94-1B89DCB6A5F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5CC-7760-4832-BAFF-E280921AEB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28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A155-F52F-4845-AE99-2C67773A82E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486560" cy="21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entury Schoolbook"/>
              </a:rPr>
              <a:t>ОДНОСКЛАДНІ РЕЧЕНН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95280" y="3068280"/>
            <a:ext cx="44593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                                                              </a:t>
            </a: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Презентацію підготувал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                                                                       </a:t>
            </a: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у</a:t>
            </a: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ч</a:t>
            </a: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ні </a:t>
            </a: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8 кл</a:t>
            </a: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асу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                                                                         </a:t>
            </a: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Губиниської ЗОШ І-ІІІ ступеня №1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                                                                        </a:t>
            </a: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Кошова Д</a:t>
            </a: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ари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    </a:t>
            </a: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                     </a:t>
            </a: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                                                </a:t>
            </a:r>
            <a:r>
              <a:rPr b="1" lang="uk-UA" sz="1600" spc="-1" strike="noStrike">
                <a:solidFill>
                  <a:srgbClr val="d2611c"/>
                </a:solidFill>
                <a:latin typeface="Century Schoolbook"/>
              </a:rPr>
              <a:t>Земляна К</a:t>
            </a:r>
            <a:r>
              <a:rPr b="1" lang="uk-UA" sz="1600" spc="-1" strike="noStrike">
                <a:solidFill>
                  <a:srgbClr val="d2611c"/>
                </a:solidFill>
                <a:latin typeface="Arial"/>
              </a:rPr>
              <a:t>атери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5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5167-9CC2-4E71-B9BA-6914814B2D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39d"/>
                </a:solidFill>
                <a:latin typeface="Century Schoolbook"/>
              </a:rPr>
              <a:t>       </a:t>
            </a:r>
            <a:r>
              <a:rPr b="1" lang="uk-UA" sz="3000" spc="-1" strike="noStrike">
                <a:solidFill>
                  <a:srgbClr val="fff39d"/>
                </a:solidFill>
                <a:latin typeface="Century Schoolbook"/>
              </a:rPr>
              <a:t>БЛІЦ-ОПИТУВАННЯ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5640" y="1785960"/>
            <a:ext cx="6172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Що називають односкладними реченнями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На які типи поділяються односкладні речення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Чим виражається означено-особове речення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Наведіть власний приклад неозначено-особового речення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Чи може безособове речення виражатися інфінітивом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У формі чого вживається головний член узагальнено-особового речення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Чи справді речення: “ темна ніч ” є називним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3E46-562B-4DA2-9A49-F60F00F3B6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b0f0"/>
                </a:solidFill>
                <a:latin typeface="Century Schoolbook"/>
              </a:rPr>
              <a:t>              </a:t>
            </a:r>
            <a:r>
              <a:rPr b="0" lang="uk-UA" sz="5400" spc="-1" strike="noStrike">
                <a:solidFill>
                  <a:srgbClr val="00b0f0"/>
                </a:solidFill>
                <a:latin typeface="Century Schoolbook"/>
              </a:rPr>
              <a:t>ЦЕ МИ!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Содержимое 16" descr="SDC16224.JPG"/>
          <p:cNvPicPr/>
          <p:nvPr/>
        </p:nvPicPr>
        <p:blipFill>
          <a:blip r:embed="rId1"/>
          <a:stretch/>
        </p:blipFill>
        <p:spPr>
          <a:xfrm>
            <a:off x="4286160" y="1643040"/>
            <a:ext cx="1973520" cy="278604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14" descr="SDC10360.JPG"/>
          <p:cNvPicPr/>
          <p:nvPr/>
        </p:nvPicPr>
        <p:blipFill>
          <a:blip r:embed="rId2"/>
          <a:stretch/>
        </p:blipFill>
        <p:spPr>
          <a:xfrm>
            <a:off x="6286680" y="1643040"/>
            <a:ext cx="2071440" cy="276228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4" descr="SDC10360.JPG"/>
          <p:cNvPicPr/>
          <p:nvPr/>
        </p:nvPicPr>
        <p:blipFill>
          <a:blip r:embed="rId3"/>
          <a:stretch/>
        </p:blipFill>
        <p:spPr>
          <a:xfrm>
            <a:off x="5214960" y="4429080"/>
            <a:ext cx="2344680" cy="1785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ивіт! Ми учениці 8 класу. Полюбляємо вивчати українську мову, захоплюємося танцями та інколи малюванн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28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7DF1-AC16-4662-B4D5-893B8D5CE5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2d050"/>
                </a:solidFill>
                <a:latin typeface="Century Schoolbook"/>
              </a:rPr>
              <a:t>НАШІ ПЛАНИ НА     МАЙБУТНЄ: 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285640" y="2428560"/>
            <a:ext cx="6172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d0d0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ми дізнаємося , що таке односкладні речення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ми з'ясуємо скільки існує типів односкладних речень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ми зможемо розрізняти типи односкладних речень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ми дізнаємося спосіб вираження головного члена реченн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ми доведемо Вам , що односкладні речення можуть бути як поширеними, так і непоширеним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Century Schoolbook"/>
              </a:rPr>
              <a:t>в кінці презентації на вас чекає невелике бліц-опитуванн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5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E1F-668F-45CE-8827-F87A07FF50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642760" y="428760"/>
            <a:ext cx="61722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8cfc8"/>
                </a:solidFill>
                <a:latin typeface="Century Schoolbook"/>
              </a:rPr>
              <a:t>ОДНОСКЛАДНІ РЕЧЕННЯ – ЦЕ…</a:t>
            </a:r>
            <a:endParaRPr b="0" lang="en-US" sz="4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356920" y="1856880"/>
            <a:ext cx="6172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d2611c"/>
                </a:solidFill>
                <a:latin typeface="Century Schoolbook"/>
              </a:rPr>
              <a:t>Односкладними</a:t>
            </a:r>
            <a:r>
              <a:rPr b="1" lang="uk-UA" sz="2000" spc="-1" strike="noStrike">
                <a:solidFill>
                  <a:srgbClr val="fff39d"/>
                </a:solidFill>
                <a:latin typeface="Century Schoolbook"/>
              </a:rPr>
              <a:t> називаються такі речення, в яких граматичну основу представляє тільки один член речення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39d"/>
                </a:solidFill>
                <a:latin typeface="Century Schoolbook"/>
              </a:rPr>
              <a:t>За формою головного члена односкладні речення поділяються на такі, в яких головний член співвідносний з підметом( називні), та такі, в  яких головний член співвідносний з присудком( означено-особові, неозначено-особові, узагальнено-особові, безособові)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5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F827-4FE3-4494-90DD-8CFB66F9A5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928880" y="60480"/>
          <a:ext cx="7072200" cy="679752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043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 </a:t>
                      </a: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    </a:t>
                      </a:r>
                      <a:r>
                        <a:rPr b="1" lang="uk-UA" sz="2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uk-UA" sz="2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Головний чл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Спосіб вираження головного ч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Означено-особ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у формі прису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дієслово у формі 1-ї чи 2-ї особи однини чи множини теперішнього або майбутнього часу дійсного або наказового способу: За правду, браття, єднаймось щир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Неозначено-особ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у формі прису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дієслово 3-ї особи множини теперішнього або майбутнього часу чи форми множини минулого часу:У нас проханих не любля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Узагальнено-особ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у формі прису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дієслово  2-ї  особи однини теперішнього  або майбутнього часу. Ними можуть бути прислів'я та приказки:Що посієш, те й пожнеш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Безособ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у формі прису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безособове дієслово, інфінітив, дієслівні форми на  </a:t>
                      </a:r>
                      <a:r>
                        <a:rPr b="1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-</a:t>
                      </a:r>
                      <a:r>
                        <a:rPr b="1" i="1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но,-то. </a:t>
                      </a:r>
                      <a:r>
                        <a:rPr b="0" lang="uk-UA" sz="1200" spc="-1" strike="noStrike" u="sng">
                          <a:solidFill>
                            <a:srgbClr val="990099"/>
                          </a:solidFill>
                          <a:uFillTx/>
                          <a:latin typeface="Century Schoolbook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рисудкові слова: треба, можна, немає, нема: Ретельно тіні складено в штахе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Наз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у формі пі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іменник  у називному відмінку або іменникове словосполучення:Шлях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5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B053-AC76-4E8B-B13E-2A23C69601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14360" y="21420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39d"/>
                </a:solidFill>
                <a:latin typeface="Century Schoolbook"/>
              </a:rPr>
              <a:t>ОЗНАЧЕНО-ОСОБОВЕ РЕЧЕННЯ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050560" y="17733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 u="sng">
                <a:solidFill>
                  <a:srgbClr val="d2611c"/>
                </a:solidFill>
                <a:uFillTx/>
                <a:latin typeface="Century Schoolbook"/>
              </a:rPr>
              <a:t>Означено-особове речення</a:t>
            </a:r>
            <a:r>
              <a:rPr b="1" i="1" lang="uk-UA" sz="1700" spc="-1" strike="noStrike" u="sng">
                <a:solidFill>
                  <a:srgbClr val="fff39d"/>
                </a:solidFill>
                <a:uFillTx/>
                <a:latin typeface="Arial"/>
              </a:rPr>
              <a:t> </a:t>
            </a:r>
            <a:r>
              <a:rPr b="1" i="1" lang="uk-UA" sz="1700" spc="-1" strike="noStrike" u="sng">
                <a:solidFill>
                  <a:srgbClr val="fff39d"/>
                </a:solidFill>
                <a:uFillTx/>
                <a:latin typeface="Century Schoolbook"/>
              </a:rPr>
              <a:t>-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це односкладне речення,в якому головний член називає дію, ознаку, стан чи процес, що здійснюється мовцем або стосується мовця. Головний член(у формі присудка) в таких реченнях виражається: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1) Формою дієслова 1-ї особи однини чи множини дійсного способу теперішнього або майбутнього часу та 1-ї особи множини наказового способу: цілую всі ліси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2)дієсловом2-ї особи однини і множини дійсного способу теперішнього або майбутнього часу наказового способу: В труді творіть життя красу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Означено-особові речення вживаються в художньому та публіцистичному стилях:Працюють на землі важко, щоденно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5896-01BD-4B26-8F60-0B6510EA79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172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39d"/>
                </a:solidFill>
                <a:latin typeface="Century Schoolbook"/>
              </a:rPr>
              <a:t>УЗАГАЛЬНЕНО-ОСОБОВІ РЕЧЕННЯ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14360" y="1642680"/>
            <a:ext cx="6172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d2611c"/>
                </a:solidFill>
                <a:latin typeface="Century Schoolbook"/>
              </a:rPr>
              <a:t>Узагальнено-особовими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називаються речення,які позначають дію, стан, процес, ознаку. Що стосуються будь-якої особи. Головний  член таких речень найчастіше має форму 2-ї особи однини теперішнього і майбутнього часу дійсного та наказового способу: Хочеш їсти калачі - сиди на печі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Узагальнено-особові речення мають такі ознаки: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Відтворюються в мові у вигляді готових одиниць для позначення готових ситуацій;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не мають просторово-часової вказівки, існують у мовленні як абстраговані судження, що не відображають певної конкретності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5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3D18-B824-4A12-B643-51E1A8797F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61722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39d"/>
                </a:solidFill>
                <a:latin typeface="Century Schoolbook"/>
              </a:rPr>
              <a:t>НЕОЗНАЧЕНО-ОСОБОВІ РЕЧЕННЯ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5640" y="2214360"/>
            <a:ext cx="61722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2611c"/>
                </a:solidFill>
                <a:latin typeface="Century Schoolbook"/>
              </a:rPr>
              <a:t>Неозначено</a:t>
            </a:r>
            <a:r>
              <a:rPr b="1" i="1" lang="ru-RU" sz="2400" spc="-1" strike="noStrike">
                <a:solidFill>
                  <a:srgbClr val="d2611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d2611c"/>
                </a:solidFill>
                <a:latin typeface="Century Schoolbook"/>
              </a:rPr>
              <a:t>-</a:t>
            </a:r>
            <a:r>
              <a:rPr b="1" i="1" lang="ru-RU" sz="2400" spc="-1" strike="noStrike">
                <a:solidFill>
                  <a:srgbClr val="d2611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d2611c"/>
                </a:solidFill>
                <a:latin typeface="Century Schoolbook"/>
              </a:rPr>
              <a:t>особов</a:t>
            </a:r>
            <a:r>
              <a:rPr b="1" i="1" lang="uk-UA" sz="2400" spc="-1" strike="noStrike">
                <a:solidFill>
                  <a:srgbClr val="d2611c"/>
                </a:solidFill>
                <a:latin typeface="Century Schoolbook"/>
              </a:rPr>
              <a:t>і речення</a:t>
            </a:r>
            <a:r>
              <a:rPr b="1" i="1" lang="uk-UA" sz="1800" spc="-1" strike="noStrike">
                <a:solidFill>
                  <a:srgbClr val="d2611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-це односкладні речення,що називають дію, стан. Процес,ознаку,носієм яких є невизначена особа. Головний член у цих реченнях виражається: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1)Дієсловом у формі 3-ї особи множини дійсного способу теперішнього або майбутнього часу: З давніх-давен творців пісенного слова-піснетворців-називають у нас співцями;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2)Дієсловом у формі множини минулого часу дійсного способу та у формі множини умовного способу: Пили каву з білою булкою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омер слайда 5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2166-412F-4129-B176-30EC42282D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99800" y="356760"/>
            <a:ext cx="61722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39d"/>
                </a:solidFill>
                <a:latin typeface="Century Schoolbook"/>
              </a:rPr>
              <a:t>   </a:t>
            </a:r>
            <a:r>
              <a:rPr b="1" lang="uk-UA" sz="4400" spc="-1" strike="noStrike">
                <a:solidFill>
                  <a:srgbClr val="fff39d"/>
                </a:solidFill>
                <a:latin typeface="Century Schoolbook"/>
              </a:rPr>
              <a:t>      </a:t>
            </a:r>
            <a:r>
              <a:rPr b="1" lang="uk-UA" sz="4400" spc="-1" strike="noStrike">
                <a:solidFill>
                  <a:srgbClr val="fff39d"/>
                </a:solidFill>
                <a:latin typeface="Century Schoolbook"/>
              </a:rPr>
              <a:t>БЕЗОСОБОВІ РЕЧЕННЯ</a:t>
            </a:r>
            <a:endParaRPr b="0" lang="en-US" sz="4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5640" y="1928520"/>
            <a:ext cx="61722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d2611c"/>
                </a:solidFill>
                <a:latin typeface="Century Schoolbook"/>
              </a:rPr>
              <a:t>Безособові речення</a:t>
            </a:r>
            <a:r>
              <a:rPr b="1" lang="uk-UA" sz="1800" spc="-1" strike="noStrike">
                <a:solidFill>
                  <a:srgbClr val="0d0d0d"/>
                </a:solidFill>
                <a:latin typeface="Century Schoolbook"/>
              </a:rPr>
              <a:t>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– це такі односкладні речення, в яких головний член означає дію або стан , що сприймається незалежно від будь-якої діючої особи чи носія стану. Наприклад: Місяця не видно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Безособові речення вказують на стан природи, навколишньої дійсності, психічний або фізичний  стан людини, незалежно від самого виконавця. І процеси, що виражають ставлення до повідомлюваного. Наприклад: Світало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Головний член у безособових словах може виражатися6 безособовим дієсловом, особовим дієсловом в безособовому значенні( мають форму 3-ї особи однини), дієслівними формами на -но, -то, неозначеною формою дієслова з заперечною часткою </a:t>
            </a:r>
            <a:r>
              <a:rPr b="1" i="1" lang="uk-UA" sz="1800" spc="-1" strike="noStrike">
                <a:solidFill>
                  <a:srgbClr val="fff39d"/>
                </a:solidFill>
                <a:latin typeface="Century Schoolbook"/>
              </a:rPr>
              <a:t>не 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, інфінітивом,дієсловом </a:t>
            </a:r>
            <a:r>
              <a:rPr b="1" i="1" lang="uk-UA" sz="1800" spc="-1" strike="noStrike">
                <a:solidFill>
                  <a:srgbClr val="fff39d"/>
                </a:solidFill>
                <a:latin typeface="Century Schoolbook"/>
              </a:rPr>
              <a:t>бути</a:t>
            </a:r>
            <a:r>
              <a:rPr b="1" lang="uk-UA" sz="1800" spc="-1" strike="noStrike">
                <a:solidFill>
                  <a:srgbClr val="fff39d"/>
                </a:solidFill>
                <a:latin typeface="Century Schoolbook"/>
              </a:rPr>
              <a:t> у формі </a:t>
            </a:r>
            <a:r>
              <a:rPr b="0" lang="uk-UA" sz="1800" spc="-1" strike="noStrike">
                <a:solidFill>
                  <a:srgbClr val="fff39d"/>
                </a:solidFill>
                <a:latin typeface="Century Schoolbook"/>
              </a:rPr>
              <a:t>минулого та майбутнього часу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9:17:18Z</dcterms:created>
  <dc:creator>User</dc:creator>
  <dc:description/>
  <dc:language>en-US</dc:language>
  <cp:lastModifiedBy>Admin</cp:lastModifiedBy>
  <dcterms:modified xsi:type="dcterms:W3CDTF">2014-06-12T06:46:04Z</dcterms:modified>
  <cp:revision>28</cp:revision>
  <dc:subject/>
  <dc:title>Односкладні рече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</Properties>
</file>