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jpeg" ContentType="image/jpeg"/>
  <Override PartName="/ppt/media/image17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6E23-CE52-41B6-BB73-AE77062D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0145-0570-4AA3-A6E3-07B8ABE1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7E2C4-76E6-4087-ADE6-2B01E6D3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7EF1D-0E29-4423-822C-DAB5C73A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FD1CE-ECEB-4955-BADA-81333B51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24D4E-6D69-4D13-8E81-1646259E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7C75D-19D8-43D8-A55C-B24EA847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E4C4E-7097-4E4C-93ED-E68EC6DA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24497-8480-4984-A890-1F60D537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E3164-9C66-4705-A9E8-9271C2CF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8519C-640D-420B-830F-7D45B445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5BBC7-A81A-4750-BA99-F9D74C42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DB18-316A-430E-B461-0D7F595D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B2009-32A7-444D-A2E4-D04A72F0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53041-CE94-4EA0-A25D-6C3F0E63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D9FEA-9F71-48BD-9AEE-D63841B7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075BE-2491-4C72-9428-77F39309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D6E23-7BCC-42C1-97C1-26DE1DE9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8F4D4-F520-4701-BA7A-0B8731D5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F86D2-DDF6-4F67-8C50-5BFBD1AB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BB253-BE00-4F7B-9F8D-B5C56E92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E78DD-2209-4F2D-900E-C2512F50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82A5E-2E83-4393-ABF1-8AD0C126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15FD-D8F9-4D29-B162-24221590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68732-5088-454D-BB5A-19574F42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9B264-7E9E-4AC9-B66C-FB599944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DF111-D179-4D05-9840-4D7464BB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EDBF6-1577-4617-957A-3D92D6E1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B890C-2A67-4DA8-B3E2-93F774B5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D8BC4-A5EA-4F5F-A0D2-5812AAFF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C2932-DDB7-4D37-BD53-82B003F3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E58CE-681D-40DA-B2E4-3306CF65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CB594-BCED-4203-B687-33F7B620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7DD9E-0507-42AB-B50C-B8DCA76A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3D71-5A04-495F-AFD1-E7215DEF0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78294-2BF2-4CD0-B5DE-BD8004AE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E746C-24F7-4C0B-9C32-3DF361D4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C36D3-DD90-4558-86FC-C42D12E0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709DF-4F39-4548-AA01-060DD0A5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2D363-4467-4D52-A619-7849760F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D3CB2-D5EE-462E-B41B-D4A2EEAF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9EF74-47C6-48BE-8D03-1939DB50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3104C-FB6A-4698-93C0-DCAE8D14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DDC9F-6086-4111-AE67-90C94694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A17D3-CBE3-4D55-AF75-78153F37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0A29-859E-4136-9EA2-2D77ABA7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49D2E-DD64-4FE7-A93F-C9AE280C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19A68-9242-45AF-99A1-157E86D7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74BD4-720A-4839-A109-1C9AD111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3E90F-63A5-416A-9878-D151F317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DB310-24B3-4759-9BD8-2B97E6C2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D8E9-A746-45E5-9C64-4D8F4284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1A20-C76B-4BB3-8FB3-9982ACC9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8291-F843-40A9-B9AA-6B937087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7D58-56A8-4B3F-9B20-8C73D2C6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D4A7-828C-4D02-82E2-E973B1D2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E426-43F1-4B16-B055-824352BF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85D3-1885-4752-844F-236F7F2A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31E1-C7D6-4306-A662-A77032AA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0C8D-D50C-42DD-8AEB-95042EAF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0B24-9A36-4101-97EF-DC63E8B6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8926-FF47-4324-B3EE-CF7C9003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50092-36F5-4118-9AE6-D06BCEDF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E7F0C-AD18-48CB-B21F-53FC9EB9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AD103-E99D-4A86-BC72-BBC795D4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7EFA0-3BBB-41ED-8857-25A5231D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3D3C5-C9DD-4AD8-A8AC-DBD2166C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9B50-976A-4B2A-9E3C-80EE5E01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19646-E92E-4D98-A361-0FE9CE3C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FF6B5-B9BF-4181-A3C6-060FE2EC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6D366-DA3C-42EF-86DD-0975B948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10159-2B38-4269-BCFC-E23E4016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D0902-A933-4D47-92F1-CA946077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84CA7-1FD3-411D-B987-0FFB7A3F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D9F1F-3011-4027-B11E-D84AF3DD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7D2B1-A852-4A9E-88BF-8FC4EF48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21A96-14A3-4A80-92EB-529BFF23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40BE2-5008-4F91-BA2A-2E39DA64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EFD2-9194-4206-B5C7-6F145E00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89176-23DC-4546-BAA8-E4174206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F0137-EEB9-4ABC-97A1-B18C03DF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52E28-7145-4430-AD0D-6F3DBBAA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81079-F4D8-41EC-B209-A5AC0280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FDE24-D0B3-49FE-9B58-A0E51974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A1E7F-FB89-4C58-894A-24BA3841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24109-1FC6-49A8-893D-D632DA5B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291EB-619C-4DF9-9ADF-8B3082F9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C491B-0FDA-4746-ADFD-B0B86A39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3C248-7DDA-4430-91C4-7B442755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5594-5719-43D1-9986-F11C87D8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21AAC-95CE-4D32-B28B-5F5FE24F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D50B7-C352-4534-A72B-4094E2CB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E262E-A803-4731-8E99-AD1016DE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E7E79-5F2D-4D61-A48E-68211FA4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7F3A6-65EA-4FF5-BCA9-110372D7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1DF60-C447-45D2-8856-D24681AB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548E6-C88B-4127-B7BB-0324A4CA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784F5-0413-4A9B-9103-B109F180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0E970-F501-47E1-A11A-C89DC79F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29ECD-2EAB-4BDB-A063-AE0A45E5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85E4-85CC-4399-893D-F1A6BD4A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174F7-E642-4230-8A2D-1ED2C713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9F879-7198-428E-9293-50BD402E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6DED2-F185-471E-A6C7-D7CF3871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56A92-B5D8-4678-98E9-082BF347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E7303-E7FC-4F13-8F2B-CAAB0BF6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21EC8-1591-4646-90E8-7260C782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CA566-7983-4E38-B5AF-B20316D6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15B73-935D-4DE5-8518-13A61FB0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4FE38-1E88-4477-BCAF-5F5DA390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18A91-9F03-4AB6-99D3-B572B122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2F64-683D-4FAD-82E2-A2B7341D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51A64-5A59-4C2C-A073-356A148D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803E2-1E5F-43A9-868F-748E17E3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797E7-462D-4346-B054-9AD93344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CA9F8-9DAF-4AD6-9109-2937B6BD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51C15-21B0-4CB1-A883-0AAC9982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DC70A-2D51-4A81-B514-6031BA97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BC030-E686-4435-A5BA-BD8EAC42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99844-EE9E-41C4-B695-9B508490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8AF51-F36F-4DEA-BDFA-F01BEE0E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22EF9-7AEF-4B1E-85DD-2DE0150B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BAB1-B376-409E-8A48-FB895AEE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491C4-EF78-4386-BE43-DDAB5681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9B5AE-DA88-4B7D-9C81-8EE839FA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B7E54-665A-4F57-A7DB-CB9B4963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0238F-8033-4875-B6FB-1FFBCEA2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44ECF-B6B2-4228-A36B-94E3C114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03C75-6A2A-4C4B-BBB5-56C9FD41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0A281-E2A7-4479-A012-4134B5F0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FDD72-E0D2-4C9C-85C4-FBE1AB13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FB8F8-7201-449F-A39D-561372BB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80DB0-4F36-4BFF-AF53-ADD5AFC9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E6D4-9AE1-4884-8F2E-81ABCF47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007AB-D26E-4B54-AD75-D3BBFA4C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740D3-E858-4EF3-840A-A965F00E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8B1DB-1478-4361-9D8B-C652B731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5A9C3-F1CB-4A86-A0F6-5FA2CFAC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AA705-5EDA-420D-909A-0CDFBAE4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4496E-A52F-4D9A-83CF-8E9EDC3B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1F4D1-0CE9-4E86-A0B2-C6AE28C2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6B58B-0738-4A64-9E1E-895569BA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74881-B41F-4D41-BE31-81E43B07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68E59-3355-4728-AD2A-03752009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E3CD-F9D7-41BD-95DB-CDEC9C689F73}" type="slidenum"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470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72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473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5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76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477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DA1D-DDB0-412F-B21E-F89AA715F9E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2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2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2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2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2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6083-7AC8-4A2F-B514-0FA497CB23D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7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7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7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7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7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3F0B-B95F-4BD5-9ED7-3FDF081941E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33A9-82AA-4CBB-8E21-F7268FC6684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5EA5-92E5-42BA-8254-AEB1237A030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5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5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5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5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6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6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3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0434-647B-427E-9D9C-16E362E0793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7593-C31A-4805-97E8-74D41DFFC27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266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68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269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72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73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CDBB-0A31-47B3-BEFB-509F9C4C668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317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19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320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22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23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324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440F-E218-4109-A1D4-3B3494AD695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36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70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371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7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7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375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9CE7-8CC9-42ED-8E1C-7083ADB3F2B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419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21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22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24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25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426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9C6F-DDB8-4F68-A54A-EDBCB930CA5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200" spc="-1" strike="noStrike">
              <a:solidFill>
                <a:srgbClr val="283138"/>
              </a:solidFill>
              <a:latin typeface="Trebuchet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title"/>
          </p:nvPr>
        </p:nvSpPr>
        <p:spPr>
          <a:xfrm>
            <a:off x="817560" y="3131640"/>
            <a:ext cx="717552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2"/>
          <a:stretch/>
        </p:blipFill>
        <p:spPr>
          <a:xfrm>
            <a:off x="22320" y="0"/>
            <a:ext cx="9121680" cy="6823080"/>
          </a:xfrm>
          <a:prstGeom prst="rect">
            <a:avLst/>
          </a:prstGeom>
          <a:ln w="0">
            <a:noFill/>
          </a:ln>
        </p:spPr>
      </p:pic>
      <p:pic>
        <p:nvPicPr>
          <p:cNvPr id="625" name="Прямоугольник 3" descr=""/>
          <p:cNvPicPr/>
          <p:nvPr/>
        </p:nvPicPr>
        <p:blipFill>
          <a:blip r:embed="rId3"/>
          <a:stretch/>
        </p:blipFill>
        <p:spPr>
          <a:xfrm>
            <a:off x="901800" y="4267080"/>
            <a:ext cx="7619760" cy="1243080"/>
          </a:xfrm>
          <a:prstGeom prst="rect">
            <a:avLst/>
          </a:prstGeom>
          <a:ln w="0">
            <a:noFill/>
          </a:ln>
        </p:spPr>
      </p:pic>
      <p:sp>
        <p:nvSpPr>
          <p:cNvPr id="626" name="TextBox 5"/>
          <p:cNvSpPr/>
          <p:nvPr/>
        </p:nvSpPr>
        <p:spPr>
          <a:xfrm>
            <a:off x="2532240" y="314172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очна  екскурсія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2" descr="C:\Users\Моряк\Pictures\ФОТКИ\фото 08.09.12\7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0" name="Заголовок 1" descr=""/>
          <p:cNvPicPr/>
          <p:nvPr/>
        </p:nvPicPr>
        <p:blipFill>
          <a:blip r:embed="rId3"/>
          <a:stretch/>
        </p:blipFill>
        <p:spPr>
          <a:xfrm>
            <a:off x="450720" y="-12600"/>
            <a:ext cx="8517240" cy="121284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 txBox="1"/>
          <p:nvPr/>
        </p:nvSpPr>
        <p:spPr>
          <a:xfrm>
            <a:off x="4571640" y="4149360"/>
            <a:ext cx="4460760" cy="2592360"/>
          </a:xfrm>
          <a:prstGeom prst="rect">
            <a:avLst/>
          </a:prstGeom>
          <a:gradFill rotWithShape="0">
            <a:gsLst>
              <a:gs pos="0">
                <a:srgbClr val="bfbeeb"/>
              </a:gs>
              <a:gs pos="100000">
                <a:srgbClr val="8a89d4"/>
              </a:gs>
            </a:gsLst>
            <a:lin ang="5400000"/>
          </a:gradFill>
          <a:ln w="9360">
            <a:solidFill>
              <a:srgbClr val="5d5ad2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еред гір, не біля моря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епах широких, золотих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кинулось село в тополях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красивой річкой  біля них.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рідний край, моя оселя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люди – справжні трударі,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діти в нас такі веселі,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 гарно жити у селі!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М. Жир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2" descr=""/>
          <p:cNvPicPr/>
          <p:nvPr/>
        </p:nvPicPr>
        <p:blipFill>
          <a:blip r:embed="rId1"/>
          <a:stretch/>
        </p:blipFill>
        <p:spPr>
          <a:xfrm>
            <a:off x="-79200" y="0"/>
            <a:ext cx="92232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TextBox 1" descr=""/>
          <p:cNvPicPr/>
          <p:nvPr/>
        </p:nvPicPr>
        <p:blipFill>
          <a:blip r:embed="rId1"/>
          <a:stretch/>
        </p:blipFill>
        <p:spPr>
          <a:xfrm>
            <a:off x="1450800" y="1504800"/>
            <a:ext cx="66693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Прямоугольник 1"/>
          <p:cNvSpPr/>
          <p:nvPr/>
        </p:nvSpPr>
        <p:spPr>
          <a:xfrm>
            <a:off x="320760" y="5908680"/>
            <a:ext cx="869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о Весела Гора Слов'яносербського району, розташоване на крутому мальовничому правому березі р. Сіверський Донець.   Фото 1933р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28" name="Picture 2" descr=""/>
          <p:cNvPicPr/>
          <p:nvPr/>
        </p:nvPicPr>
        <p:blipFill>
          <a:blip r:embed="rId1"/>
          <a:stretch/>
        </p:blipFill>
        <p:spPr>
          <a:xfrm>
            <a:off x="320760" y="108000"/>
            <a:ext cx="869616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08000" y="0"/>
            <a:ext cx="8748720" cy="6075360"/>
          </a:xfrm>
          <a:prstGeom prst="rect">
            <a:avLst/>
          </a:prstGeom>
          <a:ln w="0">
            <a:noFill/>
          </a:ln>
        </p:spPr>
      </p:pic>
      <p:sp>
        <p:nvSpPr>
          <p:cNvPr id="630" name="Прямоугольник 1"/>
          <p:cNvSpPr/>
          <p:nvPr/>
        </p:nvSpPr>
        <p:spPr>
          <a:xfrm>
            <a:off x="0" y="6213600"/>
            <a:ext cx="892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єток заклав наприкінці XVIII ст. невідомий Голуб. Він побудував шикарний будинок у стилі класицизму недалеко від рік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31" name="Picture 2" descr=""/>
          <p:cNvPicPr/>
          <p:nvPr/>
        </p:nvPicPr>
        <p:blipFill>
          <a:blip r:embed="rId2"/>
          <a:stretch/>
        </p:blipFill>
        <p:spPr>
          <a:xfrm>
            <a:off x="7429680" y="103320"/>
            <a:ext cx="1714320" cy="2533680"/>
          </a:xfrm>
          <a:prstGeom prst="rect">
            <a:avLst/>
          </a:prstGeom>
          <a:ln w="0">
            <a:noFill/>
          </a:ln>
        </p:spPr>
      </p:pic>
      <p:sp>
        <p:nvSpPr>
          <p:cNvPr id="632" name="TextBox 2"/>
          <p:cNvSpPr/>
          <p:nvPr/>
        </p:nvSpPr>
        <p:spPr>
          <a:xfrm>
            <a:off x="7429680" y="2637000"/>
            <a:ext cx="1714320" cy="368280"/>
          </a:xfrm>
          <a:prstGeom prst="rect">
            <a:avLst/>
          </a:prstGeom>
          <a:solidFill>
            <a:srgbClr val="9eae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о Голуб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3" name="TextBox 4"/>
          <p:cNvSpPr/>
          <p:nvPr/>
        </p:nvSpPr>
        <p:spPr>
          <a:xfrm>
            <a:off x="5972040" y="5551560"/>
            <a:ext cx="2914920" cy="520200"/>
          </a:xfrm>
          <a:prstGeom prst="rect">
            <a:avLst/>
          </a:prstGeom>
          <a:solidFill>
            <a:srgbClr val="9eae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rebuchet MS"/>
              </a:rPr>
              <a:t>Маєток пана Голуба,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rebuchet MS"/>
              </a:rPr>
              <a:t>сучасний вигляд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Заголовок 1" descr=""/>
          <p:cNvPicPr/>
          <p:nvPr/>
        </p:nvPicPr>
        <p:blipFill>
          <a:blip r:embed="rId2"/>
          <a:stretch/>
        </p:blipFill>
        <p:spPr>
          <a:xfrm>
            <a:off x="895320" y="255600"/>
            <a:ext cx="7645320" cy="69516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 txBox="1"/>
          <p:nvPr/>
        </p:nvSpPr>
        <p:spPr>
          <a:xfrm>
            <a:off x="5627520" y="1125360"/>
            <a:ext cx="3732480" cy="489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1100 мешканців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154 двори </a:t>
            </a: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(нині 880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Православна церкв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Школ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Лавк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Винокурний завод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3515e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Паровий млин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636" name="Picture 2" descr="C:\Users\Моряк\Pictures\семейные\фото 005.bmp"/>
          <p:cNvPicPr/>
          <p:nvPr/>
        </p:nvPicPr>
        <p:blipFill>
          <a:blip r:embed="rId3"/>
          <a:srcRect l="0" t="0" r="0" b="49"/>
          <a:stretch/>
        </p:blipFill>
        <p:spPr>
          <a:xfrm>
            <a:off x="395280" y="1413000"/>
            <a:ext cx="52322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"/>
          <p:cNvPicPr/>
          <p:nvPr/>
        </p:nvPicPr>
        <p:blipFill>
          <a:blip r:embed="rId1"/>
          <a:stretch/>
        </p:blipFill>
        <p:spPr>
          <a:xfrm>
            <a:off x="-1663560" y="103320"/>
            <a:ext cx="10777320" cy="6919920"/>
          </a:xfrm>
          <a:prstGeom prst="rect">
            <a:avLst/>
          </a:prstGeom>
          <a:ln w="0">
            <a:noFill/>
          </a:ln>
        </p:spPr>
      </p:pic>
      <p:sp>
        <p:nvSpPr>
          <p:cNvPr id="638" name="TextBox 1"/>
          <p:cNvSpPr/>
          <p:nvPr/>
        </p:nvSpPr>
        <p:spPr>
          <a:xfrm>
            <a:off x="250920" y="5805360"/>
            <a:ext cx="87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rebuchet MS"/>
              </a:rPr>
              <a:t>Центральна вулиця села Воронівка (нині Калініна),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      </a:t>
            </a:r>
            <a:r>
              <a:rPr b="1" lang="uk-UA" sz="2000" spc="-1" strike="noStrike">
                <a:solidFill>
                  <a:srgbClr val="000000"/>
                </a:solidFill>
                <a:latin typeface="Trebuchet MS"/>
              </a:rPr>
              <a:t>фото 50-х рр. ХХст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Заголовок 1" descr=""/>
          <p:cNvPicPr/>
          <p:nvPr/>
        </p:nvPicPr>
        <p:blipFill>
          <a:blip r:embed="rId2"/>
          <a:stretch/>
        </p:blipFill>
        <p:spPr>
          <a:xfrm>
            <a:off x="4925880" y="835200"/>
            <a:ext cx="3291120" cy="15429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" descr=""/>
          <p:cNvPicPr/>
          <p:nvPr/>
        </p:nvPicPr>
        <p:blipFill>
          <a:blip r:embed="rId3"/>
          <a:stretch/>
        </p:blipFill>
        <p:spPr>
          <a:xfrm>
            <a:off x="395280" y="104760"/>
            <a:ext cx="4105440" cy="64803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3" descr=""/>
          <p:cNvPicPr/>
          <p:nvPr/>
        </p:nvPicPr>
        <p:blipFill>
          <a:blip r:embed="rId4"/>
          <a:stretch/>
        </p:blipFill>
        <p:spPr>
          <a:xfrm>
            <a:off x="4579920" y="2708280"/>
            <a:ext cx="366408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C:\Users\Моряк\Pictures\семейные\старая школа.jpg"/>
          <p:cNvPicPr/>
          <p:nvPr/>
        </p:nvPicPr>
        <p:blipFill>
          <a:blip r:embed="rId2"/>
          <a:srcRect l="0" t="0" r="0" b="10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sp>
        <p:nvSpPr>
          <p:cNvPr id="643" name="TextBox 1"/>
          <p:cNvSpPr/>
          <p:nvPr/>
        </p:nvSpPr>
        <p:spPr>
          <a:xfrm>
            <a:off x="6323040" y="5904000"/>
            <a:ext cx="2808360" cy="703800"/>
          </a:xfrm>
          <a:prstGeom prst="rect">
            <a:avLst/>
          </a:prstGeom>
          <a:gradFill rotWithShape="0">
            <a:gsLst>
              <a:gs pos="0">
                <a:srgbClr val="d4d0cf"/>
              </a:gs>
              <a:gs pos="100000">
                <a:srgbClr val="aba5a3"/>
              </a:gs>
            </a:gsLst>
            <a:lin ang="5400000"/>
          </a:gradFill>
          <a:ln w="9360">
            <a:solidFill>
              <a:srgbClr val="80716a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іщення Сільської Рад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2" descr=""/>
          <p:cNvPicPr/>
          <p:nvPr/>
        </p:nvPicPr>
        <p:blipFill>
          <a:blip r:embed="rId2"/>
          <a:stretch/>
        </p:blipFill>
        <p:spPr>
          <a:xfrm>
            <a:off x="184320" y="115920"/>
            <a:ext cx="8735760" cy="655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45" name="TextBox 1"/>
          <p:cNvSpPr/>
          <p:nvPr/>
        </p:nvSpPr>
        <p:spPr>
          <a:xfrm>
            <a:off x="184320" y="6168960"/>
            <a:ext cx="3455640" cy="478080"/>
          </a:xfrm>
          <a:prstGeom prst="pie">
            <a:avLst/>
          </a:prstGeom>
          <a:gradFill rotWithShape="0">
            <a:gsLst>
              <a:gs pos="0">
                <a:srgbClr val="bfbeeb"/>
              </a:gs>
              <a:gs pos="100000">
                <a:srgbClr val="8a89d4"/>
              </a:gs>
            </a:gsLst>
            <a:lin ang="5400000"/>
          </a:gradFill>
          <a:ln w="9360">
            <a:solidFill>
              <a:srgbClr val="5d5ad2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 Перемог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5" descr=""/>
          <p:cNvPicPr/>
          <p:nvPr/>
        </p:nvPicPr>
        <p:blipFill>
          <a:blip r:embed="rId2"/>
          <a:stretch/>
        </p:blipFill>
        <p:spPr>
          <a:xfrm>
            <a:off x="-6480" y="-3240"/>
            <a:ext cx="9156960" cy="6870600"/>
          </a:xfrm>
          <a:prstGeom prst="rect">
            <a:avLst/>
          </a:prstGeom>
          <a:ln w="0">
            <a:noFill/>
          </a:ln>
        </p:spPr>
      </p:pic>
      <p:sp>
        <p:nvSpPr>
          <p:cNvPr id="647" name="Прямоугольник 6"/>
          <p:cNvSpPr/>
          <p:nvPr/>
        </p:nvSpPr>
        <p:spPr>
          <a:xfrm>
            <a:off x="103320" y="5738760"/>
            <a:ext cx="889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ше село дуже чудове своїми краєвидами.  Доказом цього є гора, на якій у давні роки влаштовували веселі гуляння. Катерина І, пропливаючи по річці, сказала: «Яка весела гора!»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48" name="Picture 2" descr="C:\Users\Моряк\Pictures\осень\SAM_2410.JPG"/>
          <p:cNvPicPr/>
          <p:nvPr/>
        </p:nvPicPr>
        <p:blipFill>
          <a:blip r:embed="rId3"/>
          <a:stretch/>
        </p:blipFill>
        <p:spPr>
          <a:xfrm>
            <a:off x="263520" y="250920"/>
            <a:ext cx="853920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9:11:55Z</dcterms:created>
  <dc:creator>Моряк</dc:creator>
  <dc:description/>
  <dc:language>en-US</dc:language>
  <cp:lastModifiedBy>Admin</cp:lastModifiedBy>
  <cp:lastPrinted>2014-02-28T14:10:28Z</cp:lastPrinted>
  <dcterms:modified xsi:type="dcterms:W3CDTF">2014-03-03T12:56:44Z</dcterms:modified>
  <cp:revision>4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003515</vt:lpwstr>
  </property>
  <property fmtid="{D5CDD505-2E9C-101B-9397-08002B2CF9AE}" pid="3" name="NXPowerLiteVersion">
    <vt:lpwstr>D4.1.4</vt:lpwstr>
  </property>
  <property fmtid="{D5CDD505-2E9C-101B-9397-08002B2CF9AE}" pid="4" name="NXTAG2">
    <vt:lpwstr>000800d431000000000001024140</vt:lpwstr>
  </property>
</Properties>
</file>