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D61-5F31-4895-ADC8-C520E273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B2A4-D14B-4732-972D-ACE98CE0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80059-7CA9-4C35-94E2-1481AD2F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3161E-7A13-4C05-8C94-F080DF90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5B21E-4D25-4392-9ADE-512FA9E1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84DDE-0047-4EC1-9DFB-287AE43E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8E276-AA31-447A-8ABB-54B59ABA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4A69F-80DD-4BC3-8B1D-0D84386F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6103B-7B23-4BAF-8FFB-B7665BDD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A525A-5E6D-4EE4-8052-84BCEC3A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29F7A-2ED2-4A01-85AD-35BA5317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2AAAA-4508-438A-8802-86CCA63D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D4F-DE04-4B17-B65C-7A751872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85FBA-8877-4CFC-BD18-7B06250A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21B61-F275-42DE-82DB-CB8F9E66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46B49-9931-4170-8220-F365F9F0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9E5FB-692A-46F1-9EE9-0526F4D7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A9638-4CF1-4D5D-8A7C-F8B7E967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D4378-2038-486E-9312-1E9614ED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12893-132B-4E8C-9F2C-E2D7550F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F1E72-2FE1-453E-B5AD-EAA72EAF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D0CB8-E62F-44F2-8115-F7525056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FF152-ED87-49A2-9EA5-12D6D7F0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352-7A8F-4043-AA10-92EAFF63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F74E0-0FF9-41C4-99F6-8066E6BE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7AA03-8B67-4B8B-8AA2-B653C79A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24603-1D27-4D66-91E8-09F5D1FD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64F5F-FA18-487C-B583-DA99A3EB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74EC8-45B4-4122-A698-B202F19C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034D6-BB7E-4F49-A8C1-EA9A1C7A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34086-B711-4A90-AAD8-12B392B1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1111C-95F5-46C8-9FDA-46AFADCA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EDEB6-A17B-4C68-86AA-5766696C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F3289-E3C3-4BF8-8A6F-A0DEF0B8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73F9-94C8-4F20-83FB-48A4B190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B2D3A-4482-49FB-BDD0-06DD17EA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7DE89-2C2D-40EA-AD5F-EB24E7F9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A6777-AD13-4C18-9A65-0968D6D1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C1A5D-BE20-4FA2-9A0C-76B03938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5090E-1A51-4BD2-8585-89D67BB4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97CAF-0776-408C-B82B-137A89A8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1BE30-7A7C-418C-A84B-00C8601A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EB046-8149-4E3F-84F8-BE1FD2B8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5CD93-7F22-49A7-B0AC-B8FE1DC6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7A5DC-8885-41F9-84E2-150CF78E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D4B5-7B80-4170-99DD-C0F1FD92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689CD-F41F-487A-B6AF-9A789F86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F2A98-5FFD-487D-A3B4-7B1C3980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79030-0CC7-4996-942C-54552BB1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65808-AA41-4851-BD18-F6E35AF7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F282E-635A-47D8-BAD7-3A7C8710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0EA17-EF2C-4B5D-B582-15ED812D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70B01-C50D-4346-9C03-C9A0F878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2F72A-8EB3-4AE0-B5A2-4F8DE56A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9C048-FB13-4C07-84D6-DFC2F159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E8B6B-8DED-47CA-BCD5-7BAC8F7B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ACA2-AF18-4C5B-8380-49584D26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05257-90D6-4D75-B464-9F8721CC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74004-31F2-456F-9499-6BA449C2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BF4D4-47C1-453C-A265-22289D7C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BCDA0-9BAB-4CAF-A52D-571B3F17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7241D-1D03-48E4-800E-EB12D3EC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4D6DD-7F97-477A-A284-37B95A45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065CC3-6AC7-4E93-BDE5-EBE066CA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F581-CA8D-4386-B281-5BAB09D2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5551-968B-4A16-B6EA-438AE228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1028-E465-447A-8947-CF77DFDC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5848-9FF2-4F81-BEB0-02CF1F90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BBE3-6F05-4207-998A-AA3B251B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CAEA-EF29-49FD-90F8-8A4C04C5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6EC4-9DDF-49E8-A4ED-2C48EAF0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6AEC-F42B-48D8-8350-FA86DF4A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2F0A-68E8-44E5-9AAF-6EB709DE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299C-DE39-49D2-9163-7DCEF0D7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0A09E-0B36-4D99-B36C-7BAD778C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AC9A6-7314-40A7-8611-FBCE8891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FFC93-6249-4564-BED3-50E960A7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D701B-6FE8-4EC3-AE7A-4EB7C20E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2E1A6-3F61-4B9E-9571-415D7361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39E-469A-4E5F-BC99-A66372E2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38723-3278-4E09-A7E1-834B00FB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92ED3-3563-43A4-A39E-401BE724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EF74B-9B02-4167-92EF-940B17CE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6D8B5-0F0D-406F-851F-5949F785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FA331-960B-46BC-81FB-E9D84BF8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B7D60-D1B2-40D0-A3CD-32BC7DB9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580D1-069B-46C2-8C43-BE9BE5A3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A1AA5-B6A9-45BB-A277-0347304B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1A5A3-52FD-4FEC-B027-CDD13396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F2BFB-FA01-484D-9BE6-670D683F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D405-965D-4CF6-8CE3-52BD2F5C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181EA-FF6D-4CBA-B742-88B866D9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B962B-625F-4B81-B2BF-3FB37E50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13EF0-01BC-4C4A-A85A-E14CD99B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E3EE4-53B8-421C-A814-38E52EF4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B77EF-6C3E-471E-AABB-47253469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42824-8A36-411F-96B5-9DA8CDEF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40440-5F2F-4D62-B3A4-F3939FD7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21F78-2419-45E3-A619-BBC32F0A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50682-E402-4821-BED4-35ED71F8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76F69-AA4A-4E3E-8E2A-1ED9090C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EEA3-D477-49F1-A20B-9897B415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1ABAF-50DF-40C8-8B02-B948009C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D67AF-AC18-4261-84BD-17DB324B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47AA3-D397-4DD5-9616-424BDE3D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C8455-521E-426E-B679-809868CC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45353-F6DA-4FD7-B21C-97A5B856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4ED7B-EC5E-419A-94F1-920B2B6D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C8259-8D8B-4BB3-A8A4-8F42B822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E10A8-48C2-46D1-9D3F-ED20909B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AA28A-1F68-4AB6-BA63-048E4278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BF0D7-B780-4861-B732-10777C6D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324A-039B-4734-A8F1-19B56197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F3B3C-99A2-484C-BAD4-B16E44FE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5A718-9758-4967-BD2D-DF74A022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231F2-C25D-4DCC-936D-EBB3CDC3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92104-526F-4C28-BCF5-D6D4BDF6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2A8A8-EC77-4717-B041-B646CE2C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E92D4-5E83-43B1-B5AB-15D4A2E7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6998C-D4B7-4A7B-BC76-AFC06E8A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E97AA-E251-40DC-8A40-77453D9A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4DA5F-034C-476B-B49C-19EF35FC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68F8A-0A76-4A74-9457-78225158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6FB-F544-46C6-8E5C-A2A65361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4B5F3-A7F5-4BDC-8E7B-F59D3C3B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EB584-5309-4865-8BD2-64BB830D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E9236-346B-49E3-BBDD-C6651839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BE163-96C9-4F3E-9C59-0BDA3EDE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6C8AE-F84D-4808-985F-209BC966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C3753-D757-4F58-9348-C54E41F2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1512F-DB5B-4706-BE95-BE6401A0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96593-7C5E-48B0-864A-810DE634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C7BD8-1A2D-449F-98E6-0F6719D4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9A8FA-6945-4DE5-872C-87AF3135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816F-9E7E-430B-8419-3A076556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4CCD1-C6B6-4FEB-9581-CF5B343B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E06D3-4050-4AB9-A883-45F64D73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21687-D25E-49F3-B64E-6F7E8C7A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BF210-3D65-4161-A57F-B8A7B03E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0186A-BC56-4D0C-87FA-CCEA2D8A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476C5-4B11-4B10-AF52-A11B4F7D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9D9A5-7252-4C7C-8CDE-D45CA225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8A29A-5860-4F8A-A386-C05B81E8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C51E8-1183-47D8-A04E-638B8D40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05BF2-7235-4929-8E2A-7ADE9A3E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E63-2A1E-43D8-8F30-23D19523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D436A-69B3-4E41-A1EE-C548A71E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46097-CEB8-494D-A90F-C2309C17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1433E-893E-4CAA-88A6-6526AB42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42CD7-7C8E-4B82-BEE0-3A54D658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2750E-5D53-4759-92DC-A22A83A6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F9FF0-6786-4AB2-847F-261088B7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882CB-F656-47EA-91A1-DB20A540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5607D-040E-4C3E-9B3B-95346A17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C2F5B-32D8-463A-A048-B6DD0C6D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BBFF9-6121-422D-8DF8-1F703A85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F0E6-81EB-432E-8B95-EE5DC74FA2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FF16-611C-4BEE-B432-269BE79FC67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36BB-91FE-4051-A66F-0179D04502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957F-8506-427B-A7B4-EA9359C030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9959-FC6C-4656-9C5E-ED3D6DBB63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E473-2D4A-4A08-8D1E-5ECA27C9D6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C03F-C194-47ED-AFF7-2AD7231650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3E1A-1936-4FAD-BF62-0C82762FA1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4B56-4756-4CB6-9F27-33FA721691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F40E-FD0E-4F92-8227-07CC0A6C51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75FD-20E2-4648-8851-345B992B16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E293-ED0E-4CF6-BA3C-6748A9DC09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FCC2-2770-489A-9918-0AD1E9513D3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uk.wikipedia.org/wiki/&#1042;&#1110;&#1088;&#1096;" TargetMode="External"/><Relationship Id="rId3" Type="http://schemas.openxmlformats.org/officeDocument/2006/relationships/hyperlink" Target="http://uk.wikipedia.org/wiki/&#1057;&#1083;&#1086;&#1074;&#1086;" TargetMode="External"/><Relationship Id="rId4" Type="http://schemas.openxmlformats.org/officeDocument/2006/relationships/hyperlink" Target="http://uk.wikipedia.org/wiki/&#1058;&#1077;&#1084;&#1072;" TargetMode="External"/><Relationship Id="rId5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ld=ua&amp;p=11&amp;text=&#1072;&#1085;&#1080;&#1084;&#1072;&#1094;&#1080;&#1086;&#1085;&#1085;&#1099;&#1077;%20&#1082;&#1072;&#1088;&#1090;&#1080;&#1085;&#1082;&#1080;%20&#1096;&#1082;&#1086;&#1083;&#1100;&#1085;&#1099;&#1077;&amp;fp=11&amp;pos=340&amp;uinfo=ww-1349-wh-683-fw-1124-fh-477-pd-1&amp;rpt=simage&amp;img_url=http://s4.rimg.info/c74f712ec0ff6d01595e829aaa722fc6.gif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Моє село Н. Гураль.mp4" descr=""/>
          <p:cNvPicPr/>
          <p:nvPr/>
        </p:nvPicPr>
        <p:blipFill>
          <a:blip r:embed="rId1"/>
          <a:stretch/>
        </p:blipFill>
        <p:spPr>
          <a:xfrm>
            <a:off x="108000" y="81000"/>
            <a:ext cx="8928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Box 1"/>
          <p:cNvSpPr/>
          <p:nvPr/>
        </p:nvSpPr>
        <p:spPr>
          <a:xfrm>
            <a:off x="2484360" y="6555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ГАДУЄМ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2" descr=""/>
          <p:cNvPicPr/>
          <p:nvPr/>
        </p:nvPicPr>
        <p:blipFill>
          <a:blip r:embed="rId1"/>
          <a:stretch/>
        </p:blipFill>
        <p:spPr>
          <a:xfrm>
            <a:off x="506520" y="179280"/>
            <a:ext cx="957240" cy="951120"/>
          </a:xfrm>
          <a:prstGeom prst="rect">
            <a:avLst/>
          </a:prstGeom>
          <a:ln w="0">
            <a:noFill/>
          </a:ln>
        </p:spPr>
      </p:pic>
      <p:sp>
        <p:nvSpPr>
          <p:cNvPr id="572" name="TextBox 2"/>
          <p:cNvSpPr/>
          <p:nvPr/>
        </p:nvSpPr>
        <p:spPr>
          <a:xfrm>
            <a:off x="179280" y="1413000"/>
            <a:ext cx="460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кан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це </a:t>
            </a:r>
            <a:r>
              <a:rPr b="0" lang="uk-UA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вірш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що складається з п’яти рядків. Слово ”сенкан” походить від французького слова ”п’ять” і позначає вірш у п’ять рядкі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ший рядок має містити </a:t>
            </a:r>
            <a:r>
              <a:rPr b="0" lang="uk-UA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слово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яке позначає </a:t>
            </a:r>
            <a:r>
              <a:rPr b="0" lang="uk-UA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тему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звичайно це іменни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ий рядок – це опис теми, який складається з двох слів (два  прикметни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тій рядок називає дію, пов’язану з темою, і складається з трьох слів (звичайно це дієслов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твертий рядок є фразою</a:t>
            </a:r>
            <a:r>
              <a:rPr b="0" lang="uk-UA" sz="1800" spc="-1" strike="noStrike">
                <a:solidFill>
                  <a:srgbClr val="93cddd"/>
                </a:solidFill>
                <a:latin typeface="Times New Roman"/>
                <a:ea typeface="Times New Roman"/>
              </a:rPr>
              <a:t> , 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ка складається з чотирьох слів і висловлює ставлення до теми, почуття з приводу обговорювано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нній рядок складається з одного слова — синоніма до першого слова, в ньому виражається сутність теми, ніби робиться підсум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3"/>
          <p:cNvSpPr/>
          <p:nvPr/>
        </p:nvSpPr>
        <p:spPr>
          <a:xfrm>
            <a:off x="5076720" y="1557360"/>
            <a:ext cx="374328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3cddd"/>
                </a:solidFill>
                <a:latin typeface="Times New Roman"/>
                <a:ea typeface="Times New Roman"/>
              </a:rPr>
              <a:t>Наприклад</a:t>
            </a:r>
            <a:r>
              <a:rPr b="0" lang="uk-UA" sz="1800" spc="-1" strike="noStrike">
                <a:solidFill>
                  <a:srgbClr val="93cddd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3cddd"/>
                </a:solidFill>
                <a:latin typeface="Times New Roman"/>
                <a:ea typeface="Times New Roman"/>
              </a:rPr>
              <a:t>Г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3cddd"/>
                </a:solidFill>
                <a:latin typeface="Times New Roman"/>
                <a:ea typeface="Times New Roman"/>
              </a:rPr>
              <a:t>Весела, мальовнич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3cddd"/>
                </a:solidFill>
                <a:latin typeface="Times New Roman"/>
                <a:ea typeface="Times New Roman"/>
              </a:rPr>
              <a:t>Розкинулась, будується, цві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3cddd"/>
                </a:solidFill>
                <a:latin typeface="Times New Roman"/>
                <a:ea typeface="Times New Roman"/>
              </a:rPr>
              <a:t>Вона – колиска мрій дитин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3cddd"/>
                </a:solidFill>
                <a:latin typeface="Times New Roman"/>
                <a:ea typeface="Times New Roman"/>
              </a:rPr>
              <a:t>Село мо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01720" y="703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ір -– опис місцевост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і особистих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спостережень і вражень у художньому стилі    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«Село моє, для мене ти єдине»</a:t>
            </a:r>
            <a:br>
              <a:rPr sz="29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5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11280" y="1699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і вимоги до рівня підготовки учнів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програмою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И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і й типи мовлення, особливості складання твору-опису місцевост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ІТ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кладати письмовий твір за складним планом, обираючи відповідний стиль і тип мовлення; оцінювати текст з погляду його змісту, форми, задуму і мовного оформле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5" descr="http://www.school99.ru/pictures/ne_4817068/newspic_sm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600" y="69228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"/>
          <p:cNvSpPr/>
          <p:nvPr/>
        </p:nvSpPr>
        <p:spPr>
          <a:xfrm>
            <a:off x="1042920" y="471240"/>
            <a:ext cx="6842160" cy="103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а карт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ір-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 місцевості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є село, моя колиск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1619280" y="1844640"/>
          <a:ext cx="6408720" cy="3889440"/>
        </p:xfrm>
        <a:graphic>
          <a:graphicData uri="http://schemas.openxmlformats.org/drawingml/2006/table">
            <a:tbl>
              <a:tblPr/>
              <a:tblGrid>
                <a:gridCol w="2136600"/>
                <a:gridCol w="2136960"/>
                <a:gridCol w="2135160"/>
              </a:tblGrid>
              <a:tr h="14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ловникова скринь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итати, власні дум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1"/>
          <p:cNvSpPr/>
          <p:nvPr/>
        </p:nvSpPr>
        <p:spPr>
          <a:xfrm>
            <a:off x="3567240" y="2774880"/>
            <a:ext cx="2568600" cy="9169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ис місцевості -  ц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Стрелка вверх 2"/>
          <p:cNvSpPr/>
          <p:nvPr/>
        </p:nvSpPr>
        <p:spPr>
          <a:xfrm rot="2370000">
            <a:off x="5717880" y="1991880"/>
            <a:ext cx="484200" cy="608040"/>
          </a:xfrm>
          <a:prstGeom prst="upArrow">
            <a:avLst>
              <a:gd name="adj1" fmla="val 50000"/>
              <a:gd name="adj2" fmla="val 50091"/>
            </a:avLst>
          </a:prstGeom>
          <a:solidFill>
            <a:srgbClr val="fcd5b5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2" descr=""/>
          <p:cNvPicPr/>
          <p:nvPr/>
        </p:nvPicPr>
        <p:blipFill>
          <a:blip r:embed="rId1"/>
          <a:stretch/>
        </p:blipFill>
        <p:spPr>
          <a:xfrm rot="8515800">
            <a:off x="6246360" y="4014360"/>
            <a:ext cx="549360" cy="6336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" descr=""/>
          <p:cNvPicPr/>
          <p:nvPr/>
        </p:nvPicPr>
        <p:blipFill>
          <a:blip r:embed="rId2"/>
          <a:stretch/>
        </p:blipFill>
        <p:spPr>
          <a:xfrm>
            <a:off x="6521400" y="2962440"/>
            <a:ext cx="633600" cy="549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" descr=""/>
          <p:cNvPicPr/>
          <p:nvPr/>
        </p:nvPicPr>
        <p:blipFill>
          <a:blip r:embed="rId3"/>
          <a:stretch/>
        </p:blipFill>
        <p:spPr>
          <a:xfrm>
            <a:off x="2533680" y="2962440"/>
            <a:ext cx="633240" cy="549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" descr=""/>
          <p:cNvPicPr/>
          <p:nvPr/>
        </p:nvPicPr>
        <p:blipFill>
          <a:blip r:embed="rId4"/>
          <a:stretch/>
        </p:blipFill>
        <p:spPr>
          <a:xfrm rot="10627800">
            <a:off x="4547880" y="4449600"/>
            <a:ext cx="549360" cy="6336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6" descr=""/>
          <p:cNvPicPr/>
          <p:nvPr/>
        </p:nvPicPr>
        <p:blipFill>
          <a:blip r:embed="rId5"/>
          <a:stretch/>
        </p:blipFill>
        <p:spPr>
          <a:xfrm rot="13650600">
            <a:off x="2740680" y="4013640"/>
            <a:ext cx="582480" cy="6728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"/>
          <p:cNvPicPr/>
          <p:nvPr/>
        </p:nvPicPr>
        <p:blipFill>
          <a:blip r:embed="rId6"/>
          <a:stretch/>
        </p:blipFill>
        <p:spPr>
          <a:xfrm rot="18791400">
            <a:off x="3412080" y="1950480"/>
            <a:ext cx="549360" cy="633240"/>
          </a:xfrm>
          <a:prstGeom prst="rect">
            <a:avLst/>
          </a:prstGeom>
          <a:ln w="0">
            <a:noFill/>
          </a:ln>
        </p:spPr>
      </p:pic>
      <p:pic>
        <p:nvPicPr>
          <p:cNvPr id="547" name="Прямоугольник 4" descr=""/>
          <p:cNvPicPr/>
          <p:nvPr/>
        </p:nvPicPr>
        <p:blipFill>
          <a:blip r:embed="rId7"/>
          <a:stretch/>
        </p:blipFill>
        <p:spPr>
          <a:xfrm>
            <a:off x="901800" y="-60480"/>
            <a:ext cx="78087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Прямоугольник 1"/>
          <p:cNvSpPr/>
          <p:nvPr/>
        </p:nvSpPr>
        <p:spPr>
          <a:xfrm>
            <a:off x="1258920" y="54936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Моє село Н. Гураль.mp4" descr=""/>
          <p:cNvPicPr/>
          <p:nvPr/>
        </p:nvPicPr>
        <p:blipFill>
          <a:blip r:embed="rId1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  <p:sp>
        <p:nvSpPr>
          <p:cNvPr id="550" name="Прямоугольник 3"/>
          <p:cNvSpPr/>
          <p:nvPr/>
        </p:nvSpPr>
        <p:spPr>
          <a:xfrm>
            <a:off x="539640" y="333360"/>
            <a:ext cx="7488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ієнтовний план твору-опису місцевост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е серцю місце.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Опис с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Історія с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одзинка мого   села ( чим воно не схоже на інші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ам'ятки культури та історії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зелене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Як змінилося село останнім час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Що я хотів би змінити, якби мі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Люблю село своє, від нього кращого не зна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Овал 3"/>
          <p:cNvSpPr/>
          <p:nvPr/>
        </p:nvSpPr>
        <p:spPr>
          <a:xfrm>
            <a:off x="3419640" y="1646280"/>
            <a:ext cx="2232000" cy="1152360"/>
          </a:xfrm>
          <a:prstGeom prst="ellipse">
            <a:avLst/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Овал 4"/>
          <p:cNvSpPr/>
          <p:nvPr/>
        </p:nvSpPr>
        <p:spPr>
          <a:xfrm>
            <a:off x="971640" y="3330720"/>
            <a:ext cx="2448000" cy="1322280"/>
          </a:xfrm>
          <a:prstGeom prst="ellipse">
            <a:avLst/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5748480" y="3438360"/>
            <a:ext cx="2468520" cy="1474920"/>
          </a:xfrm>
          <a:prstGeom prst="rect">
            <a:avLst/>
          </a:prstGeom>
          <a:ln w="0">
            <a:noFill/>
          </a:ln>
        </p:spPr>
      </p:pic>
      <p:sp>
        <p:nvSpPr>
          <p:cNvPr id="554" name="TextBox 5"/>
          <p:cNvSpPr/>
          <p:nvPr/>
        </p:nvSpPr>
        <p:spPr>
          <a:xfrm>
            <a:off x="3819600" y="190008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f6228"/>
                </a:solidFill>
                <a:latin typeface="Calibri"/>
              </a:rPr>
              <a:t>Спік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6"/>
          <p:cNvSpPr/>
          <p:nvPr/>
        </p:nvSpPr>
        <p:spPr>
          <a:xfrm>
            <a:off x="1312920" y="36482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f6228"/>
                </a:solidFill>
                <a:latin typeface="Calibri"/>
              </a:rPr>
              <a:t>секрет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7"/>
          <p:cNvSpPr/>
          <p:nvPr/>
        </p:nvSpPr>
        <p:spPr>
          <a:xfrm>
            <a:off x="6084720" y="39099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f6228"/>
                </a:solidFill>
                <a:latin typeface="Calibri"/>
              </a:rPr>
              <a:t>доповіда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Двойная стрелка влево/вправо 8"/>
          <p:cNvSpPr/>
          <p:nvPr/>
        </p:nvSpPr>
        <p:spPr>
          <a:xfrm rot="19573200">
            <a:off x="2484360" y="2708280"/>
            <a:ext cx="935280" cy="504720"/>
          </a:xfrm>
          <a:prstGeom prst="leftRightArrow">
            <a:avLst>
              <a:gd name="adj1" fmla="val 50000"/>
              <a:gd name="adj2" fmla="val 49887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3" descr=""/>
          <p:cNvPicPr/>
          <p:nvPr/>
        </p:nvPicPr>
        <p:blipFill>
          <a:blip r:embed="rId2"/>
          <a:stretch/>
        </p:blipFill>
        <p:spPr>
          <a:xfrm>
            <a:off x="3986280" y="3475080"/>
            <a:ext cx="1433520" cy="13888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" descr=""/>
          <p:cNvPicPr/>
          <p:nvPr/>
        </p:nvPicPr>
        <p:blipFill>
          <a:blip r:embed="rId3"/>
          <a:stretch/>
        </p:blipFill>
        <p:spPr>
          <a:xfrm>
            <a:off x="5857920" y="2462040"/>
            <a:ext cx="884160" cy="976320"/>
          </a:xfrm>
          <a:prstGeom prst="rect">
            <a:avLst/>
          </a:prstGeom>
          <a:ln w="0">
            <a:noFill/>
          </a:ln>
        </p:spPr>
      </p:pic>
      <p:pic>
        <p:nvPicPr>
          <p:cNvPr id="560" name="Прямоугольник 9" descr=""/>
          <p:cNvPicPr/>
          <p:nvPr/>
        </p:nvPicPr>
        <p:blipFill>
          <a:blip r:embed="rId4"/>
          <a:stretch/>
        </p:blipFill>
        <p:spPr>
          <a:xfrm>
            <a:off x="950760" y="152280"/>
            <a:ext cx="7632720" cy="1133640"/>
          </a:xfrm>
          <a:prstGeom prst="rect">
            <a:avLst/>
          </a:prstGeom>
          <a:ln w="0">
            <a:noFill/>
          </a:ln>
        </p:spPr>
      </p:pic>
      <p:sp>
        <p:nvSpPr>
          <p:cNvPr id="561" name="TextBox 1"/>
          <p:cNvSpPr/>
          <p:nvPr/>
        </p:nvSpPr>
        <p:spPr>
          <a:xfrm>
            <a:off x="804960" y="5877000"/>
            <a:ext cx="59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ЧАС  НА РОБОТУ   :   5 хвил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Заголовок 1" descr=""/>
          <p:cNvPicPr/>
          <p:nvPr/>
        </p:nvPicPr>
        <p:blipFill>
          <a:blip r:embed="rId1"/>
          <a:stretch/>
        </p:blipFill>
        <p:spPr>
          <a:xfrm>
            <a:off x="390600" y="0"/>
            <a:ext cx="8240760" cy="9874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9004320" cy="6193080"/>
          </a:xfrm>
          <a:prstGeom prst="rect">
            <a:avLst/>
          </a:prstGeom>
          <a:ln w="0">
            <a:noFill/>
          </a:ln>
        </p:spPr>
      </p:pic>
      <p:pic>
        <p:nvPicPr>
          <p:cNvPr id="564" name="Ernesto_Cortazar_-_SHedevry_instrumentalnoj_muzykiZapisi_v_rubrike_SHedevry_instrumentalnoj_muzykiDn_(iPlayer.fm).mp3" descr=""/>
          <p:cNvPicPr/>
          <p:nvPr/>
        </p:nvPicPr>
        <p:blipFill>
          <a:blip r:embed="rId3"/>
          <a:stretch/>
        </p:blipFill>
        <p:spPr>
          <a:xfrm>
            <a:off x="7037280" y="5668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5710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Box 1"/>
          <p:cNvSpPr/>
          <p:nvPr/>
        </p:nvSpPr>
        <p:spPr>
          <a:xfrm>
            <a:off x="117360" y="0"/>
            <a:ext cx="6480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Calibri"/>
              </a:rPr>
              <a:t>           </a:t>
            </a:r>
            <a:r>
              <a:rPr b="1" lang="uk-UA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ПРАВА   «МІКРОФОН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6588000" y="504720"/>
            <a:ext cx="2384640" cy="1584360"/>
          </a:xfrm>
          <a:prstGeom prst="rect">
            <a:avLst/>
          </a:prstGeom>
          <a:ln w="0">
            <a:noFill/>
          </a:ln>
        </p:spPr>
      </p:pic>
      <p:sp>
        <p:nvSpPr>
          <p:cNvPr id="567" name="TextBox 3"/>
          <p:cNvSpPr/>
          <p:nvPr/>
        </p:nvSpPr>
        <p:spPr>
          <a:xfrm>
            <a:off x="571320" y="1773360"/>
            <a:ext cx="68738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іліться, будь ласка, враженнями від урок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вживши реченн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ьогодні на уроці  я дізнався 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і сподобалося 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був (ла) вражена тим, що…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ій найбільший успіх на уроці –це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відчував (ла)  труднощі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1"/>
          <p:cNvSpPr/>
          <p:nvPr/>
        </p:nvSpPr>
        <p:spPr>
          <a:xfrm>
            <a:off x="900000" y="1052640"/>
            <a:ext cx="7488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Calibri"/>
              </a:rPr>
              <a:t>           </a:t>
            </a:r>
            <a:r>
              <a:rPr b="0" lang="uk-UA" sz="3200" spc="-1" strike="noStrike">
                <a:solidFill>
                  <a:srgbClr val="ffff00"/>
                </a:solidFill>
                <a:latin typeface="Calibri"/>
              </a:rPr>
              <a:t>Домашнє завданн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Calibri"/>
              </a:rPr>
              <a:t>                        </a:t>
            </a:r>
            <a:r>
              <a:rPr b="0" lang="uk-UA" sz="3200" spc="-1" strike="noStrike">
                <a:solidFill>
                  <a:srgbClr val="ffff00"/>
                </a:solidFill>
                <a:latin typeface="Calibri"/>
              </a:rPr>
              <a:t>написати сенкан «Моє сел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Calibri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907920" y="765000"/>
            <a:ext cx="9572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9:11:55Z</dcterms:created>
  <dc:creator>Моряк</dc:creator>
  <dc:description/>
  <dc:language>en-US</dc:language>
  <cp:lastModifiedBy>Admin</cp:lastModifiedBy>
  <cp:lastPrinted>2014-02-28T14:10:28Z</cp:lastPrinted>
  <dcterms:modified xsi:type="dcterms:W3CDTF">2014-03-03T12:53:37Z</dcterms:modified>
  <cp:revision>5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0e000000000001024140</vt:lpwstr>
  </property>
</Properties>
</file>