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F72-8ADD-4E8D-AB2C-F26C5A84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BD7-381A-49FB-918C-D643F1BA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9E9-B510-4E77-BAEB-4A01EE13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C69-B820-460F-BDF0-B2A9B744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CA8-D24C-4151-8B0C-F40188CA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02B-9795-45C9-BBCC-82E1C369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FFB-4DA4-4E23-8623-8D598E17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ECB-2DF6-4297-85FD-79097A97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5E8F-1818-454F-B811-FF7F2F68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28E-0047-4CFC-9120-69A0D0C5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FC3A-D280-4023-AF1B-FC587511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3EC-C30E-4F6E-B837-98D53FA3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0E07-479A-437E-A5C4-43FFE0002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28800" y="2362320"/>
            <a:ext cx="594360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лі й типи мовлення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пис предмета в художньому стилі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76520" y="762120"/>
            <a:ext cx="3057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Творче завдання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1604520" y="1676520"/>
            <a:ext cx="61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Скласти текст,  використавши подані слова аб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поширивши речення, записати. Вказати стиль мовлення</a:t>
            </a:r>
            <a:r>
              <a:rPr b="0" lang="uk-UA" sz="18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55760" y="297180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Arial"/>
              </a:rPr>
              <a:t>Грудень, зима, птахи, сніжинки, пухнастий, радіти, починати, вітер, холодно, сніг, діти, вирій, в, на, у, ставати, по, земля, відлітати, настав, летять, білий,  ялинка, Новий рік, весело, прикрашати, свя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90920" y="533520"/>
            <a:ext cx="39146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чне завдання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3480" y="1333440"/>
            <a:ext cx="67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Визначити тип мовлення в кожному з наведених текс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581280"/>
            <a:ext cx="561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2. Троянду завжди називали королевою квітів. Вона має велич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игляд. Пелюстки у квітки округлої форми, насичених кольорі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 довгому стеблі колючі шипи, якими вона неначе захищає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ід тих, хто хоче її зірвати. Троянда має приємний зап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10360" y="1916280"/>
            <a:ext cx="588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важається, що троянду треба дарувати одну-єдину. Біл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троянди, звичайно, дарують нареченим. Молодим жін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дарують троянди яскравих кольорів. Жінкам середніх років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глушених кольорі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057400" cy="154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57200" y="472428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57200" y="1790640"/>
            <a:ext cx="2314440" cy="1733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29000" y="4735440"/>
            <a:ext cx="559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3. Подарувавши троянду, ми показуємо ставлення до люди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рода неначе спеціально створила цю квітку для того, щоб викликати приємні почуття. Троянда приносить позитивні емоції, піднімає настрій, викликає бажання насолоджуватися красою створеною природо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9957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81080" y="228600"/>
            <a:ext cx="55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Самостійна робота</a:t>
            </a:r>
            <a:r>
              <a:rPr b="1" lang="uk-UA" sz="1400" spc="-1" strike="noStrike">
                <a:solidFill>
                  <a:srgbClr val="cc3300"/>
                </a:solidFill>
                <a:latin typeface="Times New Roman"/>
              </a:rPr>
              <a:t>. </a:t>
            </a: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Скласти та записати опис улюбленої квітки в художньому стил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971800" y="1295280"/>
            <a:ext cx="30574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машнє завдання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8120" y="2743200"/>
            <a:ext cx="510516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писати твір-мініатюру  в художньому стилі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елементами опису і розповіді 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Моя Новорічна ялинка"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s</cp:lastModifiedBy>
  <dcterms:modified xsi:type="dcterms:W3CDTF">2014-02-16T12:23:00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5000000000001024140</vt:lpwstr>
  </property>
  <property fmtid="{D5CDD505-2E9C-101B-9397-08002B2CF9AE}" pid="3" name="Version">
    <vt:r8>1</vt:r8>
  </property>
</Properties>
</file>