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84F-6790-40C7-8996-647B53B1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33C-001F-444D-9753-95690989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235-A2BC-46EE-BDA8-9042A1C4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B0A-E147-4EE7-8194-1DA428B3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420-0CB3-4EBF-BA4B-35F3C1EF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4D2-7CD0-482A-A11F-1D40DB44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631-B682-4CA2-A92A-D969C7BF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143-6E7E-4C81-A7FA-92CFD809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367-2C40-4712-AD7C-3E6CD2DF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B22-F807-48AE-9A6A-B182574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2EF-43AE-4D20-8896-D7342AB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CC6-6B99-4291-8FFE-333C3C59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48C0-43FC-4D9C-9CB7-1F85883C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28800" y="2362320"/>
            <a:ext cx="59436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лі й типи мовлення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ис предмета в художньому стилі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76520" y="762120"/>
            <a:ext cx="3057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ворче завдання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1604520" y="1676520"/>
            <a:ext cx="61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Скласти текст,  використавши подані слова аб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поширивши речення, записати. Вказати стиль мовлення</a:t>
            </a:r>
            <a:r>
              <a:rPr b="0" lang="uk-UA" sz="18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55760" y="297180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Грудень, зима, птахи, сніжинки, пухнастий, радіти, починати, вітер, холодно, сніг, діти, вирій, в, на, у, ставати, по, земля, відлітати, настав, летять, білий,  ялинка, Новий рік, весело, прикрашати, свя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90920" y="533520"/>
            <a:ext cx="3914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чне завдання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3480" y="1333440"/>
            <a:ext cx="67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Визначити тип мовлення в кожному з наведених текс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581280"/>
            <a:ext cx="561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2. Троянду завжди називали королевою квітів. Вона має велич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игляд. Пелюстки у квітки округлої форми, насичених кольор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 довгому стеблі колючі шипи, якими вона неначе захищає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ід тих, хто хоче її зірвати. Троянда має приємний зап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10360" y="1916280"/>
            <a:ext cx="588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важається, що троянду треба дарувати одну-єдину. Біл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троянди, звичайно, дарують нареченим. Молодим жін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дарують троянди яскравих кольорів. Жінкам середніх років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глушених кольорі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057400" cy="154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" y="1790640"/>
            <a:ext cx="2314440" cy="173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29000" y="4735440"/>
            <a:ext cx="559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3. Подарувавши троянду, ми показуємо ставлення до люд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рода неначе спеціально створила цю квітку для того, щоб викликати приємні почуття. Троянда приносить позитивні емоції, піднімає настрій, викликає бажання насолоджуватися красою створеною природо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957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1080" y="228600"/>
            <a:ext cx="55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Самостійна робота</a:t>
            </a:r>
            <a:r>
              <a:rPr b="1" lang="uk-UA" sz="1400" spc="-1" strike="noStrike">
                <a:solidFill>
                  <a:srgbClr val="cc33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Скласти та записати опис улюбленої квітки в художньому стил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971800" y="1295280"/>
            <a:ext cx="30574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є завданн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8120" y="2743200"/>
            <a:ext cx="51051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исати твір-мініатюру  в художньому стилі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елементами опису і розповіді 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Моя Новорічна ялинка"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s</cp:lastModifiedBy>
  <dcterms:modified xsi:type="dcterms:W3CDTF">2014-02-16T12:23:0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5000000000001024140</vt:lpwstr>
  </property>
  <property fmtid="{D5CDD505-2E9C-101B-9397-08002B2CF9AE}" pid="3" name="Version">
    <vt:r8>1</vt:r8>
  </property>
</Properties>
</file>