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DDF-6D87-45CE-8C77-A64D4421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E5B-8A50-4DE6-B52E-B2051FED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AD79A-4DCB-4848-BF95-C0551CCA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D443F-C735-4943-AE26-4EEEE164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ED405-A377-49E4-AA6C-2C855EF9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FD136-6FAD-4699-9841-42DCF2D9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AD6AD-EF5D-4BE1-BB08-60B2A0A0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861B6-9867-409B-AFA8-4974BAEA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49048-E78B-48CA-9B75-6E008F3A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109CD-BEBD-4C00-8733-6E06024C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0AFB1-20EA-4D14-A4A5-933F9611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E1355-B8EF-4270-B910-91CB256C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5C89-290B-4E38-8D40-8521AC48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C4D53-B53C-4031-B90F-12DDF253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24F37-DB61-4500-99CD-D87DBED6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7A1E5-E86E-4774-8652-FE09E7EA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F6EFE-0D39-4CC8-91E2-6C60B5E1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FF515-3840-4B3A-BECB-1CF9C5DC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2CD69-7FB8-484F-A528-BDCD9D3A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1138C-77D0-49FD-A0B8-CCE7AD6B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A015D-CBE5-4ED6-862E-D5623332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75417-7849-4665-AB65-12A02A13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5275C-BD2F-404B-A74B-58AF6543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6FB-F913-4092-B7AA-19E82428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8828C-070C-4ACE-BE2A-3C82AEDA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709A2-2571-4419-8272-000B4CE0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63D12-D217-4D61-A547-B5F36D8F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74828-3C51-4AE3-90C7-57F7D8CE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95976-59BE-453A-BEEE-DE2180BA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447DB-CB8E-4C40-8CC8-2174909F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85F74-6182-4C95-9B97-DC2AC0EF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F343C-7D0C-4512-B355-22E4D3C7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6EE5F-573F-4E6B-BA6E-C2DF31BA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1085D-57E1-4983-A19B-56B9531A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1C4E-961D-48BF-BCC6-93577F44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B7C99-9274-4C8F-920F-B6F6EA49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891FB-6A91-4C8A-A838-C87C4CF9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37450-BA48-4580-A637-ED55AB8B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D9B02-391C-4988-A2BA-B7D1D950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FB0BF-D3A0-4D42-855F-E5BE33A8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E6D77-5EBD-482C-87B3-96E13B91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3A6FC-9BD9-41F3-8613-601A7273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08C99-61CB-4D4A-A04B-E4A3B633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DE3EE-5567-454F-ADB0-998E03DD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B201E-183E-4381-9F97-CAD5E8A0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C3FE-46EA-407B-B080-8EAAA90E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F5828-6BA1-49BC-BDB3-1BE665E7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B41C0-BAF6-4EA1-A7EE-46E1B194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7D67D-09F9-4C36-9187-9984C016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D4198-D862-479E-AEF4-27F65ACD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72F81-4E13-4659-BD24-D979A826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2CA9-B7EF-4682-9985-039D47E9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6309-81E5-48CE-B68E-B4D79018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1E66-A8CD-4349-BF02-2AAD35BD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46AF-D591-4C8C-BE91-70CCC40C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AAA4-F302-4860-86F8-572E3BF7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41CC-F3CF-4C46-87DB-2EE5F1F2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A2A1-E29C-428B-A96C-500069CA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A830-3EC7-4973-AA4E-1752D7AF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4421-C1D6-4733-A811-8884C510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0B78-FA5F-4B33-87D1-DC0CB54B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C949-BE79-43FC-8C3E-FFBA980E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53812-4640-4DF1-9A0C-8CFC5459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A0F30-FC2F-44DA-B112-979B83E9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F901E-8622-4CF3-B853-F82A25C1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1F51A-BE78-48C7-A285-64F1F64C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37ABA-AC71-4D44-94D3-4BE4C224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D371-395C-43DB-9A2B-0F2FD44A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60133-5374-47B6-9162-76772588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CF4DF-0150-40D7-8D62-A8541BE8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04F67-7489-4DC1-82F8-6EFE1E46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80FDE-BB2F-48E1-A71B-F3AD509D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908B2-D561-404B-B88E-4BA89EA2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B28AE-F234-4215-9A43-F6DF2376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4C4D8-9027-46CB-BAC0-97EEB4B7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01175-65E2-4FAF-BFD1-AC2D12F4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E2857-942F-4B47-849C-9E558191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B207D-1B2D-4D32-80A2-0AAD95D6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EA3D-9C30-4E84-9D27-954C5B56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3F3E0-F8D8-42E7-BE92-3CCF5F7D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AF944-D719-47C3-8673-7F6B9DC9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DC5FC-7902-47F5-B9A6-ABCFD09B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092F4-8395-4029-82B2-DF862487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12CCE-EA8C-45AD-A4C1-97F0F73F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32F1B-5A32-4E24-9988-D80A10F1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8EED0-99B1-498F-8CBD-A8A61945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2EDDF-A9CB-4248-AD2F-8AC292C4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74840-B359-49A2-A156-41C33923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FC789-96AA-4196-8CB9-A49B06D3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CC8-96D5-46F7-A73E-46AEFFE8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BEAF7-CBC2-4497-AE42-4C523AFA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602EF-581B-437C-B982-8D1D0E09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74991-C1A3-490C-BDB0-0685EA05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704EE-F2B3-428D-B71D-8F3DD0A1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64DA5-AF3B-4E36-8C48-583B4EAA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805B3-022F-496E-A7B3-BD3582B9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CF7B7-EB79-4100-8AFF-E39D27BB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07DD6-37EE-4188-A5DB-F25D07C1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66412-AFD1-4A2B-ADBB-A65C3516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628BE-5CC2-43D5-B93E-8662AA29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B5D9-8C9D-47C0-8DD7-D6FEADB9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70046-245E-41FB-A29B-8809CC34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2D067-E995-4CFF-931A-AD9A2FD2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07585-B303-431B-8955-8A0EF025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689B2-9DAD-47D2-B009-5140BA0A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CA090-ABD6-4EF9-B491-6271C443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2412E-2310-43EE-B206-C27421E3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90B88-287B-4C22-93D6-142DE884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588DE-2386-44D4-A4B4-406209A3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36879-CAC8-4143-A1AF-3B3C4CC3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9BCE3-CC5C-4AB3-8F20-5662E61A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96FB-D1B3-41B0-994E-FE5BC25D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B663D-0188-479B-A889-3E52EFA8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83EC0-E3CB-46F8-9DCA-C5E46A8A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8C733-5120-4D7C-860C-701FD956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6D5A9-D9CB-4762-ACE4-52E3DBDF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025DE-C3F7-4989-9F39-282A32E6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7FF75-4453-4ADB-B62E-60F53387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DFF15-1238-4B70-8D74-4FB41A66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BB4CA-3DAD-473D-B18A-5192AFB2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38FE1-8397-4563-975B-7C3F9A6A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50359-1FE0-4D91-8295-73E54031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E40-C60B-42A3-94D2-0F56F1C1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157CD-A6C9-47A8-8337-1B02B4A8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39FB9-7A5B-4FDD-91FF-FCD0C1CD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9239F-70F8-451F-A089-8C1CDA3C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29318-7F81-4083-A01D-A1BE3B44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E2735-8C68-4F8B-A8DD-75D8A448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22D6D-A468-475A-8CE5-FB2AD598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5413C-1376-46C3-9F31-B52AECE7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B6F00-468C-40AB-8001-531C0233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A0323-9070-49AA-BD3A-A158FBDE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515BA-7581-44AB-96CE-6B729209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F1D6-1197-4343-8779-92D197D8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EE5BB-9EB2-4AB8-B254-7EBB00E2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F1F9D-EA2F-4E67-AB81-37CB79F5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C4961-1992-403C-8D2C-E30030A7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65F4F-A808-445F-9765-64FA9ABE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D371A-95BA-4C58-A67F-82AAAD7E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2BF54-A814-463C-A9B2-E011FF9C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E61F2-1992-4BF9-8665-45DFCF10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31E99-30CE-483F-91BD-D1803765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5C2BF-7D89-45F8-ADCB-AAB2F791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2CD3D-1A2D-425D-A0F3-33DD0D51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F56F-8CC2-4C22-939B-F469FAAF75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A6AD-7C7C-4348-9164-4B8975B546D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3D44-80A5-44EF-8162-9867CB558A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F92A-F10F-40A6-B976-8C82FED4AD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6A18-AF69-4B82-A6BF-A6F0F725F3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1428-2439-4D83-9A09-FDF11FBCBF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7EDC-D87D-45EC-874D-74FB762C67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585A-B5D8-428E-B8D8-5D4B9C237F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E269-C7FB-4816-9DD3-51C71086B3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5A0C-7287-464C-987A-90D6D5E8AA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605D-650A-4702-A615-78880F0E78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A670-957C-4DDD-8E64-47C2FB2400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alibri"/>
              </a:rPr>
              <a:t>«Не» з різними</a:t>
            </a:r>
            <a:br>
              <a:rPr sz="8000"/>
            </a:br>
            <a:r>
              <a:rPr b="1" lang="ru-RU" sz="8000" spc="-1" strike="noStrike">
                <a:solidFill>
                  <a:srgbClr val="7030a0"/>
                </a:solidFill>
                <a:latin typeface="Calibri"/>
              </a:rPr>
              <a:t> частинами мов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250560" y="364500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70c0"/>
                </a:solidFill>
                <a:latin typeface="Calibri"/>
              </a:rPr>
              <a:t>разом              окремо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Calibri"/>
              </a:rPr>
              <a:t>нещастя</a:t>
            </a:r>
            <a:r>
              <a:rPr b="1" lang="uk-UA" sz="6600" spc="-1" strike="noStrike">
                <a:solidFill>
                  <a:srgbClr val="0070c0"/>
                </a:solidFill>
                <a:latin typeface="Calibri"/>
              </a:rPr>
              <a:t>          </a:t>
            </a:r>
            <a:r>
              <a:rPr b="1" lang="uk-UA" sz="6600" spc="-1" strike="noStrike">
                <a:solidFill>
                  <a:srgbClr val="ff0000"/>
                </a:solidFill>
                <a:latin typeface="Calibri"/>
              </a:rPr>
              <a:t>не щаст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Прямая соединительная линия 4"/>
          <p:cNvSpPr/>
          <p:nvPr/>
        </p:nvSpPr>
        <p:spPr>
          <a:xfrm flipH="1">
            <a:off x="2123640" y="2708280"/>
            <a:ext cx="2303640" cy="129708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Прямая соединительная линия 6"/>
          <p:cNvSpPr/>
          <p:nvPr/>
        </p:nvSpPr>
        <p:spPr>
          <a:xfrm>
            <a:off x="4427640" y="2708280"/>
            <a:ext cx="2089080" cy="129708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-65160" y="1483920"/>
            <a:ext cx="936144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70c0"/>
                </a:solidFill>
                <a:latin typeface="Calibri"/>
              </a:rPr>
              <a:t>Слово без «не» не вживаєтьс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85680" y="2781360"/>
            <a:ext cx="90360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неволит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недбаліс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                           </a:t>
            </a: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неміч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                                        </a:t>
            </a: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негай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Заголовок 1"/>
          <p:cNvSpPr/>
          <p:nvPr/>
        </p:nvSpPr>
        <p:spPr>
          <a:xfrm>
            <a:off x="96840" y="0"/>
            <a:ext cx="90378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7030a0"/>
                </a:solidFill>
                <a:latin typeface="Calibri"/>
              </a:rPr>
              <a:t>РАЗО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9900"/>
                </a:solidFill>
                <a:latin typeface="Calibri"/>
              </a:rPr>
              <a:t>Іменник   Прикметник   Прислів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2240" y="1052640"/>
            <a:ext cx="36226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7030a0"/>
                </a:solidFill>
                <a:latin typeface="Calibri"/>
              </a:rPr>
              <a:t>РАЗО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70c0"/>
                </a:solidFill>
                <a:latin typeface="Calibri"/>
              </a:rPr>
              <a:t>Синоні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нево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недорог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недалек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844800" y="1052640"/>
            <a:ext cx="5329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7030a0"/>
                </a:solidFill>
                <a:latin typeface="Calibri"/>
              </a:rPr>
              <a:t>ОКРЕМ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70c0"/>
                </a:solidFill>
                <a:latin typeface="Calibri"/>
              </a:rPr>
              <a:t>Протиставленн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не воля, а раб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не дорогий, а дешев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не далеко, а близьк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65160" y="1484280"/>
            <a:ext cx="936144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70c0"/>
                </a:solidFill>
                <a:latin typeface="Calibri"/>
              </a:rPr>
              <a:t>Числівник     Займенник      Службові</a:t>
            </a:r>
            <a:br>
              <a:rPr sz="4400"/>
            </a:br>
            <a:r>
              <a:rPr b="1" lang="uk-UA" sz="4400" spc="-1" strike="noStrike">
                <a:solidFill>
                  <a:srgbClr val="0070c0"/>
                </a:solidFill>
                <a:latin typeface="Calibri"/>
              </a:rPr>
              <a:t>                                             частини мо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6480" y="3429000"/>
            <a:ext cx="915516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Calibri"/>
              </a:rPr>
              <a:t>не дев'ять    </a:t>
            </a:r>
            <a:r>
              <a:rPr b="1" lang="uk-UA" sz="4800" spc="-1" strike="noStrike">
                <a:solidFill>
                  <a:srgbClr val="c00000"/>
                </a:solidFill>
                <a:latin typeface="Calibri"/>
              </a:rPr>
              <a:t>не вони</a:t>
            </a:r>
            <a:r>
              <a:rPr b="1" lang="uk-UA" sz="48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uk-UA" sz="4800" spc="-1" strike="noStrike">
                <a:solidFill>
                  <a:srgbClr val="d60093"/>
                </a:solidFill>
                <a:latin typeface="Calibri"/>
              </a:rPr>
              <a:t>не до лад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Calibri"/>
              </a:rPr>
              <a:t>не шістсот     </a:t>
            </a:r>
            <a:r>
              <a:rPr b="1" lang="uk-UA" sz="4800" spc="-1" strike="noStrike">
                <a:solidFill>
                  <a:srgbClr val="c00000"/>
                </a:solidFill>
                <a:latin typeface="Calibri"/>
              </a:rPr>
              <a:t>не той          </a:t>
            </a:r>
            <a:r>
              <a:rPr b="1" lang="uk-UA" sz="4800" spc="-1" strike="noStrike">
                <a:solidFill>
                  <a:srgbClr val="d60093"/>
                </a:solidFill>
                <a:latin typeface="Calibri"/>
              </a:rPr>
              <a:t>не лиш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Заголовок 1"/>
          <p:cNvSpPr/>
          <p:nvPr/>
        </p:nvSpPr>
        <p:spPr>
          <a:xfrm>
            <a:off x="96840" y="0"/>
            <a:ext cx="90378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7030a0"/>
                </a:solidFill>
                <a:latin typeface="Calibri"/>
              </a:rPr>
              <a:t>ОКРЕМ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-65160" y="1773360"/>
            <a:ext cx="936144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70c0"/>
                </a:solidFill>
                <a:latin typeface="Calibri"/>
              </a:rPr>
              <a:t>Дієслово       Форми дієсло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5680" y="3068640"/>
            <a:ext cx="90360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не створив          </a:t>
            </a:r>
            <a:r>
              <a:rPr b="1" lang="uk-UA" sz="5400" spc="-1" strike="noStrike">
                <a:solidFill>
                  <a:srgbClr val="c00000"/>
                </a:solidFill>
                <a:latin typeface="Calibri"/>
              </a:rPr>
              <a:t>не сказа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00000"/>
                </a:solidFill>
                <a:latin typeface="Calibri"/>
              </a:rPr>
              <a:t>                             </a:t>
            </a:r>
            <a:r>
              <a:rPr b="1" lang="uk-UA" sz="5400" spc="-1" strike="noStrike">
                <a:solidFill>
                  <a:srgbClr val="c00000"/>
                </a:solidFill>
                <a:latin typeface="Calibri"/>
              </a:rPr>
              <a:t>не розкривш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Заголовок 1"/>
          <p:cNvSpPr/>
          <p:nvPr/>
        </p:nvSpPr>
        <p:spPr>
          <a:xfrm>
            <a:off x="96840" y="0"/>
            <a:ext cx="90378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7030a0"/>
                </a:solidFill>
                <a:latin typeface="Calibri"/>
              </a:rPr>
              <a:t>ОКРЕМ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-65160" y="1916280"/>
            <a:ext cx="9361440" cy="121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70c0"/>
                </a:solidFill>
                <a:latin typeface="Calibri"/>
              </a:rPr>
              <a:t>Префікс недо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71280" y="3141360"/>
            <a:ext cx="8150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недобачат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недосипаюч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Заголовок 1"/>
          <p:cNvSpPr/>
          <p:nvPr/>
        </p:nvSpPr>
        <p:spPr>
          <a:xfrm>
            <a:off x="108000" y="-17640"/>
            <a:ext cx="903600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7030a0"/>
                </a:solidFill>
                <a:latin typeface="Calibri"/>
              </a:rPr>
              <a:t>РАЗО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9900"/>
                </a:solidFill>
                <a:latin typeface="Calibri"/>
              </a:rPr>
              <a:t>Дієприкме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2240" y="764640"/>
            <a:ext cx="362268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7030a0"/>
                </a:solidFill>
                <a:latin typeface="Calibri"/>
              </a:rPr>
              <a:t>РАЗО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Calibri"/>
              </a:rPr>
              <a:t>Означення, немає залежних сл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невідгадана загад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844800" y="836640"/>
            <a:ext cx="53294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7030a0"/>
                </a:solidFill>
                <a:latin typeface="Calibri"/>
              </a:rPr>
              <a:t>ОКРЕМ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Calibri"/>
              </a:rPr>
              <a:t>Присуд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Загадка не відгада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Calibri"/>
              </a:rPr>
              <a:t>Є залежні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60093"/>
                </a:solidFill>
                <a:latin typeface="Calibri"/>
              </a:rPr>
              <a:t>не відгадана учнями загад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0:38:54Z</dcterms:created>
  <dc:creator>Admin</dc:creator>
  <dc:description/>
  <dc:language>en-US</dc:language>
  <cp:lastModifiedBy>Admin</cp:lastModifiedBy>
  <dcterms:modified xsi:type="dcterms:W3CDTF">2014-01-27T09:35:25Z</dcterms:modified>
  <cp:revision>7</cp:revision>
  <dc:subject/>
  <dc:title>«Не» з різними  частинами мов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4000000000001024140</vt:lpwstr>
  </property>
</Properties>
</file>