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03A-6CDB-4D8C-A7F2-7BD8F13B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103-133C-49D5-9D8C-BE6E3E54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4D4BD-0555-4727-A2A9-AD4E0973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D725D-5735-4CBD-AABB-DE9FB445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DBB7F-4247-4C5E-9C84-0492778F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79056-68C2-403F-81F4-F3143719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7F0EB-9D5F-4960-AD78-8E648121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894EB-AC31-433A-BD7A-0E7D769A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30BA7-D1BC-4CB9-A0EC-A92FD9BD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002E1-CD84-42ED-A6AA-BA5C0378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CB49F-F515-4236-9F6A-00DAE35D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31D10-3C18-41BA-9F6F-14791E07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6D9-5657-4CEA-8922-9B09B0FE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B8ED9-AB1E-458C-AA4F-78DEE77F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599C5-D8BF-4CDE-87FF-B8274C70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71EDE-53D0-4593-B6FA-9D31CC35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AE72F-2EBA-4711-A3F8-1A044BA7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0C0E9-AC42-4CD7-88E5-EB403DBF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8EA9D-2F8D-478C-8D7D-66647C5D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A170A-9EF7-428E-ADCC-A5408F8B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46C5F-7D6F-4F5F-BE29-60636B27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0BED5-8833-4B57-81C6-427D0633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FADF9-7E23-40C9-B371-70EE7897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427-0677-456D-BE56-ECEAADD7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9CF6E-A210-4E50-AF20-8C9004C3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A65C5-528A-40EB-853D-AC7EF94E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EB9EE-6535-4B10-AE7F-EA5C39AA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88A43-1A51-428C-AB2F-4EB2CE5C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E334E-3816-4DA7-A780-E3017367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5861C-A8A9-4F40-9120-733FAD0A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EF5FF-CD2B-4C99-8C0C-D337ED39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0BC7E-2EC8-49B4-ABC7-34BF928E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AED55-17C6-4DCF-A9D0-4B81810D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2DDA5-A449-4AAA-9E03-9939350E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A683-7C1E-4C35-B527-1098A8C1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CE3A7-FF9C-4437-9E9C-0DE21E5C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1308B-1189-49CF-BB69-6A8B7BF7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973F8-F623-4331-BEFC-52FFAC19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917D0-09EA-4643-A37F-070A9D33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A769A-B56A-4AAB-B1A2-53252575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2F3D1-148D-4CB0-B5E5-58134CEA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59440-751A-46F8-A0A5-679E8AAE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C388B-5707-4B6F-ADA9-4410A51F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FAF70-E930-4698-AC65-209BFD9C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A4AFB-2C3C-4D41-A912-28034497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762A-08E5-4E34-882C-F6B3E637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12C8C-979B-4B20-B99E-E2701150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516A3-CBBE-4A00-A56E-5A5B8D5E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EB333-DE04-4F83-A25D-0A085DBA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30C92-D46A-4C65-9B3F-C07D73CB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4E168-0063-4161-A923-25924303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2B14-1A16-4ED3-A9EB-D814AAC4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BD6E-E4C4-40D3-A9FA-8B68B8D5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6135-F641-4AC0-8E9E-68AD4141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63E2-69C8-4957-9980-B5C6A327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BF84-A4DC-4626-8E7C-35FBB1EB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0FC-DB1E-4401-8402-38716E55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89F6-99B3-4F23-9BAD-EBD80D78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AF20-835C-4B8E-8039-53D46444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AEE8-9E6B-48AE-A46A-2E50A5BE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D954-29D8-4D7A-9538-1AB20BF4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E6F5-CFEB-418A-83C9-7212F570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D857-786B-4A28-B1C6-0A02CF11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1D2B-F3B3-4D35-8732-1AD9E0B0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D0563-12A5-4827-808E-D9969ECE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204A-D74B-4F0F-BB05-21CC166C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413C5-086C-4C82-964D-61FC88B3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426-E4C1-4A3B-AC4F-4C5ADA1A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82803-22E3-48B6-BF23-961BBFC2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541AA-736B-45AA-8B26-4B1CA37A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CC302-A56D-4947-984E-376C35F2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3BF5-177D-47A6-82D1-9BA84DBC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4DFBB-B685-4D2A-B54B-F60EC13E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EAF8-0525-4D75-B1E9-A0616EA6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50F6-C7D6-4EA6-BBF7-8CE1B151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885E-30DC-4AAC-8AE7-77941F10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35019-E2E0-4CE1-A3CA-348D70C5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10D4-795B-419A-A73D-3680BE8B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6B0-21CC-41FD-8998-5D56AFB7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7C88-BC4B-4384-821B-D58A87BD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50A27-A4CB-4B37-85AA-19BC143B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F8CA3-59AF-4913-8FAE-F94F4CFF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7AFF3-065D-4105-A0C8-BBEE3F34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4CE3B-B1C5-48E5-9698-799C26E1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7FD0-BD3F-4AD0-809F-BF673D28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B80CC-575A-4F45-9AA1-932F54E6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B06AA-D00B-4951-8486-0C680EA1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08CF3-B631-4C92-9AAA-0EDA5FD5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C3EBF-01D0-476D-B406-6550254C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37E-9931-4982-A622-AEBF4DCE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9A1B4-104B-4909-BCF3-C1AA1E18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AFD7A-858D-4C70-A93E-C592D9B6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0869D-0BFE-41BB-8217-2E756D8A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31C1D-610B-4460-84BB-7D5EC65F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9CBEC-70FA-4E1A-BE76-B27DEF99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1AA85-C058-48EA-A67E-98B32947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00FCF-CF9F-47B9-8712-5486D3DB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5F394-5542-418B-877F-CC4528C4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9ADF1-3E7A-4485-9E12-3ABCD9EF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AF42B-532B-43AF-A262-8E9E5438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9FC-288C-4FF1-B287-ED6CBE6F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4B573-99BB-4171-B666-35D66A4A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7E39A-597D-4445-8107-11C8623C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7EA1D-ADEC-4703-8D83-1257F36D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7D5CE-CA0A-425B-95E1-E49AC032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1D4CD-3B48-425C-BE8F-61DFB5A1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C89A-A5AC-478F-9DC8-C124068F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F3164-5371-4491-8CE3-DEF17046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4C392-D3F3-4349-BC5B-17201D01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FD195-229E-4387-9DF5-CE0BEFEC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0DA75-F95E-4003-977E-6877E191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1E9-0FBF-4B13-8242-7CA3556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05460-41F2-4C44-9244-5F213E3E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07857-34BE-46BA-8D69-43D11649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444EB-038B-4AF6-A1CF-50B5D08B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C8490-1FEA-4F1B-A3B4-ED6F7C98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F6E1B-6244-454A-8DC0-137AB472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722B0-6641-4A2A-A7E1-06231BA0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1C896-93DA-4A16-8C4A-71DED54F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C7949-1DA4-4421-87D4-364C9C44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4CBAB-ACB4-4B7D-80D3-D923D78F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2C65B-733C-457F-AB44-78C45AC3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062-CCCD-4BC1-AAAD-736314E1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4AAD4-008C-42F1-A260-F38B6B67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117F4-A96A-4464-9A14-390DA057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A416C-6E0A-42ED-8E48-A12AC1C8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3235F-5CA4-49AD-B3E3-773F3A93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C2D7B-E140-48BE-9786-5CBF7D79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9985C-C951-4394-B681-DA455F06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BA0CC-4099-480D-9BA0-4BB7E3D0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F14FC-0EFA-4B8A-A24C-5BAE6108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5EF44-9BDC-496B-9618-FD0771BC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2738D-FADD-4733-B124-9BED44C9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A70-D6CD-4C38-B366-52418938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50D09-BD8C-4FFA-8DD1-AA33D1CD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BB1A4-72BC-4849-BC58-196FCE7B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5DC0C-064D-483C-B122-934B16E4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EEB41-75CF-4DB4-B953-EE0581FF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AF51F-65A2-4B4C-B1DC-BD833C3E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49A6C-E37A-45C1-A916-7F1198D9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8E8E8-3A4F-475E-B0A0-334C3E21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29EE7-9932-4F3D-BE12-15F35DD3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E8493-196A-4457-8DC2-0F97404E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DA018-DD71-40B1-A61A-9C0A7EF1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015D-94F4-49F0-85FF-93A0E16F47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5F36-9C78-4DEF-9374-C45557052C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0D99-549B-4E2E-B6E1-63A943D893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15F9-2A55-4BC6-836D-DAAFF67411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0078-B4AE-4438-BA14-6B53DFA199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8964-62BD-4AB1-AE0D-98061A1F39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D023-AC00-433A-8C95-9A406408A2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94A8-290F-45A6-9F85-F0D34A2FAC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38AF-EB7C-4548-BAFE-7935702F61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A1FD-AF9D-4604-A788-03563807AF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F475-BB88-41FF-9F8C-0E200B5CC1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DB8F-CD59-4958-AF81-27718626CC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«Не» з різними</a:t>
            </a:r>
            <a:br>
              <a:rPr sz="8000"/>
            </a:b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 частинами мов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250560" y="364500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70c0"/>
                </a:solidFill>
                <a:latin typeface="Calibri"/>
              </a:rPr>
              <a:t>разом              окрем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Calibri"/>
              </a:rPr>
              <a:t>нещастя</a:t>
            </a:r>
            <a:r>
              <a:rPr b="1" lang="uk-UA" sz="6600" spc="-1" strike="noStrike">
                <a:solidFill>
                  <a:srgbClr val="0070c0"/>
                </a:solidFill>
                <a:latin typeface="Calibri"/>
              </a:rPr>
              <a:t>          </a:t>
            </a:r>
            <a:r>
              <a:rPr b="1" lang="uk-UA" sz="6600" spc="-1" strike="noStrike">
                <a:solidFill>
                  <a:srgbClr val="ff0000"/>
                </a:solidFill>
                <a:latin typeface="Calibri"/>
              </a:rPr>
              <a:t>не щаст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ая соединительная линия 4"/>
          <p:cNvSpPr/>
          <p:nvPr/>
        </p:nvSpPr>
        <p:spPr>
          <a:xfrm flipH="1">
            <a:off x="2123640" y="2708280"/>
            <a:ext cx="2303640" cy="129708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ая соединительная линия 6"/>
          <p:cNvSpPr/>
          <p:nvPr/>
        </p:nvSpPr>
        <p:spPr>
          <a:xfrm>
            <a:off x="4427640" y="2708280"/>
            <a:ext cx="2089080" cy="129708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-65160" y="1483920"/>
            <a:ext cx="936144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70c0"/>
                </a:solidFill>
                <a:latin typeface="Calibri"/>
              </a:rPr>
              <a:t>Слово без «не» не вживаєть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5680" y="2781360"/>
            <a:ext cx="9036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воли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дбалі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міч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                                       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гай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Заголовок 1"/>
          <p:cNvSpPr/>
          <p:nvPr/>
        </p:nvSpPr>
        <p:spPr>
          <a:xfrm>
            <a:off x="96840" y="0"/>
            <a:ext cx="90378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7030a0"/>
                </a:solidFill>
                <a:latin typeface="Calibri"/>
              </a:rPr>
              <a:t>РАЗО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9900"/>
                </a:solidFill>
                <a:latin typeface="Calibri"/>
              </a:rPr>
              <a:t>Іменник   Прикметник   Прислів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2240" y="1052640"/>
            <a:ext cx="3622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030a0"/>
                </a:solidFill>
                <a:latin typeface="Calibri"/>
              </a:rPr>
              <a:t>РАЗ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70c0"/>
                </a:solidFill>
                <a:latin typeface="Calibri"/>
              </a:rPr>
              <a:t>Синоні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нев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недор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недале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44800" y="1052640"/>
            <a:ext cx="5329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030a0"/>
                </a:solidFill>
                <a:latin typeface="Calibri"/>
              </a:rPr>
              <a:t>ОКРЕ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70c0"/>
                </a:solidFill>
                <a:latin typeface="Calibri"/>
              </a:rPr>
              <a:t>Протиставлен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не воля, а раб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не дорогий, а дешев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не далеко, а близь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65160" y="1484280"/>
            <a:ext cx="936144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70c0"/>
                </a:solidFill>
                <a:latin typeface="Calibri"/>
              </a:rPr>
              <a:t>Числівник     Займенник      Службові</a:t>
            </a:r>
            <a:br>
              <a:rPr sz="4400"/>
            </a:br>
            <a:r>
              <a:rPr b="1" lang="uk-UA" sz="4400" spc="-1" strike="noStrike">
                <a:solidFill>
                  <a:srgbClr val="0070c0"/>
                </a:solidFill>
                <a:latin typeface="Calibri"/>
              </a:rPr>
              <a:t>                                             частини м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480" y="3429000"/>
            <a:ext cx="91551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Calibri"/>
              </a:rPr>
              <a:t>не дев'ять    </a:t>
            </a: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не вони</a:t>
            </a:r>
            <a:r>
              <a:rPr b="1" lang="uk-UA" sz="4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uk-UA" sz="4800" spc="-1" strike="noStrike">
                <a:solidFill>
                  <a:srgbClr val="d60093"/>
                </a:solidFill>
                <a:latin typeface="Calibri"/>
              </a:rPr>
              <a:t>не до лад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Calibri"/>
              </a:rPr>
              <a:t>не шістсот     </a:t>
            </a: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не той          </a:t>
            </a:r>
            <a:r>
              <a:rPr b="1" lang="uk-UA" sz="4800" spc="-1" strike="noStrike">
                <a:solidFill>
                  <a:srgbClr val="d60093"/>
                </a:solidFill>
                <a:latin typeface="Calibri"/>
              </a:rPr>
              <a:t>не лиш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96840" y="0"/>
            <a:ext cx="90378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7030a0"/>
                </a:solidFill>
                <a:latin typeface="Calibri"/>
              </a:rPr>
              <a:t>ОКРЕМ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-65160" y="1773360"/>
            <a:ext cx="936144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70c0"/>
                </a:solidFill>
                <a:latin typeface="Calibri"/>
              </a:rPr>
              <a:t>Дієслово       Форми дієсло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5680" y="3068640"/>
            <a:ext cx="90360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 створив          </a:t>
            </a:r>
            <a:r>
              <a:rPr b="1" lang="uk-UA" sz="5400" spc="-1" strike="noStrike">
                <a:solidFill>
                  <a:srgbClr val="c00000"/>
                </a:solidFill>
                <a:latin typeface="Calibri"/>
              </a:rPr>
              <a:t>не сказа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00000"/>
                </a:solidFill>
                <a:latin typeface="Calibri"/>
              </a:rPr>
              <a:t>                             </a:t>
            </a:r>
            <a:r>
              <a:rPr b="1" lang="uk-UA" sz="5400" spc="-1" strike="noStrike">
                <a:solidFill>
                  <a:srgbClr val="c00000"/>
                </a:solidFill>
                <a:latin typeface="Calibri"/>
              </a:rPr>
              <a:t>не розкривш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96840" y="0"/>
            <a:ext cx="90378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7030a0"/>
                </a:solidFill>
                <a:latin typeface="Calibri"/>
              </a:rPr>
              <a:t>ОКРЕМ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-65160" y="1916280"/>
            <a:ext cx="9361440" cy="12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70c0"/>
                </a:solidFill>
                <a:latin typeface="Calibri"/>
              </a:rPr>
              <a:t>Префікс недо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71280" y="3141360"/>
            <a:ext cx="8150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добача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досипаюч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Заголовок 1"/>
          <p:cNvSpPr/>
          <p:nvPr/>
        </p:nvSpPr>
        <p:spPr>
          <a:xfrm>
            <a:off x="108000" y="-17640"/>
            <a:ext cx="903600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7030a0"/>
                </a:solidFill>
                <a:latin typeface="Calibri"/>
              </a:rPr>
              <a:t>РАЗО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9900"/>
                </a:solidFill>
                <a:latin typeface="Calibri"/>
              </a:rPr>
              <a:t>Дієприкме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2240" y="764640"/>
            <a:ext cx="36226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030a0"/>
                </a:solidFill>
                <a:latin typeface="Calibri"/>
              </a:rPr>
              <a:t>РАЗ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"/>
              </a:rPr>
              <a:t>Означення, немає залежних сл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невідгадана зага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844800" y="836640"/>
            <a:ext cx="5329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030a0"/>
                </a:solidFill>
                <a:latin typeface="Calibri"/>
              </a:rPr>
              <a:t>ОКРЕ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Calibri"/>
              </a:rPr>
              <a:t>Присуд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Загадка не відгада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Calibri"/>
              </a:rPr>
              <a:t>Є залежні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60093"/>
                </a:solidFill>
                <a:latin typeface="Calibri"/>
              </a:rPr>
              <a:t>не відгадана учнями зага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0:38:54Z</dcterms:created>
  <dc:creator>Admin</dc:creator>
  <dc:description/>
  <dc:language>en-US</dc:language>
  <cp:lastModifiedBy>Admin</cp:lastModifiedBy>
  <dcterms:modified xsi:type="dcterms:W3CDTF">2014-01-27T09:35:25Z</dcterms:modified>
  <cp:revision>7</cp:revision>
  <dc:subject/>
  <dc:title>«Не» з різними  частинами мов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4000000000001024140</vt:lpwstr>
  </property>
</Properties>
</file>