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446-3BC7-4658-9954-4572E57A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CB2-4C6C-4CB8-A215-68155368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3AA-F89E-4623-BD14-9F5BAB7E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DE1-2FBA-4685-B56B-1EC4221D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2699-EFEE-47DF-A760-237279C5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8F0C-2624-461B-9588-91FAAC58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F928-BD64-4DA9-AC14-5BCBEE2E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6414-E41A-4D87-B90F-26BC8CD3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8621-C36E-4D11-8754-12B8C1D1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05DE-DA95-47D0-AD30-7437F5E5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65F2-D272-492A-9D60-508AB9FC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59D-F274-4430-A56F-0E950D35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D167-438E-4297-A391-DF1C0BE5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45AC-A409-4B2E-B4C5-0E4A39AD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C11B-2A72-49ED-8EFF-87B40E9B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A607-B8A2-42A9-9E30-AAD8E0C7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6EFA-B6A3-4DE1-8A18-DC62DEAE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0E3-A343-47A9-8C4E-9D8510A6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ACF-A52E-4759-9E4F-7ACC25DC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971-1D83-4F49-AF7F-36D05627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F08-CFB3-4DC4-859F-D169260F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D94-5B11-4058-82AB-0156E7D2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4D1-69BD-4A3A-8890-166A4FEB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95F-DBFC-47C3-BA9E-83B0A598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BADA-6362-4B06-AD58-DDF2FA2FC5B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B788-911E-43F1-8DF9-4E4AADA57AE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682560" y="781200"/>
            <a:ext cx="8772480" cy="4784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iCABADH6Z.jpg"/>
          <p:cNvPicPr/>
          <p:nvPr/>
        </p:nvPicPr>
        <p:blipFill>
          <a:blip r:embed="rId1"/>
          <a:stretch/>
        </p:blipFill>
        <p:spPr>
          <a:xfrm>
            <a:off x="1428840" y="1071720"/>
            <a:ext cx="71438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iCAOGDDWQ.jpg"/>
          <p:cNvPicPr/>
          <p:nvPr/>
        </p:nvPicPr>
        <p:blipFill>
          <a:blip r:embed="rId1"/>
          <a:stretch/>
        </p:blipFill>
        <p:spPr>
          <a:xfrm>
            <a:off x="1349280" y="1000080"/>
            <a:ext cx="70804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000000"/>
                </a:solidFill>
                <a:latin typeface="Book Antiqua"/>
              </a:rPr>
              <a:t>цікава подорож 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000000"/>
                </a:solidFill>
                <a:latin typeface="Book Antiqua"/>
              </a:rPr>
              <a:t>маленьке левеня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000000"/>
                </a:solidFill>
                <a:latin typeface="Book Antiqua"/>
              </a:rPr>
              <a:t>кумедний шимпанз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п.jpg"/>
          <p:cNvPicPr/>
          <p:nvPr/>
        </p:nvPicPr>
        <p:blipFill>
          <a:blip r:embed="rId1"/>
          <a:stretch/>
        </p:blipFill>
        <p:spPr>
          <a:xfrm>
            <a:off x="1219320" y="1143000"/>
            <a:ext cx="70675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9" descr="iCAYZJ9R1.jpg"/>
          <p:cNvPicPr/>
          <p:nvPr/>
        </p:nvPicPr>
        <p:blipFill>
          <a:blip r:embed="rId1"/>
          <a:stretch/>
        </p:blipFill>
        <p:spPr>
          <a:xfrm>
            <a:off x="4657680" y="1500120"/>
            <a:ext cx="4486320" cy="4786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iCANZ4WS5.jpg"/>
          <p:cNvPicPr/>
          <p:nvPr/>
        </p:nvPicPr>
        <p:blipFill>
          <a:blip r:embed="rId2"/>
          <a:stretch/>
        </p:blipFill>
        <p:spPr>
          <a:xfrm>
            <a:off x="571680" y="1476360"/>
            <a:ext cx="3892320" cy="4810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00000"/>
                </a:solidFill>
                <a:latin typeface="Book Antiqua"/>
              </a:rPr>
              <a:t>Незакінчене речення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3840" y="1571760"/>
            <a:ext cx="4281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Лягла зима, і білі солов'ї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Затьохкали холодними вуст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 холодні землі взулися гаї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І стали біля неба, як стоял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Льодком тоненьким скована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Спинилася рі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Повита тихим сном вона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есняних днів че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(І груп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642680"/>
            <a:ext cx="4209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Всі річки тепер в обнові,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Біле скло над бережк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Ходить грудень по діброві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Застеляє світ сніжк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Вишні в інею розквітл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В білих шубах всі дубк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Позирають ночі світлі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В розмальовані шиб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(ІІ груп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0" y="353880"/>
            <a:ext cx="8820000" cy="62960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 rot="10800000">
            <a:off x="570960" y="6500880"/>
            <a:ext cx="7854840" cy="2714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Book Antiqua"/>
              </a:rPr>
              <a:t>в) виховна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" name="Рисунок 3" descr="iCAQG2547.jpg"/>
          <p:cNvPicPr/>
          <p:nvPr/>
        </p:nvPicPr>
        <p:blipFill>
          <a:blip r:embed="rId1"/>
          <a:stretch/>
        </p:blipFill>
        <p:spPr>
          <a:xfrm>
            <a:off x="1023840" y="642960"/>
            <a:ext cx="72630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Рисунок 3" descr="iCAYK28QX.jpg"/>
          <p:cNvPicPr/>
          <p:nvPr/>
        </p:nvPicPr>
        <p:blipFill>
          <a:blip r:embed="rId1"/>
          <a:stretch/>
        </p:blipFill>
        <p:spPr>
          <a:xfrm>
            <a:off x="4267080" y="2571840"/>
            <a:ext cx="4600800" cy="4286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04lab64ls1286277727.jpg"/>
          <p:cNvPicPr/>
          <p:nvPr/>
        </p:nvPicPr>
        <p:blipFill>
          <a:blip r:embed="rId2"/>
          <a:stretch/>
        </p:blipFill>
        <p:spPr>
          <a:xfrm>
            <a:off x="285840" y="142920"/>
            <a:ext cx="4381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iCAXZB124.jpg"/>
          <p:cNvPicPr/>
          <p:nvPr/>
        </p:nvPicPr>
        <p:blipFill>
          <a:blip r:embed="rId1"/>
          <a:stretch/>
        </p:blipFill>
        <p:spPr>
          <a:xfrm>
            <a:off x="1006560" y="714240"/>
            <a:ext cx="735156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530280" y="152280"/>
            <a:ext cx="7864560" cy="192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85480" y="1642680"/>
            <a:ext cx="87152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ff0000"/>
                </a:solidFill>
                <a:latin typeface="Book Antiqua"/>
              </a:rPr>
              <a:t>Світить сонце. Дерева ледь хитаються. Раптом подув вітер. На небі пливли хмарки. Почався дощ, який нібито змив усі фарби природи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12600" y="317520"/>
            <a:ext cx="8851680" cy="1262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28400" y="1428480"/>
            <a:ext cx="8358120" cy="5143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Прикметник як частина мов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Відповідає на питанн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Book Antiqua"/>
              </a:rPr>
              <a:t>який? яка? яке? чий? чия? чиє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 Antiqua"/>
              </a:rPr>
              <a:t>Змінюється за відмінками, числами й род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овна і коротка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форма, групи за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значення</a:t>
            </a:r>
            <a:r>
              <a:rPr b="1" lang="uk-UA" sz="2800" spc="-1" strike="noStrike">
                <a:solidFill>
                  <a:srgbClr val="000000"/>
                </a:solidFill>
                <a:latin typeface="Book Antiqua"/>
              </a:rPr>
              <a:t>м, ступені порівнянн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У реченні виконує роль означення, рідше – іменної частини складеного присуд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Високий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статний хлопець стояв на ґанку. Батькове слово сміливе й рішуче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Полилиния 7"/>
          <p:cNvSpPr/>
          <p:nvPr/>
        </p:nvSpPr>
        <p:spPr>
          <a:xfrm>
            <a:off x="506520" y="5810400"/>
            <a:ext cx="3252600" cy="252360"/>
          </a:xfrm>
          <a:custGeom>
            <a:avLst/>
            <a:gdLst/>
            <a:ahLst/>
            <a:rect l="l" t="t" r="r" b="b"/>
            <a:pathLst>
              <a:path w="3251812" h="253387">
                <a:moveTo>
                  <a:pt x="0" y="73445"/>
                </a:moveTo>
                <a:cubicBezTo>
                  <a:pt x="90889" y="123939"/>
                  <a:pt x="181778" y="174433"/>
                  <a:pt x="286438" y="172597"/>
                </a:cubicBezTo>
                <a:cubicBezTo>
                  <a:pt x="391098" y="170761"/>
                  <a:pt x="519628" y="58756"/>
                  <a:pt x="627961" y="62428"/>
                </a:cubicBezTo>
                <a:cubicBezTo>
                  <a:pt x="736294" y="66100"/>
                  <a:pt x="848299" y="200139"/>
                  <a:pt x="936434" y="194631"/>
                </a:cubicBezTo>
                <a:cubicBezTo>
                  <a:pt x="1024569" y="189123"/>
                  <a:pt x="1070472" y="23870"/>
                  <a:pt x="1156771" y="29378"/>
                </a:cubicBezTo>
                <a:cubicBezTo>
                  <a:pt x="1243070" y="34886"/>
                  <a:pt x="1362419" y="222173"/>
                  <a:pt x="1454226" y="227681"/>
                </a:cubicBezTo>
                <a:cubicBezTo>
                  <a:pt x="1546033" y="233189"/>
                  <a:pt x="1623152" y="67936"/>
                  <a:pt x="1707614" y="62428"/>
                </a:cubicBezTo>
                <a:cubicBezTo>
                  <a:pt x="1792076" y="56920"/>
                  <a:pt x="1869195" y="196467"/>
                  <a:pt x="1961002" y="194631"/>
                </a:cubicBezTo>
                <a:cubicBezTo>
                  <a:pt x="2052809" y="192795"/>
                  <a:pt x="2173996" y="47739"/>
                  <a:pt x="2258458" y="51411"/>
                </a:cubicBezTo>
                <a:cubicBezTo>
                  <a:pt x="2342920" y="55083"/>
                  <a:pt x="2383315" y="216665"/>
                  <a:pt x="2467778" y="216665"/>
                </a:cubicBezTo>
                <a:cubicBezTo>
                  <a:pt x="2552241" y="216665"/>
                  <a:pt x="2688116" y="45903"/>
                  <a:pt x="2765234" y="51411"/>
                </a:cubicBezTo>
                <a:cubicBezTo>
                  <a:pt x="2842352" y="56919"/>
                  <a:pt x="2862550" y="253387"/>
                  <a:pt x="2930487" y="249715"/>
                </a:cubicBezTo>
                <a:cubicBezTo>
                  <a:pt x="2998424" y="246043"/>
                  <a:pt x="3123282" y="58756"/>
                  <a:pt x="3172858" y="29378"/>
                </a:cubicBezTo>
                <a:cubicBezTo>
                  <a:pt x="3222434" y="0"/>
                  <a:pt x="3215089" y="69773"/>
                  <a:pt x="3227942" y="73445"/>
                </a:cubicBezTo>
                <a:cubicBezTo>
                  <a:pt x="3240795" y="77117"/>
                  <a:pt x="3248140" y="55083"/>
                  <a:pt x="3249976" y="51411"/>
                </a:cubicBezTo>
                <a:cubicBezTo>
                  <a:pt x="3251812" y="47739"/>
                  <a:pt x="3244468" y="58756"/>
                  <a:pt x="3238959" y="51411"/>
                </a:cubicBezTo>
                <a:cubicBezTo>
                  <a:pt x="3233450" y="44066"/>
                  <a:pt x="3216925" y="5508"/>
                  <a:pt x="3216925" y="7344"/>
                </a:cubicBezTo>
                <a:cubicBezTo>
                  <a:pt x="3216925" y="9180"/>
                  <a:pt x="3242631" y="53248"/>
                  <a:pt x="3238959" y="62428"/>
                </a:cubicBezTo>
                <a:cubicBezTo>
                  <a:pt x="3235287" y="71608"/>
                  <a:pt x="3194891" y="62428"/>
                  <a:pt x="3194891" y="62428"/>
                </a:cubicBezTo>
                <a:lnTo>
                  <a:pt x="3194891" y="62428"/>
                </a:lnTo>
                <a:lnTo>
                  <a:pt x="3194891" y="62428"/>
                </a:lnTo>
              </a:path>
            </a:pathLst>
          </a:custGeom>
          <a:noFill/>
          <a:ln w="381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>
            <a:off x="3143160" y="6286680"/>
            <a:ext cx="1285920" cy="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3143160" y="6429240"/>
            <a:ext cx="1285920" cy="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3"/>
          <p:cNvSpPr/>
          <p:nvPr/>
        </p:nvSpPr>
        <p:spPr>
          <a:xfrm>
            <a:off x="4714920" y="6357960"/>
            <a:ext cx="1143000" cy="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15"/>
          <p:cNvSpPr/>
          <p:nvPr/>
        </p:nvSpPr>
        <p:spPr>
          <a:xfrm>
            <a:off x="4714920" y="6429240"/>
            <a:ext cx="1143000" cy="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5" descr="0_9a27a_ad00dae3_XXL.jpg"/>
          <p:cNvPicPr/>
          <p:nvPr/>
        </p:nvPicPr>
        <p:blipFill>
          <a:blip r:embed="rId1"/>
          <a:stretch/>
        </p:blipFill>
        <p:spPr>
          <a:xfrm>
            <a:off x="2214720" y="214200"/>
            <a:ext cx="4803480" cy="6362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530280" y="-60480"/>
            <a:ext cx="7864560" cy="2773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56760" y="285732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Book Antiqua"/>
              </a:rPr>
              <a:t>Засніжений простір, зимовий спокій, молочно-біле простирадло снігу, холодне повітря, сонячне світло, снігові хмари, морозний день, маленькі сніжинки, білий іній, пухкий сніг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9:57:43Z</dcterms:created>
  <dc:creator>магазин</dc:creator>
  <dc:description/>
  <dc:language>en-US</dc:language>
  <cp:lastModifiedBy>магазин</cp:lastModifiedBy>
  <dcterms:modified xsi:type="dcterms:W3CDTF">2014-01-09T18:42:40Z</dcterms:modified>
  <cp:revision>8</cp:revision>
  <dc:subject/>
  <dc:title>Прикметник: загальне значення, морфологічні ознаки, синтаксична роль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3000000000001024140</vt:lpwstr>
  </property>
</Properties>
</file>