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301A-0E2D-48F9-9BA8-4EBB94A30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12E0-E0F6-4B95-803F-E9DBFF77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72B8-52E6-411B-98A8-E2947D00F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44E9-CED9-4B90-8128-411AE834D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64C33-EA92-4756-9E06-2CE4D710F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86DD-C9EF-44AE-A4A1-BE2558E0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627F8-5437-4A8E-B361-19CE29CD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4C32-2A00-438D-83FA-4052820E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2E39-A733-41BC-A846-F9F5D633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0FEA-AAFD-4909-873D-ECAB2C75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6B2F-41B1-43F3-8D79-005ABE8B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DEBF-C514-4DF9-B397-CA9E0DDE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A697-F9FB-47F7-B376-28E444AA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0B53-4412-4E49-8875-8716A4F6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8378-0D5A-4B70-8BF0-CB9BB9C8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5868-39AD-4AA5-AA3B-E824231CE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E7AE-E2AB-4977-BD74-E8F7D7E7A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61C9C-95A5-4E24-BC99-79458817D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8487E-845E-4FA2-8867-88A074B6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997F4-7C1A-44C3-A705-23EF2870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DF84C-9676-4930-8A9C-C20F70BF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4DA89-ECB9-4DF7-931F-778418CF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EECA-460A-47A5-B4F2-1B591345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5B89A-9941-4251-A25B-D4EF3699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B93D1-8435-4DEC-838F-F5BE5103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5C392-0968-40E2-9ED6-5E5CA204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8075E-4A6D-486E-95DC-55D10D6E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D49FB-4A9F-4DF4-A59B-F6E454EE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20D17-9854-4876-8809-0D9F38DDC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AE9E4-895E-4F6C-9D23-9AF14B5B5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044C1-8E24-4CB8-8D1C-730A20FDC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D8AE2-C786-44FB-934A-4D175949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8A152-EC85-4079-B0A2-77112D60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6237-D7F6-4AE0-A739-3E05093B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EA023-4658-41CC-8517-64F53271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A9807-AE6F-4274-8511-1D92140E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280F0-3259-4F16-85A4-CC5FA936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C0848-E7EA-48F6-A7B4-654B5138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6862B-7674-4086-A606-3A56C947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0FC72-2261-49D7-8255-C4FC4593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21903-BC71-4EE0-97DC-EDD854C8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CF95F-44D7-4417-8C98-E02667D4A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E32C3-2FAC-4807-AC18-5773ACDAC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1EBE2-3B9C-4955-B7AE-674044CE5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3184-CD27-443F-8188-BFB1911F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69238-5280-4065-BDC8-089D161F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BAD0C-F64F-404B-90E9-D3EB03D7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D5926-D17B-4D4B-8ADE-CF88A2F4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DA25B-B44B-435E-8EC8-95AF2307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280F2-C60D-487C-ADA8-A3459F0A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227B0-CFEF-4AF9-B128-D33BAD90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07CF2-CCBD-45DC-A3EA-9742AEF3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DF89C-73E5-462E-AC41-DCD17764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B26DB-38A3-4BF1-B8A4-F304F929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2C2D1-4A30-40F6-9E15-70D9FC666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9B9B-9427-4E29-9A9E-9D38A73C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8A306-9BC5-4202-AD5D-09BB41FFF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CA7F4-CCF6-49B6-80F2-04849EEBB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3A65A-C91E-4D0C-B1F8-3A80A550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06EB2-2250-488D-8F97-45E74BFD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3630A-FD13-43CB-8A7A-DECC9CA2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812ED-8B18-4848-A6E5-70854956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B653B-1819-40E0-91B6-BE805044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B73A2-1C3D-43EF-952C-D49346B5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3EAAF-D321-4E7F-9CED-106C3B9E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95662-F7FF-4570-9C0D-BD157813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CE02-268B-4D7E-8F46-8C02DD80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604D6-7C98-4D1E-9347-562BD1B3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5A027-0E02-45BE-A928-2F984445F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B823C-6FBA-46B7-97C5-B67CF49B6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1239-3B6B-4EA9-BE1C-671F3808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D447-D9A7-420A-895F-09485DD3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518efe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0068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bd0d9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20c8f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bd0d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20c8f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bd0d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04617b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bd0d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7cca6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bd0d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a5c24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bd0d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bd0d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bd0d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bd0d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bd0d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9b6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9b6b4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9b6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2EFF-5CB5-4899-95C0-C6FBE842A50D}" type="slidenum">
              <a:rPr b="0" lang="ru-RU" sz="1000" spc="-1" strike="noStrike">
                <a:solidFill>
                  <a:srgbClr val="a9b6b4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b079"/>
            </a:gs>
            <a:gs pos="100000">
              <a:srgbClr val="ffffba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518efe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44" name="Полилиния 7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0068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bd0d9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20c8f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bd0d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20c8f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bd0d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04617b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bd0d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7cca6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bd0d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a5c24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bd0d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bd0d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bd0d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bd0d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bd0d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9b6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9b6b4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9b6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229B-A3AE-4313-91E4-EC77F2B333AF}" type="slidenum">
              <a:rPr b="0" lang="ru-RU" sz="1000" spc="-1" strike="noStrike">
                <a:solidFill>
                  <a:srgbClr val="a9b6b4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b079"/>
            </a:gs>
            <a:gs pos="100000">
              <a:srgbClr val="ffffba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518efe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87" name="Полилиния 8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0068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bd0d9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20c8f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bd0d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20c8f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bd0d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04617b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bd0d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7cca6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bd0d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a5c24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bd0d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bd0d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bd0d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bd0d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bd0d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9b6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9b6b4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9b6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DE3F-57E8-4928-A7A5-1721AC8044F2}" type="slidenum">
              <a:rPr b="0" lang="ru-RU" sz="1000" spc="-1" strike="noStrike">
                <a:solidFill>
                  <a:srgbClr val="a9b6b4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bd0d9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20c8f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bd0d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20c8f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bd0d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04617b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bd0d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7cca6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bd0d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a5c24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bd0d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bd0d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bd0d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bd0d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bd0d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9b6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9b6b4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9b6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61A3-736D-4809-B525-3E802DB3AA9F}" type="slidenum">
              <a:rPr b="0" lang="ru-RU" sz="1000" spc="-1" strike="noStrike">
                <a:solidFill>
                  <a:srgbClr val="a9b6b4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518efe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0068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bd0d9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20c8f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bd0d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20c8f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bd0d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04617b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bd0d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7cca6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bd0d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a5c24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bd0d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bd0d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bd0d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bd0d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bd0d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9b6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9b6b4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9b6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B6AC-1AD5-42E0-ABF4-7709B885DD49}" type="slidenum">
              <a:rPr b="0" lang="ru-RU" sz="1000" spc="-1" strike="noStrike">
                <a:solidFill>
                  <a:srgbClr val="a9b6b4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bd0d9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20c8f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bd0d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20c8f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bd0d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04617b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bd0d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7cca6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bd0d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a5c24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bd0d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bd0d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bd0d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bd0d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bd0d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9b6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9b6b4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9b6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322F-321E-4901-8FA6-44D081D21100}" type="slidenum">
              <a:rPr b="0" lang="ru-RU" sz="1000" spc="-1" strike="noStrike">
                <a:solidFill>
                  <a:srgbClr val="a9b6b4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572080" y="2928960"/>
            <a:ext cx="3054240" cy="1254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0c8f7"/>
                </a:solidFill>
                <a:latin typeface="Franklin Gothic Book"/>
              </a:rPr>
              <a:t>Слова,</a:t>
            </a:r>
            <a:r>
              <a:rPr b="1" lang="en-US" sz="2000" spc="-1" strike="noStrike">
                <a:solidFill>
                  <a:srgbClr val="20c8f7"/>
                </a:solidFill>
                <a:latin typeface="Franklin Gothic Book"/>
              </a:rPr>
              <a:t> </a:t>
            </a:r>
            <a:r>
              <a:rPr b="1" lang="uk-UA" sz="2000" spc="-1" strike="noStrike">
                <a:solidFill>
                  <a:srgbClr val="20c8f7"/>
                </a:solidFill>
                <a:latin typeface="Franklin Gothic Book"/>
              </a:rPr>
              <a:t>слова…Вони такі всі різні…</a:t>
            </a:r>
            <a:br>
              <a:rPr sz="2000"/>
            </a:br>
            <a:r>
              <a:rPr b="1" lang="uk-UA" sz="2000" spc="-1" strike="noStrike">
                <a:solidFill>
                  <a:srgbClr val="20c8f7"/>
                </a:solidFill>
                <a:latin typeface="Franklin Gothic Book"/>
              </a:rPr>
              <a:t>               Свої й чужі, мудрі й смішні,</a:t>
            </a:r>
            <a:br>
              <a:rPr sz="2000"/>
            </a:br>
            <a:r>
              <a:rPr b="1" lang="uk-UA" sz="2000" spc="-1" strike="noStrike">
                <a:solidFill>
                  <a:srgbClr val="20c8f7"/>
                </a:solidFill>
                <a:latin typeface="Franklin Gothic Book"/>
              </a:rPr>
              <a:t>               Потрібні й зайві…</a:t>
            </a:r>
            <a:br>
              <a:rPr sz="2000"/>
            </a:br>
            <a:r>
              <a:rPr b="1" lang="uk-UA" sz="2000" spc="-1" strike="noStrike">
                <a:solidFill>
                  <a:srgbClr val="20c8f7"/>
                </a:solidFill>
                <a:latin typeface="Franklin Gothic Book"/>
              </a:rPr>
              <a:t>               Які з них мої</a:t>
            </a:r>
            <a:br>
              <a:rPr sz="2000"/>
            </a:br>
            <a:endParaRPr b="0" lang="en-US" sz="2000" spc="-1" strike="noStrike">
              <a:solidFill>
                <a:srgbClr val="0bd0d9"/>
              </a:solidFill>
              <a:latin typeface="Franklin Gothic Book"/>
            </a:endParaRPr>
          </a:p>
        </p:txBody>
      </p:sp>
      <p:grpSp>
        <p:nvGrpSpPr>
          <p:cNvPr id="255" name="Рисунок 2"/>
          <p:cNvGrpSpPr/>
          <p:nvPr/>
        </p:nvGrpSpPr>
        <p:grpSpPr>
          <a:xfrm>
            <a:off x="1017720" y="974880"/>
            <a:ext cx="4206600" cy="5445000"/>
            <a:chOff x="1017720" y="974880"/>
            <a:chExt cx="4206600" cy="5445000"/>
          </a:xfrm>
        </p:grpSpPr>
        <p:pic>
          <p:nvPicPr>
            <p:cNvPr id="256" name="Рисунок 2" descr=""/>
            <p:cNvPicPr/>
            <p:nvPr/>
          </p:nvPicPr>
          <p:blipFill>
            <a:blip r:embed="rId1"/>
            <a:stretch/>
          </p:blipFill>
          <p:spPr>
            <a:xfrm>
              <a:off x="1017720" y="974880"/>
              <a:ext cx="4206600" cy="544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1668600" y="1622520"/>
              <a:ext cx="2909880" cy="29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bd0d9"/>
                </a:solidFill>
                <a:latin typeface="Arial"/>
              </a:endParaRPr>
            </a:p>
          </p:txBody>
        </p:sp>
      </p:grpSp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928800" y="1000080"/>
            <a:ext cx="428616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57120" y="23569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>
                <a:solidFill>
                  <a:srgbClr val="0bd0d9"/>
                </a:solidFill>
                <a:latin typeface="Franklin Gothic Book"/>
              </a:rPr>
              <a:t>«Незакінчене речення</a:t>
            </a:r>
            <a:r>
              <a:rPr b="0" lang="en-US" sz="4100" spc="-1" strike="noStrike">
                <a:solidFill>
                  <a:srgbClr val="0bd0d9"/>
                </a:solidFill>
                <a:latin typeface="Franklin Gothic Book"/>
              </a:rPr>
              <a:t>”</a:t>
            </a:r>
            <a:br>
              <a:rPr sz="4100"/>
            </a:br>
            <a:br>
              <a:rPr sz="4100"/>
            </a:br>
            <a:r>
              <a:rPr b="0" lang="uk-UA" sz="3200" spc="-1" strike="noStrike">
                <a:solidFill>
                  <a:srgbClr val="0bd0d9"/>
                </a:solidFill>
                <a:latin typeface="Franklin Gothic Book"/>
              </a:rPr>
              <a:t>На уроці хочу більше дізнатися про</a:t>
            </a:r>
            <a:r>
              <a:rPr b="0" lang="en-US" sz="3200" spc="-1" strike="noStrike">
                <a:solidFill>
                  <a:srgbClr val="0bd0d9"/>
                </a:solidFill>
                <a:latin typeface="Franklin Gothic Book"/>
              </a:rPr>
              <a:t>…</a:t>
            </a:r>
            <a:br>
              <a:rPr sz="3200"/>
            </a:br>
            <a:r>
              <a:rPr b="0" lang="uk-UA" sz="3200" spc="-1" strike="noStrike">
                <a:solidFill>
                  <a:srgbClr val="0bd0d9"/>
                </a:solidFill>
                <a:latin typeface="Franklin Gothic Book"/>
              </a:rPr>
              <a:t>Мені цікаво було б з</a:t>
            </a:r>
            <a:r>
              <a:rPr b="0" lang="ru-RU" sz="3200" spc="-1" strike="noStrike">
                <a:solidFill>
                  <a:srgbClr val="0bd0d9"/>
                </a:solidFill>
                <a:latin typeface="Franklin Gothic Book"/>
              </a:rPr>
              <a:t>’</a:t>
            </a:r>
            <a:r>
              <a:rPr b="0" lang="uk-UA" sz="3200" spc="-1" strike="noStrike">
                <a:solidFill>
                  <a:srgbClr val="0bd0d9"/>
                </a:solidFill>
                <a:latin typeface="Franklin Gothic Book"/>
              </a:rPr>
              <a:t>ясуват</a:t>
            </a:r>
            <a:r>
              <a:rPr b="0" lang="ru-RU" sz="3200" spc="-1" strike="noStrike">
                <a:solidFill>
                  <a:srgbClr val="0bd0d9"/>
                </a:solidFill>
                <a:latin typeface="Franklin Gothic Book"/>
              </a:rPr>
              <a:t>и…</a:t>
            </a:r>
            <a:br>
              <a:rPr sz="3200"/>
            </a:br>
            <a:r>
              <a:rPr b="0" lang="uk-UA" sz="3200" spc="-1" strike="noStrike">
                <a:solidFill>
                  <a:srgbClr val="0bd0d9"/>
                </a:solidFill>
                <a:latin typeface="Franklin Gothic Book"/>
              </a:rPr>
              <a:t>Маю намір поліпшити знання…</a:t>
            </a:r>
            <a:br>
              <a:rPr sz="3200"/>
            </a:br>
            <a:r>
              <a:rPr b="0" lang="uk-UA" sz="3200" spc="-1" strike="noStrike">
                <a:solidFill>
                  <a:srgbClr val="0bd0d9"/>
                </a:solidFill>
                <a:latin typeface="Franklin Gothic Book"/>
              </a:rPr>
              <a:t>Я хочу досягти успіхів… </a:t>
            </a:r>
            <a:br>
              <a:rPr sz="3200"/>
            </a:br>
            <a:endParaRPr b="0" lang="en-US" sz="3200" spc="-1" strike="noStrike">
              <a:solidFill>
                <a:srgbClr val="0bd0d9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556240" y="1704960"/>
            <a:ext cx="3054240" cy="1254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0c8f7"/>
                </a:solidFill>
                <a:latin typeface="Franklin Gothic Book"/>
              </a:rPr>
              <a:t>З</a:t>
            </a:r>
            <a:r>
              <a:rPr b="1" lang="ru-RU" sz="2800" spc="-1" strike="noStrike">
                <a:solidFill>
                  <a:srgbClr val="20c8f7"/>
                </a:solidFill>
                <a:latin typeface="Franklin Gothic Book"/>
              </a:rPr>
              <a:t>’</a:t>
            </a:r>
            <a:r>
              <a:rPr b="1" lang="uk-UA" sz="2800" spc="-1" strike="noStrike">
                <a:solidFill>
                  <a:srgbClr val="20c8f7"/>
                </a:solidFill>
                <a:latin typeface="Franklin Gothic Book"/>
              </a:rPr>
              <a:t>ясуйте лексичне значення даних слів</a:t>
            </a:r>
            <a:endParaRPr b="0" lang="en-US" sz="2800" spc="-1" strike="noStrike">
              <a:solidFill>
                <a:srgbClr val="0bd0d9"/>
              </a:solidFill>
              <a:latin typeface="Franklin Gothic Book"/>
            </a:endParaRPr>
          </a:p>
        </p:txBody>
      </p:sp>
      <p:grpSp>
        <p:nvGrpSpPr>
          <p:cNvPr id="261" name="Рисунок 2"/>
          <p:cNvGrpSpPr/>
          <p:nvPr/>
        </p:nvGrpSpPr>
        <p:grpSpPr>
          <a:xfrm>
            <a:off x="1017720" y="974880"/>
            <a:ext cx="4206600" cy="5445000"/>
            <a:chOff x="1017720" y="974880"/>
            <a:chExt cx="4206600" cy="5445000"/>
          </a:xfrm>
        </p:grpSpPr>
        <p:pic>
          <p:nvPicPr>
            <p:cNvPr id="262" name="Рисунок 2" descr=""/>
            <p:cNvPicPr/>
            <p:nvPr/>
          </p:nvPicPr>
          <p:blipFill>
            <a:blip r:embed="rId1"/>
            <a:stretch/>
          </p:blipFill>
          <p:spPr>
            <a:xfrm>
              <a:off x="1017720" y="974880"/>
              <a:ext cx="4206600" cy="544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668600" y="1622520"/>
              <a:ext cx="2909880" cy="29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bd0d9"/>
                </a:solidFill>
                <a:latin typeface="Arial"/>
              </a:endParaRPr>
            </a:p>
          </p:txBody>
        </p:sp>
      </p:grp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556240" y="2998440"/>
            <a:ext cx="3054240" cy="266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bd0d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bd0d9"/>
                </a:solidFill>
                <a:latin typeface="Arial"/>
              </a:rPr>
              <a:t>Левада,кетяг, плеяда, сленг, долар, бейсбол, ралі.</a:t>
            </a:r>
            <a:endParaRPr b="0" lang="en-US" sz="2400" spc="-1" strike="noStrike">
              <a:solidFill>
                <a:srgbClr val="0bd0d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d0d9"/>
              </a:solidFill>
              <a:latin typeface="Arial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2"/>
          <a:stretch/>
        </p:blipFill>
        <p:spPr>
          <a:xfrm>
            <a:off x="642960" y="1071720"/>
            <a:ext cx="4737240" cy="41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e6ff"/>
            </a:gs>
            <a:gs pos="100000">
              <a:srgbClr val="dbf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28760" y="171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uk-UA" sz="3200" spc="-1" strike="noStrike">
                <a:solidFill>
                  <a:srgbClr val="0070c0"/>
                </a:solidFill>
                <a:latin typeface="Franklin Gothic Book"/>
              </a:rPr>
              <a:t>Прочитайте речення. Що ви можете сказати про походження виділених слів?Пояснити їхнє лексичне значення.</a:t>
            </a:r>
            <a:br>
              <a:rPr sz="1800"/>
            </a:br>
            <a:r>
              <a:rPr b="0" lang="uk-UA" sz="1800" spc="-1" strike="noStrike">
                <a:solidFill>
                  <a:srgbClr val="0070c0"/>
                </a:solidFill>
                <a:latin typeface="Franklin Gothic Book"/>
              </a:rPr>
              <a:t> </a:t>
            </a:r>
            <a:br>
              <a:rPr sz="1800"/>
            </a:br>
            <a:br>
              <a:rPr sz="1800"/>
            </a:br>
            <a:r>
              <a:rPr b="0" lang="uk-UA" sz="2800" spc="-1" strike="noStrike">
                <a:solidFill>
                  <a:srgbClr val="0070c0"/>
                </a:solidFill>
                <a:latin typeface="Franklin Gothic Book"/>
              </a:rPr>
              <a:t>Бринить бджола і джміль гуде,у </a:t>
            </a:r>
            <a:r>
              <a:rPr b="1" lang="uk-UA" sz="2800" spc="-1" strike="noStrike">
                <a:solidFill>
                  <a:srgbClr val="0070c0"/>
                </a:solidFill>
                <a:latin typeface="Franklin Gothic Book"/>
              </a:rPr>
              <a:t>гай</a:t>
            </a:r>
            <a:r>
              <a:rPr b="0" lang="uk-UA" sz="2800" spc="-1" strike="noStrike">
                <a:solidFill>
                  <a:srgbClr val="0070c0"/>
                </a:solidFill>
                <a:latin typeface="Franklin Gothic Book"/>
              </a:rPr>
              <a:t> по ряст дівчатко йде (В.Бендюг).</a:t>
            </a:r>
            <a:br>
              <a:rPr sz="2800"/>
            </a:br>
            <a:r>
              <a:rPr b="0" lang="uk-UA" sz="2800" spc="-1" strike="noStrike">
                <a:solidFill>
                  <a:srgbClr val="0070c0"/>
                </a:solidFill>
                <a:latin typeface="Franklin Gothic Book"/>
              </a:rPr>
              <a:t>Ще голубим крилом </a:t>
            </a:r>
            <a:r>
              <a:rPr b="1" lang="uk-UA" sz="2800" spc="-1" strike="noStrike">
                <a:solidFill>
                  <a:srgbClr val="0070c0"/>
                </a:solidFill>
                <a:latin typeface="Franklin Gothic Book"/>
              </a:rPr>
              <a:t>леліє</a:t>
            </a:r>
            <a:r>
              <a:rPr b="0" lang="uk-UA" sz="2800" spc="-1" strike="noStrike">
                <a:solidFill>
                  <a:srgbClr val="0070c0"/>
                </a:solidFill>
                <a:latin typeface="Franklin Gothic Book"/>
              </a:rPr>
              <a:t> тепла днина (І.Москаленко).</a:t>
            </a:r>
            <a:br>
              <a:rPr sz="2800"/>
            </a:br>
            <a:r>
              <a:rPr b="0" lang="uk-UA" sz="2800" spc="-1" strike="noStrike">
                <a:solidFill>
                  <a:srgbClr val="0070c0"/>
                </a:solidFill>
                <a:latin typeface="Franklin Gothic Book"/>
              </a:rPr>
              <a:t>В </a:t>
            </a:r>
            <a:r>
              <a:rPr b="1" lang="uk-UA" sz="2800" spc="-1" strike="noStrike">
                <a:solidFill>
                  <a:srgbClr val="0070c0"/>
                </a:solidFill>
                <a:latin typeface="Franklin Gothic Book"/>
              </a:rPr>
              <a:t>плесі</a:t>
            </a:r>
            <a:r>
              <a:rPr b="0" lang="uk-UA" sz="2800" spc="-1" strike="noStrike">
                <a:solidFill>
                  <a:srgbClr val="0070c0"/>
                </a:solidFill>
                <a:latin typeface="Franklin Gothic Book"/>
              </a:rPr>
              <a:t> тихого смеркання човнярі човни лаштують (П.Осадчук).</a:t>
            </a:r>
            <a:br>
              <a:rPr sz="2800"/>
            </a:br>
            <a:r>
              <a:rPr b="1" lang="uk-UA" sz="2800" spc="-1" strike="noStrike">
                <a:solidFill>
                  <a:srgbClr val="0070c0"/>
                </a:solidFill>
                <a:latin typeface="Franklin Gothic Book"/>
              </a:rPr>
              <a:t>«Нескафе»</a:t>
            </a:r>
            <a:r>
              <a:rPr b="0" lang="uk-UA" sz="2800" spc="-1" strike="noStrike">
                <a:solidFill>
                  <a:srgbClr val="0070c0"/>
                </a:solidFill>
                <a:latin typeface="Franklin Gothic Book"/>
              </a:rPr>
              <a:t> бадьорить зранку і </a:t>
            </a:r>
            <a:r>
              <a:rPr b="1" lang="uk-UA" sz="2800" spc="-1" strike="noStrike">
                <a:solidFill>
                  <a:srgbClr val="0070c0"/>
                </a:solidFill>
                <a:latin typeface="Franklin Gothic Book"/>
              </a:rPr>
              <a:t>бентежить </a:t>
            </a:r>
            <a:r>
              <a:rPr b="0" lang="uk-UA" sz="2800" spc="-1" strike="noStrike">
                <a:solidFill>
                  <a:srgbClr val="0070c0"/>
                </a:solidFill>
                <a:latin typeface="Franklin Gothic Book"/>
              </a:rPr>
              <a:t>серце нам (З реклами).</a:t>
            </a:r>
            <a:br>
              <a:rPr sz="2800"/>
            </a:br>
            <a:endParaRPr b="0" lang="en-US" sz="2800" spc="-1" strike="noStrike">
              <a:solidFill>
                <a:srgbClr val="0bd0d9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572080" y="785520"/>
            <a:ext cx="3054240" cy="125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70c0"/>
                </a:solidFill>
                <a:latin typeface="Franklin Gothic Book"/>
              </a:rPr>
              <a:t>Розподіліть слова в дві колонки - іншомовні та українські</a:t>
            </a:r>
            <a:endParaRPr b="0" lang="en-US" sz="20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428800" y="2357280"/>
            <a:ext cx="3125880" cy="266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70c0"/>
                </a:solidFill>
                <a:latin typeface="Arial"/>
              </a:rPr>
              <a:t>Батьківщина,університет,добро,юрист,син,театр,</a:t>
            </a:r>
            <a:endParaRPr b="0" lang="en-US" sz="2000" spc="-1" strike="noStrike">
              <a:solidFill>
                <a:srgbClr val="0bd0d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70c0"/>
                </a:solidFill>
                <a:latin typeface="Arial"/>
              </a:rPr>
              <a:t>береза,левада,дуб,</a:t>
            </a:r>
            <a:endParaRPr b="0" lang="en-US" sz="2000" spc="-1" strike="noStrike">
              <a:solidFill>
                <a:srgbClr val="0bd0d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70c0"/>
                </a:solidFill>
                <a:latin typeface="Arial"/>
              </a:rPr>
              <a:t>новела,батько,автомат,</a:t>
            </a:r>
            <a:endParaRPr b="0" lang="en-US" sz="2000" spc="-1" strike="noStrike">
              <a:solidFill>
                <a:srgbClr val="0bd0d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70c0"/>
                </a:solidFill>
                <a:latin typeface="Arial"/>
              </a:rPr>
              <a:t>іслам.</a:t>
            </a:r>
            <a:endParaRPr b="0" lang="en-US" sz="2000" spc="-1" strike="noStrike">
              <a:solidFill>
                <a:srgbClr val="0bd0d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bd0d9"/>
              </a:solidFill>
              <a:latin typeface="Arial"/>
            </a:endParaRPr>
          </a:p>
        </p:txBody>
      </p:sp>
      <p:pic>
        <p:nvPicPr>
          <p:cNvPr id="269" name="Picture 2" descr="http://im8-tub-ua.yandex.net/i?id=158220199-15-72&amp;n=21"/>
          <p:cNvPicPr/>
          <p:nvPr/>
        </p:nvPicPr>
        <p:blipFill>
          <a:blip r:embed="rId1"/>
          <a:stretch/>
        </p:blipFill>
        <p:spPr>
          <a:xfrm>
            <a:off x="1017720" y="974880"/>
            <a:ext cx="42066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>
                <a:solidFill>
                  <a:srgbClr val="0070c0"/>
                </a:solidFill>
                <a:latin typeface="Franklin Gothic Book"/>
              </a:rPr>
              <a:t>Установити відповідність між лексичним значенням та словом </a:t>
            </a:r>
            <a:endParaRPr b="0" lang="en-US" sz="4100" spc="-1" strike="noStrike">
              <a:solidFill>
                <a:srgbClr val="0bd0d9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403992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1)Диспут                                      </a:t>
            </a:r>
            <a:endParaRPr b="0" lang="en-US" sz="2400" spc="-1" strike="noStrike">
              <a:solidFill>
                <a:srgbClr val="0bd0d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2)Епітет</a:t>
            </a:r>
            <a:endParaRPr b="0" lang="en-US" sz="2400" spc="-1" strike="noStrike">
              <a:solidFill>
                <a:srgbClr val="0bd0d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3)Імпровізація</a:t>
            </a:r>
            <a:endParaRPr b="0" lang="en-US" sz="2400" spc="-1" strike="noStrike">
              <a:solidFill>
                <a:srgbClr val="0bd0d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4)Репертуар</a:t>
            </a:r>
            <a:endParaRPr b="0" lang="en-US" sz="2400" spc="-1" strike="noStrike">
              <a:solidFill>
                <a:srgbClr val="0bd0d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d0d9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714480" y="1857240"/>
            <a:ext cx="514332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А) Визначення,що додається до назви особи,предмета, явища, поняття з метою надання йому художньої виразності,поетичної яскравості.</a:t>
            </a:r>
            <a:endParaRPr b="0" lang="en-US" sz="2400" spc="-1" strike="noStrike">
              <a:solidFill>
                <a:srgbClr val="0bd0d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Б)Прилюдне обговорення наукових, літературних та інших тем.</a:t>
            </a:r>
            <a:endParaRPr b="0" lang="en-US" sz="2400" spc="-1" strike="noStrike">
              <a:solidFill>
                <a:srgbClr val="0bd0d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В)Сукупність творів, що виконується в театрі, на естраді</a:t>
            </a:r>
            <a:endParaRPr b="0" lang="en-US" sz="2400" spc="-1" strike="noStrike">
              <a:solidFill>
                <a:srgbClr val="0bd0d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Г)Складання віршів, музики під час виконання, без підготовки.</a:t>
            </a:r>
            <a:endParaRPr b="0" lang="en-US" sz="2400" spc="-1" strike="noStrike">
              <a:solidFill>
                <a:srgbClr val="0bd0d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d0d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1T18:09:35Z</dcterms:created>
  <dc:creator>Admin</dc:creator>
  <dc:description/>
  <dc:language>en-US</dc:language>
  <cp:lastModifiedBy>Admin</cp:lastModifiedBy>
  <dcterms:modified xsi:type="dcterms:W3CDTF">2013-10-14T08:42:42Z</dcterms:modified>
  <cp:revision>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00a000000000001024140</vt:lpwstr>
  </property>
</Properties>
</file>