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274-F9ED-4147-A42F-A008361E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150-2362-49B7-9923-F977058E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7D9-4620-49F9-A29A-3DBA3790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2E6-B3DC-4380-8408-4C7B5FC5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EB94-9989-4E42-8A13-BA173505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1A08-29BA-48CD-B867-9F3D7F30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70C0-F2C4-4375-9724-CBC7EA80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0881-93CC-4972-93F1-DB6B37D3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5D2E-4D83-447E-9CB5-4BFC9B76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21B8-4D44-44A6-92FA-1C841C2D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8E90-6822-40E1-9DE2-AE5B7E2B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A7D-794B-448A-A9D2-99DD0B58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FDBA-2B54-4952-A09E-29249E91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22DC-A65F-49D0-B55E-93713DF6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D88E-EF0B-4EE5-A54F-D89626A7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0838-F11C-4F1C-BDD0-C11F2F35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716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5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D898-6E81-47AD-9505-58CF65E7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618-3EF4-4FA7-B079-245E2120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C10-5C47-40E9-8E4A-4989C324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0CD-F95A-48B4-9157-EC512247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640" y="274320"/>
            <a:ext cx="792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C26-77AE-45B3-9EC4-3272D57F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1FF-41A1-40F0-9DA9-827C5671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0640" y="396432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63F-9C89-4D35-B865-68ABA80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0640" y="1600200"/>
            <a:ext cx="386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640" y="3964320"/>
            <a:ext cx="7921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BFC-54D5-4162-8B73-43268676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244920"/>
            <a:ext cx="201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3640" y="6244920"/>
            <a:ext cx="425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31000" y="624492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5EDA-2B16-4E46-B50F-84AD9ED68B93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4"/>
          <p:cNvGrpSpPr/>
          <p:nvPr/>
        </p:nvGrpSpPr>
        <p:grpSpPr>
          <a:xfrm>
            <a:off x="-36360" y="2409840"/>
            <a:ext cx="1008000" cy="4447440"/>
            <a:chOff x="-36360" y="2409840"/>
            <a:chExt cx="1008000" cy="4447440"/>
          </a:xfrm>
        </p:grpSpPr>
        <p:grpSp>
          <p:nvGrpSpPr>
            <p:cNvPr id="6" name="Group 13"/>
            <p:cNvGrpSpPr/>
            <p:nvPr/>
          </p:nvGrpSpPr>
          <p:grpSpPr>
            <a:xfrm>
              <a:off x="-36360" y="3481200"/>
              <a:ext cx="1008000" cy="3376080"/>
              <a:chOff x="-36360" y="3481200"/>
              <a:chExt cx="1008000" cy="3376080"/>
            </a:xfrm>
          </p:grpSpPr>
          <p:pic>
            <p:nvPicPr>
              <p:cNvPr id="7" name="Picture 8" descr="267"/>
              <p:cNvPicPr/>
              <p:nvPr/>
            </p:nvPicPr>
            <p:blipFill>
              <a:blip r:embed="rId2"/>
              <a:stretch/>
            </p:blipFill>
            <p:spPr>
              <a:xfrm>
                <a:off x="-36360" y="5740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Picture 9" descr="230"/>
              <p:cNvPicPr/>
              <p:nvPr/>
            </p:nvPicPr>
            <p:blipFill>
              <a:blip r:embed="rId3"/>
              <a:stretch/>
            </p:blipFill>
            <p:spPr>
              <a:xfrm>
                <a:off x="-36360" y="425340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Picture 10" descr="232"/>
              <p:cNvPicPr/>
              <p:nvPr/>
            </p:nvPicPr>
            <p:blipFill>
              <a:blip r:embed="rId4"/>
              <a:stretch/>
            </p:blipFill>
            <p:spPr>
              <a:xfrm>
                <a:off x="-36360" y="490788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1" descr="233"/>
              <p:cNvPicPr/>
              <p:nvPr/>
            </p:nvPicPr>
            <p:blipFill>
              <a:blip r:embed="rId5"/>
              <a:stretch/>
            </p:blipFill>
            <p:spPr>
              <a:xfrm>
                <a:off x="-36360" y="348120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" name="Picture 12" descr="266"/>
            <p:cNvPicPr/>
            <p:nvPr/>
          </p:nvPicPr>
          <p:blipFill>
            <a:blip r:embed="rId6"/>
            <a:stretch/>
          </p:blipFill>
          <p:spPr>
            <a:xfrm>
              <a:off x="-36360" y="240984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" name="Group 15"/>
          <p:cNvGrpSpPr/>
          <p:nvPr/>
        </p:nvGrpSpPr>
        <p:grpSpPr>
          <a:xfrm>
            <a:off x="0" y="0"/>
            <a:ext cx="1008000" cy="4447440"/>
            <a:chOff x="0" y="0"/>
            <a:chExt cx="1008000" cy="4447440"/>
          </a:xfrm>
        </p:grpSpPr>
        <p:grpSp>
          <p:nvGrpSpPr>
            <p:cNvPr id="13" name="Group 16"/>
            <p:cNvGrpSpPr/>
            <p:nvPr/>
          </p:nvGrpSpPr>
          <p:grpSpPr>
            <a:xfrm>
              <a:off x="0" y="1071360"/>
              <a:ext cx="1008000" cy="3376080"/>
              <a:chOff x="0" y="1071360"/>
              <a:chExt cx="1008000" cy="3376080"/>
            </a:xfrm>
          </p:grpSpPr>
          <p:pic>
            <p:nvPicPr>
              <p:cNvPr id="14" name="Picture 17" descr="267"/>
              <p:cNvPicPr/>
              <p:nvPr/>
            </p:nvPicPr>
            <p:blipFill>
              <a:blip r:embed="rId7"/>
              <a:stretch/>
            </p:blipFill>
            <p:spPr>
              <a:xfrm>
                <a:off x="0" y="3330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8" descr="230"/>
              <p:cNvPicPr/>
              <p:nvPr/>
            </p:nvPicPr>
            <p:blipFill>
              <a:blip r:embed="rId8"/>
              <a:stretch/>
            </p:blipFill>
            <p:spPr>
              <a:xfrm>
                <a:off x="0" y="1843560"/>
                <a:ext cx="1008000" cy="11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9" descr="232"/>
              <p:cNvPicPr/>
              <p:nvPr/>
            </p:nvPicPr>
            <p:blipFill>
              <a:blip r:embed="rId9"/>
              <a:stretch/>
            </p:blipFill>
            <p:spPr>
              <a:xfrm>
                <a:off x="0" y="249804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20" descr="233"/>
              <p:cNvPicPr/>
              <p:nvPr/>
            </p:nvPicPr>
            <p:blipFill>
              <a:blip r:embed="rId10"/>
              <a:stretch/>
            </p:blipFill>
            <p:spPr>
              <a:xfrm>
                <a:off x="0" y="1071360"/>
                <a:ext cx="1008000" cy="111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" name="Picture 21" descr="266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1008000" cy="1117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232"/>
          <p:cNvPicPr/>
          <p:nvPr/>
        </p:nvPicPr>
        <p:blipFill>
          <a:blip r:embed="rId2"/>
          <a:stretch/>
        </p:blipFill>
        <p:spPr>
          <a:xfrm rot="16634400">
            <a:off x="6833880" y="21024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94DA-D395-4F58-838D-BBEA239F33D3}" type="slidenum">
              <a:rPr b="1" lang="ru-RU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хема 4" descr=""/>
          <p:cNvPicPr/>
          <p:nvPr/>
        </p:nvPicPr>
        <p:blipFill>
          <a:blip r:embed="rId1"/>
          <a:stretch/>
        </p:blipFill>
        <p:spPr>
          <a:xfrm>
            <a:off x="414360" y="2266920"/>
            <a:ext cx="7912080" cy="1927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C:\Documents and Settings\андрей\Мои документы\школьная тематика\22.jpeg"/>
          <p:cNvPicPr/>
          <p:nvPr/>
        </p:nvPicPr>
        <p:blipFill>
          <a:blip r:embed="rId2"/>
          <a:stretch/>
        </p:blipFill>
        <p:spPr>
          <a:xfrm>
            <a:off x="500040" y="4143240"/>
            <a:ext cx="2143080" cy="263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Documents and Settings\Администратор\Рабочий стол\урок\ызкфсрк\thumb_400_1234436707.jpg"/>
          <p:cNvPicPr/>
          <p:nvPr/>
        </p:nvPicPr>
        <p:blipFill>
          <a:blip r:embed="rId3"/>
          <a:stretch/>
        </p:blipFill>
        <p:spPr>
          <a:xfrm>
            <a:off x="7143840" y="21420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3300"/>
                </a:solidFill>
                <a:latin typeface="Georgia"/>
              </a:rPr>
              <a:t> </a:t>
            </a:r>
            <a:br>
              <a:rPr sz="4400"/>
            </a:br>
            <a:br>
              <a:rPr sz="4400"/>
            </a:br>
            <a:r>
              <a:rPr b="1" lang="uk-UA" sz="2800" spc="-1" strike="noStrike">
                <a:solidFill>
                  <a:srgbClr val="cc3300"/>
                </a:solidFill>
                <a:latin typeface="Garamond"/>
              </a:rPr>
              <a:t>Випишіть з тексту додатки і</a:t>
            </a:r>
            <a:br>
              <a:rPr sz="2800"/>
            </a:br>
            <a:r>
              <a:rPr b="1" lang="uk-UA" sz="2800" spc="-1" strike="noStrike">
                <a:solidFill>
                  <a:srgbClr val="cc3300"/>
                </a:solidFill>
                <a:latin typeface="Garamond"/>
              </a:rPr>
              <a:t> розберіть їх за поданою схемою</a:t>
            </a:r>
            <a:br>
              <a:rPr sz="2800"/>
            </a:br>
            <a:r>
              <a:rPr b="1" lang="uk-UA" sz="2800" spc="-1" strike="noStrike">
                <a:solidFill>
                  <a:srgbClr val="cc3300"/>
                </a:solidFill>
                <a:latin typeface="Garamond"/>
              </a:rPr>
              <a:t> 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28800" y="4000680"/>
          <a:ext cx="6858000" cy="22953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ода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ід як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лова залежи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я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ит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ідповідає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Якою частиною мови вираже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одат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Хліб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ах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Чим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Іменни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епрям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37" name="Picture 1" descr="C:\Documents and Settings\андрей\Мои документы\Діти і школа\1191269172_c4124.jpg"/>
          <p:cNvPicPr/>
          <p:nvPr/>
        </p:nvPicPr>
        <p:blipFill>
          <a:blip r:embed="rId1"/>
          <a:stretch/>
        </p:blipFill>
        <p:spPr>
          <a:xfrm>
            <a:off x="7929720" y="4857840"/>
            <a:ext cx="1039680" cy="16365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785880" y="15786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ідна м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кожного народу рідна мова найдорожча. Народ самовиражається в мові. Свої думки люди оформлюють за допомогою слів.. Нащадкам передається любов до народу. Народ дає мові силу й красу. Він у піснях творить зразки  поезії. Мова об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ʹ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єднує людей у національну спільноту. Рідна мова є основою родоводу, єднає рід і сі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ю ( З журналу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i="1" lang="uk-UA" sz="1800" spc="-1" strike="noStrike">
                <a:solidFill>
                  <a:srgbClr val="cc3300"/>
                </a:solidFill>
                <a:latin typeface="Garamond"/>
              </a:rPr>
              <a:t>Змоделювати прислів'я і приказки,</a:t>
            </a:r>
            <a:br>
              <a:rPr sz="1800"/>
            </a:br>
            <a:r>
              <a:rPr b="1" i="1" lang="uk-UA" sz="1800" spc="-1" strike="noStrike">
                <a:solidFill>
                  <a:srgbClr val="cc3300"/>
                </a:solidFill>
                <a:latin typeface="Garamond"/>
              </a:rPr>
              <a:t> дібравши їх продовження з другого стовпчика. </a:t>
            </a:r>
            <a:br>
              <a:rPr sz="1800"/>
            </a:br>
            <a:r>
              <a:rPr b="1" i="1" lang="uk-UA" sz="1800" spc="-1" strike="noStrike">
                <a:solidFill>
                  <a:srgbClr val="cc3300"/>
                </a:solidFill>
                <a:latin typeface="Garamond"/>
              </a:rPr>
              <a:t>Записати вислови. Виділити в них додатки, визначити спосіб їх вираження.</a:t>
            </a:r>
            <a:br>
              <a:rPr sz="1800"/>
            </a:br>
            <a:r>
              <a:rPr b="1" i="1" lang="uk-UA" sz="4400" spc="-1" strike="noStrike">
                <a:solidFill>
                  <a:srgbClr val="0033cc"/>
                </a:solidFill>
                <a:latin typeface="Georgi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08680" y="1600200"/>
            <a:ext cx="388440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…</a:t>
            </a: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..той щастя не має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...а нещастя повертає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…</a:t>
            </a: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у сорочці родився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…</a:t>
            </a: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чия доля не спить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…</a:t>
            </a: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той і щастя не зазнає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…</a:t>
            </a: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не власкаєш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…</a:t>
            </a:r>
            <a:r>
              <a:rPr b="1" lang="uk-UA" sz="1800" spc="-1" strike="noStrike">
                <a:solidFill>
                  <a:srgbClr val="002060"/>
                </a:solidFill>
                <a:latin typeface="Garamond"/>
              </a:rPr>
              <a:t>не об'їдеш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640" y="1600200"/>
            <a:ext cx="388440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aramond"/>
              </a:rPr>
              <a:t> </a:t>
            </a:r>
            <a:r>
              <a:rPr b="1" lang="uk-UA" sz="1800" spc="-1" strike="noStrike">
                <a:solidFill>
                  <a:srgbClr val="0033cc"/>
                </a:solidFill>
                <a:latin typeface="Garamond"/>
              </a:rPr>
              <a:t>Щастя розум одбирає…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Garamond"/>
              </a:rPr>
              <a:t>Хто горя не бачив,...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Garamond"/>
              </a:rPr>
              <a:t>Хто доброго чоловіка минає,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Garamond"/>
              </a:rPr>
              <a:t>Добре тому жить,...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Garamond"/>
              </a:rPr>
              <a:t> </a:t>
            </a:r>
            <a:r>
              <a:rPr b="1" lang="uk-UA" sz="1800" spc="-1" strike="noStrike">
                <a:solidFill>
                  <a:srgbClr val="0033cc"/>
                </a:solidFill>
                <a:latin typeface="Garamond"/>
              </a:rPr>
              <a:t>Щасливий, …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Garamond"/>
              </a:rPr>
              <a:t>Долі й конем...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Garamond"/>
              </a:rPr>
              <a:t>Долі скаргами…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2" name="Picture 2" descr="C:\Documents and Settings\андрей\Мои документы\Діти і школа\1864208.jpg"/>
          <p:cNvPicPr/>
          <p:nvPr/>
        </p:nvPicPr>
        <p:blipFill>
          <a:blip r:embed="rId1"/>
          <a:stretch/>
        </p:blipFill>
        <p:spPr>
          <a:xfrm>
            <a:off x="7358040" y="4357800"/>
            <a:ext cx="14191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99720" y="1600200"/>
            <a:ext cx="789300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Щастя розум одбирає,</a:t>
            </a: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 а нещастя повертає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Хто горя не бачив, </a:t>
            </a: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той щастя не має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Хто доброго чоловіка минає, </a:t>
            </a: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той і щастя не зазнає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Добре тому жить, </a:t>
            </a: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чия доля не спить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Щасливий,</a:t>
            </a: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 у сорочці родився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Долі й конем </a:t>
            </a: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не об'їдеш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Долі скаргами </a:t>
            </a:r>
            <a:r>
              <a:rPr b="1" lang="uk-UA" sz="2400" spc="-1" strike="noStrike">
                <a:solidFill>
                  <a:srgbClr val="002060"/>
                </a:solidFill>
                <a:latin typeface="Garamond"/>
              </a:rPr>
              <a:t>не власкаєш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cc3300"/>
                </a:solidFill>
                <a:latin typeface="Garamond"/>
              </a:rPr>
              <a:t>Конкурс «Творчий»</a:t>
            </a:r>
            <a:br>
              <a:rPr sz="4000"/>
            </a:br>
            <a:r>
              <a:rPr b="1" lang="uk-UA" sz="4000" spc="-1" strike="noStrike">
                <a:solidFill>
                  <a:srgbClr val="cc3300"/>
                </a:solidFill>
                <a:latin typeface="Garamond"/>
              </a:rPr>
              <a:t> Робота в парах</a:t>
            </a:r>
            <a:br>
              <a:rPr sz="4000"/>
            </a:br>
            <a:r>
              <a:rPr b="1" lang="uk-UA" sz="44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28840" y="1999800"/>
            <a:ext cx="6858000" cy="214308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ff"/>
                </a:solidFill>
                <a:latin typeface="Garamond"/>
              </a:rPr>
              <a:t>Побудуйте діалог, на тему “Україна – наш спільний дім”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6" name="Picture 1" descr="C:\Documents and Settings\андрей\Мои документы\Діти і школа\0f32bd9346b0.png"/>
          <p:cNvPicPr/>
          <p:nvPr/>
        </p:nvPicPr>
        <p:blipFill>
          <a:blip r:embed="rId1"/>
          <a:stretch/>
        </p:blipFill>
        <p:spPr>
          <a:xfrm>
            <a:off x="17216280" y="-8786880"/>
            <a:ext cx="2262240" cy="12985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C:\Documents and Settings\андрей\Мои документы\Діти і школа\0f32bd9346b0.png"/>
          <p:cNvPicPr/>
          <p:nvPr/>
        </p:nvPicPr>
        <p:blipFill>
          <a:blip r:embed="rId2"/>
          <a:stretch/>
        </p:blipFill>
        <p:spPr>
          <a:xfrm>
            <a:off x="6429240" y="4357800"/>
            <a:ext cx="20624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C:\Documents and Settings\андрей\Мои документы\Діти і школа\25231408.jpg"/>
          <p:cNvPicPr/>
          <p:nvPr/>
        </p:nvPicPr>
        <p:blipFill>
          <a:blip r:embed="rId1"/>
          <a:stretch/>
        </p:blipFill>
        <p:spPr>
          <a:xfrm>
            <a:off x="7500960" y="2928960"/>
            <a:ext cx="1643040" cy="36432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33cc"/>
                </a:solidFill>
                <a:latin typeface="Georgia"/>
              </a:rPr>
              <a:t>Підсумок уроку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640" y="160020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Garamond"/>
              </a:rPr>
              <a:t>Технологія «Мікрофон»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aramond"/>
              </a:rPr>
              <a:t>Сьогодні на уроці я дізнався…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aramond"/>
              </a:rPr>
              <a:t>Я зрозумів….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aramond"/>
              </a:rPr>
              <a:t>Я вивчив……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aramond"/>
              </a:rPr>
              <a:t>Мене здивувало…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aramond"/>
              </a:rPr>
              <a:t>Я збагатився інформацією про….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aramond"/>
              </a:rPr>
              <a:t>Тепер я знаю……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Garamond"/>
              </a:rPr>
              <a:t>Пояснення д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омашн</a:t>
            </a:r>
            <a:r>
              <a:rPr b="1" lang="uk-UA" sz="2800" spc="-1" strike="noStrike">
                <a:solidFill>
                  <a:srgbClr val="000000"/>
                </a:solidFill>
                <a:latin typeface="Garamond"/>
              </a:rPr>
              <a:t>ього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завдання</a:t>
            </a:r>
            <a:br>
              <a:rPr sz="2800"/>
            </a:br>
            <a:r>
              <a:rPr b="1" lang="uk-UA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Garamond"/>
              </a:rPr>
              <a:t>Диференційоване завдання</a:t>
            </a:r>
            <a:br>
              <a:rPr sz="2800"/>
            </a:br>
            <a:r>
              <a:rPr b="1" lang="uk-UA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71640" y="1600200"/>
            <a:ext cx="388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1 гр. знайдіть та запишіть прислів’я чи приказки  про книги, підкресліть додатки, дайте їм повну характеристику. § 12 ( вивчити правила)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2 гр. вправа з підручника № 123 §12 (вивчити правила)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3 гр. написати творчу роботу «  Мої роздуми про українську мову» §12 (вивчити правила)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3" name="Picture 3" descr="D:\Documents and Settings\Администратор\Рабочий стол\урок\ызкфсрк\thumb_400_1234436707.jpg"/>
          <p:cNvPicPr/>
          <p:nvPr/>
        </p:nvPicPr>
        <p:blipFill>
          <a:blip r:embed="rId1"/>
          <a:stretch/>
        </p:blipFill>
        <p:spPr>
          <a:xfrm>
            <a:off x="5046840" y="195732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274680"/>
            <a:ext cx="7921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Garamond"/>
              </a:rPr>
              <a:t>Мета уроку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71640" y="1125000"/>
            <a:ext cx="792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одати теоретичні відомості про прямий і непрямий додаток;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сформувати уміння і навички визначати додаток у реченні: відрізняти його від інших членів речення;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будувати висловлювання, вживаючи правильно прямі і непрямі додатки;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розвивати логічне мислення, уміння зіставляти, порівнювати, робити висновки;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виховувати естетичні почуття, інтерес до історії культури рідного народу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929280" y="4929120"/>
            <a:ext cx="17719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280" y="1599840"/>
            <a:ext cx="3600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57160" y="1642680"/>
            <a:ext cx="8035920" cy="47862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1  Що таке синтаксис – це розділ мовознавчої науки…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2 Що таке пунктуація – це….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3 Дати визначення. Речення – це …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4 Що таке  граматична основа речення -  це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5  Для чого потрібні другорядні члени речення?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6 Другорядні члени речення – це….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7  Які бувають означення  ( за типом звʹязку між означенням і означувальним словом)…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Яке означення називається узгодженим?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9 Яке означення називається неузгодженим?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10 Що таке прикладка?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11 Коли прикладка пишеться в лапках? </a:t>
            </a:r>
            <a:endParaRPr b="1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1000080" y="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Гра </a:t>
            </a:r>
            <a:r>
              <a:rPr b="1" lang="uk-UA" sz="3600" spc="-1" strike="noStrike">
                <a:solidFill>
                  <a:srgbClr val="ff0000"/>
                </a:solidFill>
                <a:latin typeface="Calibri"/>
                <a:ea typeface="Calibri"/>
              </a:rPr>
              <a:t>«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Ромашка</a:t>
            </a:r>
            <a:r>
              <a:rPr b="1" lang="uk-UA" sz="3600" spc="-1" strike="noStrike">
                <a:solidFill>
                  <a:srgbClr val="ff0000"/>
                </a:solidFill>
                <a:latin typeface="Calibri"/>
                <a:ea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Calibri"/>
                <a:ea typeface="Calibri"/>
              </a:rPr>
              <a:t>Перевірка домашнього завд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D:\Documents and Settings\Администратор\Рабочий стол\урок\ызкфсрк\7258_big.jpg"/>
          <p:cNvPicPr/>
          <p:nvPr/>
        </p:nvPicPr>
        <p:blipFill>
          <a:blip r:embed="rId1"/>
          <a:stretch/>
        </p:blipFill>
        <p:spPr>
          <a:xfrm>
            <a:off x="6377040" y="4432320"/>
            <a:ext cx="26146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08680" y="1600200"/>
            <a:ext cx="388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Oval 1"/>
          <p:cNvSpPr/>
          <p:nvPr/>
        </p:nvSpPr>
        <p:spPr>
          <a:xfrm>
            <a:off x="3714840" y="2571840"/>
            <a:ext cx="1824120" cy="1428840"/>
          </a:xfrm>
          <a:prstGeom prst="ellipse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Дода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500120" y="1785960"/>
            <a:ext cx="1914480" cy="117144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значає предмет, на який спрямована дія (процес чи стан) або відповідно до якого ця дія (процес чи стан) відбуває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428840" y="3857760"/>
            <a:ext cx="1962000" cy="110484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в'язується з підметом, присудком або іншим другорядним членом речення (додатком чи означення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643720" y="1714680"/>
            <a:ext cx="1898640" cy="117144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иражається іменник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займенни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бо іншими част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ови, ужит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 ролі імен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786280" y="3857760"/>
            <a:ext cx="1819440" cy="118080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ідповідає на питання непрямих відмінк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12"/>
          <p:cNvCxnSpPr/>
          <p:nvPr/>
        </p:nvCxnSpPr>
        <p:spPr>
          <a:xfrm>
            <a:off x="3714840" y="307188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6" name="Прямая со стрелкой 15"/>
          <p:cNvCxnSpPr>
            <a:stCxn id="110" idx="7"/>
          </p:cNvCxnSpPr>
          <p:nvPr/>
        </p:nvCxnSpPr>
        <p:spPr>
          <a:xfrm>
            <a:off x="5286240" y="278604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7" name="Прямая со стрелкой 17"/>
          <p:cNvCxnSpPr>
            <a:stCxn id="110" idx="7"/>
          </p:cNvCxnSpPr>
          <p:nvPr/>
        </p:nvCxnSpPr>
        <p:spPr>
          <a:xfrm>
            <a:off x="5286240" y="285768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18" name="Стрелка вверх 20"/>
          <p:cNvSpPr/>
          <p:nvPr/>
        </p:nvSpPr>
        <p:spPr>
          <a:xfrm>
            <a:off x="4000680" y="3143160"/>
            <a:ext cx="198360" cy="835200"/>
          </a:xfrm>
          <a:prstGeom prst="upArrow">
            <a:avLst>
              <a:gd name="adj1" fmla="val 50000"/>
              <a:gd name="adj2" fmla="val 5011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Documents and Settings\андрей\Мои документы\школьная тематика\Копия 777.jpeg"/>
          <p:cNvPicPr/>
          <p:nvPr/>
        </p:nvPicPr>
        <p:blipFill>
          <a:blip r:embed="rId1"/>
          <a:stretch/>
        </p:blipFill>
        <p:spPr>
          <a:xfrm>
            <a:off x="7572240" y="5214960"/>
            <a:ext cx="14288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uk-UA" sz="2800" spc="-1" strike="noStrike">
                <a:solidFill>
                  <a:srgbClr val="ff6600"/>
                </a:solidFill>
                <a:latin typeface="Garamond"/>
              </a:rPr>
              <a:t>Робота з таблицею</a:t>
            </a:r>
            <a:br>
              <a:rPr sz="2800"/>
            </a:br>
            <a:r>
              <a:rPr b="1" i="1" lang="uk-UA" sz="2800" spc="-1" strike="noStrike">
                <a:solidFill>
                  <a:srgbClr val="ff6600"/>
                </a:solidFill>
                <a:latin typeface="Garamond"/>
              </a:rPr>
              <a:t> « Читай – міркуй – роби висновки!»</a:t>
            </a:r>
            <a:br>
              <a:rPr sz="2800"/>
            </a:b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28800" y="1600200"/>
          <a:ext cx="7964280" cy="4976640"/>
        </p:xfrm>
        <a:graphic>
          <a:graphicData uri="http://schemas.openxmlformats.org/drawingml/2006/table">
            <a:tbl>
              <a:tblPr/>
              <a:tblGrid>
                <a:gridCol w="3981240"/>
                <a:gridCol w="3983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ямий дода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прямий дода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960440">
                <a:tc>
                  <a:txBody>
                    <a:bodyPr lIns="114480" rIns="114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 u="sng">
                          <a:solidFill>
                            <a:srgbClr val="000000"/>
                          </a:solidFill>
                          <a:uFillTx/>
                          <a:latin typeface="Garamond"/>
                        </a:rPr>
                        <a:t>Виражаєтьс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Garamon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Іменником,займенником, словами інших частин мови, вжитими у ролі іменників, у знахідному відмінку без прийменника.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 болем згадував (що?) минул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Garamon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Іменником, займенником, субстантивованим словом у родовому відмінку без прийменн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)якщо при дієслові– присудку є заперечна частка не;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оняшники чомусь не повертали (чого?) голів до сонц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) коли дія переходить не на весь предмет, а лише на якусь його частину;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івчина купила борош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) якщо можлива паралельна форма знахідного відмінка;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ля купила (чого?) зошита. Оля купила (що?) зоши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) якщо іменник позначає неістоту і залежить від предикативного слова можна, шкода, жаль у безособовому реченні. 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Шкода стало (чого?) дере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иражений непрямими відмінками і знахідним відмінком з прийменни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митро надіявся на добру звіст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2" descr="C:\Documents and Settings\андрей\Мои документы\Діти і школа\им рпл.wmf"/>
          <p:cNvPicPr/>
          <p:nvPr/>
        </p:nvPicPr>
        <p:blipFill>
          <a:blip r:embed="rId1"/>
          <a:stretch/>
        </p:blipFill>
        <p:spPr>
          <a:xfrm>
            <a:off x="6643800" y="4714920"/>
            <a:ext cx="1828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«Згоден? – Не згоден? – Обґрунтуй!»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Garamond"/>
              </a:rPr>
              <a:t>Інфінітив може в реченні виступати присудком або означенням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Garamond"/>
              </a:rPr>
              <a:t>Про рідні звичаї він міг розповідати годинами. Олег навчив його </a:t>
            </a:r>
            <a:r>
              <a:rPr b="1" i="1" lang="uk-UA" sz="3200" spc="-1" strike="noStrike">
                <a:solidFill>
                  <a:srgbClr val="000000"/>
                </a:solidFill>
                <a:latin typeface="Garamond"/>
              </a:rPr>
              <a:t>писати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5" name="Picture 1" descr="C:\Documents and Settings\андрей\Мои документы\Діти і школа\рар.wmf"/>
          <p:cNvPicPr/>
          <p:nvPr/>
        </p:nvPicPr>
        <p:blipFill>
          <a:blip r:embed="rId1"/>
          <a:stretch/>
        </p:blipFill>
        <p:spPr>
          <a:xfrm>
            <a:off x="7643880" y="4786200"/>
            <a:ext cx="1228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4400"/>
            </a:br>
            <a:r>
              <a:rPr b="1" i="1" lang="uk-UA" sz="3200" spc="-1" strike="noStrike">
                <a:solidFill>
                  <a:srgbClr val="c00000"/>
                </a:solidFill>
                <a:latin typeface="Garamond"/>
              </a:rPr>
              <a:t>З'ясуйте, яким членом речення</a:t>
            </a:r>
            <a:br>
              <a:rPr sz="3200"/>
            </a:br>
            <a:r>
              <a:rPr b="1" i="1" lang="uk-UA" sz="3200" spc="-1" strike="noStrike">
                <a:solidFill>
                  <a:srgbClr val="c00000"/>
                </a:solidFill>
                <a:latin typeface="Garamond"/>
              </a:rPr>
              <a:t> є виділені слова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Відстань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долає кінь,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перешкоду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поборює воля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Мала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лінь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велике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горе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приносить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0дин язик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мед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принесе, другий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біду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накличе,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Слухняного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можна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словом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навчити, а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неслуха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й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віжками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не навчить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Розум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будинки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зводить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За одного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вченого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Garamond"/>
              </a:rPr>
              <a:t>двох </a:t>
            </a:r>
            <a:r>
              <a:rPr b="1" lang="uk-UA" sz="2400" spc="-1" strike="noStrike">
                <a:solidFill>
                  <a:srgbClr val="0033cc"/>
                </a:solidFill>
                <a:latin typeface="Garamond"/>
              </a:rPr>
              <a:t>невчених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дають.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1" descr="C:\Documents and Settings\андрей\Мои документы\Діти і школа\рар.wmf"/>
          <p:cNvPicPr/>
          <p:nvPr/>
        </p:nvPicPr>
        <p:blipFill>
          <a:blip r:embed="rId1"/>
          <a:stretch/>
        </p:blipFill>
        <p:spPr>
          <a:xfrm>
            <a:off x="7500960" y="4572000"/>
            <a:ext cx="12286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uk-UA" sz="4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4400"/>
            </a:br>
            <a:r>
              <a:rPr b="1" lang="uk-UA" sz="2000" spc="-1" strike="noStrike">
                <a:solidFill>
                  <a:srgbClr val="ff0000"/>
                </a:solidFill>
                <a:latin typeface="Garamond"/>
              </a:rPr>
              <a:t>Розподільний диктант. Випишіть словосполучення у дві колонки з прямими і непрямими додатками. Складіть чотири речення з додатками обох видів. </a:t>
            </a:r>
            <a:br>
              <a:rPr sz="2000"/>
            </a:br>
            <a:br>
              <a:rPr sz="2000"/>
            </a:br>
            <a:r>
              <a:rPr b="1" lang="uk-UA" sz="4400" spc="-1" strike="noStrike">
                <a:solidFill>
                  <a:srgbClr val="c00000"/>
                </a:solidFill>
                <a:latin typeface="Garamond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71280" y="1600200"/>
            <a:ext cx="495756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aramond"/>
              </a:rPr>
              <a:t>Відвідати дідуся;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aramond"/>
              </a:rPr>
              <a:t>набрати води;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aramond"/>
              </a:rPr>
              <a:t>спекти хліба;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aramond"/>
              </a:rPr>
              <a:t>не бачити світу білого;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aramond"/>
              </a:rPr>
              <a:t>сперечатися з другом;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aramond"/>
              </a:rPr>
              <a:t>не зводити очей з нього;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Garamond"/>
              </a:rPr>
              <a:t>косити комбайном; подарувати мамі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1" name="Picture 1" descr="C:\Documents and Settings\андрей\Мои документы\Діти і школа\149.gif"/>
          <p:cNvPicPr/>
          <p:nvPr/>
        </p:nvPicPr>
        <p:blipFill>
          <a:blip r:embed="rId1"/>
          <a:stretch/>
        </p:blipFill>
        <p:spPr>
          <a:xfrm>
            <a:off x="5643720" y="3143160"/>
            <a:ext cx="33033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3300"/>
                </a:solidFill>
                <a:latin typeface="Garamond"/>
              </a:rPr>
              <a:t>Знайдіть у реченнях прямі і непрямі додатки, випишіть їх разом із означу вальним словом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1600200"/>
            <a:ext cx="7921440" cy="45259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1Ти нас не вчила молитви. (Д.Білоус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2Пестить синів і дочок слово твоє румʹяне. ( Д.Білоус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3 Тебе у спадок віддали мені мої батьки і предки невідомі. ( Д.Павличко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4 Ти зрікся мови рідної ( Д.Павличко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5 Ганьба тебе зустріне на шляху вузькому.. ( Д.Павличко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6 Ти даєш поету дужі крила. (В.Симоненко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7 Коханий любить не захоче тебе, коли ти не любиш Вкраїну.. ( В.Сосюра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8 Мові гаряче віддав я серце недарма. (В.Сосюра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9 Де славить життя золоте жайворон… ( В. Сосюра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10 Вражого серця клинком не пробʹєш (Л.Українка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11 О слово рідне, чужинцям кинуте на сміх ( О.Олесь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12 Камінець дорогий він одразу пізнав. ( В.Самійленко)</a:t>
            </a: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4" name="Picture 2" descr="C:\Documents and Settings\андрей\Мои документы\Діти і школа\Cartoon-Clipart-Free-04.gif"/>
          <p:cNvPicPr/>
          <p:nvPr/>
        </p:nvPicPr>
        <p:blipFill>
          <a:blip r:embed="rId1"/>
          <a:stretch/>
        </p:blipFill>
        <p:spPr>
          <a:xfrm>
            <a:off x="7858080" y="50720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2:16:43Z</dcterms:created>
  <dc:creator>Admin</dc:creator>
  <dc:description/>
  <dc:language>en-US</dc:language>
  <cp:lastModifiedBy>Admin</cp:lastModifiedBy>
  <dcterms:modified xsi:type="dcterms:W3CDTF">2013-10-11T06:58:39Z</dcterms:modified>
  <cp:revision>45</cp:revision>
  <dc:subject/>
  <dc:title> Систематизація знань учнів з теми  « Синтаксис »             ( на народознавчій основі )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c000000000001024140</vt:lpwstr>
  </property>
</Properties>
</file>