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A2B1-2AD7-4937-AAD1-9502BC77B9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3448-B49C-4C99-A2F4-30AA6F4B83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EAD-9835-4352-8E1E-B0735C73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369-38D3-4529-B5C5-A0A2FC55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299-FACD-4AF4-82F3-863489E7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F87-56A9-45B8-ABCE-061EE70E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5AF7-4A5B-41FE-8C20-0E1FD9DD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61A2-25FF-48FB-83A8-E1863EB6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5158-C84D-4CAB-A5B2-078F76D3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DA28-F933-4E45-89E3-7C8376D7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527B-46ED-4D8E-8449-57DDFAB9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D3AD-27E1-4AFE-9C04-B77EB02A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87AD-71E5-47E6-94D5-59DCF81B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A93-1AA3-45B5-B0B7-FB1A62C0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D502-D699-45E1-BB4F-C5E14F65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B2BE-6591-49CB-A211-1A1CC424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FC90-CFA2-4F17-95E3-AA6B7942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7617-D42E-4736-BEBA-DFDEA5E6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8EB2-D6A7-460E-BEAA-2AE28FA0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97B-591C-454C-93ED-99C4362C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B72-1F20-4CDF-81C7-F84A41FB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D78-3385-48D9-A6F4-918D1267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660-6C32-490B-8C1A-7729DA97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060-806E-486C-BACF-E85CF3CD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D07-B83E-4A69-855E-19970797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BF9-493B-4EE2-BB53-4E99F0DC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973E-5404-4F8A-86FB-49163C1E4B87}" type="slidenum"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8221-18D1-492B-8D16-A9FC88872D4C}" type="slidenum"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530280" y="274680"/>
            <a:ext cx="7785000" cy="1474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13880" y="2142720"/>
            <a:ext cx="79297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ладання документ</a:t>
            </a:r>
            <a:r>
              <a:rPr b="0" lang="uk-UA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щодо</a:t>
            </a:r>
            <a:r>
              <a:rPr b="0" lang="uk-UA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обового складу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30240" y="274680"/>
            <a:ext cx="8418600" cy="1560600"/>
          </a:xfrm>
          <a:prstGeom prst="rect">
            <a:avLst/>
          </a:prstGeom>
          <a:ln w="0">
            <a:noFill/>
          </a:ln>
        </p:spPr>
      </p:pic>
      <p:pic>
        <p:nvPicPr>
          <p:cNvPr id="119" name="Текст 2" descr=""/>
          <p:cNvPicPr/>
          <p:nvPr/>
        </p:nvPicPr>
        <p:blipFill>
          <a:blip r:embed="rId2"/>
          <a:stretch/>
        </p:blipFill>
        <p:spPr>
          <a:xfrm>
            <a:off x="384120" y="1712880"/>
            <a:ext cx="800424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390600" y="1146240"/>
            <a:ext cx="83152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328680" y="1316160"/>
            <a:ext cx="8480520" cy="3103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484360" y="3789360"/>
            <a:ext cx="6408720" cy="25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офкому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ського національного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верситету імені Івана Франка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268200" y="1305000"/>
            <a:ext cx="8418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109440" y="957240"/>
            <a:ext cx="91677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128520" y="957240"/>
            <a:ext cx="8558280" cy="2408400"/>
          </a:xfrm>
          <a:prstGeom prst="rect">
            <a:avLst/>
          </a:prstGeom>
          <a:ln w="0">
            <a:noFill/>
          </a:ln>
        </p:spPr>
      </p:pic>
      <p:pic>
        <p:nvPicPr>
          <p:cNvPr id="126" name="Текст 2" descr=""/>
          <p:cNvPicPr/>
          <p:nvPr/>
        </p:nvPicPr>
        <p:blipFill>
          <a:blip r:embed="rId2"/>
          <a:stretch/>
        </p:blipFill>
        <p:spPr>
          <a:xfrm>
            <a:off x="3340080" y="2992320"/>
            <a:ext cx="51022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-133200" y="579600"/>
            <a:ext cx="8448480" cy="2260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7280" y="386028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4e005f"/>
                </a:solidFill>
                <a:uFillTx/>
                <a:latin typeface="Times New Roman"/>
                <a:ea typeface="Times New Roman"/>
              </a:rPr>
              <a:t>Обґрунтування прохання </a:t>
            </a:r>
            <a:r>
              <a:rPr b="0" i="1" lang="uk-UA" sz="44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(у зв'язку з …, оскільки …, відповідно до … </a:t>
            </a:r>
            <a:r>
              <a:rPr b="0" lang="uk-UA" sz="44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тощо</a:t>
            </a:r>
            <a:r>
              <a:rPr b="0" i="1" lang="uk-UA" sz="44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) </a:t>
            </a:r>
            <a:r>
              <a:rPr b="1" i="1" lang="uk-UA" sz="4400" spc="-1" strike="noStrike" u="sng">
                <a:solidFill>
                  <a:srgbClr val="4e005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i="1" lang="uk-UA" sz="44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92160" y="749160"/>
            <a:ext cx="92041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63680" y="1036800"/>
            <a:ext cx="831528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158760" y="195120"/>
            <a:ext cx="8643960" cy="2932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7280" y="3429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Б) Після тексту пишуть </a:t>
            </a:r>
            <a:r>
              <a:rPr b="0" i="1" lang="uk-UA" sz="4200" spc="-1" strike="noStrike" u="sng">
                <a:solidFill>
                  <a:srgbClr val="4e005f"/>
                </a:solidFill>
                <a:uFillTx/>
                <a:latin typeface="Times New Roman"/>
                <a:ea typeface="Times New Roman"/>
              </a:rPr>
              <a:t>До заяви додаються такі документи</a:t>
            </a:r>
            <a:r>
              <a:rPr b="0" i="1" lang="uk-UA" sz="42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 </a:t>
            </a:r>
            <a:r>
              <a:rPr b="0" lang="uk-UA" sz="42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або </a:t>
            </a:r>
            <a:r>
              <a:rPr b="0" i="1" lang="uk-UA" sz="4200" spc="-1" strike="noStrike" u="sng">
                <a:solidFill>
                  <a:srgbClr val="4e005f"/>
                </a:solidFill>
                <a:uFillTx/>
                <a:latin typeface="Times New Roman"/>
                <a:ea typeface="Times New Roman"/>
              </a:rPr>
              <a:t>Додаток</a:t>
            </a:r>
            <a:r>
              <a:rPr b="0" lang="uk-UA" sz="42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 і вказують назви документів у формі називного відмінка.</a:t>
            </a:r>
            <a:endParaRPr b="0" lang="en-US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ікувані результати:</a:t>
            </a:r>
            <a:br>
              <a:rPr sz="4800"/>
            </a:br>
            <a:endParaRPr b="0" lang="en-US" sz="48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004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читися складати документи щодо особового складу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іпити набуті раніше знанн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увати навички оформлення ділової документації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цювати над культурою ділового спілкуванн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92160" y="701640"/>
            <a:ext cx="9227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-115920" y="828720"/>
            <a:ext cx="97045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3" descr=""/>
          <p:cNvPicPr/>
          <p:nvPr/>
        </p:nvPicPr>
        <p:blipFill>
          <a:blip r:embed="rId1"/>
          <a:stretch/>
        </p:blipFill>
        <p:spPr>
          <a:xfrm>
            <a:off x="749160" y="414360"/>
            <a:ext cx="7944120" cy="3451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55280" y="2997000"/>
            <a:ext cx="78548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ошу перевести мене з денної на заочну форму навчання у зв’язку з працевлаштування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2.2005                                                                            (підпис)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36360" y="1444680"/>
            <a:ext cx="10412640" cy="254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90062"/>
                </a:solidFill>
                <a:latin typeface="Constantia"/>
              </a:rPr>
              <a:t>Автобіографія це документ у якому особа подає опис свого життя та діяльності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90062"/>
                </a:solidFill>
                <a:latin typeface="Constantia"/>
              </a:rPr>
              <a:t>Автобіографія це обов</a:t>
            </a:r>
            <a:r>
              <a:rPr b="0" lang="ru-RU" sz="3600" spc="-1" strike="noStrike">
                <a:solidFill>
                  <a:srgbClr val="e90062"/>
                </a:solidFill>
                <a:latin typeface="Constantia"/>
              </a:rPr>
              <a:t>язковий елемент особово</a:t>
            </a:r>
            <a:r>
              <a:rPr b="0" lang="uk-UA" sz="3600" spc="-1" strike="noStrike">
                <a:solidFill>
                  <a:srgbClr val="e90062"/>
                </a:solidFill>
                <a:latin typeface="Constantia"/>
              </a:rPr>
              <a:t>ї  справи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88c"/>
                </a:solidFill>
                <a:latin typeface="Constantia"/>
              </a:rPr>
              <a:t>Документ має незначний рівень стандартизації. Виклад іде від першої особи в хронологічному порядку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388c"/>
                </a:solidFill>
                <a:latin typeface="Constantia"/>
              </a:rPr>
              <a:t>Крім автобіографії, як точного документа існує форма автобіографії – розповіді, з елементами опису, характеристикою людей що у ній згадуються. Такі автобіографії подабть зазвичай видатні люди, творчі особистості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e40059"/>
          </a:solidFill>
          <a:ln w="9360">
            <a:solidFill>
              <a:srgbClr val="ff388c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Автобіографія має такі основні </a:t>
            </a:r>
            <a:r>
              <a:rPr b="1" i="1" lang="uk-UA" sz="2800" spc="-1" strike="noStrike">
                <a:solidFill>
                  <a:srgbClr val="00b050"/>
                </a:solidFill>
                <a:latin typeface="Calibri"/>
              </a:rPr>
              <a:t>реквізити:</a:t>
            </a:r>
            <a:endParaRPr b="0" lang="en-US" sz="28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1.Назва документа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2.Текст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3.Дата 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4. Підпис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b050"/>
                </a:solidFill>
                <a:latin typeface="Constantia"/>
              </a:rPr>
              <a:t>У тексті мають бути такі відомості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1. Прізвище ім'я по батькові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2.Дата народження число, місяць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3.Відомості про навчання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5. Відомості про трудову діяльність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6. Відомості про громадську роботу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7. Короткі відомості про склад сімї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3" descr=""/>
          <p:cNvPicPr/>
          <p:nvPr/>
        </p:nvPicPr>
        <p:blipFill>
          <a:blip r:embed="rId1"/>
          <a:stretch/>
        </p:blipFill>
        <p:spPr>
          <a:xfrm>
            <a:off x="-384120" y="1994040"/>
            <a:ext cx="9809280" cy="184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заняття.</a:t>
            </a:r>
            <a:r>
              <a:rPr b="0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Заява, її призначення, реквізити. Правила оформлення заяв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втобіографія, її призначення та реквізити. Вимоги до написання автобіографії.</a:t>
            </a: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арактеристика,  її призначення та реквізити. Вимоги до написанн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зюме, його призначення та реквізити. Вимоги до написання резюме.</a:t>
            </a: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201600" y="981000"/>
            <a:ext cx="89726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2" descr=""/>
          <p:cNvPicPr/>
          <p:nvPr/>
        </p:nvPicPr>
        <p:blipFill>
          <a:blip r:embed="rId1"/>
          <a:stretch/>
        </p:blipFill>
        <p:spPr>
          <a:xfrm>
            <a:off x="-23760" y="378000"/>
            <a:ext cx="8717040" cy="2931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57200" y="3571920"/>
            <a:ext cx="7515360" cy="258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7000"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Характеристика може бути потрібна при вступі до навчального закладу,висуванні на виборні посади, при обранні за конкурсом, атестації працівника тощо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-6480" y="420840"/>
            <a:ext cx="8729640" cy="1000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214200" y="149976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походженням – службовий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місцем створення – зовнішній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призначенням – щодо особового складу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напрямом – вихідний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формою – індивідуальний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ступенем гласності – звичайний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стадіями створення – оригінал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терміном зберігання – безстроковий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390600" y="-16524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2560" y="1341360"/>
            <a:ext cx="8821800" cy="5516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зва виду документа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Анкетні відомості особи, якій видається характеристика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Текст, який містить такі відомості: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а) трудова діяльність;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б) ставлення до службових;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в) громадська діяльність;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г) моральні якості;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д) висновки.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Дата.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Назва посади, прізвище та ініціали і підпис відповідальної службової особи.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Гербова печатка організації, яка видала характеристику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133200" y="12600"/>
            <a:ext cx="8802720" cy="18226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85480" y="2143080"/>
            <a:ext cx="838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Анкетні відомості (у правій половині аркуша) подають у формі родового відмінка (без прийменника), крім відомостей про освіту – у називному відмінку.</a:t>
            </a:r>
            <a:br>
              <a:rPr sz="3000"/>
            </a:b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Щоб уникнути перекручення прізвища особи, якій видають характеристику, починати текст потрібно з прізвища, імені, по батькові в називному відмінку.</a:t>
            </a:r>
            <a:br>
              <a:rPr sz="3000"/>
            </a:b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Текст пишуть від третьої особи. Кожне нове повідомлення починають з абзацу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85840" y="42840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lang="uk-UA" sz="3400" spc="-1" strike="noStrike">
                <a:solidFill>
                  <a:srgbClr val="ffffff"/>
                </a:solidFill>
                <a:latin typeface="Constantia"/>
              </a:rPr>
              <a:t>Дієслівні форми минулого часу використовуються у тексті характеристики, якщо характеристика видається випускникові або працівнику, який звільняється.</a:t>
            </a:r>
            <a:br>
              <a:rPr sz="3400"/>
            </a:br>
            <a:r>
              <a:rPr b="0" lang="uk-UA" sz="3400" spc="-1" strike="noStrike">
                <a:solidFill>
                  <a:srgbClr val="ffffff"/>
                </a:solidFill>
                <a:latin typeface="Constantia"/>
              </a:rPr>
              <a:t>5. Дієслівні форми теперішнього часу використовуються у тексті характеристики, якщо у цьому документі йдеться про працівника (учня, студента), який на момент складання характеристики працює (навчається) і продовжуватиме працювати (навчатися).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171360" y="463680"/>
            <a:ext cx="8667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Заголовок 1" descr=""/>
          <p:cNvPicPr/>
          <p:nvPr/>
        </p:nvPicPr>
        <p:blipFill>
          <a:blip r:embed="rId1"/>
          <a:stretch/>
        </p:blipFill>
        <p:spPr>
          <a:xfrm>
            <a:off x="1060560" y="-6480"/>
            <a:ext cx="7175520" cy="62611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42600" y="785880"/>
            <a:ext cx="80722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ва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у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умента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кст документа, який складається з таких блоків: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) інформація для контакту;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) ім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’</a:t>
            </a: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, прізвище;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мета написання документа;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) відомості про освіту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8285040" cy="3286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-128520" y="743040"/>
            <a:ext cx="9510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onstantia"/>
              </a:rPr>
              <a:t>1.Найефективнішим засобом зв’язку з претендентом на посаду є телефон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2</a:t>
            </a:r>
            <a:r>
              <a:rPr b="0" lang="uk-UA" sz="3200" spc="-1" strike="noStrike">
                <a:solidFill>
                  <a:srgbClr val="ff0000"/>
                </a:solidFill>
                <a:latin typeface="Constantia"/>
              </a:rPr>
              <a:t>. Ім’я та прізвище пишуть посередині аркуша  і виділяють великим жирним шрифтом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onstantia"/>
              </a:rPr>
              <a:t>5.У частині «Особисті відомості» зазначають вік,вказуючи лише рік народження або кількість років,дітей називають за статтю і віком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6.У додатковій інформації варто насамперед сказати про ступінь  володіння іноземними мовами та навички роботи з комп’ютер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7.Не варто перенасичувати документ великою кількістю інформації, головне, щоб текст характеризував автора як досвідченого,надійного працівни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8.не варто описувати причини, через які пішли з попередньої роботи,фізичні характеристики,зазначати вимоги до зарплати,додавати фотографії, якщо цього спеціально не передбачен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ля кожного нового місця потрібно складати окреме резюме. Непогано скласти резюме двома мовами, резюме іноземною мовою має відповідати правописним і стилістичним нормам, бути оформлене за тими самими вимогами, що ставляться й до резюме українською мово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6492600" cy="61088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143000" y="0"/>
            <a:ext cx="6480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д) відомості про професійний досвід</a:t>
            </a:r>
            <a:br>
              <a:rPr sz="2400"/>
            </a:b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) особисті відомості </a:t>
            </a:r>
            <a:br>
              <a:rPr sz="2400"/>
            </a:b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є) додаткова інформація </a:t>
            </a:r>
            <a:br>
              <a:rPr sz="2400"/>
            </a:b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ж) вказівка про можливість надання рекомендацій.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133200" y="1238400"/>
            <a:ext cx="8521560" cy="1663560"/>
          </a:xfrm>
          <a:prstGeom prst="rect">
            <a:avLst/>
          </a:prstGeom>
          <a:ln w="0">
            <a:noFill/>
          </a:ln>
        </p:spPr>
      </p:pic>
      <p:pic>
        <p:nvPicPr>
          <p:cNvPr id="110" name="Текст 2" descr=""/>
          <p:cNvPicPr/>
          <p:nvPr/>
        </p:nvPicPr>
        <p:blipFill>
          <a:blip r:embed="rId2"/>
          <a:stretch/>
        </p:blipFill>
        <p:spPr>
          <a:xfrm>
            <a:off x="4200480" y="2773440"/>
            <a:ext cx="46515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2840" y="579600"/>
            <a:ext cx="9064800" cy="2249280"/>
          </a:xfrm>
          <a:prstGeom prst="rect">
            <a:avLst/>
          </a:prstGeom>
          <a:ln w="0">
            <a:noFill/>
          </a:ln>
        </p:spPr>
      </p:pic>
      <p:pic>
        <p:nvPicPr>
          <p:cNvPr id="112" name="Текст 2" descr=""/>
          <p:cNvPicPr/>
          <p:nvPr/>
        </p:nvPicPr>
        <p:blipFill>
          <a:blip r:embed="rId2"/>
          <a:stretch/>
        </p:blipFill>
        <p:spPr>
          <a:xfrm>
            <a:off x="311040" y="3060720"/>
            <a:ext cx="50961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3" descr=""/>
          <p:cNvPicPr/>
          <p:nvPr/>
        </p:nvPicPr>
        <p:blipFill>
          <a:blip r:embed="rId1"/>
          <a:stretch/>
        </p:blipFill>
        <p:spPr>
          <a:xfrm>
            <a:off x="-49320" y="-208080"/>
            <a:ext cx="915696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-92160" y="1279440"/>
            <a:ext cx="8400960" cy="1519200"/>
          </a:xfrm>
          <a:prstGeom prst="rect">
            <a:avLst/>
          </a:prstGeom>
          <a:ln w="0">
            <a:noFill/>
          </a:ln>
        </p:spPr>
      </p:pic>
      <p:pic>
        <p:nvPicPr>
          <p:cNvPr id="115" name="Текст 2" descr=""/>
          <p:cNvPicPr/>
          <p:nvPr/>
        </p:nvPicPr>
        <p:blipFill>
          <a:blip r:embed="rId2"/>
          <a:stretch/>
        </p:blipFill>
        <p:spPr>
          <a:xfrm>
            <a:off x="3724200" y="2835360"/>
            <a:ext cx="48834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96840" y="353880"/>
            <a:ext cx="8583480" cy="2011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71680" y="228564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походженням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місцем створенн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призначенням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формою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тупенем гласності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тадіями створенн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терміном зберіганн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7:51:23Z</dcterms:created>
  <dc:creator>Admin</dc:creator>
  <dc:description/>
  <dc:language>en-US</dc:language>
  <cp:lastModifiedBy>User</cp:lastModifiedBy>
  <dcterms:modified xsi:type="dcterms:W3CDTF">2012-10-26T07:54:58Z</dcterms:modified>
  <cp:revision>8</cp:revision>
  <dc:subject/>
  <dc:title>Те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45000000000001024140</vt:lpwstr>
  </property>
</Properties>
</file>