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7DD1-CEF7-49BD-A497-62DA4F0D6E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972E-F907-44F7-9B47-E16247FA9C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226-C9DC-4A4A-9CB3-2A32FEC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D80-5A86-41A0-A7FF-DB50C12E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BB9-B49A-45F2-B45D-7CABD3B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A3D-EE3E-443F-BC4E-D7820207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4AAC-6628-4686-B2C9-2A6BBD52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936-6E29-4053-BF9B-467C54F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B153-D42D-42C5-901F-B033CEF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115-78FB-4679-B4FC-FB8B593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727A-E35E-4A77-B849-2673BD6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3FFC-F541-48ED-82E3-E7FABF2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CD01-C0B0-4E5F-910F-7486EBB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CAE-6F76-4955-A527-C8043DC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771-B48C-481C-8A47-CB164D0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C85A-5819-49D2-BF5A-EFB6F3B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7FC3-4B96-4878-80E0-5DC4DD8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6895-3F94-4DB2-ADA5-75D1AF36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62F1-E797-4EAC-A5FC-FCFDAB4A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4FB-D75B-4D39-A6F5-3A23B31A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DB2-8669-43BC-8B6B-808CA561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35A-2E43-4AD4-B3FE-0904CFB4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8DB-9BC9-41EA-817A-3E39C41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BF3-E453-4C13-82E4-D7D6972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AF9-A400-48D4-A462-B5B27E2B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B41-F5E6-4F5A-8DA7-EE7355EB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733-9E51-435E-AB3A-0D2B2EA09141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AD51-C885-4ED2-8BCE-E9649CEDCA4E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530280" y="274680"/>
            <a:ext cx="7785000" cy="147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3880" y="2142720"/>
            <a:ext cx="7929720" cy="4071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ладання документ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щодо</a:t>
            </a:r>
            <a:r>
              <a:rPr b="0" lang="uk-UA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обового складу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30240" y="274680"/>
            <a:ext cx="8418600" cy="1560600"/>
          </a:xfrm>
          <a:prstGeom prst="rect">
            <a:avLst/>
          </a:prstGeom>
          <a:ln w="0">
            <a:noFill/>
          </a:ln>
        </p:spPr>
      </p:pic>
      <p:pic>
        <p:nvPicPr>
          <p:cNvPr id="119" name="Текст 2" descr=""/>
          <p:cNvPicPr/>
          <p:nvPr/>
        </p:nvPicPr>
        <p:blipFill>
          <a:blip r:embed="rId2"/>
          <a:stretch/>
        </p:blipFill>
        <p:spPr>
          <a:xfrm>
            <a:off x="384120" y="1712880"/>
            <a:ext cx="800424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90600" y="1146240"/>
            <a:ext cx="831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28680" y="1316160"/>
            <a:ext cx="8480520" cy="3103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484360" y="3789360"/>
            <a:ext cx="6408720" cy="25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офкому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івського національного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верситету імені Івана Франка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268200" y="1305000"/>
            <a:ext cx="8418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109440" y="957240"/>
            <a:ext cx="91677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128520" y="957240"/>
            <a:ext cx="8558280" cy="2408400"/>
          </a:xfrm>
          <a:prstGeom prst="rect">
            <a:avLst/>
          </a:prstGeom>
          <a:ln w="0">
            <a:noFill/>
          </a:ln>
        </p:spPr>
      </p:pic>
      <p:pic>
        <p:nvPicPr>
          <p:cNvPr id="126" name="Текст 2" descr=""/>
          <p:cNvPicPr/>
          <p:nvPr/>
        </p:nvPicPr>
        <p:blipFill>
          <a:blip r:embed="rId2"/>
          <a:stretch/>
        </p:blipFill>
        <p:spPr>
          <a:xfrm>
            <a:off x="3340080" y="2992320"/>
            <a:ext cx="51022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-133200" y="579600"/>
            <a:ext cx="8448480" cy="2260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7280" y="3860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Обґрунтування прохання 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(у зв'язку з …, оскільки …, відповідно до … </a:t>
            </a:r>
            <a:r>
              <a:rPr b="0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тощо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) </a:t>
            </a:r>
            <a:r>
              <a:rPr b="1" i="1" lang="uk-UA" sz="44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i="1" lang="uk-UA" sz="44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92160" y="749160"/>
            <a:ext cx="92041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63680" y="1036800"/>
            <a:ext cx="831528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158760" y="195120"/>
            <a:ext cx="8643960" cy="2932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7280" y="342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Б) Після тексту пишуть </a:t>
            </a:r>
            <a:r>
              <a:rPr b="0" i="1" lang="uk-UA" sz="42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До заяви додаються такі документи</a:t>
            </a:r>
            <a:r>
              <a:rPr b="0" i="1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</a:t>
            </a: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або </a:t>
            </a:r>
            <a:r>
              <a:rPr b="0" i="1" lang="uk-UA" sz="4200" spc="-1" strike="noStrike" u="sng">
                <a:solidFill>
                  <a:srgbClr val="4e005f"/>
                </a:solidFill>
                <a:uFillTx/>
                <a:latin typeface="Times New Roman"/>
                <a:ea typeface="Times New Roman"/>
              </a:rPr>
              <a:t>Додаток</a:t>
            </a:r>
            <a:r>
              <a:rPr b="0" lang="uk-UA" sz="4200" spc="-1" strike="noStrike">
                <a:solidFill>
                  <a:srgbClr val="4e005f"/>
                </a:solidFill>
                <a:latin typeface="Times New Roman"/>
                <a:ea typeface="Times New Roman"/>
              </a:rPr>
              <a:t> і вказують назви документів у формі називного відмінка.</a:t>
            </a:r>
            <a:endParaRPr b="0" lang="en-US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ікувані результати:</a:t>
            </a:r>
            <a:br>
              <a:rPr sz="4800"/>
            </a:br>
            <a:endParaRPr b="0" lang="en-US" sz="4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читися складати документи щодо особового складу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іпити набуті раніше зна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увати навички оформлення ділової документації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цювати над культурою ділового спілкуванн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92160" y="701640"/>
            <a:ext cx="9227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-115920" y="828720"/>
            <a:ext cx="97045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3" descr=""/>
          <p:cNvPicPr/>
          <p:nvPr/>
        </p:nvPicPr>
        <p:blipFill>
          <a:blip r:embed="rId1"/>
          <a:stretch/>
        </p:blipFill>
        <p:spPr>
          <a:xfrm>
            <a:off x="749160" y="414360"/>
            <a:ext cx="7944120" cy="3451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55280" y="2997000"/>
            <a:ext cx="7854840" cy="2576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Прошу перевести мене з денної на заочну форму навчання у зв’язку з працевлаштування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2.2005                                                                            (підпис)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36360" y="1444680"/>
            <a:ext cx="10412640" cy="25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Автобіографія це документ у якому особа подає опис свого життя та діяльності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Автобіографія це обов</a:t>
            </a:r>
            <a:r>
              <a:rPr b="0" lang="ru-RU" sz="3600" spc="-1" strike="noStrike">
                <a:solidFill>
                  <a:srgbClr val="e90062"/>
                </a:solidFill>
                <a:latin typeface="Constantia"/>
              </a:rPr>
              <a:t>язковий елемент особово</a:t>
            </a:r>
            <a:r>
              <a:rPr b="0" lang="uk-UA" sz="3600" spc="-1" strike="noStrike">
                <a:solidFill>
                  <a:srgbClr val="e90062"/>
                </a:solidFill>
                <a:latin typeface="Constantia"/>
              </a:rPr>
              <a:t>ї  справи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88c"/>
                </a:solidFill>
                <a:latin typeface="Constantia"/>
              </a:rPr>
              <a:t>Документ має незначний рівень стандартизації. Виклад іде від першої особи в хронологічному порядку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88c"/>
                </a:solidFill>
                <a:latin typeface="Constantia"/>
              </a:rPr>
              <a:t>Крім автобіографії, як точного документа існує форма автобіографії – розповіді, з елементами опису, характеристикою людей що у ній згадуються. Такі автобіографії подабть зазвичай видатні люди, творчі особистост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e40059"/>
          </a:solidFill>
          <a:ln w="9360">
            <a:solidFill>
              <a:srgbClr val="ff388c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Автобіографія має такі основні </a:t>
            </a:r>
            <a:r>
              <a:rPr b="1" i="1" lang="uk-UA" sz="2800" spc="-1" strike="noStrike">
                <a:solidFill>
                  <a:srgbClr val="00b050"/>
                </a:solidFill>
                <a:latin typeface="Calibri"/>
              </a:rPr>
              <a:t>реквізити:</a:t>
            </a:r>
            <a:endParaRPr b="0" lang="en-US" sz="2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1.Назва документ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2.Текст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3.Дата 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4. Підпис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b050"/>
                </a:solidFill>
                <a:latin typeface="Constantia"/>
              </a:rPr>
              <a:t>У тексті мають бути такі відомості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1. Прізвище ім'я по батькові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2.Дата народження число, місяць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3.Відомості про навчання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5. Відомості про трудову діяльність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6. Відомості про громадську робот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7. Короткі відомості про склад сімї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3" descr=""/>
          <p:cNvPicPr/>
          <p:nvPr/>
        </p:nvPicPr>
        <p:blipFill>
          <a:blip r:embed="rId1"/>
          <a:stretch/>
        </p:blipFill>
        <p:spPr>
          <a:xfrm>
            <a:off x="-384120" y="1994040"/>
            <a:ext cx="9809280" cy="184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заняття.</a:t>
            </a: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Заява, її призначення, реквізити. Правила оформлення заяв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біографія, її призначення та реквізити. Вимоги до написання автобіографії.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арактеристика,  її призначення та реквізити. Вимоги до написанн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зюме, його призначення та реквізити. Вимоги до написання резюме.</a:t>
            </a: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9726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2" descr=""/>
          <p:cNvPicPr/>
          <p:nvPr/>
        </p:nvPicPr>
        <p:blipFill>
          <a:blip r:embed="rId1"/>
          <a:stretch/>
        </p:blipFill>
        <p:spPr>
          <a:xfrm>
            <a:off x="-23760" y="378000"/>
            <a:ext cx="8717040" cy="29318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57200" y="3571920"/>
            <a:ext cx="7515360" cy="258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Характеристика може бути потрібна при вступі до навчального закладу,висуванні на виборні посади, при обранні за конкурсом, атестації працівника тощо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8729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14200" y="14997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походженням – службов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місцем створення – зовнішні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призначенням – щодо особового складу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напрямом – вихід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формою – індивідуаль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ступенем гласності – звичайний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стадіями створення – оригінал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buClr>
                <a:srgbClr val="9c007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ffffff"/>
                </a:solidFill>
                <a:latin typeface="Constantia"/>
              </a:rPr>
              <a:t>За терміном зберігання – безстроковий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390600" y="-1652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2560" y="1341360"/>
            <a:ext cx="8821800" cy="5516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зва виду документа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нкетні відомості особи, якій видається характеристика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екст, який містить такі відомості: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а) трудова діяльність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б) ставлення до службових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в) громадська діяльність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г) моральні якості;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д) висновки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Дата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Назва посади, прізвище та ініціали і підпис відповідальної службової особи.</a:t>
            </a:r>
            <a:br>
              <a:rPr sz="2500"/>
            </a:b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Гербова печатка організації, яка видала характеристику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133200" y="12600"/>
            <a:ext cx="8802720" cy="18226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85480" y="2143080"/>
            <a:ext cx="838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нкетні відомості (у правій половині аркуша) подають у формі родового відмінка (без прийменника), крім відомостей про освіту – у називному відмінку.</a:t>
            </a:r>
            <a:br>
              <a:rPr sz="3000"/>
            </a:b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Щоб уникнути перекручення прізвища особи, якій видають характеристику, починати текст потрібно з прізвища, імені, по батькові в називному відмінку.</a:t>
            </a:r>
            <a:br>
              <a:rPr sz="3000"/>
            </a:b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екст пишуть від третьої особи. Кожне нове повідомлення починають з абзацу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85840" y="42840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lang="uk-UA" sz="3400" spc="-1" strike="noStrike">
                <a:solidFill>
                  <a:srgbClr val="ffffff"/>
                </a:solidFill>
                <a:latin typeface="Constantia"/>
              </a:rPr>
              <a:t>Дієслівні форми минулого часу використовуються у тексті характеристики, якщо характеристика видається випускникові або працівнику, який звільняється.</a:t>
            </a:r>
            <a:br>
              <a:rPr sz="3400"/>
            </a:br>
            <a:r>
              <a:rPr b="0" lang="uk-UA" sz="3400" spc="-1" strike="noStrike">
                <a:solidFill>
                  <a:srgbClr val="ffffff"/>
                </a:solidFill>
                <a:latin typeface="Constantia"/>
              </a:rPr>
              <a:t>5. Дієслівні форми теперішнього часу використовуються у тексті характеристики, якщо у цьому документі йдеться про працівника (учня, студента), який на момент складання характеристики працює (навчається) і продовжуватиме працювати (навчатися).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1360" y="463680"/>
            <a:ext cx="8667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1"/>
          <a:stretch/>
        </p:blipFill>
        <p:spPr>
          <a:xfrm>
            <a:off x="1060560" y="-6480"/>
            <a:ext cx="7175520" cy="62611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42600" y="785880"/>
            <a:ext cx="80722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а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у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умента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br>
              <a:rPr sz="18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кст документа, який складається з таких блоків: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інформація для контакту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ім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, прізвище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мета написання документа;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відомості про освіту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8285040" cy="328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-128520" y="743040"/>
            <a:ext cx="9510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1.Найефективнішим засобом зв’язку з претендентом на посаду є телефон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2</a:t>
            </a: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. Ім’я та прізвище пишуть посередині аркуша  і виділяють великим жирним шрифт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onstantia"/>
              </a:rPr>
              <a:t>5.У частині «Особисті відомості» зазначають вік,вказуючи лише рік народження або кількість років,дітей називають за статтю і вік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6.У додатковій інформації варто насамперед сказати про ступінь  володіння іноземними мовами та навички роботи з комп’ютер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7.Не варто перенасичувати документ великою кількістю інформації, головне, щоб текст характеризував автора як досвідченого,надійного працівн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8.не варто описувати причини, через які пішли з попередньої роботи,фізичні характеристики,зазначати вимоги до зарплати,додавати фотографії, якщо цього спеціально не передбаче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Для кожного нового місця потрібно складати окреме резюме. Непогано скласти резюме двома мовами, резюме іноземною мовою має відповідати правописним і стилістичним нормам, бути оформлене за тими самими вимогами, що ставляться й до резюме українською мово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6492600" cy="6108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43000" y="0"/>
            <a:ext cx="6480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д) відомості про професійний досвід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е) особисті відомості 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є) додаткова інформація </a:t>
            </a:r>
            <a:br>
              <a:rPr sz="2400"/>
            </a:br>
            <a:r>
              <a:rPr b="0" lang="uk-UA" sz="2400" spc="-1" strike="noStrike">
                <a:solidFill>
                  <a:srgbClr val="c00000"/>
                </a:solidFill>
                <a:latin typeface="Constantia"/>
              </a:rPr>
              <a:t>ж) вказівка про можливість надання рекомендацій.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133200" y="1238400"/>
            <a:ext cx="8521560" cy="1663560"/>
          </a:xfrm>
          <a:prstGeom prst="rect">
            <a:avLst/>
          </a:prstGeom>
          <a:ln w="0">
            <a:noFill/>
          </a:ln>
        </p:spPr>
      </p:pic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4200480" y="2773440"/>
            <a:ext cx="4651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2840" y="579600"/>
            <a:ext cx="9064800" cy="2249280"/>
          </a:xfrm>
          <a:prstGeom prst="rect">
            <a:avLst/>
          </a:prstGeom>
          <a:ln w="0">
            <a:noFill/>
          </a:ln>
        </p:spPr>
      </p:pic>
      <p:pic>
        <p:nvPicPr>
          <p:cNvPr id="112" name="Текст 2" descr=""/>
          <p:cNvPicPr/>
          <p:nvPr/>
        </p:nvPicPr>
        <p:blipFill>
          <a:blip r:embed="rId2"/>
          <a:stretch/>
        </p:blipFill>
        <p:spPr>
          <a:xfrm>
            <a:off x="311040" y="3060720"/>
            <a:ext cx="50961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3" descr=""/>
          <p:cNvPicPr/>
          <p:nvPr/>
        </p:nvPicPr>
        <p:blipFill>
          <a:blip r:embed="rId1"/>
          <a:stretch/>
        </p:blipFill>
        <p:spPr>
          <a:xfrm>
            <a:off x="-49320" y="-208080"/>
            <a:ext cx="91569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-92160" y="1279440"/>
            <a:ext cx="8400960" cy="1519200"/>
          </a:xfrm>
          <a:prstGeom prst="rect">
            <a:avLst/>
          </a:prstGeom>
          <a:ln w="0">
            <a:noFill/>
          </a:ln>
        </p:spPr>
      </p:pic>
      <p:pic>
        <p:nvPicPr>
          <p:cNvPr id="115" name="Текст 2" descr=""/>
          <p:cNvPicPr/>
          <p:nvPr/>
        </p:nvPicPr>
        <p:blipFill>
          <a:blip r:embed="rId2"/>
          <a:stretch/>
        </p:blipFill>
        <p:spPr>
          <a:xfrm>
            <a:off x="3724200" y="2835360"/>
            <a:ext cx="4883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96840" y="353880"/>
            <a:ext cx="8583480" cy="2011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71680" y="228564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походження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місцем створе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призначенням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формою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тупенем гласност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тадіями створенн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c007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терміном зберіганн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7:51:23Z</dcterms:created>
  <dc:creator>Admin</dc:creator>
  <dc:description/>
  <dc:language>en-US</dc:language>
  <cp:lastModifiedBy>User</cp:lastModifiedBy>
  <dcterms:modified xsi:type="dcterms:W3CDTF">2012-10-26T07:54:58Z</dcterms:modified>
  <cp:revision>8</cp:revision>
  <dc:subject/>
  <dc:title>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45000000000001024140</vt:lpwstr>
  </property>
</Properties>
</file>