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DB6-250A-4349-9F33-44A9B3A9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6B8-3E5D-4A4C-B713-9650DFC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AE0-C135-4D75-BCEC-86C0AD8D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2B9-82DA-4349-AD3F-43B079F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658-B867-46D0-8DAE-F238C1A9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40D-C95B-40DD-8BD6-D746B697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18B-A74B-40B7-AFD5-D81C876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D671-F756-48F7-8B08-0431532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DD1D-3F23-42C2-9334-A765565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6696-04E8-4762-AF34-22EC4F3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072-79D1-4B84-8136-7222DF5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CA8-4996-4CAC-9CB4-B378255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2C4-0363-482E-929D-84CA45C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512E-1F4E-4619-A328-5EE7FA3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5F7-2C25-4399-84C0-D67C9E51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FC6-A3AC-4972-A9CD-3154F3D2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088-C8C2-4410-A4AA-45A51168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4B3-7C5F-4FB3-94DC-597B6A8C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15B-23A5-4BAC-959A-098EBF5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121-FACA-46E6-A2BF-6E246C7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485-4086-4A0B-8F19-24F4A891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DED-55DA-4BF7-BEF8-9DCC103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2B5-5D8D-46F6-B31C-9415252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89D-166D-4AC6-9463-B37427A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A15E-6352-4D42-BD2E-27C618A9B5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B15-62A4-4801-9052-93740B94EC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cc66"/>
                </a:solidFill>
                <a:latin typeface="Times New Roman"/>
              </a:rPr>
              <a:t>Дієприслівник</a:t>
            </a:r>
            <a:r>
              <a:rPr b="0" lang="ru-RU" sz="6600" spc="-1" strike="noStrike">
                <a:solidFill>
                  <a:srgbClr val="ffcc66"/>
                </a:solidFill>
                <a:latin typeface="Times New Roman"/>
              </a:rPr>
              <a:t>овий</a:t>
            </a:r>
            <a:br>
              <a:rPr sz="6600"/>
            </a:br>
            <a:r>
              <a:rPr b="0" lang="ru-RU" sz="6600" spc="-1" strike="noStrike">
                <a:solidFill>
                  <a:srgbClr val="ffcc66"/>
                </a:solidFill>
                <a:latin typeface="Times New Roman"/>
              </a:rPr>
              <a:t>зворот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000"/>
                </a:solidFill>
                <a:latin typeface="Times New Roman"/>
              </a:rPr>
              <a:t>Дієприслівник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436040" y="220500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imes New Roman"/>
              </a:rPr>
              <a:t>Ознаки діє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688000" y="2143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imes New Roman"/>
              </a:rPr>
              <a:t>Ознаки прислів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55640" y="3851280"/>
            <a:ext cx="576360" cy="1368360"/>
          </a:xfrm>
          <a:prstGeom prst="rect">
            <a:avLst/>
          </a:prstGeom>
          <a:solidFill>
            <a:srgbClr val="00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2124000" y="4365720"/>
            <a:ext cx="576360" cy="1368360"/>
          </a:xfrm>
          <a:prstGeom prst="rect">
            <a:avLst/>
          </a:prstGeom>
          <a:solidFill>
            <a:srgbClr val="00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611200">
            <a:off x="5003640" y="1413000"/>
            <a:ext cx="1224000" cy="5745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8221200">
            <a:off x="2700360" y="1484280"/>
            <a:ext cx="1224000" cy="5745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611200">
            <a:off x="7380000" y="2852640"/>
            <a:ext cx="1224000" cy="5749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8221200">
            <a:off x="5363640" y="2852280"/>
            <a:ext cx="1224000" cy="5749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8221200">
            <a:off x="900000" y="2924280"/>
            <a:ext cx="1224000" cy="5745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611200">
            <a:off x="2698920" y="2914200"/>
            <a:ext cx="1223640" cy="57492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798920" y="3094560"/>
            <a:ext cx="1224000" cy="5749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3564000" y="3860640"/>
            <a:ext cx="576360" cy="1368720"/>
          </a:xfrm>
          <a:prstGeom prst="rect">
            <a:avLst/>
          </a:prstGeom>
          <a:solidFill>
            <a:srgbClr val="00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219640" y="3716280"/>
            <a:ext cx="576360" cy="1368360"/>
          </a:xfrm>
          <a:prstGeom prst="rect">
            <a:avLst/>
          </a:prstGeom>
          <a:solidFill>
            <a:srgbClr val="00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8244000" y="3716280"/>
            <a:ext cx="576000" cy="1368360"/>
          </a:xfrm>
          <a:prstGeom prst="rect">
            <a:avLst/>
          </a:prstGeom>
          <a:solidFill>
            <a:srgbClr val="00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765000"/>
            <a:ext cx="820908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Розподільний  диктан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писати в дві колонк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 дієприкметники,  2 -дієприслівн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мальований, намалювавши, загорілий, сходжений, писаний, писавши, сидячи, посивілий, зробивши, донісш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Times New Roman"/>
              </a:rPr>
              <a:t>Здрастуй осін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Як же непомітно і швидко надійшла осінь! Мабуть, давно вже сиділа вона, причаївшись у високій кукурудзі, на городі. А вранці Василько побачив її . Вона стояла просто серед городу і тепер уже не ховалась і не крилась, бо й ховатися їй не було куд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Здрастуй осінь! Ми раді тобі золотоволоса багатирко! Правду кажучи, ми чекали твого приїзду. Ми працювали не відпочиваючи. Засіваючи в полі хліб, обгортаючи на городі картоплю, підпушуючи струнку кукурудзу, обкопуючи в садку крислаті яблуні, ми все літо чекали цього дня, коли загуркоче за ворітьми твій повен - повнісінький грузовик і коли майне твоя яскрава, жовтогаряча плах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(За О.Донченко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Times New Roman"/>
              </a:rPr>
              <a:t>Мабуть, давно вже сиділа вона, причаївшись у високій кукурудзі, на городі.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53964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єприслівник із залежними від нього словами називається дієприслівниковим зворо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У вимові дієприслівниковий зворот виділяється інтонацією, на письмі – кома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380880" y="105264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uk-UA" sz="3200" spc="-1" strike="noStrike">
                <a:solidFill>
                  <a:srgbClr val="ffc000"/>
                </a:solidFill>
                <a:latin typeface="Times New Roman"/>
              </a:rPr>
              <a:t>Дієприслівник + залежне сл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єприслівниковий зворо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500720" y="1467000"/>
            <a:ext cx="285480" cy="45720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500120" y="23241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uk-UA" sz="3200" spc="-1" strike="noStrike" u="sng">
                <a:solidFill>
                  <a:srgbClr val="ffc000"/>
                </a:solidFill>
                <a:uFillTx/>
                <a:latin typeface="Times New Roman"/>
              </a:rPr>
              <a:t>Не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виділяється ком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79280" y="3244680"/>
            <a:ext cx="5105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Times New Roman"/>
              </a:rPr>
              <a:t>1.Дієприслівниковий зворот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фразеологічного</a:t>
            </a:r>
            <a:r>
              <a:rPr b="0" lang="uk-UA" sz="2400" spc="-1" strike="noStrike">
                <a:solidFill>
                  <a:srgbClr val="ffc000"/>
                </a:solidFill>
                <a:latin typeface="Times New Roman"/>
              </a:rPr>
              <a:t> тип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Times New Roman"/>
              </a:rPr>
              <a:t>2.Одиничний дієприслівник,що відповідає на питання </a:t>
            </a:r>
            <a:r>
              <a:rPr b="0" i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як</a:t>
            </a:r>
            <a:r>
              <a:rPr b="0" lang="uk-UA" sz="2400" spc="-1" strike="noStrike">
                <a:solidFill>
                  <a:srgbClr val="ffc000"/>
                </a:solidFill>
                <a:latin typeface="Times New Roman"/>
              </a:rPr>
              <a:t> і стоїть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ісля присудка</a:t>
            </a:r>
            <a:r>
              <a:rPr b="0" lang="uk-UA" sz="24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214960" y="3324240"/>
            <a:ext cx="39290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іти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бігли не чуючи ні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Ми працювали не відпочиваю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10920"/>
            <a:ext cx="8785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Списати речення, вставляючи пропущені букви та розділові зна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9900"/>
                </a:solidFill>
                <a:latin typeface="Times New Roman"/>
              </a:rPr>
              <a:t>I</a:t>
            </a:r>
            <a:r>
              <a:rPr b="1" lang="uk-UA" sz="4000" spc="-1" strike="noStrike">
                <a:solidFill>
                  <a:srgbClr val="cc99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cc9900"/>
                </a:solidFill>
                <a:latin typeface="Times New Roman"/>
              </a:rPr>
              <a:t>варіа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Здається ніби осінь  обв..ваючи своїм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ш..вковими крилами  н..се  т..бе  у  кр..їну  тихої заду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cc99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cc9900"/>
                </a:solidFill>
                <a:latin typeface="Times New Roman"/>
              </a:rPr>
              <a:t>варіа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С..огодні  одягли з..л..ту  п..рчу  кл..ни  задивившись у  с..няву       н..бе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8900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Складіть речення,вводячи в них дієприслівникові звороти . Поставте розділові знаки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9900"/>
                </a:solidFill>
                <a:latin typeface="Times New Roman"/>
              </a:rPr>
              <a:t>I варіант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Виконавши домашнє завдання…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.читаючи книгу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9900"/>
                </a:solidFill>
                <a:latin typeface="Times New Roman"/>
              </a:rPr>
              <a:t>II варіант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.повертаючись з екскурсії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Відвідавши музей…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2:18:24Z</dcterms:created>
  <dc:creator>Гость</dc:creator>
  <dc:description/>
  <dc:language>en-US</dc:language>
  <cp:lastModifiedBy>Admin</cp:lastModifiedBy>
  <dcterms:modified xsi:type="dcterms:W3CDTF">2012-10-15T17:39:01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