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5.jpeg" ContentType="image/jpeg"/>
  <Override PartName="/ppt/media/image11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E38-2F95-42A8-BEF5-807CAA4F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A00-9256-4E16-9414-EE730C33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6FD57-EB98-44E1-A596-414F8AB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D0BCB-A451-48EE-82AA-8024F49C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10844-86DE-4EF7-8F18-442FF44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64A0B-7C40-4525-9AE3-9B6EFB9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4F376-16DE-42BF-8AD3-FF87DCA9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0966-691E-4965-B0E0-22246EB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FF4CE-AF57-4BF6-BEF1-35062B82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CC665-5589-4BC4-A7E7-D72355E3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35929-B32B-4A03-84E0-2330CBDA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8F395-E147-4B84-B2FA-94B941FD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61A-5C40-4C93-9E4D-B2F25983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88BC8-77F3-455E-8CEF-8A240536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E3A05-D299-4563-A9A5-EF491340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8D3F6-230C-4890-9F1A-FCE58A01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C412C-2E88-4920-8302-6C2AB672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22810-8AC7-4AD9-A5A6-2BA8B54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DD0F2-0C73-4BCF-AC58-22339D70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F00B6-415E-4BC9-8ED5-29B837D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FFB2C-2741-4686-A4FC-F89FACC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79F21-0B78-4AB9-B8B8-A5D226DC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033E-2872-4AF0-B575-408B07C7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E1A-8726-4522-B155-5F14394D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9DC56-D1C1-48AF-A61D-37B310CA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4619A-2C7B-4D6F-AEE4-D24476FF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BA4BF-F4F4-4037-B504-4F32BBC7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AD78F-EF47-44EB-9CCB-7A015B3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C18FC-164E-49E2-B312-BA5260D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9E50C-4388-441B-9061-51EEDA56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94D66-997D-4957-9285-9910921E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4CCFE-A5A7-4E9F-972E-8ADFB17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C673-07F8-48D2-BBF9-1C4392BC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D1139-46D9-4B88-851D-5D491E7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1CDC-52D7-467C-9454-F1003A7E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5D84-6E1A-43A7-AE22-A715C11E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A934-A8E1-4F66-9A25-8D54A817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2E797-90E0-4F78-8106-C205CC0B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A0CF1-268B-49E9-8B21-9E29FFF6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7CF29-D48A-4FA0-9CD5-4BD97460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6A4A5-612C-425F-9F74-3FD8E925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AFF24-FC14-4184-A35C-56793974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2728A-CF0C-434F-8CC4-D5EFA989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0C72E-7F1A-4711-A864-425B4319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E898D-B484-44F1-AA44-DCBA0B4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6CF8-1AEB-4332-B086-74675B26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0567A-9D7C-4E3C-ACC4-2398589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9BC91-25B2-44CE-8AAF-C56B008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71999-D7DD-432B-B746-DD7283B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7A4A4-8F07-4BF7-83EC-EB44F49F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76D8D-D3E9-428A-9C17-564731CF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166A9-3BD3-4793-ABC6-1C54C921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77FC9-52BF-4EE0-A7EA-7E474041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FE0A7-3887-4DC4-976B-7FA03ACF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70CFD-958B-4894-90AC-A86D462B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AA3D0-D979-448F-8E63-AECDC4E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5569-F540-48FC-AB7F-5EDA7F93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11C7A-0098-4B28-AE67-C13E4E4E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AB604-C1A6-433F-8F9B-9256DFE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6E4CE-8A3D-4265-8F0D-54D02F3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D6742-235C-46D8-9D26-D3CE021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5ECC0-2969-4372-BB49-49B65E9E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91720-1BE7-4EEC-8A73-02F93074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A73B4-E303-4D17-92D2-4F643740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9D7-D0B8-49B6-BD0A-A021DB48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260F-E738-422C-AF63-9B7F445B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102D-52BF-4B1D-95D7-7C2EC40A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143-D7C3-46EC-9537-14CCCB3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D9D-C6E9-4C0C-87F5-DDA8ACFD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2534-9B8B-41C9-BA58-2AEBC2A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5AA1-1682-40BC-91E7-3724B9F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91D6-3CD6-4335-B23F-AEBAAABD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C686-0525-461F-8D4D-699D425B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E276-7098-4744-A111-A9952C8D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391B-9927-457F-AD51-9F0F580C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3112-6509-41C9-A416-C6BD2F35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EB12-7886-4F7C-BAE1-BB3F63D4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06A1-A712-4F70-B05C-C4986115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02A9-CC88-4D4D-9D51-3F694AE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FA2-ECB4-4176-AACF-C9C6409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ED86-28D1-49CB-9691-EBD6A47F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C48E-9E43-48B2-B634-886F31C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F031-2955-4A7C-A5A5-8E399295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20BF-EA4A-4574-B9F0-ADE0ADA3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0C9B-AD84-4403-BFB5-187600D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4918-DECF-42D1-ABF3-ECFDBB31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27DA-E68F-4321-B8EC-F1AA70F3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AEBC-2868-4262-8ECC-11082E42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F74C-A481-4CBB-9ACA-CC7F7AAD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B793-8AFC-4D63-800D-0A4F54B0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372-933A-413F-9812-BC5648A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6E15-36DA-4E5E-A72A-179E167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8866-98B9-47D6-A60F-E162B97C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A6B0-B4FC-4A93-99B2-FC770D1D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0262-C4ED-44FC-A2B2-3CD6EF5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D47B-86D3-4813-8A01-730A4E0D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412E-4BFD-4DBD-A150-53D7CD94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147E-EAC5-4D20-9D98-70B83D9F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8C64-7A90-4E5D-A0D7-2777CFEA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4947-4234-44A2-8825-20CBB10B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F4BD-9B86-4B62-A59A-1996AF3E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C6B-FC94-49AA-85E0-134ABCAE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1623-160C-42E1-A33B-A515E04A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4B1ED-A1F4-475D-8644-C659BB78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01F2-AA04-48A5-AA51-E6E2C9EF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5BCA-6AE8-47FB-B116-EC74C982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58BE-BF2D-4734-9F31-A3A355A5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5EE0-731E-419E-9938-E57320B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F74F7-BD51-4E2D-BA4E-102F6F19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EC84-CBC5-4382-B3C1-BD22E94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4E81-3E1A-4C28-BB2D-13C06FC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0FDCA-72F9-4FD5-8E87-2F4D858F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701-0303-4C98-B7EF-7F1C4B97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C33C-85FC-4B2B-B4EF-02E4E954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ABA6-0E15-4C30-9644-C0061FDC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07007-6800-411E-8709-5357438D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4BA9-F98D-4C74-8563-76174FCE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53CB-094A-4F39-906A-E0FE881A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9ABCB-8B96-4726-8B55-775F4029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9F65-D2E7-491A-9A6A-1E6A3B19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D91E-AA4C-4A05-A2CE-5FED62D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BAC29-FABC-4F6E-8E7B-E1210E74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6231-3790-4BCD-8A8A-4F5BEEFF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621-61CC-4E01-B872-5157CC34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F346-18FC-4C88-BCAC-6C96D3AB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3B34-A0A4-4D04-993D-CF608995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BB708-0CF1-48AB-9F2D-3577E0A3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331CB-F53A-4CD8-AD99-B46A0109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1748F-C31E-4176-88AB-D201031D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8B8A-C4B5-41B9-862A-E6E25A9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68F9-15B2-4FA2-93F1-763A61E7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BDF76-EDFA-472D-BF18-5B79C0D7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E867-E84E-4B6C-BAAE-FB6E639F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DF2DD-38B2-42B0-AE92-3B983FB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F17-5455-4D97-8C41-C417926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E714-26C4-4439-9277-73C5766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D639-9B54-41D0-9F32-A359921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6AB7-05E5-4B8E-818F-8DE6A69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AC601-95CC-4C2B-8907-4AF7D485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6079-903C-43B2-A596-019F4B37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CF7DF-5408-4DF2-9149-C7C2717C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776E1-4DF8-449D-B022-B8F66A0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406A4-9776-4F99-A346-565BA9FE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78D4-FD89-491F-AAD4-78E6CD57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C9F4-A6E9-49A7-B6D1-FCF43E8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427-FDF4-4A6B-AC49-C425BA8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A0A8-BD71-4CCE-9233-18362EF7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061F7-CDD9-45EC-A5A4-47FBC44D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1115A-09A5-46E3-8EA1-E6195FB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A0466-FB21-45D7-907F-BC46DF0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F5062-005F-4E50-AC30-27005A3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BF58B-8E4C-4181-BE13-F81B3CCE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2EC0-84CE-434E-A100-95089E28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30BB5-1608-43A5-8744-C43157C7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3CD00-766B-4BE3-B5EB-2C30134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00973-E1D8-4069-A0CF-6E29C37D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BFAB-956E-4CEF-AD45-8332C4F72C3A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F58-ECF2-458A-B6D0-B2E1F21989B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7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6" name="Oval 8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7" name="Oval 9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8" name="Oval 10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9" name="Oval 11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0" name="Oval 12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1" name="Oval 13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2" name="Oval 14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3" name="Oval 15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4" name="Oval 16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5" name="Oval 17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6" name="Oval 18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7" name="Oval 19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8" name="Oval 20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7C67-1553-4E7C-BDA6-246DD9EB8383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CC5-80E1-4F94-B0C9-A40009C4BBC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7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2" name="Oval 8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3" name="Oval 9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4" name="Oval 10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5" name="Oval 11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6" name="Oval 12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7" name="Oval 13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8" name="Oval 14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9" name="Oval 15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0" name="Oval 16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1" name="Oval 17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2" name="Oval 18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3" name="Oval 19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4" name="Oval 20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316-1C19-453C-BF96-E2474770D82B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DA98-75F1-4179-8DAF-6729194B7B5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7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9" name="Oval 19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0" name="Oval 20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F5E0-171F-4DBC-87CD-AEE14B9A898E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940-4658-48E5-A4C5-180F9505563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96C0-D613-4F1D-ADD2-613E795F56E2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00B8-C95C-4CF6-8FDE-72EAFB271CD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7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>
                <a:gd name="textAreaLeft" fmla="*/ 317880 w 2171520"/>
                <a:gd name="textAreaRight" fmla="*/ 1853640 w 2171520"/>
                <a:gd name="textAreaTop" fmla="*/ 317880 h 2171520"/>
                <a:gd name="textAreaBottom" fmla="*/ 1853640 h 2171520"/>
              </a:gdLst>
              <a:ahLst/>
              <a:rect l="textAreaLeft" t="textAreaTop" r="textAreaRight" b="textAreaBottom"/>
              <a:pathLst>
                <a:path w="2171700" h="2171700">
                  <a:moveTo>
                    <a:pt x="2171700" y="1085850"/>
                  </a:moveTo>
                  <a:lnTo>
                    <a:pt x="2171700" y="1085850"/>
                  </a:lnTo>
                  <a:arcTo wR="1085850" hR="1085850" stAng="0" swAng="10800003"/>
                  <a:lnTo>
                    <a:pt x="1085850" y="1085850"/>
                  </a:lnTo>
                  <a:close/>
                </a:path>
              </a:pathLst>
            </a:cu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5840"/>
              <a:chOff x="685800" y="0"/>
              <a:chExt cx="8001000" cy="6855840"/>
            </a:xfrm>
          </p:grpSpPr>
          <p:sp>
            <p:nvSpPr>
              <p:cNvPr id="76" name="Freeform 9"/>
              <p:cNvSpPr/>
              <p:nvPr/>
            </p:nvSpPr>
            <p:spPr>
              <a:xfrm>
                <a:off x="685800" y="588024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10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Oval 11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Oval 12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2361960" y="502920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3619440" y="502920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Oval 21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Oval 22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Oval 23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Oval 24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Oval 25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Oval 26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 flipV="1">
                <a:off x="5486400" y="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Oval 28"/>
              <p:cNvSpPr/>
              <p:nvPr/>
            </p:nvSpPr>
            <p:spPr>
              <a:xfrm flipV="1">
                <a:off x="7391520" y="75960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Oval 29"/>
              <p:cNvSpPr/>
              <p:nvPr/>
            </p:nvSpPr>
            <p:spPr>
              <a:xfrm flipV="1">
                <a:off x="5638680" y="6073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Oval 30"/>
              <p:cNvSpPr/>
              <p:nvPr/>
            </p:nvSpPr>
            <p:spPr>
              <a:xfrm flipV="1">
                <a:off x="7162920" y="14976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31"/>
              <p:cNvSpPr/>
              <p:nvPr/>
            </p:nvSpPr>
            <p:spPr>
              <a:xfrm flipV="1">
                <a:off x="6477120" y="7722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32"/>
              <p:cNvSpPr/>
              <p:nvPr/>
            </p:nvSpPr>
            <p:spPr>
              <a:xfrm flipV="1">
                <a:off x="6782040" y="11653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0" name="Oval 33"/>
              <p:cNvSpPr/>
              <p:nvPr/>
            </p:nvSpPr>
            <p:spPr>
              <a:xfrm flipV="1">
                <a:off x="6743880" y="8604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Oval 34"/>
              <p:cNvSpPr/>
              <p:nvPr/>
            </p:nvSpPr>
            <p:spPr>
              <a:xfrm flipV="1">
                <a:off x="7162920" y="10645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 flipV="1">
                <a:off x="7810560" y="207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 flipV="1">
                <a:off x="7772400" y="17748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Oval 37"/>
              <p:cNvSpPr/>
              <p:nvPr/>
            </p:nvSpPr>
            <p:spPr>
              <a:xfrm flipV="1">
                <a:off x="8115480" y="192816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Oval 38"/>
              <p:cNvSpPr/>
              <p:nvPr/>
            </p:nvSpPr>
            <p:spPr>
              <a:xfrm flipV="1">
                <a:off x="8420400" y="16232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Oval 39"/>
              <p:cNvSpPr/>
              <p:nvPr/>
            </p:nvSpPr>
            <p:spPr>
              <a:xfrm flipV="1">
                <a:off x="6184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Oval 40"/>
              <p:cNvSpPr/>
              <p:nvPr/>
            </p:nvSpPr>
            <p:spPr>
              <a:xfrm flipV="1">
                <a:off x="8305920" y="13946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8" name="Oval 41"/>
              <p:cNvSpPr/>
              <p:nvPr/>
            </p:nvSpPr>
            <p:spPr>
              <a:xfrm flipV="1">
                <a:off x="6096240" y="1064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Oval 42"/>
              <p:cNvSpPr/>
              <p:nvPr/>
            </p:nvSpPr>
            <p:spPr>
              <a:xfrm flipV="1">
                <a:off x="6248520" y="12168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Oval 43"/>
              <p:cNvSpPr/>
              <p:nvPr/>
            </p:nvSpPr>
            <p:spPr>
              <a:xfrm flipV="1">
                <a:off x="6400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Oval 44"/>
              <p:cNvSpPr/>
              <p:nvPr/>
            </p:nvSpPr>
            <p:spPr>
              <a:xfrm flipV="1">
                <a:off x="8153640" y="37800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Oval 45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Oval 47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E6C6-F697-4662-977E-4483E8BD109C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901F-5FB0-486C-9B13-CED645CED05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ADFF-7394-439C-9265-9DF177E41FBA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4296-2540-49B1-8599-F14712B908B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6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7"/>
            <p:cNvSpPr/>
            <p:nvPr/>
          </p:nvSpPr>
          <p:spPr>
            <a:xfrm>
              <a:off x="624924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Oval 8"/>
            <p:cNvSpPr/>
            <p:nvPr/>
          </p:nvSpPr>
          <p:spPr>
            <a:xfrm>
              <a:off x="551268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Oval 9"/>
            <p:cNvSpPr/>
            <p:nvPr/>
          </p:nvSpPr>
          <p:spPr>
            <a:xfrm>
              <a:off x="6249240" y="4342320"/>
              <a:ext cx="85896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Oval 10"/>
            <p:cNvSpPr/>
            <p:nvPr/>
          </p:nvSpPr>
          <p:spPr>
            <a:xfrm>
              <a:off x="615708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Oval 11"/>
            <p:cNvSpPr/>
            <p:nvPr/>
          </p:nvSpPr>
          <p:spPr>
            <a:xfrm>
              <a:off x="5697000" y="2133720"/>
              <a:ext cx="1840680" cy="184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7077600" y="58147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480708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Oval 18"/>
            <p:cNvSpPr/>
            <p:nvPr/>
          </p:nvSpPr>
          <p:spPr>
            <a:xfrm>
              <a:off x="4592520" y="513972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496044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532872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720"/>
            <a:ext cx="1179720" cy="1357200"/>
            <a:chOff x="609480" y="990720"/>
            <a:chExt cx="1179720" cy="1357200"/>
          </a:xfrm>
        </p:grpSpPr>
        <p:sp>
          <p:nvSpPr>
            <p:cNvPr id="241" name="Oval 22"/>
            <p:cNvSpPr/>
            <p:nvPr/>
          </p:nvSpPr>
          <p:spPr>
            <a:xfrm>
              <a:off x="898560" y="1456920"/>
              <a:ext cx="890640" cy="8910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 flipV="1">
              <a:off x="647280" y="1295640"/>
              <a:ext cx="355680" cy="355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 flipV="1">
              <a:off x="609480" y="990720"/>
              <a:ext cx="431640" cy="4320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34FB-DDF6-44AF-ADFA-0F04B90655B1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02B-64F5-48D2-A35C-983E6A195A9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6CB6-1D4E-49D3-81BE-4527E74F746E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BB5E-7879-4F92-B277-49BE9B9CF79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D0EC-9BE4-4A44-82D4-05095559265D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14B3-942E-498A-9CD3-4CA037994E1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4A5E-B9EB-40FA-86D4-DD4FF352E96C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ABB0-88F4-4608-904F-2C150C2EC8C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6DEB-EF6F-4FF6-B840-6D0BA40FD8F2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4A61-D672-4DFC-A26A-D0490C728D9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9"/>
            <p:cNvSpPr/>
            <p:nvPr/>
          </p:nvSpPr>
          <p:spPr>
            <a:xfrm>
              <a:off x="4695840" y="5048640"/>
              <a:ext cx="1104120" cy="11044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7065720" y="457236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Oval 11"/>
            <p:cNvSpPr/>
            <p:nvPr/>
          </p:nvSpPr>
          <p:spPr>
            <a:xfrm>
              <a:off x="5339880" y="489528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Oval 12"/>
            <p:cNvSpPr/>
            <p:nvPr/>
          </p:nvSpPr>
          <p:spPr>
            <a:xfrm>
              <a:off x="6693840" y="3048120"/>
              <a:ext cx="1840680" cy="1841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>
              <a:off x="791712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4" name="Oval 14"/>
            <p:cNvSpPr/>
            <p:nvPr/>
          </p:nvSpPr>
          <p:spPr>
            <a:xfrm>
              <a:off x="7824960" y="268596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6" name="Oval 17"/>
            <p:cNvSpPr/>
            <p:nvPr/>
          </p:nvSpPr>
          <p:spPr>
            <a:xfrm>
              <a:off x="655236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7" name="Oval 19"/>
            <p:cNvSpPr/>
            <p:nvPr/>
          </p:nvSpPr>
          <p:spPr>
            <a:xfrm>
              <a:off x="6782040" y="55634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8" name="Oval 20"/>
            <p:cNvSpPr/>
            <p:nvPr/>
          </p:nvSpPr>
          <p:spPr>
            <a:xfrm>
              <a:off x="6705720" y="51822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9" name="Oval 21"/>
            <p:cNvSpPr/>
            <p:nvPr/>
          </p:nvSpPr>
          <p:spPr>
            <a:xfrm>
              <a:off x="707364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90" name="Oval 24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1" name="Oval 25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2AA-BE0D-4591-9486-933B40956C1F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5814-F2F8-40F9-96D5-57ADBC550CC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5cfd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Прямоугольник 5"/>
          <p:cNvSpPr/>
          <p:nvPr/>
        </p:nvSpPr>
        <p:spPr>
          <a:xfrm>
            <a:off x="1258920" y="260280"/>
            <a:ext cx="77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Найбільше багатство - розум.</a:t>
            </a:r>
            <a:r>
              <a:rPr b="0" i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616ff"/>
                </a:solidFill>
                <a:latin typeface="Times New Roman"/>
                <a:ea typeface="Times New Roman"/>
              </a:rPr>
              <a:t>Але Таліб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Навчання - світло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невчення - пітьма.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616ff"/>
                </a:solidFill>
                <a:latin typeface="Times New Roman"/>
                <a:ea typeface="Times New Roman"/>
              </a:rPr>
              <a:t>Емель  Лагідний</a:t>
            </a:r>
            <a:r>
              <a:rPr b="0" lang="uk-UA" sz="3200" spc="-1" strike="noStrike">
                <a:solidFill>
                  <a:srgbClr val="5616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6" name="Picture 70" descr="weatherwoman_without_map_hg_clr"/>
          <p:cNvPicPr/>
          <p:nvPr/>
        </p:nvPicPr>
        <p:blipFill>
          <a:blip r:embed="rId1"/>
          <a:stretch/>
        </p:blipFill>
        <p:spPr>
          <a:xfrm>
            <a:off x="1403280" y="1268280"/>
            <a:ext cx="3078360" cy="515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c7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Заголовок 1" descr=""/>
          <p:cNvPicPr/>
          <p:nvPr/>
        </p:nvPicPr>
        <p:blipFill>
          <a:blip r:embed="rId1"/>
          <a:stretch/>
        </p:blipFill>
        <p:spPr>
          <a:xfrm>
            <a:off x="433440" y="341280"/>
            <a:ext cx="8607240" cy="5572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Заголовок 1" descr=""/>
          <p:cNvPicPr/>
          <p:nvPr/>
        </p:nvPicPr>
        <p:blipFill>
          <a:blip r:embed="rId1"/>
          <a:stretch/>
        </p:blipFill>
        <p:spPr>
          <a:xfrm>
            <a:off x="1511280" y="1073160"/>
            <a:ext cx="7456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6d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Заголовок 1" descr=""/>
          <p:cNvPicPr/>
          <p:nvPr/>
        </p:nvPicPr>
        <p:blipFill>
          <a:blip r:embed="rId1"/>
          <a:stretch/>
        </p:blipFill>
        <p:spPr>
          <a:xfrm>
            <a:off x="1182600" y="1944720"/>
            <a:ext cx="6881760" cy="1865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C:\Documents and Settings\Admin\Рабочий стол\для открытого урока\77289ac30179bd43588556cea5700289.jpeg"/>
          <p:cNvPicPr/>
          <p:nvPr/>
        </p:nvPicPr>
        <p:blipFill>
          <a:blip r:embed="rId1"/>
          <a:stretch/>
        </p:blipFill>
        <p:spPr>
          <a:xfrm>
            <a:off x="0" y="907920"/>
            <a:ext cx="9029880" cy="5950080"/>
          </a:xfrm>
          <a:prstGeom prst="rect">
            <a:avLst/>
          </a:prstGeom>
          <a:ln w="0">
            <a:noFill/>
          </a:ln>
        </p:spPr>
      </p:pic>
      <p:pic>
        <p:nvPicPr>
          <p:cNvPr id="914" name="Заголовок 1" descr=""/>
          <p:cNvPicPr/>
          <p:nvPr/>
        </p:nvPicPr>
        <p:blipFill>
          <a:blip r:embed="rId2"/>
          <a:stretch/>
        </p:blipFill>
        <p:spPr>
          <a:xfrm>
            <a:off x="171360" y="-6480"/>
            <a:ext cx="8979120" cy="2505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" descr="C:\Documents and Settings\Admin\Рабочий стол\для открытого урока\jurnal-rad-j.jpg"/>
          <p:cNvPicPr/>
          <p:nvPr/>
        </p:nvPicPr>
        <p:blipFill>
          <a:blip r:embed="rId1"/>
          <a:stretch/>
        </p:blipFill>
        <p:spPr>
          <a:xfrm>
            <a:off x="250920" y="189000"/>
            <a:ext cx="2649600" cy="352728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3" descr="C:\Documents and Settings\Admin\Рабочий стол\для открытого урока\0_5e14d_16f736a7_XL.png"/>
          <p:cNvPicPr/>
          <p:nvPr/>
        </p:nvPicPr>
        <p:blipFill>
          <a:blip r:embed="rId2"/>
          <a:stretch/>
        </p:blipFill>
        <p:spPr>
          <a:xfrm rot="21007800">
            <a:off x="175680" y="3119400"/>
            <a:ext cx="1614600" cy="220176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" descr="C:\Documents and Settings\Admin\Рабочий стол\для открытого урока\0_5e15b_9682183a_XL.jpg"/>
          <p:cNvPicPr/>
          <p:nvPr/>
        </p:nvPicPr>
        <p:blipFill>
          <a:blip r:embed="rId3"/>
          <a:stretch/>
        </p:blipFill>
        <p:spPr>
          <a:xfrm rot="606000">
            <a:off x="1512360" y="3625920"/>
            <a:ext cx="1621080" cy="221760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5" descr="C:\Documents and Settings\Admin\Рабочий стол\для открытого урока\0_5e152_e673fec2_XL.jpg"/>
          <p:cNvPicPr/>
          <p:nvPr/>
        </p:nvPicPr>
        <p:blipFill>
          <a:blip r:embed="rId4"/>
          <a:stretch/>
        </p:blipFill>
        <p:spPr>
          <a:xfrm rot="20924400">
            <a:off x="645840" y="4754160"/>
            <a:ext cx="1468440" cy="1979640"/>
          </a:xfrm>
          <a:prstGeom prst="rect">
            <a:avLst/>
          </a:prstGeom>
          <a:ln w="0">
            <a:noFill/>
          </a:ln>
        </p:spPr>
      </p:pic>
      <p:pic>
        <p:nvPicPr>
          <p:cNvPr id="919" name="Заголовок 10" descr=""/>
          <p:cNvPicPr/>
          <p:nvPr/>
        </p:nvPicPr>
        <p:blipFill>
          <a:blip r:embed="rId5"/>
          <a:stretch/>
        </p:blipFill>
        <p:spPr>
          <a:xfrm>
            <a:off x="3127320" y="378000"/>
            <a:ext cx="5845320" cy="565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7517880" y="5231880"/>
            <a:ext cx="1347120" cy="1347120"/>
          </a:xfrm>
          <a:prstGeom prst="rect">
            <a:avLst/>
          </a:prstGeom>
          <a:solidFill>
            <a:srgbClr val="d7c8fe"/>
          </a:solidFill>
          <a:ln w="0">
            <a:noFill/>
          </a:ln>
        </p:spPr>
        <p:txBody>
          <a:bodyPr lIns="45720" rIns="45720" anchor="ctr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1" name="Picture 2" descr="C:\Documents and Settings\Admin\Рабочий стол\для открытого урока\Dnipro.JPG"/>
          <p:cNvPicPr/>
          <p:nvPr/>
        </p:nvPicPr>
        <p:blipFill>
          <a:blip r:embed="rId1"/>
          <a:stretch/>
        </p:blipFill>
        <p:spPr>
          <a:xfrm>
            <a:off x="6566040" y="182520"/>
            <a:ext cx="2444760" cy="6864480"/>
          </a:xfrm>
          <a:prstGeom prst="rect">
            <a:avLst/>
          </a:prstGeom>
          <a:ln w="0">
            <a:noFill/>
          </a:ln>
        </p:spPr>
      </p:pic>
      <p:pic>
        <p:nvPicPr>
          <p:cNvPr id="922" name="Рисунок 5" descr="http://upload.wikimedia.org/wikipedia/uk/thumb/4/49/Dnipro_1965.jpg/220px-Dnipro_1965.jpg"/>
          <p:cNvPicPr/>
          <p:nvPr/>
        </p:nvPicPr>
        <p:blipFill>
          <a:blip r:embed="rId2"/>
          <a:stretch/>
        </p:blipFill>
        <p:spPr>
          <a:xfrm>
            <a:off x="7020000" y="3716280"/>
            <a:ext cx="1735200" cy="231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3" name="Заголовок 4" descr=""/>
          <p:cNvPicPr/>
          <p:nvPr/>
        </p:nvPicPr>
        <p:blipFill>
          <a:blip r:embed="rId3"/>
          <a:stretch/>
        </p:blipFill>
        <p:spPr>
          <a:xfrm>
            <a:off x="334800" y="255600"/>
            <a:ext cx="6334200" cy="613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7517880" y="467280"/>
            <a:ext cx="1347120" cy="1347480"/>
          </a:xfrm>
          <a:prstGeom prst="rect">
            <a:avLst/>
          </a:prstGeom>
          <a:solidFill>
            <a:srgbClr val="d7c8fe"/>
          </a:solidFill>
          <a:ln w="0">
            <a:noFill/>
          </a:ln>
        </p:spPr>
        <p:txBody>
          <a:bodyPr lIns="45720" rIns="45720" anchor="ctr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5" name="Заголовок 1" descr=""/>
          <p:cNvPicPr/>
          <p:nvPr/>
        </p:nvPicPr>
        <p:blipFill>
          <a:blip r:embed="rId1"/>
          <a:stretch/>
        </p:blipFill>
        <p:spPr>
          <a:xfrm>
            <a:off x="1444680" y="493560"/>
            <a:ext cx="6877080" cy="1268640"/>
          </a:xfrm>
          <a:prstGeom prst="rect">
            <a:avLst/>
          </a:prstGeom>
          <a:ln w="0">
            <a:noFill/>
          </a:ln>
        </p:spPr>
      </p:pic>
      <p:sp>
        <p:nvSpPr>
          <p:cNvPr id="926" name="Прямоугольник 4"/>
          <p:cNvSpPr/>
          <p:nvPr/>
        </p:nvSpPr>
        <p:spPr>
          <a:xfrm>
            <a:off x="1187280" y="198900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Ось і уроку кінець!</a:t>
            </a:r>
            <a:br>
              <a:rPr sz="2800"/>
            </a:br>
            <a:r>
              <a:rPr b="1" lang="uk-UA" sz="2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Хто працював, той молодець.</a:t>
            </a:r>
            <a:br>
              <a:rPr sz="2800"/>
            </a:br>
            <a:r>
              <a:rPr b="1" lang="uk-UA" sz="2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Що сподобалося вам, поділіться.</a:t>
            </a:r>
            <a:br>
              <a:rPr sz="2800"/>
            </a:br>
            <a:r>
              <a:rPr b="1" lang="uk-UA" sz="2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Що сумним було, пожаліться.</a:t>
            </a:r>
            <a:br>
              <a:rPr sz="2800"/>
            </a:br>
            <a:r>
              <a:rPr b="1" lang="uk-UA" sz="2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Хто працював погано, хто – примірно,</a:t>
            </a:r>
            <a:br>
              <a:rPr sz="2800"/>
            </a:br>
            <a:r>
              <a:rPr b="1" lang="uk-UA" sz="2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Оцініть себе, діти, мудро і вірно.</a:t>
            </a:r>
            <a:br>
              <a:rPr sz="2800"/>
            </a:br>
            <a:r>
              <a:rPr b="1" lang="uk-UA" sz="2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Час урок кінчати, додому завдання писа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6d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Заголовок 2" descr=""/>
          <p:cNvPicPr/>
          <p:nvPr/>
        </p:nvPicPr>
        <p:blipFill>
          <a:blip r:embed="rId1"/>
          <a:stretch/>
        </p:blipFill>
        <p:spPr>
          <a:xfrm>
            <a:off x="1494000" y="811080"/>
            <a:ext cx="6937200" cy="346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Подзаголовок 2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1146240" y="401760"/>
            <a:ext cx="6205320" cy="4389480"/>
          </a:xfrm>
          <a:prstGeom prst="rect">
            <a:avLst/>
          </a:prstGeom>
          <a:ln w="0">
            <a:noFill/>
          </a:ln>
        </p:spPr>
      </p:pic>
      <p:pic>
        <p:nvPicPr>
          <p:cNvPr id="878" name="Заголовок 1" descr=""/>
          <p:cNvPicPr/>
          <p:nvPr/>
        </p:nvPicPr>
        <p:blipFill>
          <a:blip r:embed="rId2"/>
          <a:stretch/>
        </p:blipFill>
        <p:spPr>
          <a:xfrm>
            <a:off x="1322280" y="1189080"/>
            <a:ext cx="7102440" cy="14875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8" descr="business_man_dropped_papers_hg_clr"/>
          <p:cNvPicPr/>
          <p:nvPr/>
        </p:nvPicPr>
        <p:blipFill>
          <a:blip r:embed="rId3"/>
          <a:stretch/>
        </p:blipFill>
        <p:spPr>
          <a:xfrm>
            <a:off x="6570720" y="3689280"/>
            <a:ext cx="2573280" cy="3168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-360" y="3284640"/>
            <a:ext cx="2133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881" name="Текст 5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731880" y="414360"/>
            <a:ext cx="2865240" cy="1463760"/>
          </a:xfrm>
          <a:prstGeom prst="rect">
            <a:avLst/>
          </a:prstGeom>
          <a:ln w="0">
            <a:noFill/>
          </a:ln>
        </p:spPr>
      </p:pic>
      <p:pic>
        <p:nvPicPr>
          <p:cNvPr id="882" name="Рисунок 4" descr=""/>
          <p:cNvPicPr/>
          <p:nvPr/>
        </p:nvPicPr>
        <p:blipFill>
          <a:blip r:embed="rId3">
            <a:alphaModFix amt="20000"/>
          </a:blip>
          <a:stretch/>
        </p:blipFill>
        <p:spPr>
          <a:xfrm>
            <a:off x="5187960" y="122400"/>
            <a:ext cx="4016520" cy="3485880"/>
          </a:xfrm>
          <a:prstGeom prst="rect">
            <a:avLst/>
          </a:prstGeom>
          <a:ln w="0">
            <a:noFill/>
          </a:ln>
        </p:spPr>
      </p:pic>
      <p:pic>
        <p:nvPicPr>
          <p:cNvPr id="883" name="Рисунок 6" descr=""/>
          <p:cNvPicPr/>
          <p:nvPr/>
        </p:nvPicPr>
        <p:blipFill>
          <a:blip r:embed="rId4">
            <a:alphaModFix amt="20000"/>
          </a:blip>
          <a:stretch/>
        </p:blipFill>
        <p:spPr>
          <a:xfrm>
            <a:off x="2200320" y="2133720"/>
            <a:ext cx="4187880" cy="2871720"/>
          </a:xfrm>
          <a:prstGeom prst="rect">
            <a:avLst/>
          </a:prstGeom>
          <a:ln w="0">
            <a:noFill/>
          </a:ln>
        </p:spPr>
      </p:pic>
      <p:sp>
        <p:nvSpPr>
          <p:cNvPr id="884" name="Прямоугольник 7"/>
          <p:cNvSpPr/>
          <p:nvPr/>
        </p:nvSpPr>
        <p:spPr>
          <a:xfrm>
            <a:off x="5614920" y="90792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a4d1d"/>
                </a:solidFill>
                <a:latin typeface="Times New Roman"/>
                <a:ea typeface="Times New Roman"/>
              </a:rPr>
              <a:t>узагальнити й систематизувати набуті знання про дієприслівни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5" name="Рисунок 6"/>
          <p:cNvGrpSpPr/>
          <p:nvPr/>
        </p:nvGrpSpPr>
        <p:grpSpPr>
          <a:xfrm>
            <a:off x="5437080" y="3432240"/>
            <a:ext cx="3767400" cy="2523960"/>
            <a:chOff x="5437080" y="3432240"/>
            <a:chExt cx="3767400" cy="2523960"/>
          </a:xfrm>
        </p:grpSpPr>
        <p:pic>
          <p:nvPicPr>
            <p:cNvPr id="886" name="Рисунок 6" descr=""/>
            <p:cNvPicPr/>
            <p:nvPr/>
          </p:nvPicPr>
          <p:blipFill>
            <a:blip r:embed="rId5"/>
            <a:stretch/>
          </p:blipFill>
          <p:spPr>
            <a:xfrm>
              <a:off x="5437080" y="3432240"/>
              <a:ext cx="376740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6040440" y="3851280"/>
              <a:ext cx="257184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88" name="Прямоугольник 9"/>
          <p:cNvSpPr/>
          <p:nvPr/>
        </p:nvSpPr>
        <p:spPr>
          <a:xfrm>
            <a:off x="2411280" y="256536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a4d1d"/>
                </a:solidFill>
                <a:latin typeface="Times New Roman"/>
                <a:ea typeface="Times New Roman"/>
              </a:rPr>
              <a:t>удосконалювати вміння відрізняти дієприслівник від частин мов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9" name="Прямоугольник 10"/>
          <p:cNvSpPr/>
          <p:nvPr/>
        </p:nvSpPr>
        <p:spPr>
          <a:xfrm>
            <a:off x="5940360" y="3860640"/>
            <a:ext cx="27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a4d1d"/>
                </a:solidFill>
                <a:latin typeface="Times New Roman"/>
                <a:ea typeface="Times New Roman"/>
              </a:rPr>
              <a:t>розвивати уяву, логічне та образне мисленн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90" name="Рисунок 6"/>
          <p:cNvGrpSpPr/>
          <p:nvPr/>
        </p:nvGrpSpPr>
        <p:grpSpPr>
          <a:xfrm>
            <a:off x="-324000" y="4614840"/>
            <a:ext cx="6651720" cy="2303640"/>
            <a:chOff x="-324000" y="4614840"/>
            <a:chExt cx="6651720" cy="2303640"/>
          </a:xfrm>
        </p:grpSpPr>
        <p:pic>
          <p:nvPicPr>
            <p:cNvPr id="891" name="Рисунок 6" descr=""/>
            <p:cNvPicPr/>
            <p:nvPr/>
          </p:nvPicPr>
          <p:blipFill>
            <a:blip r:embed="rId6"/>
            <a:stretch/>
          </p:blipFill>
          <p:spPr>
            <a:xfrm>
              <a:off x="-324000" y="4614840"/>
              <a:ext cx="665172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701640" y="5002200"/>
              <a:ext cx="460872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123313"/>
                  </a:solidFill>
                  <a:latin typeface="Times New Roman"/>
                  <a:ea typeface="Times New Roman"/>
                </a:rPr>
                <a:t>виховувати духовний світ учнів, цілісний світогляд, загальнолюдські цінності через вивчення рідної мови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Заголовок 6" descr=""/>
          <p:cNvPicPr/>
          <p:nvPr/>
        </p:nvPicPr>
        <p:blipFill>
          <a:blip r:embed="rId1"/>
          <a:stretch/>
        </p:blipFill>
        <p:spPr>
          <a:xfrm>
            <a:off x="689040" y="901800"/>
            <a:ext cx="7302600" cy="5267160"/>
          </a:xfrm>
          <a:prstGeom prst="rect">
            <a:avLst/>
          </a:prstGeom>
          <a:ln w="0">
            <a:noFill/>
          </a:ln>
        </p:spPr>
      </p:pic>
      <p:pic>
        <p:nvPicPr>
          <p:cNvPr id="894" name="Текст 7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4352760" y="-6480"/>
            <a:ext cx="4546800" cy="1378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Заголовок 3" descr=""/>
          <p:cNvPicPr/>
          <p:nvPr/>
        </p:nvPicPr>
        <p:blipFill>
          <a:blip r:embed="rId1"/>
          <a:stretch/>
        </p:blipFill>
        <p:spPr>
          <a:xfrm>
            <a:off x="182520" y="371520"/>
            <a:ext cx="8570880" cy="5870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2" descr="C:\Documents and Settings\Admin\Рабочий стол\110116203249105837_f0_0.jpg"/>
          <p:cNvPicPr/>
          <p:nvPr/>
        </p:nvPicPr>
        <p:blipFill>
          <a:blip r:embed="rId1"/>
          <a:stretch/>
        </p:blipFill>
        <p:spPr>
          <a:xfrm>
            <a:off x="-66600" y="128520"/>
            <a:ext cx="2981160" cy="8582040"/>
          </a:xfrm>
          <a:prstGeom prst="rect">
            <a:avLst/>
          </a:prstGeom>
          <a:ln w="0">
            <a:noFill/>
          </a:ln>
        </p:spPr>
      </p:pic>
      <p:pic>
        <p:nvPicPr>
          <p:cNvPr id="897" name="Схема 12" descr=""/>
          <p:cNvPicPr/>
          <p:nvPr/>
        </p:nvPicPr>
        <p:blipFill>
          <a:blip r:embed="rId2"/>
          <a:stretch/>
        </p:blipFill>
        <p:spPr>
          <a:xfrm>
            <a:off x="676440" y="311040"/>
            <a:ext cx="8437320" cy="6315120"/>
          </a:xfrm>
          <a:prstGeom prst="rect">
            <a:avLst/>
          </a:prstGeom>
          <a:ln w="0">
            <a:noFill/>
          </a:ln>
        </p:spPr>
      </p:pic>
      <p:pic>
        <p:nvPicPr>
          <p:cNvPr id="898" name="Рисунок 13" descr="thsh.jpg"/>
          <p:cNvPicPr/>
          <p:nvPr/>
        </p:nvPicPr>
        <p:blipFill>
          <a:blip r:embed="rId3">
            <a:alphaModFix amt="20000"/>
          </a:blip>
          <a:stretch/>
        </p:blipFill>
        <p:spPr>
          <a:xfrm>
            <a:off x="1311120" y="3554280"/>
            <a:ext cx="1724040" cy="1828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133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00" name="Рисунок 20" descr="14-7-1.jpg"/>
          <p:cNvPicPr/>
          <p:nvPr/>
        </p:nvPicPr>
        <p:blipFill>
          <a:blip r:embed="rId4">
            <a:alphaModFix amt="20000"/>
          </a:blip>
          <a:stretch/>
        </p:blipFill>
        <p:spPr>
          <a:xfrm>
            <a:off x="1238400" y="5248440"/>
            <a:ext cx="1481040" cy="1628640"/>
          </a:xfrm>
          <a:prstGeom prst="rect">
            <a:avLst/>
          </a:prstGeom>
          <a:ln w="0">
            <a:noFill/>
          </a:ln>
        </p:spPr>
      </p:pic>
      <p:pic>
        <p:nvPicPr>
          <p:cNvPr id="901" name="Рисунок 25" descr="LeonidGlibov.jpg"/>
          <p:cNvPicPr/>
          <p:nvPr/>
        </p:nvPicPr>
        <p:blipFill>
          <a:blip r:embed="rId5">
            <a:alphaModFix amt="20000"/>
          </a:blip>
          <a:stretch/>
        </p:blipFill>
        <p:spPr>
          <a:xfrm>
            <a:off x="-396720" y="4224240"/>
            <a:ext cx="2152440" cy="21463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Заголовок 9" descr=""/>
          <p:cNvPicPr/>
          <p:nvPr/>
        </p:nvPicPr>
        <p:blipFill>
          <a:blip r:embed="rId1"/>
          <a:stretch/>
        </p:blipFill>
        <p:spPr>
          <a:xfrm>
            <a:off x="2646360" y="-285840"/>
            <a:ext cx="6033960" cy="1822680"/>
          </a:xfrm>
          <a:prstGeom prst="rect">
            <a:avLst/>
          </a:prstGeom>
          <a:ln w="0">
            <a:noFill/>
          </a:ln>
        </p:spPr>
      </p:pic>
      <p:sp>
        <p:nvSpPr>
          <p:cNvPr id="903" name="Прямоугольник 14"/>
          <p:cNvSpPr/>
          <p:nvPr/>
        </p:nvSpPr>
        <p:spPr>
          <a:xfrm>
            <a:off x="395280" y="1484280"/>
            <a:ext cx="8353440" cy="512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Гра «Так/ні»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Робота з сигнальними картками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1.  Дієприслівник - це особлива форма дієслова, що вказує на додаткову дію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2.  Дієприслівники поєднують </a:t>
            </a:r>
            <a:r>
              <a:rPr b="0" lang="ru-RU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ознаки</a:t>
            </a: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 дієслова та прислівник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3.  Дієприслівники бувають тільки доконаного виду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4.   Дієприсл.   недоконаного   виду   утворюються   за   допомогою суфіксів ши -, вши - 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6.   Слова    «опадаючи,    «квітнучи»,    «радіючи»    -    дієприслівники недоконаного виду               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7.  Дієприслівники разом із залежними  словами утворюють дієприслівниковий зворот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8.  В реченні дієприслівники виступають обставиною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9.  Дієприслівники «не/хтуючи», «не/волячи», «не/навидячи» пишуться з НЕ окремо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Заголовок 1" descr=""/>
          <p:cNvPicPr/>
          <p:nvPr/>
        </p:nvPicPr>
        <p:blipFill>
          <a:blip r:embed="rId2"/>
          <a:stretch/>
        </p:blipFill>
        <p:spPr>
          <a:xfrm>
            <a:off x="1444680" y="-73080"/>
            <a:ext cx="6877080" cy="1835280"/>
          </a:xfrm>
          <a:prstGeom prst="rect">
            <a:avLst/>
          </a:prstGeom>
          <a:ln w="0">
            <a:noFill/>
          </a:ln>
        </p:spPr>
      </p:pic>
      <p:pic>
        <p:nvPicPr>
          <p:cNvPr id="905" name="Заголовок 9" descr=""/>
          <p:cNvPicPr/>
          <p:nvPr/>
        </p:nvPicPr>
        <p:blipFill>
          <a:blip r:embed="rId3"/>
          <a:stretch/>
        </p:blipFill>
        <p:spPr>
          <a:xfrm>
            <a:off x="2840040" y="255600"/>
            <a:ext cx="5767560" cy="1353960"/>
          </a:xfrm>
          <a:prstGeom prst="rect">
            <a:avLst/>
          </a:prstGeom>
          <a:ln w="0">
            <a:noFill/>
          </a:ln>
        </p:spPr>
      </p:pic>
      <p:sp>
        <p:nvSpPr>
          <p:cNvPr id="906" name="Прямоугольник 9"/>
          <p:cNvSpPr/>
          <p:nvPr/>
        </p:nvSpPr>
        <p:spPr>
          <a:xfrm>
            <a:off x="395280" y="3429000"/>
            <a:ext cx="7921800" cy="1068840"/>
          </a:xfrm>
          <a:prstGeom prst="rect">
            <a:avLst/>
          </a:prstGeom>
          <a:solidFill>
            <a:srgbClr val="ffffff"/>
          </a:solidFill>
          <a:ln w="44280">
            <a:solidFill>
              <a:srgbClr val="3d00f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Відгадати загадку, знайти у ній дієприслівник та охарактеризувати його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7" name="Rectangle 1"/>
          <p:cNvSpPr/>
          <p:nvPr/>
        </p:nvSpPr>
        <p:spPr>
          <a:xfrm>
            <a:off x="2052720" y="220788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Заморочки з боч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Прямоугольник 4" descr=""/>
          <p:cNvPicPr/>
          <p:nvPr/>
        </p:nvPicPr>
        <p:blipFill>
          <a:blip r:embed="rId1"/>
          <a:stretch/>
        </p:blipFill>
        <p:spPr>
          <a:xfrm>
            <a:off x="3340080" y="109440"/>
            <a:ext cx="5200560" cy="609840"/>
          </a:xfrm>
          <a:prstGeom prst="rect">
            <a:avLst/>
          </a:prstGeom>
          <a:ln w="0">
            <a:noFill/>
          </a:ln>
        </p:spPr>
      </p:pic>
      <p:sp>
        <p:nvSpPr>
          <p:cNvPr id="909" name="Прямоугольник 9"/>
          <p:cNvSpPr/>
          <p:nvPr/>
        </p:nvSpPr>
        <p:spPr>
          <a:xfrm>
            <a:off x="539640" y="907920"/>
            <a:ext cx="8209080" cy="5213880"/>
          </a:xfrm>
          <a:prstGeom prst="rect">
            <a:avLst/>
          </a:prstGeom>
          <a:solidFill>
            <a:srgbClr val="ffffff"/>
          </a:solidFill>
          <a:ln w="4428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Визначте вид поданих дієприслівників, випишіть їх у дві колонки, позначте суфікси та підкресліть у кожному виписаному слові  другу букву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1) дієприслівники </a:t>
            </a:r>
            <a:r>
              <a:rPr b="1" lang="uk-UA" sz="2400" spc="-1" strike="noStrike" u="sng">
                <a:solidFill>
                  <a:srgbClr val="0c002c"/>
                </a:solidFill>
                <a:uFillTx/>
                <a:latin typeface="Arial"/>
                <a:ea typeface="Times New Roman"/>
              </a:rPr>
              <a:t>недоконаного</a:t>
            </a:r>
            <a:r>
              <a:rPr b="1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 виду;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2) дієприслівники </a:t>
            </a:r>
            <a:r>
              <a:rPr b="1" lang="uk-UA" sz="2400" spc="-1" strike="noStrike" u="sng">
                <a:solidFill>
                  <a:srgbClr val="0c002c"/>
                </a:solidFill>
                <a:uFillTx/>
                <a:latin typeface="Arial"/>
                <a:ea typeface="Times New Roman"/>
              </a:rPr>
              <a:t>доконаного</a:t>
            </a:r>
            <a:r>
              <a:rPr b="1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 виду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Кличучи, встигнувши, допомігши, теревенячи, оклигавши, вживаючи, бачачи, зиркнувши, вразивши, очікуючи, дивлячись, замріявшись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люч.</a:t>
            </a:r>
            <a:r>
              <a:rPr b="1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З других букв прочитайте слова, пропущені у прислів’ї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c002c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c002c"/>
                </a:solidFill>
                <a:latin typeface="Arial"/>
                <a:ea typeface="Times New Roman"/>
              </a:rPr>
              <a:t>“…  </a:t>
            </a:r>
            <a:r>
              <a:rPr b="0" lang="uk-UA" sz="3200" spc="-1" strike="noStrike">
                <a:solidFill>
                  <a:srgbClr val="0c002c"/>
                </a:solidFill>
                <a:latin typeface="Arial"/>
                <a:ea typeface="Times New Roman"/>
              </a:rPr>
              <a:t>й …  іржею візьметься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8:18:01Z</dcterms:created>
  <dc:creator>Admin</dc:creator>
  <dc:description/>
  <dc:language>en-US</dc:language>
  <cp:lastModifiedBy>Таня</cp:lastModifiedBy>
  <dcterms:modified xsi:type="dcterms:W3CDTF">2012-03-10T17:38:2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4c000000000001024140</vt:lpwstr>
  </property>
</Properties>
</file>