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3ECD-6336-4D90-94B8-A31C6F57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C11-C8B6-413D-A0D1-CDF09A8A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9A0-A7AA-43EC-A1CB-1A1294D3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59B7-53D6-40CC-AF91-ED1C5E3B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FE6-B154-45AC-8B42-1A51C783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7C5-6342-4B33-86AD-FE247E91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7315-E232-4419-83E8-010F5E1F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2AE-417F-4C39-AAC6-35817227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654-7161-40A7-AD29-BA219034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2EF-AEEA-47AE-B40A-96FFEB3A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31F-18C0-4EAA-88EF-38D876D8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5F7-9D5C-4EB5-994B-6EF57458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1267-8171-4D79-9CD9-C1812F0142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700" spc="-1" strike="noStrike" u="sng">
                <a:solidFill>
                  <a:srgbClr val="7b454a"/>
                </a:solidFill>
                <a:uFillTx/>
                <a:latin typeface="Times New Roman"/>
                <a:ea typeface="Times New Roman"/>
              </a:rPr>
              <a:t>Тема:</a:t>
            </a:r>
            <a:r>
              <a:rPr b="0" lang="ru-RU" sz="4400" spc="-1" strike="noStrike" u="sng">
                <a:solidFill>
                  <a:srgbClr val="7b454a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5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загальнення й систематизація вивченого про прислівник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360" y="-708120"/>
            <a:ext cx="90010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480" y="121392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Із поданих прислів’їв виписати  прислівники і утворити ступені порівняння. </a:t>
            </a:r>
            <a:br>
              <a:rPr sz="3200"/>
            </a:b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кайся рано встати, а кайся довго спати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 копійка годує довіку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не діло роби сміло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ранком не зробиш, то вечором не згониш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юй влітку, відпочинеш взимку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но робити – весь вік багатіти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71720" y="1071720"/>
            <a:ext cx="692928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Перевіряємо завдання</a:t>
            </a:r>
            <a:r>
              <a:rPr b="0" lang="uk-UA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о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ніше,  ще раніше,  найраніше, щонайраніше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го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овше, ще довше, найдовше, щонайдовше, найбільш довго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іло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міліше, ще сміліше, найсміліше,  щонайсміліше,  найбільш сміло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но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чесніше, ще чесніше, найчесніше, щонайчесніше, найбільш чесн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14280" y="142920"/>
          <a:ext cx="6572520" cy="6622920"/>
        </p:xfrm>
        <a:graphic>
          <a:graphicData uri="http://schemas.openxmlformats.org/drawingml/2006/table">
            <a:tbl>
              <a:tblPr/>
              <a:tblGrid>
                <a:gridCol w="470160"/>
                <a:gridCol w="468360"/>
                <a:gridCol w="469800"/>
                <a:gridCol w="469800"/>
                <a:gridCol w="469800"/>
                <a:gridCol w="468360"/>
                <a:gridCol w="470160"/>
                <a:gridCol w="469800"/>
                <a:gridCol w="468360"/>
                <a:gridCol w="469800"/>
                <a:gridCol w="469800"/>
                <a:gridCol w="470160"/>
                <a:gridCol w="468000"/>
                <a:gridCol w="470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971960" y="150840"/>
          <a:ext cx="487440" cy="4040280"/>
        </p:xfrm>
        <a:graphic>
          <a:graphicData uri="http://schemas.openxmlformats.org/drawingml/2006/table">
            <a:tbl>
              <a:tblPr/>
              <a:tblGrid>
                <a:gridCol w="487440"/>
              </a:tblGrid>
              <a:tr h="40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971960" y="168120"/>
          <a:ext cx="496800" cy="4046760"/>
        </p:xfrm>
        <a:graphic>
          <a:graphicData uri="http://schemas.openxmlformats.org/drawingml/2006/table">
            <a:tbl>
              <a:tblPr/>
              <a:tblGrid>
                <a:gridCol w="496800"/>
              </a:tblGrid>
              <a:tr h="40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000760" y="887400"/>
          <a:ext cx="2776320" cy="366840"/>
        </p:xfrm>
        <a:graphic>
          <a:graphicData uri="http://schemas.openxmlformats.org/drawingml/2006/table">
            <a:tbl>
              <a:tblPr/>
              <a:tblGrid>
                <a:gridCol w="2776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595680" y="1589040"/>
          <a:ext cx="1905120" cy="365040"/>
        </p:xfrm>
        <a:graphic>
          <a:graphicData uri="http://schemas.openxmlformats.org/drawingml/2006/table">
            <a:tbl>
              <a:tblPr/>
              <a:tblGrid>
                <a:gridCol w="190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931000" y="896760"/>
          <a:ext cx="426960" cy="365400"/>
        </p:xfrm>
        <a:graphic>
          <a:graphicData uri="http://schemas.openxmlformats.org/drawingml/2006/table">
            <a:tbl>
              <a:tblPr/>
              <a:tblGrid>
                <a:gridCol w="426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862680" y="857160"/>
          <a:ext cx="424080" cy="428760"/>
        </p:xfrm>
        <a:graphic>
          <a:graphicData uri="http://schemas.openxmlformats.org/drawingml/2006/table">
            <a:tbl>
              <a:tblPr/>
              <a:tblGrid>
                <a:gridCol w="4240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013280" y="1598760"/>
          <a:ext cx="487440" cy="365040"/>
        </p:xfrm>
        <a:graphic>
          <a:graphicData uri="http://schemas.openxmlformats.org/drawingml/2006/table">
            <a:tbl>
              <a:tblPr/>
              <a:tblGrid>
                <a:gridCol w="48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9720" y="1071720"/>
            <a:ext cx="707220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інчи речення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ене найскладнішим завданням сьогодні було…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2.  Я зясував, що треба ще попрацювати над…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3.   Я отримав за урок  оцінку високого рівня, тому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1720" y="1071720"/>
            <a:ext cx="692928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є завдання:</a:t>
            </a:r>
            <a:br>
              <a:rPr sz="4400"/>
            </a:b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иконати завдання 12 на стор. 127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високий рівень: написати твір на тему “Хто робить кревно, той ходить певно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ілепокладання</a:t>
            </a:r>
            <a:br>
              <a:rPr sz="5400"/>
            </a:br>
            <a:br>
              <a:rPr sz="5400"/>
            </a:br>
            <a:r>
              <a:rPr b="0" lang="uk-UA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ьогодні на уроці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. У якому рядку правильно названо морфологічні ознаки прислівника?</a:t>
            </a:r>
            <a:r>
              <a:rPr b="0" lang="uk-UA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рід, число, відмінок;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час, спосіб;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відмінок, число;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езмінні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r>
              <a:rPr b="0" lang="uk-UA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</a:t>
            </a:r>
            <a:r>
              <a:rPr b="1" lang="uk-UA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 якому рядку до складу всіх словосполучень входять прислівники:</a:t>
            </a:r>
            <a:r>
              <a:rPr b="0" lang="uk-UA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тавитись по/сусідському, дивитись по/вовчому, взяти за/багато;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/багато днів, приносити до/дому, відпочивати по/перше вересня;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іти по/вовчому сліду, співати по/українськи, кинути на/гору;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ідніматися на/гору Ельбрус, іти до/дому, постукати в/друге вікно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7176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r>
              <a:rPr b="0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</a:t>
            </a:r>
            <a:r>
              <a:rPr b="1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 якому рядку </a:t>
            </a:r>
            <a:r>
              <a:rPr b="1" lang="uk-UA" sz="36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не від усіх </a:t>
            </a:r>
            <a:r>
              <a:rPr b="1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ислівників можна утворити ступені порівняння:</a:t>
            </a:r>
            <a:r>
              <a:rPr b="0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арно, корисно, весело, завзято;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ішуче, багато, щойно, далеко;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либоко, рано, швидко, легко;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рого, голосно, важко, зручно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</a:t>
            </a:r>
            <a:r>
              <a:rPr b="0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</a:t>
            </a:r>
            <a:r>
              <a:rPr b="1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 якому рядку всі прислівники пишуться через дефіс</a:t>
            </a:r>
            <a:r>
              <a:rPr b="0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: 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/перше, по/вашому, ні/куди, на/весні;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удь/як, по/братерськи, в/голос, на/певно: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хтозна/де, коли/не/коли, на/бік, у/перше;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/нашому, де/не/де, віч/на/віч, часто/гус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5720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.</a:t>
            </a:r>
            <a:r>
              <a:rPr b="0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 якому рядку всі прислівники пишуться з нн</a:t>
            </a:r>
            <a:r>
              <a:rPr b="0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? 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ума..о, актив..о, безупи..о, со..о;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ідмі..о, стара..о, несказа..о, щоде..о: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егада..о, самовідда..о, нездола..о, дореч..о,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агря..о, не поруш..о, невтом..о, невпи..о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840" y="1571400"/>
            <a:ext cx="89298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. У якому рядку допущено помилку в правописі прислівників?</a:t>
            </a:r>
            <a:r>
              <a:rPr b="0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нь у день, без кінця-краю, віч-на-віч, не до вподоби;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е зло, зозла, час від часу, безперестанку;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 стократ, по-друге, як-небудь, навиворіт;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-моєму, по-зимовому, як-небудь, рік-у-рік.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1720" y="1071720"/>
            <a:ext cx="692928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Правильні відповіді:</a:t>
            </a: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Г;      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;      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;</a:t>
            </a: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;      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;      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6:43:56Z</dcterms:created>
  <dc:creator>Лариса</dc:creator>
  <dc:description/>
  <dc:language>en-US</dc:language>
  <cp:lastModifiedBy>Admin</cp:lastModifiedBy>
  <dcterms:modified xsi:type="dcterms:W3CDTF">2012-01-01T08:48:57Z</dcterms:modified>
  <cp:revision>16</cp:revision>
  <dc:subject/>
  <dc:title>Тема: Узагальнення й систематизація вивченого про прислівни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0b000000000001024140</vt:lpwstr>
  </property>
</Properties>
</file>