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DE4-E1E3-4683-81BC-E8FC575C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A54-78D7-4C9C-8AA3-D9061E87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A0F-E1D8-4495-BED3-026B59DA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B09-6E16-41F6-910A-3FAFCE90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F12-F475-443C-A592-2A057504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49F-0303-4264-9594-8B7D7A16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4AF-25A1-4384-8420-967511B9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FE8-EFE5-47DB-B426-96D515BF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998-28E5-4118-8855-9B54E76B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A6B-8CCB-4343-B354-DC86D788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8A5-3F82-400A-8B5E-019A8660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155-525B-45BB-9D4A-FE86C548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9C79-5CAF-48B4-9AED-DC8DE6097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700" spc="-1" strike="noStrike" u="sng">
                <a:solidFill>
                  <a:srgbClr val="7b454a"/>
                </a:solidFill>
                <a:uFillTx/>
                <a:latin typeface="Times New Roman"/>
                <a:ea typeface="Times New Roman"/>
              </a:rPr>
              <a:t>Тема:</a:t>
            </a:r>
            <a:r>
              <a:rPr b="0" lang="ru-RU" sz="4400" spc="-1" strike="noStrike" u="sng">
                <a:solidFill>
                  <a:srgbClr val="7b454a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5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загальнення й систематизація вивченого про прислівник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-708120"/>
            <a:ext cx="90010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480" y="121392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Із поданих прислів’їв виписати  прислівники і утворити ступені порівняння. </a:t>
            </a:r>
            <a:br>
              <a:rPr sz="32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айся рано встати, а кайся довго спати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 копійка годує довіку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е діло роби сміло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ранком не зробиш, то вечором не згониш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юй влітку, відпочинеш взимку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 робити – весь вік багатіти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1720" y="1071720"/>
            <a:ext cx="692928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Перевіряємо завдання</a:t>
            </a:r>
            <a:r>
              <a:rPr b="0" lang="uk-UA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ніше,  ще раніше,  найраніше, щонайраніше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го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вше, ще довше, найдовше, щонайдовше, найбільш довго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іло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міліше, ще сміліше, найсміліше,  щонайсміліше,  найбільш сміло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есніше, ще чесніше, найчесніше, щонайчесніше, найбільш чесн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4280" y="142920"/>
          <a:ext cx="6572520" cy="6622920"/>
        </p:xfrm>
        <a:graphic>
          <a:graphicData uri="http://schemas.openxmlformats.org/drawingml/2006/table">
            <a:tbl>
              <a:tblPr/>
              <a:tblGrid>
                <a:gridCol w="470160"/>
                <a:gridCol w="468360"/>
                <a:gridCol w="469800"/>
                <a:gridCol w="469800"/>
                <a:gridCol w="469800"/>
                <a:gridCol w="468360"/>
                <a:gridCol w="470160"/>
                <a:gridCol w="469800"/>
                <a:gridCol w="468360"/>
                <a:gridCol w="469800"/>
                <a:gridCol w="469800"/>
                <a:gridCol w="470160"/>
                <a:gridCol w="468000"/>
                <a:gridCol w="47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971960" y="150840"/>
          <a:ext cx="487440" cy="4040280"/>
        </p:xfrm>
        <a:graphic>
          <a:graphicData uri="http://schemas.openxmlformats.org/drawingml/2006/table">
            <a:tbl>
              <a:tblPr/>
              <a:tblGrid>
                <a:gridCol w="487440"/>
              </a:tblGrid>
              <a:tr h="40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971960" y="168120"/>
          <a:ext cx="496800" cy="4046760"/>
        </p:xfrm>
        <a:graphic>
          <a:graphicData uri="http://schemas.openxmlformats.org/drawingml/2006/table">
            <a:tbl>
              <a:tblPr/>
              <a:tblGrid>
                <a:gridCol w="496800"/>
              </a:tblGrid>
              <a:tr h="40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000760" y="887400"/>
          <a:ext cx="2776320" cy="366840"/>
        </p:xfrm>
        <a:graphic>
          <a:graphicData uri="http://schemas.openxmlformats.org/drawingml/2006/table">
            <a:tbl>
              <a:tblPr/>
              <a:tblGrid>
                <a:gridCol w="277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595680" y="1589040"/>
          <a:ext cx="1905120" cy="36504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931000" y="896760"/>
          <a:ext cx="426960" cy="365400"/>
        </p:xfrm>
        <a:graphic>
          <a:graphicData uri="http://schemas.openxmlformats.org/drawingml/2006/table">
            <a:tbl>
              <a:tblPr/>
              <a:tblGrid>
                <a:gridCol w="426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862680" y="857160"/>
          <a:ext cx="424080" cy="428760"/>
        </p:xfrm>
        <a:graphic>
          <a:graphicData uri="http://schemas.openxmlformats.org/drawingml/2006/table">
            <a:tbl>
              <a:tblPr/>
              <a:tblGrid>
                <a:gridCol w="4240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013280" y="1598760"/>
          <a:ext cx="487440" cy="365040"/>
        </p:xfrm>
        <a:graphic>
          <a:graphicData uri="http://schemas.openxmlformats.org/drawingml/2006/table">
            <a:tbl>
              <a:tblPr/>
              <a:tblGrid>
                <a:gridCol w="48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9720" y="1071720"/>
            <a:ext cx="70722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інчи речення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е найскладнішим завданням сьогодні було…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.  Я зясував, що треба ще попрацювати над…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3.   Я отримав за урок  оцінку високого рівня, тому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720" y="1071720"/>
            <a:ext cx="692928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є завдання:</a:t>
            </a:r>
            <a:br>
              <a:rPr sz="44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иконати завдання 12 на стор. 127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високий рівень: написати твір на тему “Хто робить кревно, той ходить певно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лепокладання</a:t>
            </a:r>
            <a:br>
              <a:rPr sz="5400"/>
            </a:br>
            <a:br>
              <a:rPr sz="5400"/>
            </a:br>
            <a:r>
              <a:rPr b="0" lang="uk-UA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ьогодні на уроці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. У якому рядку правильно названо морфологічні ознаки прислівника?</a:t>
            </a:r>
            <a:r>
              <a:rPr b="0" lang="uk-UA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рід, число, відмінок;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час, спосіб;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відмінок, число;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езмінні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r>
              <a:rPr b="0" lang="uk-U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r>
              <a:rPr b="1" lang="uk-U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 якому рядку до складу всіх словосполучень входять прислівники:</a:t>
            </a:r>
            <a:r>
              <a:rPr b="0" lang="uk-U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тавитись по/сусідському, дивитись по/вовчому, взяти за/багато;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/багато днів, приносити до/дому, відпочивати по/перше вересня;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іти по/вовчому сліду, співати по/українськи, кинути на/гору;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ідніматися на/гору Ельбрус, іти до/дому, постукати в/друге вікно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 якому рядку </a:t>
            </a:r>
            <a:r>
              <a:rPr b="1" lang="uk-UA" sz="36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не від усіх </a:t>
            </a: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слівників можна утворити ступені порівняння: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арно, корисно, весело, завзято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ішуче, багато, щойно, далеко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либоко, рано, швидко, легко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рого, голосно, важко, зручн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 якому рядку всі прислівники пишуться через дефіс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 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/перше, по/вашому, ні/куди, на/весні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удь/як, по/братерськи, в/голос, на/певно: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хтозна/де, коли/не/коли, на/бік, у/перше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/нашому, де/не/де, віч/на/віч, часто/гус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.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 якому рядку всі прислівники пишуться з нн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? 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ума..о, актив..о, безупи..о, со..о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ідмі..о, стара..о, несказа..о, щоде..о: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гада..о, самовідда..о, нездола..о, дореч..о,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агря..о, не поруш..о, невтом..о, невпи..о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840" y="1571400"/>
            <a:ext cx="89298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. У якому рядку допущено помилку в правописі прислівників?</a:t>
            </a:r>
            <a:r>
              <a:rPr b="0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нь у день, без кінця-краю, віч-на-віч, не до вподоби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 зло, зозла, час від часу, безперестанку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 стократ, по-друге, як-небудь, навиворіт;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-моєму, по-зимовому, як-небудь, рік-у-рік.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720" y="1071720"/>
            <a:ext cx="692928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Правильні відповіді: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Г;     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;     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;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;     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;     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6:43:56Z</dcterms:created>
  <dc:creator>Лариса</dc:creator>
  <dc:description/>
  <dc:language>en-US</dc:language>
  <cp:lastModifiedBy>Admin</cp:lastModifiedBy>
  <dcterms:modified xsi:type="dcterms:W3CDTF">2012-01-01T08:48:57Z</dcterms:modified>
  <cp:revision>16</cp:revision>
  <dc:subject/>
  <dc:title>Тема: Узагальнення й систематизація вивченого про прислівни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b000000000001024140</vt:lpwstr>
  </property>
</Properties>
</file>