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070-0914-446C-AB74-B54F303A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D8C-29BC-4C7B-A843-C3081C55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136-5898-47E3-9EA6-03E81D35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105-3C2D-445B-80D2-E57DC4C6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2CA-3307-473E-B617-FB1666C5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24C7-5F6C-43C6-B364-484099BD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F352-DDA9-4C10-9587-AE112C7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F635-A6E6-4582-BCFA-D0AB97C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79EE-7F8C-48E8-B954-0D2A5F7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23A-2DA2-4B52-9315-79D65AC7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ADF5-9FE6-4279-BE77-8605FF65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FE5-E424-4813-9BC4-2F75F3CD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AB4A-1000-44AA-83D1-D1D5E87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823E-5B30-478F-8146-8D453ADB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0E7-9CFD-404C-8F22-64502452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9256-E5C1-47B6-875E-27A24D68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98C0-1571-42A2-9C0E-5651E87D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334-BD8B-4F11-9099-F3A1ECB9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FC8-1DD0-44F8-9718-03B81EF5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434-4EF6-4267-BCB4-47776ED1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FAA-04F6-4D7A-B461-DA198BC1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98A-A259-41A7-B5C4-FECFF3E3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637-A8EE-46BA-8882-072D2B37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696-9215-4764-94AD-1392F23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DD3-AA4B-4397-99C5-F80964F2EB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7A44-18D0-4A54-9A48-21BC71A3B5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Я - ДІЛО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6720" y="32767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ahoma"/>
              </a:rPr>
              <a:t>Стиль – це властиві слова на своєму місц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uk-UA" sz="3200" spc="-1" strike="noStrike">
                <a:solidFill>
                  <a:srgbClr val="000000"/>
                </a:solidFill>
                <a:latin typeface="Tahoma"/>
              </a:rPr>
              <a:t>Дж. Свіф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Документи, </a:t>
            </a:r>
            <a:br>
              <a:rPr sz="4000"/>
            </a:b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що опрацьовуються на уроці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ahoma"/>
              </a:rPr>
              <a:t>Доручення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- це документ, який дає повноваження його пред’явникові на виконання будь-яких дій від імені окремої особи чи установи, підприємтсва тощ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ahoma"/>
              </a:rPr>
              <a:t>Офіційний лист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– письмовий документ, який є засобом спілкування між установами (організаціями, підприємтсвами), а також між приватними особами й установам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14200"/>
            <a:ext cx="60958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РОБОТА З ТАБЛИЦЕ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Ділова людина у сучасному світ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Професійні якост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Досягнення ділової людин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Плани на майбутнє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Документ №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удь-які привілеї чи обмеження прав особи за мовною ознакою, мовна дискримінація недопустим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ублічне приниження чи зневаження, навмисне спотворення української мови чиінших мов в офоційних документах і текстах, створення перешкод  у користуванні ними тягнуть відповідальність, становлену законо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Документ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отокол №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борів колективу Київської фабр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исутні: директор, заступник, секрета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ідсутні: 10 осі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1. Затвердження плану роботи фабр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2. Затвердження складу комісії з питань контролю дисциплін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Документ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059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Моя автобіографі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У мене нема жодного сумніву в тому, що я народився, хоч і під час мого появлення на світ білий і потім – років, мабуть, десять підряд – мати казали, що мене витягли з колодяззя, коли напували корову Ориш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Трапилася ця подія 1 листопада (ст. стилю) 1889 року в містечку Груні, Зінківського повіту на Полтавщині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Власне, подія ця трапилася не в самім містечку, а в хуторі Чечві, біля Груні, в маєткові поміщиків фон Рот, де мій батько працював у пані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Умови для мого розвитку були підходячі. З одного боку – колиска з вервечками, з другого боку – материні груди. Трішки поссеш, трішки поспиш – і ростеш собі помалень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Так ото й пішло, значить: їси – ростеш, потім ростеш – їс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Батьки мої біли як узагалі батьки. Батько батьків був у Лебедині шевцем. Материн батько був у Груні хлібороб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Документ №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иректору професійного училища №5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триненко Миколи Володимирович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я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ошу прийняти мої документи на навчання в училищі. В 2005 році я закінчив 9 класів середньої школи №123 м. Харкі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о заяви дода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фот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ою автобіографію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відоцтво про осві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5:47:23Z</dcterms:created>
  <dc:creator>User</dc:creator>
  <dc:description/>
  <dc:language>en-US</dc:language>
  <cp:lastModifiedBy>User</cp:lastModifiedBy>
  <dcterms:modified xsi:type="dcterms:W3CDTF">2011-11-28T07:33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