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34B-4781-46DA-8C13-074B426E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BC1-663B-4FC4-A171-54CEC45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922-8178-4151-BCAC-AC8107ED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EB5-949C-4B40-884B-4847534B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94F-BF27-4ED8-8544-2FD7BA91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4A16-7E45-4BBA-83D7-CA1C8E4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59F-A044-48C7-8BC0-4501B1B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23B8-548C-4EE4-8A81-67A5033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A7DB-834B-4214-8431-76D47CF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FC56-2CBC-45F3-8579-CE82447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AEA-6143-490F-A844-4205E7D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B29-945F-4999-A0A7-B48B167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0C0D-D0B0-4CB9-A054-D77D0C6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860D-F938-4A27-AE94-FC93103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B83-AC00-4EBC-B82A-9563D9F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80B-38E4-4932-8B53-B6030583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5FD6-18D9-4568-A20D-6EAF3EC2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881-34BE-4A32-9A67-C1C45147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E77-790B-471D-A56C-A928864C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1D5-7DD8-4765-BB65-5710307A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BCA-08D7-4DF0-8482-3101184B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3ED-DC72-4844-B23D-FA5E19D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59D-8F4D-4460-8DFB-7183777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775-9213-42E6-98BF-97D85D6B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314-C61A-4948-ACBF-19F00E148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0C0-12E7-4FFF-B54F-1EDCDCD3A7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Я - ДІЛО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66720" y="32767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Стиль – це властиві слова на своєму місц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uk-UA" sz="3200" spc="-1" strike="noStrike">
                <a:solidFill>
                  <a:srgbClr val="000000"/>
                </a:solidFill>
                <a:latin typeface="Tahoma"/>
              </a:rPr>
              <a:t>Дж. Свіф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Документи, </a:t>
            </a:r>
            <a:br>
              <a:rPr sz="4000"/>
            </a:b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що опрацьовуються на уроці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ahoma"/>
              </a:rPr>
              <a:t>Доручення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- це документ, який дає повноваження його пред’явникові на виконання будь-яких дій від імені окремої особи чи установи, підприємтсва тощ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ahoma"/>
              </a:rPr>
              <a:t>Офіційний лист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– письмовий документ, який є засобом спілкування між установами (організаціями, підприємтсвами), а також між приватними особами й установа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6095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РОБОТА З ТАБЛИЦЕ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Ділова людина у сучасному світ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Професійні якост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Досягнення ділової людин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Плани на майбутнє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удь-які привілеї чи обмеження прав особи за мовною ознакою, мовна дискримінація недопустим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ублічне приниження чи зневаження, навмисне спотворення української мови чиінших мов в офоційних документах і текстах, створення перешкод  у користуванні ними тягнуть відповідальність, становлену закон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токол №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борів колективу Київської фабри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исутні: директор, заступник, секрет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сутні: 10 осі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1. Затвердження плану роботи фабр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2. Затвердження складу комісії з питань контролю дисциплін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059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оя автобіографі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У мене нема жодного сумніву в тому, що я народився, хоч і під час мого появлення на світ білий і потім – років, мабуть, десять підряд – мати казали, що мене витягли з колодяззя, коли напували корову Ориш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Трапилася ця подія 1 листопада (ст. стилю) 1889 року в містечку Груні, Зінківського повіту на Полтавщині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Власне, подія ця трапилася не в самім містечку, а в хуторі Чечві, біля Груні, в маєткові поміщиків фон Рот, де мій батько працював у па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Умови для мого розвитку були підходячі. З одного боку – колиска з вервечками, з другого боку – материні груди. Трішки поссеш, трішки поспиш – і ростеш собі помалень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Так ото й пішло, значить: їси – ростеш, потім ростеш – їс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Батьки мої біли як узагалі батьки. Батько батьків був у Лебедині шевцем. Материн батько був у Груні хлібороб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Документ №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иректору професійного училища №5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триненко Миколи Володимирови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я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ошу прийняти мої документи на навчання в училищі. В 2005 році я закінчив 9 класів середньої школи №123 м. Хар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 заяви дода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фото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ю автобіографію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відоцтво про осві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47:23Z</dcterms:created>
  <dc:creator>User</dc:creator>
  <dc:description/>
  <dc:language>en-US</dc:language>
  <cp:lastModifiedBy>User</cp:lastModifiedBy>
  <dcterms:modified xsi:type="dcterms:W3CDTF">2011-11-28T07:33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