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1C7-3B45-4686-BA71-01D29152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BC8-D32E-4A0B-B351-63D17E66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3D4-71FA-4357-8760-09AD2A85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1D3-A9E0-4E1F-A05F-00846468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67E-AD88-43DE-9FF8-62530CD3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3E0-73B0-4440-A2CD-1E17480C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740-E4F6-4EF7-992D-B68C418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BFD-4AE3-4E4E-ACFF-97D54ED4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71A-0FF9-4505-ABDB-C8D91D1A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870-C832-403F-9E7C-A77F856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1E0-1FFF-4603-8EED-0018063D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149-2ED4-4470-95F1-50E35C3C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3F3-B9E6-496F-B189-D1B9E9AA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981000"/>
          <a:ext cx="7993080" cy="5580000"/>
        </p:xfrm>
        <a:graphic>
          <a:graphicData uri="http://schemas.openxmlformats.org/drawingml/2006/table">
            <a:tbl>
              <a:tblPr/>
              <a:tblGrid>
                <a:gridCol w="1998720"/>
                <a:gridCol w="1962000"/>
                <a:gridCol w="2033640"/>
                <a:gridCol w="1998720"/>
              </a:tblGrid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рі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аток уро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нець уро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хопле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во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ов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і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і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вожні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іолетовий</a:t>
                      </a:r>
                      <a:fld id="{592E8430-5256-41B0-A221-8209BC06F666}" type="slidenum"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number&gt;</a:t>
                      </a:fld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458640"/>
            <a:ext cx="9144000" cy="77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333360"/>
            <a:ext cx="730584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ДОРОЖНІ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АСЛА 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943280"/>
            <a:ext cx="71820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АМ’ЯТАЙ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752f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ВИЛА !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752f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3295800"/>
            <a:ext cx="73152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МОТНО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ШИ !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4495680"/>
            <a:ext cx="73152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СЛОВЛЮЙСЯ 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3b003b"/>
                    </a:gs>
                    <a:gs pos="50000">
                      <a:srgbClr val="800080"/>
                    </a:gs>
                    <a:gs pos="100000">
                      <a:srgbClr val="3b003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В’ЯЗНО !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3b003b"/>
                  </a:gs>
                  <a:gs pos="50000">
                    <a:srgbClr val="800080"/>
                  </a:gs>
                  <a:gs pos="100000">
                    <a:srgbClr val="3b003b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6165720"/>
            <a:ext cx="718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ДЬ 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ВІТНИМ !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4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тавте пропущен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 бу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рич…, поноч…, по - заяч…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 реч…, оддалік…, верх…, вдвіч…, отутечк…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 -геройськ…, навесн…, вкуп…, трох…, щоноч…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 – молодецьк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ВДАННЯ </a:t>
            </a:r>
            <a:r>
              <a:rPr b="1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озпод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іліть слова у дві коло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сти…о, фантастич…о, реаль…о, актив…о, воста…є, арши…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щодав…о, нескінче…о, колектив…о, організова…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ідкресліть перші букви і ви прочитаєте і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я автора пові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« Захар Беркут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908440"/>
            <a:ext cx="8013600" cy="20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  :      Правопис прислівників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4:57:50Z</dcterms:created>
  <dc:creator>Admin</dc:creator>
  <dc:description/>
  <dc:language>en-US</dc:language>
  <cp:lastModifiedBy>Admin</cp:lastModifiedBy>
  <dcterms:modified xsi:type="dcterms:W3CDTF">2011-10-27T17:11:49Z</dcterms:modified>
  <cp:revision>3</cp:revision>
  <dc:subject/>
  <dc:title>Слайд 1</dc:title>
</cp:coreProperties>
</file>