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9BD-DF4C-4890-A203-6E531E8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DF4-F9DE-4133-A531-5366285D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CF8-3EB9-41E3-859C-6527E04F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14E-6AB4-4C40-9CC2-BBFB1280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8EC8-EE2C-4836-B9B7-6F26219B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F1E-43D4-4A94-A8A2-CD9F6541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3B0-DEFC-45FA-80B2-CE7A878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585D-85A9-498F-A163-4EAEE520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261F-14EE-4A8F-89BF-DE565D7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BE82-DD84-4372-BF2C-1A591FE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0542-A7DB-46AC-A618-97F8ECE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9A7-FF25-40FF-AEFC-24025100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A60-9938-46A7-96F2-1E43438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D93-4129-40F4-A2E0-C20FCF5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9EE-BBC4-4A8E-A970-5D4E82B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9CE-D730-4B29-BA7D-9589AF6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6B6-E94C-4BAE-A578-2770C275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427-76A5-4D21-8968-8433E69D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D57-E7E0-4924-970F-B88FCD1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BF8-769D-4793-9744-E1D49D7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BF6-BFD6-4DFB-A088-A52B16F8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BFA-47C3-41A1-B47C-F4F4677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9EC-B3F9-4956-9133-B84569F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779-898D-4E09-9A75-91C237A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9C1-5B23-4DB5-844E-471A6C1955A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B2F2-53CE-42B4-B0F6-9C2AB2D4DA1B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Содержимое 3" descr="6df492eaa1cb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95280" y="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рирода – це храм, що сотворений Богом, з легкої святої руки.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            М. Михальчук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Надвірнянський р-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2" descr="6289934_133cfeb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395280" y="4149720"/>
            <a:ext cx="65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люч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1А, 2Б, 3В, 4В, 5Б, 6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maniava_rujiny_1[1]"/>
          <p:cNvPicPr/>
          <p:nvPr/>
        </p:nvPicPr>
        <p:blipFill>
          <a:blip r:embed="rId1"/>
          <a:stretch/>
        </p:blipFill>
        <p:spPr>
          <a:xfrm>
            <a:off x="1619280" y="33336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maniava_rujiny_5[1]"/>
          <p:cNvPicPr/>
          <p:nvPr/>
        </p:nvPicPr>
        <p:blipFill>
          <a:blip r:embed="rId1"/>
          <a:stretch/>
        </p:blipFill>
        <p:spPr>
          <a:xfrm>
            <a:off x="468360" y="620640"/>
            <a:ext cx="7920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img6718_JPG_450x600_q95[1]"/>
          <p:cNvPicPr/>
          <p:nvPr/>
        </p:nvPicPr>
        <p:blipFill>
          <a:blip r:embed="rId1"/>
          <a:stretch/>
        </p:blipFill>
        <p:spPr>
          <a:xfrm>
            <a:off x="-1405080" y="0"/>
            <a:ext cx="112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На території монастиря жовтіє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кожного дня лине до не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анями нова церква                            щира моли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Щонеділі та у свята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ть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створений  він був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церковні дзвони                                     у1611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Зараз тут проживаю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нахи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люди йдуть відда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ану Богов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Найдавніший монастир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рпатах лише зараз набу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л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був час і в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ого розкві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вч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86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290680" y="2879640"/>
            <a:ext cx="456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PICT0353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PICT0353"/>
          <p:cNvPicPr/>
          <p:nvPr/>
        </p:nvPicPr>
        <p:blipFill>
          <a:blip r:embed="rId2"/>
          <a:stretch/>
        </p:blipFill>
        <p:spPr>
          <a:xfrm>
            <a:off x="-7237440" y="-4995720"/>
            <a:ext cx="19507320" cy="14630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-2419200" y="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люч: 1В, 2Г, 3А, 4Б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Шукаючи тихого та красивого місця, Іов Княгиницький, родом із Тисмениці, подорожував Карпатам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 незадовго на просторій галявині 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вилася невеличка келія, збудована руками ченц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3-s[1]"/>
          <p:cNvPicPr/>
          <p:nvPr/>
        </p:nvPicPr>
        <p:blipFill>
          <a:blip r:embed="rId1"/>
          <a:stretch/>
        </p:blipFill>
        <p:spPr>
          <a:xfrm>
            <a:off x="468360" y="0"/>
            <a:ext cx="81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584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подільний диктан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писати спочатку прості речення, а потім ССР,де треба поставити розділові зна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Прилинув вітер і в келії монаха про благодать Господню він заспіва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Не лінуйся рано встати і замолоду більше зна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Біляста хмара небо полонила і в ній сховався сонця спраглий дис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Пройшла гроза і вмила всі дерева рясним літнім  дощ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Високі сосни та модрини передають вам привіт від ясного сонечка і зацікавлено спостерігають за 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Лише зараз скит ожив і монахи щодня дякують Богові за цю лас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ворче конструювання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36000" y="1861200"/>
            <a:ext cx="284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 – і  [  ]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, проте [ 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   ],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Рисунок 2" descr="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3892680" y="1413000"/>
            <a:ext cx="448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52 – 59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2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100_6002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P1290039"/>
          <p:cNvPicPr/>
          <p:nvPr/>
        </p:nvPicPr>
        <p:blipFill>
          <a:blip r:embed="rId1"/>
          <a:stretch/>
        </p:blipFill>
        <p:spPr>
          <a:xfrm>
            <a:off x="0" y="0"/>
            <a:ext cx="9144000" cy="85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bla[1]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(1)_06__1304[1]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100_6002"/>
          <p:cNvPicPr/>
          <p:nvPr/>
        </p:nvPicPr>
        <p:blipFill>
          <a:blip r:embed="rId1"/>
          <a:stretch/>
        </p:blipFill>
        <p:spPr>
          <a:xfrm>
            <a:off x="0" y="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(1)_06__1304[1]"/>
          <p:cNvPicPr/>
          <p:nvPr/>
        </p:nvPicPr>
        <p:blipFill>
          <a:blip r:embed="rId2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bla[1]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P1290039"/>
          <p:cNvPicPr/>
          <p:nvPr/>
        </p:nvPicPr>
        <p:blipFill>
          <a:blip r:embed="rId4"/>
          <a:stretch/>
        </p:blipFill>
        <p:spPr>
          <a:xfrm>
            <a:off x="0" y="3357720"/>
            <a:ext cx="4427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е редаг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. Рідний край це стежина, що веде до школи, це ласкаве проміня сонечка, що голубить та пестить обличчя пробиваючись крізь гіля олюбленого дерева. Це високі і здається суворі гори, що заховали в потаємному куточку чарівний світ, де поєдналися казки легенди перекази і наше невпине суворе житт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І. Мальовниче село манява роскинулось у гірській ущелині захищеній високими горами серед чудової природи. Село манява приваблює свойов  красов багатьох туристів а гомінка річка Манявка звиваючись гадюкою протікає через все село і несе свої бистрі води у широкий світ.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Дослідження -  відновлення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сокі  сосни та модрини ялини, та смереки пильно вивчають вас, думаючи чи з миром ви прийшли, … лісові мешканці теж зацікавлено спостерігають, розмовляючи про щось між собо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Дуже часто в багаті дичиною ліси приїжджали на полювання галицькі князі, … саме в річці Манявці вмив свої руки князь Ярослав Осмомисл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.Вдало вибране місце монастиря надавало значну перевагу в обороні, … тихий шепіт сосен, здавалося, доносив слова молитов аж ген у верховітт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P5180025"/>
          <p:cNvPicPr/>
          <p:nvPr/>
        </p:nvPicPr>
        <p:blipFill>
          <a:blip r:embed="rId1"/>
          <a:stretch/>
        </p:blipFill>
        <p:spPr>
          <a:xfrm>
            <a:off x="100080" y="17604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908000" y="189000"/>
            <a:ext cx="528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.Моє …. – моя ….. рід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е народилась, і живу уже …. лі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но, мов …… сизокр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арує, ….., кличе всіх – усі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Лежить …. в долині, біля 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ебе ……. зелений лі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расуються тут … і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знаменитий наш ………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поєне …….. росо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сонці, мов ……. вигра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з піднятою …… головою каж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„……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д усіх село моє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P5180047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692360" y="54936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е тут красиве без ……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ут ночі …….і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прошу вас – ….. хоч ра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 побувайте у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ут вмиті ……. сад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нявка – річка щось 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……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. руки до во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хилила, наче…….. хоч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ен ……. бродить по сад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зорі ……. їз неб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в цю ….. вас пове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……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людині кожній треб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img6944_JPG_450x600_q95[1]"/>
          <p:cNvPicPr/>
          <p:nvPr/>
        </p:nvPicPr>
        <p:blipFill>
          <a:blip r:embed="rId1"/>
          <a:stretch/>
        </p:blipFill>
        <p:spPr>
          <a:xfrm>
            <a:off x="0" y="260280"/>
            <a:ext cx="8748720" cy="659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11280" y="476280"/>
            <a:ext cx="624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ому ж незнана Маняви долин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расов удачнов здібна від природ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Где з скал, шумлячи, стрімко летять вод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атажків пісньми дзвенить полон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.Могильниць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кінчене речення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зна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вмі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вчився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2720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Тема уроку: Складносурядне реченн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конання тренувальн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пра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280" y="1480320"/>
            <a:ext cx="81676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кріпити вивчене про складносурядне речення: його будову 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оби зв’язку; навчити знаходити ССР у тексті, 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в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мислов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’язки між простими реченнями у ССР; удосконалити вміння розрізняти в текстах ССР і відмежовувати їх від інших синтаксичних конструкцій; розвивати мислення, пам’ять, виховувати любов та повагу до рідної землі, до місця,  де ти народив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“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кінчене речення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зна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вмі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вчився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ССР є реченн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частини якого є рівноправними, незалежними одна від одно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частини, що залежать одна від одно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у реченні є різні типи зв’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Частини ССР з’єднуються за допомогою сполучник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підрядност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сурядност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змішаний тип зв’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олучники сурядності поділяються н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єднальні, підрядні часу, розділов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єднальні, протиставні, підрядні способу ді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єднальні, протиставні, розділов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Знайти сполучники сурядності в  рядк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і, й, та, щоб, а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що, коли, який, і, 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проте, чи то.., ні…ні, а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Яка із наведених схем відповідає СС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], (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[   ]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[  ], [  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Коли  між частинами ССР не ставиться ком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коли є спільна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всіх частин обставина чи частка;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коли є спільне означенн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коли є спільний дода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2:47:15Z</dcterms:created>
  <dc:creator>Customer</dc:creator>
  <dc:description/>
  <dc:language>en-US</dc:language>
  <cp:lastModifiedBy>730z</cp:lastModifiedBy>
  <dcterms:modified xsi:type="dcterms:W3CDTF">2011-11-10T14:36:18Z</dcterms:modified>
  <cp:revision>16</cp:revision>
  <dc:subject/>
  <dc:title>Природа – це храм, що сотворений Богом, з легкої святої ру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15000000000001024140</vt:lpwstr>
  </property>
</Properties>
</file>