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D91-94F1-4960-9BEC-4BA6F5FD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EE6-5E73-43FC-A4EE-9FA8C5F9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2B0-B69E-4C67-9F6C-3D893804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F53-9BFB-4680-AFC9-2CF81CFA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7515-B45D-4F88-9710-2CE0C6BB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C116-9D64-43B4-89F6-AC304F4C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2D6D-7B95-4D10-B63F-EB6F3A1B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8E3C-77FB-490D-B6D3-9D732145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B55D-5859-4B3B-AF49-868EA463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CE07-9368-4013-961A-65DE0DED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3D33-D114-4969-8C70-C3A3C599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9EB-98C8-4B17-A57A-015844EB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E1B8-600B-4FCA-A234-BB419E1E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6904-1BDD-4A13-9CB0-0E623442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5A14-3E10-4E74-8BB5-742381D1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7751-BFCE-4FE0-8A77-7BFC148C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9B1D-09E3-46BC-9BC3-6741BA37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F41-FDBA-4E76-A11E-262660A5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8DD-DD04-4947-9F34-737E9D87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6BF-DC38-488F-A7CB-D7217E41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169D-5DBF-4411-944C-44A457F7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2A3-7F6B-4425-A0B9-B8821265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929-91C7-4545-AB5A-EE5B6564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9D1-C375-471F-AE74-C8369612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CB42-6FCE-4E23-A065-2016F4590959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D1C6-F400-4C9D-BEF0-E87509C0B0BE}" type="slidenum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Содержимое 3" descr="6df492eaa1cb.jpg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395280" y="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Природа – це храм, що сотворений Богом, з легкої святої руки.</a:t>
            </a:r>
            <a:br>
              <a:rPr sz="3600"/>
            </a:b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                      М. Михальчук</a:t>
            </a:r>
            <a:br>
              <a:rPr sz="3600"/>
            </a:b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  Надвірнянський р-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Рисунок 2" descr="6289934_133cfeb.jpg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3"/>
          <p:cNvSpPr/>
          <p:nvPr/>
        </p:nvSpPr>
        <p:spPr>
          <a:xfrm>
            <a:off x="395280" y="4149720"/>
            <a:ext cx="65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Ключ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</a:rPr>
              <a:t>1А, 2Б, 3В, 4В, 5Б, 6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maniava_rujiny_1[1]"/>
          <p:cNvPicPr/>
          <p:nvPr/>
        </p:nvPicPr>
        <p:blipFill>
          <a:blip r:embed="rId1"/>
          <a:stretch/>
        </p:blipFill>
        <p:spPr>
          <a:xfrm>
            <a:off x="1619280" y="333360"/>
            <a:ext cx="5616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maniava_rujiny_5[1]"/>
          <p:cNvPicPr/>
          <p:nvPr/>
        </p:nvPicPr>
        <p:blipFill>
          <a:blip r:embed="rId1"/>
          <a:stretch/>
        </p:blipFill>
        <p:spPr>
          <a:xfrm>
            <a:off x="468360" y="620640"/>
            <a:ext cx="7920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img6718_JPG_450x600_q95[1]"/>
          <p:cNvPicPr/>
          <p:nvPr/>
        </p:nvPicPr>
        <p:blipFill>
          <a:blip r:embed="rId1"/>
          <a:stretch/>
        </p:blipFill>
        <p:spPr>
          <a:xfrm>
            <a:off x="-1405080" y="0"/>
            <a:ext cx="1126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.На території монастиря жовтіє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кожного дня лине до неб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анями нова церква                            щира моли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. Щонеділі та у свята 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ють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створений  він був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церковні дзвони                                     у1611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.Зараз тут проживаю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онахи             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люди йдуть відда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шану Богов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.Найдавніший монастир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арпатах лише зараз набу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Але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був час і во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ового розквіт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овча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868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290680" y="2879640"/>
            <a:ext cx="4562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PICT0353"/>
          <p:cNvPicPr/>
          <p:nvPr/>
        </p:nvPicPr>
        <p:blipFill>
          <a:blip r:embed="rId1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PICT0353"/>
          <p:cNvPicPr/>
          <p:nvPr/>
        </p:nvPicPr>
        <p:blipFill>
          <a:blip r:embed="rId2"/>
          <a:stretch/>
        </p:blipFill>
        <p:spPr>
          <a:xfrm>
            <a:off x="-7237440" y="-4995720"/>
            <a:ext cx="19507320" cy="146304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9"/>
          <p:cNvSpPr/>
          <p:nvPr/>
        </p:nvSpPr>
        <p:spPr>
          <a:xfrm>
            <a:off x="-2419200" y="0"/>
            <a:ext cx="48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Ключ: 1В, 2Г, 3А, 4Б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Шукаючи тихого та красивого місця, Іов Княгиницький, родом із Тисмениці, подорожував Карпатам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і незадовго на просторій галявині з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явилася невеличка келія, збудована руками ченц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3-s[1]"/>
          <p:cNvPicPr/>
          <p:nvPr/>
        </p:nvPicPr>
        <p:blipFill>
          <a:blip r:embed="rId1"/>
          <a:stretch/>
        </p:blipFill>
        <p:spPr>
          <a:xfrm>
            <a:off x="468360" y="0"/>
            <a:ext cx="812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05840"/>
            <a:ext cx="8229600" cy="61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подільний диктант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писати спочатку прості речення, а потім ССР,де треба поставити розділові зна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. Прилинув вітер і в келії монаха про благодать Господню він заспіва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. Не лінуйся рано встати і замолоду більше зна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3. Біляста хмара небо полонила і в ній сховався сонця спраглий дис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4. Пройшла гроза і вмила всі дерева рясним літнім  дощ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5. Високі сосни та модрини передають вам привіт від ясного сонечка і зацікавлено спостерігають за в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6. Лише зараз скит ожив і монахи щодня дякують Богові за цю лас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ворче конструювання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836000" y="1861200"/>
            <a:ext cx="284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[  ]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, т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[  ]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[  ]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[  ]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[  ] – і  [  ].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[  ], проте [   ]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   ],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[  ]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Рисунок 2" descr="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3"/>
          <p:cNvSpPr/>
          <p:nvPr/>
        </p:nvSpPr>
        <p:spPr>
          <a:xfrm>
            <a:off x="3892680" y="1413000"/>
            <a:ext cx="448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52 – 59</a:t>
            </a:r>
            <a:r>
              <a:rPr b="1" lang="uk-UA" sz="6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22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25760"/>
            <a:ext cx="82296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100_6002"/>
          <p:cNvPicPr/>
          <p:nvPr/>
        </p:nvPicPr>
        <p:blipFill>
          <a:blip r:embed="rId1"/>
          <a:stretch/>
        </p:blipFill>
        <p:spPr>
          <a:xfrm>
            <a:off x="0" y="-892080"/>
            <a:ext cx="914400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P1290039"/>
          <p:cNvPicPr/>
          <p:nvPr/>
        </p:nvPicPr>
        <p:blipFill>
          <a:blip r:embed="rId1"/>
          <a:stretch/>
        </p:blipFill>
        <p:spPr>
          <a:xfrm>
            <a:off x="0" y="0"/>
            <a:ext cx="9144000" cy="85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bla[1]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4" descr="(1)_06__1304[1]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25760"/>
            <a:ext cx="82296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4" descr="100_6002"/>
          <p:cNvPicPr/>
          <p:nvPr/>
        </p:nvPicPr>
        <p:blipFill>
          <a:blip r:embed="rId1"/>
          <a:stretch/>
        </p:blipFill>
        <p:spPr>
          <a:xfrm>
            <a:off x="0" y="0"/>
            <a:ext cx="4427640" cy="3284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(1)_06__1304[1]"/>
          <p:cNvPicPr/>
          <p:nvPr/>
        </p:nvPicPr>
        <p:blipFill>
          <a:blip r:embed="rId2"/>
          <a:stretch/>
        </p:blipFill>
        <p:spPr>
          <a:xfrm>
            <a:off x="4356000" y="3357720"/>
            <a:ext cx="4788000" cy="3500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bla[1]"/>
          <p:cNvPicPr/>
          <p:nvPr/>
        </p:nvPicPr>
        <p:blipFill>
          <a:blip r:embed="rId3"/>
          <a:stretch/>
        </p:blipFill>
        <p:spPr>
          <a:xfrm>
            <a:off x="4427640" y="0"/>
            <a:ext cx="4716360" cy="3213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P1290039"/>
          <p:cNvPicPr/>
          <p:nvPr/>
        </p:nvPicPr>
        <p:blipFill>
          <a:blip r:embed="rId4"/>
          <a:stretch/>
        </p:blipFill>
        <p:spPr>
          <a:xfrm>
            <a:off x="0" y="3357720"/>
            <a:ext cx="4427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Навчальне редагува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. Рідний край це стежина, що веде до школи, це ласкаве проміня сонечка, що голубить та пестить обличчя пробиваючись крізь гіля олюбленого дерева. Це високі і здається суворі гори, що заховали в потаємному куточку чарівний світ, де поєдналися казки легенди перекази і наше невпине суворе житт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І. Мальовниче село манява роскинулось у гірській ущелині захищеній високими горами серед чудової природи. Село манява приваблює свойов  красов багатьох туристів а гомінка річка Манявка звиваючись гадюкою протікає через все село і несе свої бистрі води у широкий світ.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Дослідження -  відновлення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сокі  сосни та модрини ялини, та смереки пильно вивчають вас, думаючи чи з миром ви прийшли, … лісові мешканці теж зацікавлено спостерігають, розмовляючи про щось між собо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. Дуже часто в багаті дичиною ліси приїжджали на полювання галицькі князі, … саме в річці Манявці вмив свої руки князь Ярослав Осмомисл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.Вдало вибране місце монастиря надавало значну перевагу в обороні, … тихий шепіт сосен, здавалося, доносив слова молитов аж ген у верховітт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P5180025"/>
          <p:cNvPicPr/>
          <p:nvPr/>
        </p:nvPicPr>
        <p:blipFill>
          <a:blip r:embed="rId1"/>
          <a:stretch/>
        </p:blipFill>
        <p:spPr>
          <a:xfrm>
            <a:off x="100080" y="176040"/>
            <a:ext cx="8945640" cy="67089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908000" y="189000"/>
            <a:ext cx="5281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.Моє …. – моя ….. рід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е народилась, і живу уже …. лі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оно, мов …… сизокр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Чарує, ….., кличе всіх – усі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Лежить …. в долині, біля …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 себе ……. зелений лі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расуються тут … і 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І знаменитий наш …………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поєне …….. росо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 сонці, мов ……. виграє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 з піднятою …… головою кажу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„……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ід усіх село моє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4" descr="P5180047"/>
          <p:cNvPicPr/>
          <p:nvPr/>
        </p:nvPicPr>
        <p:blipFill>
          <a:blip r:embed="rId1"/>
          <a:stretch/>
        </p:blipFill>
        <p:spPr>
          <a:xfrm>
            <a:off x="100080" y="74520"/>
            <a:ext cx="8945640" cy="67089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1692360" y="549360"/>
            <a:ext cx="60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е тут красиве без …….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ут ночі …….і…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 прошу вас – ….. хоч ра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 побувайте у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ут вмиті ……. сад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анявка – річка щось 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……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.. руки до во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хилила, наче…….. хоч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Ген ……. бродить по сад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І зорі ……. їз неб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 в цю ….. вас пове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……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людині кожній треб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5" descr="img6944_JPG_450x600_q95[1]"/>
          <p:cNvPicPr/>
          <p:nvPr/>
        </p:nvPicPr>
        <p:blipFill>
          <a:blip r:embed="rId1"/>
          <a:stretch/>
        </p:blipFill>
        <p:spPr>
          <a:xfrm>
            <a:off x="0" y="260280"/>
            <a:ext cx="8748720" cy="6597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611280" y="476280"/>
            <a:ext cx="624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Кому ж незнана Маняви долина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Красов удачнов здібна від природ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Где з скал, шумлячи, стрімко летять вод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Ватажків пісньми дзвенить полонин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А.Могильниць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закінчене речення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знаю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вмію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навчився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727200"/>
            <a:ext cx="86868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Тема уроку: Складносурядне реченн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Виконання тренувальни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впра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280" y="1480320"/>
            <a:ext cx="81676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ета уроку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акріпити вивчене про складносурядне речення: його будову 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оби зв’язку; навчити знаходити ССР у тексті, 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сува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мислов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в’язки між простими реченнями у ССР; удосконалити вміння розрізняти в текстах ССР і відмежовувати їх від інших синтаксичних конструкцій; розвивати мислення, пам’ять, виховувати любов та повагу до рідної землі, до місця,  де ти народив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“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закінчене речення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знаю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вмію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навчився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. ССР є реченн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частини якого є рівноправними, незалежними одна від одної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частини, що залежать одна від одної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у реченні є різні типи зв’яз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. Частини ССР з’єднуються за допомогою сполучникі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підрядності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сурядності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змішаний тип зв’яз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получники сурядності поділяються н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єднальні, підрядні часу, розділові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єднальні, протиставні, підрядні способу дії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єднальні, протиставні, розділов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4. Знайти сполучники сурядності в  рядк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і, й, та, щоб, ал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що, коли, який, і, 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проте, чи то.., ні…ні, ал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5. Яка із наведених схем відповідає ССР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  ], (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[   ],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   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[  ], [   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6.Коли  між частинами ССР не ставиться ком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коли є спільна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ля всіх частин обставина чи частка;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коли є спільне означенн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коли є спільний додат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2:47:15Z</dcterms:created>
  <dc:creator>Customer</dc:creator>
  <dc:description/>
  <dc:language>en-US</dc:language>
  <cp:lastModifiedBy>730z</cp:lastModifiedBy>
  <dcterms:modified xsi:type="dcterms:W3CDTF">2011-11-10T14:36:18Z</dcterms:modified>
  <cp:revision>16</cp:revision>
  <dc:subject/>
  <dc:title>Природа – це храм, що сотворений Богом, з легкої святої рук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15000000000001024140</vt:lpwstr>
  </property>
</Properties>
</file>