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119C-EF26-48A0-9739-8FDCA01B2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3D1B-02B5-4D7D-8542-F91F26B9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452C-A069-4CEB-AAF2-A1CFC36D4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889E-AE2E-43A3-81F9-26750E561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08624-6587-4D9E-BC89-EEE6EC68D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A8E8-C922-4291-8091-46C13847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7644-BBA1-4266-B1D2-53D79CCA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B2F3-0462-473A-8A35-2C63DDCF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76839-F7FB-4D1C-B3CA-136835AA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73693-99A4-4FCB-8CB2-DE1838C4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D359-0E6E-4BE7-B181-A0ECC602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5AD3-5D4D-4AFE-9D91-862E4B99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3FC07-100D-4B6C-A065-0CB7A055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43B7-74A8-4E5B-BBCD-92F8B547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CD7A-468B-4EAE-BB94-A0A2D2AF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54B7-0E9E-4A71-8AF0-4788785A6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B6BB-E207-47A2-A67A-B9B6311B4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6F91-2B4E-4A8C-90D5-FB67DE36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51ED-1032-4526-A8E6-239D5151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ABA5-0C9E-4253-A5A8-E0FA5E6B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D283-B120-41E6-8B42-F050A048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9715-BA9C-4D1B-A819-69EDBB7E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CCE7-9A25-4A41-BC83-3CB5C01A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1676-919E-497A-87B5-9EDB1319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EE5A-0550-45F5-9699-C52F214DB0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8F70-8F67-40F8-9F66-57E170595C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631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feec94"/>
                </a:solidFill>
                <a:latin typeface="Script MT Bold"/>
              </a:rPr>
              <a:t>	</a:t>
            </a:r>
            <a:r>
              <a:rPr b="1" i="1" lang="uk-UA" sz="5400" spc="-1" strike="noStrike">
                <a:solidFill>
                  <a:srgbClr val="feec94"/>
                </a:solidFill>
                <a:latin typeface="Script MT Bold"/>
              </a:rPr>
              <a:t>Неба</a:t>
            </a:r>
            <a:r>
              <a:rPr b="1" i="1" lang="en-US" sz="5400" spc="-1" strike="noStrike">
                <a:solidFill>
                  <a:srgbClr val="feec94"/>
                </a:solidFill>
                <a:latin typeface="Script MT Bold"/>
              </a:rPr>
              <a:t> </a:t>
            </a:r>
            <a:r>
              <a:rPr b="1" i="1" lang="uk-UA" sz="5400" spc="-1" strike="noStrike">
                <a:solidFill>
                  <a:srgbClr val="feec94"/>
                </a:solidFill>
                <a:latin typeface="Script MT Bold"/>
              </a:rPr>
              <a:t>в'яне просинь, і мете, мете жовтокоса осінь листя золоте.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240" y="4581000"/>
            <a:ext cx="701676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eec94"/>
                </a:solidFill>
                <a:latin typeface="Times New Roman"/>
              </a:rPr>
              <a:t>В.Сосю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Іменники спільного роду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Листоноша; базіка; нероба, білоручка; вереда; шульга, лівша; ледащо; паливода, зайдиголова;  сон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Підсумок уроку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ffffff"/>
                </a:solidFill>
                <a:latin typeface="Times New Roman"/>
              </a:rPr>
              <a:t>Я знаю, що …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ffffff"/>
                </a:solidFill>
                <a:latin typeface="Times New Roman"/>
              </a:rPr>
              <a:t>Я знаю, як …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ffffff"/>
                </a:solidFill>
                <a:latin typeface="Times New Roman"/>
              </a:rPr>
              <a:t>Я знаю, чому…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Домашнє завдання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На 7 – 9 б.    –  впр. 264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10 – 12 б. -  впр. 263, с. 145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eec94"/>
                </a:solidFill>
                <a:latin typeface="Times New Roman"/>
              </a:rPr>
              <a:t>Робота в групах 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Розділ науки про мову, що вивчає частини мови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Самостійна частина мови, яка означає предмет, відповідає на питання Хто? Що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Які морфологічні ознаки властиві іменникові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Іменникові властивий граматичний рід: чоловічий, жіночій, середній і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Іменники, які стосуються назв окремих предметів, щоб відрізнити їх від інших подібних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Розділ науки про мову, що вивчає члени речення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Вписати у клітинки український переклад поданих російських слів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6560" y="2060640"/>
            <a:ext cx="4038840" cy="33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ремительн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адеж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мя прилагательно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динение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оз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ризубец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Шаг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Виберіть правильне написання слів: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ffffff"/>
                </a:solidFill>
                <a:latin typeface="Times New Roman"/>
              </a:rPr>
              <a:t>Орел, орел, “Орел”;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ffffff"/>
                </a:solidFill>
                <a:latin typeface="Times New Roman"/>
              </a:rPr>
              <a:t>Роман, роман;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uk-UA" sz="7200" spc="-1" strike="noStrike">
                <a:solidFill>
                  <a:srgbClr val="ffffff"/>
                </a:solidFill>
                <a:latin typeface="Times New Roman"/>
              </a:rPr>
              <a:t>Дружба”, дружба. 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ловниковий диктант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Леся Українка, річка Либідь, Дніпро, майдан Незалежності, Каховська  гімназія, оповідання “Маленький горбань”, байка “Вовк та Ягня”, журнал “Колосок”, Україна, Ярослав Мудрий, Шевченківська премія, Президент України, Київ, газета “Каховська зоря”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Розподіліть іменники за групами: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34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5400" spc="-1" strike="noStrike">
                <a:solidFill>
                  <a:srgbClr val="ffffff"/>
                </a:solidFill>
                <a:latin typeface="Times New Roman"/>
              </a:rPr>
              <a:t>назви        назви       назви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ff"/>
                </a:solidFill>
                <a:latin typeface="Times New Roman"/>
              </a:rPr>
              <a:t>предметів   ознак         дій        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64000" y="3141720"/>
            <a:ext cx="0" cy="30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43640" y="3068640"/>
            <a:ext cx="0" cy="316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Самоперевір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земля                  покірність               шикуванн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хата                    синь                         підведенн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кравчиня            свіжість                 спостереженн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посуд                  голубін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Винниченк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посередни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житл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осел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госпо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обійст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32000" y="1628640"/>
            <a:ext cx="0" cy="460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80000" y="1700280"/>
            <a:ext cx="71640" cy="4537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feec94"/>
                </a:solidFill>
                <a:latin typeface="Times New Roman"/>
              </a:rPr>
              <a:t>Синоніми: </a:t>
            </a:r>
            <a:endParaRPr b="1" lang="en-US" sz="8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ffffff"/>
                </a:solidFill>
                <a:latin typeface="Times New Roman"/>
              </a:rPr>
              <a:t>Хата, житло, оселя, господа 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eec94"/>
                </a:solidFill>
                <a:latin typeface="Times New Roman"/>
              </a:rPr>
              <a:t>Гроно</a:t>
            </a: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 – скупчення плодів або квітів на одній гілці; образно – китиця, брость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eec94"/>
                </a:solidFill>
                <a:latin typeface="Times New Roman"/>
              </a:rPr>
              <a:t>Китиця</a:t>
            </a: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 –1.скупчення квіток на одній гілці, на одному стеблі.2.жмуток ниток, шнурків, зв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язаних з одного кінця докупи.3.невеликий сніп соломи, зв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язаний з того кінця, де колоски.4.діал. Букет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eec94"/>
                </a:solidFill>
                <a:latin typeface="Times New Roman"/>
              </a:rPr>
              <a:t>Кетяг</a:t>
            </a: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 – пучок ягід або квітів на одній гілці, стеблині; китиця, гроно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12:07:29Z</dcterms:created>
  <dc:creator>infca</dc:creator>
  <dc:description/>
  <dc:language>en-US</dc:language>
  <cp:lastModifiedBy>Администратор</cp:lastModifiedBy>
  <dcterms:modified xsi:type="dcterms:W3CDTF">2010-11-24T08:45:35Z</dcterms:modified>
  <cp:revision>8</cp:revision>
  <dc:subject/>
  <dc:title> Неба в'яне просинь, і мете, мете жовтокоса осінь листя золоте.</dc:title>
</cp:coreProperties>
</file>