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FE5-BC0E-4521-9262-AA081FBD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0C4-035B-432A-9D6A-EB8008FC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B38-34C4-4983-8050-54174D33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ED0-FA2D-4558-976F-17911892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395D-B9CF-469E-9234-73415BAA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2FDA-535E-4F72-85E7-4A088BB7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A6FA-9834-4BB8-B74E-0E9F112E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49C6-3FDE-40A1-A409-14B2E965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B544-4531-4D2B-A808-5C25986B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6139-2A3D-4546-85A9-DE39722F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C3EF-2E58-4431-8879-9DFB5DC6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646-EFB0-414F-ABEB-E242C1AC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B254-E737-4355-84E9-32CE3A35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95E8-428B-431C-8308-F9C18630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E7A3-B775-49F3-95A4-B0722B9D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6962-0A56-4B1D-810E-B92643CC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BF32-AA75-4FF1-AEAF-24675D2C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798-FA16-4B6F-8051-07205EC1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E97-DFF3-4975-A1D4-80042F31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7B77-BF15-4571-8033-C582603F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EB9-90C2-4A05-B61D-D7376662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BAA-6D8C-4301-A56E-CEC611A2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D3D-198A-4976-A221-AC5AB3C1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110-45F6-421A-AF47-D56E062C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6075-2EF8-45BC-841A-B264EB902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3DCE-8877-4818-8765-50D268350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631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eec94"/>
                </a:solidFill>
                <a:latin typeface="Script MT Bold"/>
              </a:rPr>
              <a:t>	</a:t>
            </a:r>
            <a:r>
              <a:rPr b="1" i="1" lang="uk-UA" sz="5400" spc="-1" strike="noStrike">
                <a:solidFill>
                  <a:srgbClr val="feec94"/>
                </a:solidFill>
                <a:latin typeface="Script MT Bold"/>
              </a:rPr>
              <a:t>Неба</a:t>
            </a:r>
            <a:r>
              <a:rPr b="1" i="1" lang="en-US" sz="5400" spc="-1" strike="noStrike">
                <a:solidFill>
                  <a:srgbClr val="feec94"/>
                </a:solidFill>
                <a:latin typeface="Script MT Bold"/>
              </a:rPr>
              <a:t> </a:t>
            </a:r>
            <a:r>
              <a:rPr b="1" i="1" lang="uk-UA" sz="5400" spc="-1" strike="noStrike">
                <a:solidFill>
                  <a:srgbClr val="feec94"/>
                </a:solidFill>
                <a:latin typeface="Script MT Bold"/>
              </a:rPr>
              <a:t>в'яне просинь, і мете, мете жовтокоса осінь листя золоте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240" y="4581000"/>
            <a:ext cx="701676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eec94"/>
                </a:solidFill>
                <a:latin typeface="Times New Roman"/>
              </a:rPr>
              <a:t>В.Сосю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Іменники спільного род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Листоноша; базіка; нероба, білоручка; вереда; шульга, лівша; ледащо; паливода, зайдиголова;  сон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Підсумок уроку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Я знаю, що …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Я знаю, як …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Я знаю, чому…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Домашнє завданн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На 7 – 9 б.    –  впр. 264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10 – 12 б. -  впр. 263, с. 145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eec94"/>
                </a:solidFill>
                <a:latin typeface="Times New Roman"/>
              </a:rPr>
              <a:t>Робота в групах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Розділ науки про мову, що вивчає частини мови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амостійна частина мови, яка означає предмет, відповідає на питання Хто? Щ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кі морфологічні ознаки властиві іменникові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Іменникові властивий граматичний рід: чоловічий, жіночій, середній і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Іменники, які стосуються назв окремих предметів, щоб відрізнити їх від інших подібних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Розділ науки про мову, що вивчає члени речення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Вписати у клітинки український переклад поданих російських слі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403884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емитель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де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я прилагательно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дин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з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изубе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аг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Виберіть правильне написання слів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Times New Roman"/>
              </a:rPr>
              <a:t>Орел, орел, “Орел”;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Times New Roman"/>
              </a:rPr>
              <a:t>Роман, роман;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7200" spc="-1" strike="noStrike">
                <a:solidFill>
                  <a:srgbClr val="ffffff"/>
                </a:solidFill>
                <a:latin typeface="Times New Roman"/>
              </a:rPr>
              <a:t>Дружба”, дружба.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ловниковий диктант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Леся Українка, річка Либідь, Дніпро, майдан Незалежності, Каховська  гімназія, оповідання “Маленький горбань”, байка “Вовк та Ягня”, журнал “Колосок”, Україна, Ярослав Мудрий, Шевченківська премія, Президент України, Київ, газета “Каховська зоря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Розподіліть іменники за групами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5400" spc="-1" strike="noStrike">
                <a:solidFill>
                  <a:srgbClr val="ffffff"/>
                </a:solidFill>
                <a:latin typeface="Times New Roman"/>
              </a:rPr>
              <a:t>назви        назви       назв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Times New Roman"/>
              </a:rPr>
              <a:t>предметів   ознак         дій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314172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3068640"/>
            <a:ext cx="0" cy="316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Самоперевір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емля                  покірність               шикуван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хата                    синь                         підведен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равчиня            свіжість                 спостережен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осуд                  голубін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Винниченк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осередн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жит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осе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госп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обійст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32000" y="1628640"/>
            <a:ext cx="0" cy="460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1700280"/>
            <a:ext cx="71640" cy="453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eec94"/>
                </a:solidFill>
                <a:latin typeface="Times New Roman"/>
              </a:rPr>
              <a:t>Синоніми: 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ffffff"/>
                </a:solidFill>
                <a:latin typeface="Times New Roman"/>
              </a:rPr>
              <a:t>Хата, житло, оселя, господа 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eec94"/>
                </a:solidFill>
                <a:latin typeface="Times New Roman"/>
              </a:rPr>
              <a:t>Гроно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– скупчення плодів або квітів на одній гілці; образно – китиця, брост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eec94"/>
                </a:solidFill>
                <a:latin typeface="Times New Roman"/>
              </a:rPr>
              <a:t>Китиця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–1.скупчення квіток на одній гілці, на одному стеблі.2.жмуток ниток, шнурків, зв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язаних з одного кінця докупи.3.невеликий сніп соломи, зв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язаний з того кінця, де колоски.4.діал. Буке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eec94"/>
                </a:solidFill>
                <a:latin typeface="Times New Roman"/>
              </a:rPr>
              <a:t>Кетяг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– пучок ягід або квітів на одній гілці, стеблині; китиця, грон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2:07:29Z</dcterms:created>
  <dc:creator>infca</dc:creator>
  <dc:description/>
  <dc:language>en-US</dc:language>
  <cp:lastModifiedBy>Администратор</cp:lastModifiedBy>
  <dcterms:modified xsi:type="dcterms:W3CDTF">2010-11-24T08:45:35Z</dcterms:modified>
  <cp:revision>8</cp:revision>
  <dc:subject/>
  <dc:title> Неба в'яне просинь, і мете, мете жовтокоса осінь листя золоте.</dc:title>
</cp:coreProperties>
</file>