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1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FE8-4A5C-4699-8C69-93725911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ECF-1D06-4877-973D-AED00358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F0B-BA45-40D3-AE50-7E8CA5B3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450-DCFE-4D2F-B6B7-1D8762F6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775F2-ACF4-4929-BFC1-38CD5338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7659A-D5D5-47F7-907C-E583E0D5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7BBED-711B-4A34-A9F0-1080CFB4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9E277-10E2-46A2-8280-44ECCDE0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14376-E182-403B-9B96-4C3573A4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EB93D-35E8-4AAA-B8E6-03514D93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1527A-9592-46FF-A6B4-087CB172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973-BC4C-4E9D-BC7D-7B26728D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9F25F-894C-4632-A10A-A86C2ED3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03AD5-6D70-46C7-944F-9576A384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4D713-DFE8-4EE3-ACD8-93914BB2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A643C-BA1F-4925-B13A-532B2887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B778B-C900-4148-861E-B68E13ED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FB2-CBFE-4359-B42C-164A639B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6DD-4447-4C36-97C9-BE6A0E6B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C4B-206C-48D6-89BF-E181DE41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EF4-FA46-4C07-A3DF-2E3F460B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D4B-634A-409F-A885-19DB97E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D64-CB1F-46C4-B276-D6DE1CBA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016-F09D-4D22-8CE7-E99A897F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F6C9-3DAA-431F-AC2A-469BA75A2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55AF-7C28-4548-916D-2987E6C1D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Урок </a:t>
            </a:r>
            <a:br>
              <a:rPr sz="5400"/>
            </a:b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української мови </a:t>
            </a:r>
            <a:br>
              <a:rPr sz="5400"/>
            </a:b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в 7 класі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© </a:t>
            </a: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Робота вчите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української      мови та літератури              Гуляйпільського колегіуму “Лідер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Макеєвої Оксани Володимирів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4175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805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9933"/>
                </a:solidFill>
                <a:latin typeface="Bookman Old Style"/>
              </a:rPr>
              <a:t>Затока НЕ-Н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33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Місто Прислів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557360"/>
            <a:ext cx="4321440" cy="49672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1557360"/>
            <a:ext cx="4176720" cy="496728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10199"/>
                </a:solidFill>
                <a:uFillTx/>
                <a:latin typeface="Bookman Old Style"/>
              </a:rPr>
              <a:t>Сонячний промі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10199"/>
                </a:solidFill>
                <a:uFillTx/>
                <a:latin typeface="Bookman Old Style"/>
              </a:rPr>
              <a:t>Весняна посмі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2637000"/>
            <a:ext cx="223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10199"/>
                </a:solidFill>
                <a:latin typeface="Bookman Old Style"/>
              </a:rPr>
              <a:t>У/досвіта, до/речі, без/наміру, тим/часово, що/тижня, тяжко/важко, врешті/решт, раз/у/раз, з/дня/на/день, з/діда/прадіда, по/нашому, коли/небудь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2637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10199"/>
                </a:solidFill>
                <a:latin typeface="Bookman Old Style"/>
              </a:rPr>
              <a:t>За/молоду,   у/плав, через/силу, стрім/голов, на/в/шпильки, по/декуди, по/всюди, рано/ранесенько, вчора/позавчора, з/давніх/давен, по/своєму, по/батьківсь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Головний скар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1197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66"/>
                </a:solidFill>
                <a:latin typeface="Bookman Old Style"/>
              </a:rPr>
              <a:t>Тренувальний 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556000" y="1844640"/>
            <a:ext cx="3960720" cy="47512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81360"/>
            <a:ext cx="352728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1. В;              7. 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2. В;              8. 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3. Б;              9. 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4. В;              10. 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5. Б;              11. 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6. А;              12.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44500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9933"/>
                </a:solidFill>
                <a:latin typeface="Bookman Old Style"/>
              </a:rPr>
              <a:t>Вітаємо переможців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33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867280" y="2781360"/>
            <a:ext cx="3025800" cy="3886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Підготуватися до ТК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Повторити § 24-32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впр. 255 (1,2), впр. 254 (1,2) – на високий і достатній рівень.</a:t>
            </a:r>
            <a:r>
              <a:rPr b="1" i="1" lang="ru-RU" sz="3200" spc="-1" strike="noStrike">
                <a:solidFill>
                  <a:srgbClr val="ff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Прислівник </a:t>
            </a:r>
            <a:br>
              <a:rPr sz="4800"/>
            </a:b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як самостійна </a:t>
            </a:r>
            <a:br>
              <a:rPr sz="4800"/>
            </a:b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частина мов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Bookman Old Style"/>
              </a:rPr>
              <a:t>Узагальнення та систематизація вивченого матеріал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827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Мета уроку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узагальнити і систематизувати знання про прислівник як самостійну частину мов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закріпити вміння розрізняти розряди прислівника, утворювати його ступені порівняння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правильно писати прислівник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з’ясувати, яку ж роль відіграють прислівники у тексті і взагалі у нашому житті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розвивати логічне мисленн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вчитися  бачити прекрасне у звичайному, а з  уроку винести любов до рідного сло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35280" y="549360"/>
            <a:ext cx="50515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Мало знати, потрібно й використовува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Мало бажати, потрібно й роби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Й.Ге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0" r="0" b="42257"/>
          <a:stretch/>
        </p:blipFill>
        <p:spPr>
          <a:xfrm>
            <a:off x="684360" y="3903840"/>
            <a:ext cx="4464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32000" y="1697040"/>
            <a:ext cx="6480000" cy="4946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260280"/>
            <a:ext cx="8136000" cy="1125720"/>
          </a:xfrm>
          <a:custGeom>
            <a:avLst/>
            <a:gdLst>
              <a:gd name="textAreaLeft" fmla="*/ 2034000 w 8136000"/>
              <a:gd name="textAreaRight" fmla="*/ 6102000 w 8136000"/>
              <a:gd name="textAreaTop" fmla="*/ 281520 h 1125720"/>
              <a:gd name="textAreaBottom" fmla="*/ 109260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692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У морфологічному мор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1484280"/>
            <a:ext cx="6193080" cy="4897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421000"/>
            <a:ext cx="44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Коло, мимоволі, малий, троє, утричі, близький, далеко, раз у раз, інший, танути, інколи, сонний, вільний, сонно, четверо, тихий, тендіт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У морфологічному мор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1484280"/>
            <a:ext cx="6193080" cy="4897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492280"/>
            <a:ext cx="19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М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имовол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У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трич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Д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але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Р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аз у р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І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нк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С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он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Т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ендіт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260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5734080"/>
            <a:ext cx="56163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33"/>
                </a:solidFill>
                <a:latin typeface="Bookman Old Style"/>
              </a:rPr>
              <a:t>Міл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33"/>
                </a:solidFill>
                <a:latin typeface="Bookman Old Style"/>
              </a:rPr>
              <a:t>Ступеня Порівня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г. Пікуй (вид з перевалу на Воловцем)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c600"/>
                </a:solidFill>
                <a:latin typeface="Bookman Old Style"/>
              </a:rPr>
              <a:t>Острів Грамотност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10199"/>
                </a:solidFill>
                <a:latin typeface="Bookman Old Style"/>
              </a:rPr>
              <a:t>Бездога..о, зеле..о, спросо..я, зра..я, тума..о, духмя..о</a:t>
            </a:r>
            <a:r>
              <a:rPr b="1" i="1" lang="ru-RU" sz="3600" spc="-1" strike="noStrike">
                <a:solidFill>
                  <a:srgbClr val="010199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0:08:38Z</dcterms:created>
  <dc:creator>Vitali</dc:creator>
  <dc:description/>
  <dc:language>en-US</dc:language>
  <cp:lastModifiedBy>Admin</cp:lastModifiedBy>
  <dcterms:modified xsi:type="dcterms:W3CDTF">2011-02-27T09:56:12Z</dcterms:modified>
  <cp:revision>11</cp:revision>
  <dc:subject/>
  <dc:title>Урок  української мови  в 7 класі</dc:title>
</cp:coreProperties>
</file>