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5A2-6590-46AA-8E33-48FC9DAD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519-5BF6-43C6-8062-124D14F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353-EF2C-4433-8445-06A600F2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197-B8CA-48B8-AE7A-AB54FF03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A25C-EBC0-4EDD-96E0-7BAD2A32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A91E7-0824-40AB-A8E3-576C67C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B6F80-91A6-49B3-99DE-64C61499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6C062-125B-4993-BB8A-7A0ADFC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2283-5A43-415C-8C3A-2422F85D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24F3E-52E1-46F3-96B0-01E5171F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9695-1BD0-426B-8508-67BAC0A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DD9-4443-4609-949E-E85AA9A8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4DC14-139B-4E90-85F5-8DD2695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36F21-0DCE-4E5F-AFDA-DF48F5E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B62C6-F4FD-4931-9CDE-2FCE82C8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E79E5-0BAE-41B6-9839-379B6A9E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28C04-2C18-4AC4-9859-03D01B55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056-6494-4362-94A6-31820D9A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A9A-0F6C-4467-BE59-ED878E4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1D9-D528-4D4E-A0FB-4D8A4A39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916-DFF7-4E05-83EB-FBC1536E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588-2EE4-4A11-8D71-459AA24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BB3-9017-4A0F-A79B-73DC186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62C-0DEB-48D0-B1FC-8C1AA42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A18-8BFE-439C-B8D7-53E925F75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F06D-DC82-475C-8368-73785A252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рок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української мови </a:t>
            </a:r>
            <a:br>
              <a:rPr sz="5400"/>
            </a:br>
            <a:r>
              <a:rPr b="1" i="1" lang="uk-UA" sz="5400" spc="-1" strike="noStrike">
                <a:solidFill>
                  <a:srgbClr val="00c600"/>
                </a:solidFill>
                <a:latin typeface="Bookman Old Style"/>
              </a:rPr>
              <a:t>в 7 клас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man Old Style"/>
              </a:rPr>
              <a:t>© </a:t>
            </a: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Робота вчите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української      мови та літератури              Гуляйпільського колегіуму “Лідер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Bookman Old Style"/>
              </a:rPr>
              <a:t>Макеєвої Оксани Володимирів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4175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805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Затока НЕ-Н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Місто Прислів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557360"/>
            <a:ext cx="4321440" cy="4967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1557360"/>
            <a:ext cx="4176720" cy="496728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Сонячний промі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10199"/>
                </a:solidFill>
                <a:uFillTx/>
                <a:latin typeface="Bookman Old Style"/>
              </a:rPr>
              <a:t>Весняна посмі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637000"/>
            <a:ext cx="223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У/досвіта, до/речі, без/наміру, тим/часово, що/тижня, тяжко/важко, врешті/решт, раз/у/раз, з/дня/на/день, з/діда/прадіда, по/нашому, коли/небудь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637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10199"/>
                </a:solidFill>
                <a:latin typeface="Bookman Old Style"/>
              </a:rPr>
              <a:t>За/молоду,   у/плав, через/силу, стрім/голов, на/в/шпильки, по/декуди, по/всюди, рано/ранесенько, вчора/позавчора, з/давніх/давен, по/своєму, по/батьківсь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Головний скар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66"/>
                </a:solidFill>
                <a:latin typeface="Bookman Old Style"/>
              </a:rPr>
              <a:t>Тренувальни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556000" y="1844640"/>
            <a:ext cx="3960720" cy="47512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81360"/>
            <a:ext cx="35272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1. В;              7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2. В;              8. 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3. Б;              9. 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4. В;              10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5. Б;              11. 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10199"/>
                </a:solidFill>
                <a:latin typeface="Bookman Old Style"/>
              </a:rPr>
              <a:t>6. А;              12.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445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9933"/>
                </a:solidFill>
                <a:latin typeface="Bookman Old Style"/>
              </a:rPr>
              <a:t>Вітаємо переможців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33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258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ідготуватися до ТК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Повторити § 24-32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cc"/>
                </a:solidFill>
                <a:latin typeface="Bookman Old Style"/>
              </a:rPr>
              <a:t>впр. 255 (1,2), впр. 254 (1,2) – на високий і достатній рівень.</a:t>
            </a:r>
            <a:r>
              <a:rPr b="1" i="1" lang="ru-RU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Прислівник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як самостійна </a:t>
            </a:r>
            <a:br>
              <a:rPr sz="4800"/>
            </a:br>
            <a:r>
              <a:rPr b="1" i="1" lang="uk-UA" sz="4800" spc="-1" strike="noStrike">
                <a:solidFill>
                  <a:srgbClr val="00c600"/>
                </a:solidFill>
                <a:latin typeface="Bookman Old Style"/>
              </a:rPr>
              <a:t>частина мов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Bookman Old Style"/>
              </a:rPr>
              <a:t>Узагальнення та систематизація вивченого матері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82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Мета урок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узагальнити і систематизувати знання про прислівник як самостійну частину мов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акріпити вміння розрізняти розряди прислівника, утворювати його ступені порівняння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правильно писати прислівник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з’ясувати, яку ж роль відіграють прислівники у тексті і взагалі у нашому житті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розвивати логічне мислен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66"/>
                </a:solidFill>
                <a:latin typeface="Bookman Old Style"/>
              </a:rPr>
              <a:t>вчитися  бачити прекрасне у звичайному, а з  уроку винести любов до рідного сло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35280" y="549360"/>
            <a:ext cx="5051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знати, потрібно й використовув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Мало бажати, потрібно й роби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66"/>
                </a:solidFill>
                <a:latin typeface="Bookman Old Style"/>
              </a:rPr>
              <a:t>Й.Ге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0" b="42257"/>
          <a:stretch/>
        </p:blipFill>
        <p:spPr>
          <a:xfrm>
            <a:off x="684360" y="3903840"/>
            <a:ext cx="446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32000" y="1697040"/>
            <a:ext cx="6480000" cy="494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60280"/>
            <a:ext cx="8136000" cy="1125720"/>
          </a:xfrm>
          <a:custGeom>
            <a:avLst/>
            <a:gdLst>
              <a:gd name="textAreaLeft" fmla="*/ 2034000 w 8136000"/>
              <a:gd name="textAreaRight" fmla="*/ 6102000 w 8136000"/>
              <a:gd name="textAreaTop" fmla="*/ 281520 h 1125720"/>
              <a:gd name="textAreaBottom" fmla="*/ 109260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692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421000"/>
            <a:ext cx="44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Коло, мимоволі, малий, троє, утричі, близький, далеко, раз у раз, інший, танути, інколи, сонний, вільний, сонно, четверо, тихий, тенді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66"/>
                </a:solidFill>
                <a:latin typeface="Bookman Old Style"/>
              </a:rPr>
              <a:t>У морфологічному мо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484280"/>
            <a:ext cx="6193080" cy="4897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492280"/>
            <a:ext cx="19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М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имовол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У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трич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Д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ле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Р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аз у 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І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нк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С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о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Т</a:t>
            </a:r>
            <a:r>
              <a:rPr b="0" i="1" lang="uk-UA" sz="2800" spc="-1" strike="noStrike">
                <a:solidFill>
                  <a:srgbClr val="010199"/>
                </a:solidFill>
                <a:latin typeface="Curlz MT"/>
              </a:rPr>
              <a:t>енді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62812"/>
                </a:solidFill>
                <a:uFillTx/>
                <a:latin typeface="Curlz MT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0"/>
            <a:ext cx="7920000" cy="981000"/>
          </a:xfrm>
          <a:custGeom>
            <a:avLst/>
            <a:gdLst>
              <a:gd name="textAreaLeft" fmla="*/ 1980000 w 7920000"/>
              <a:gd name="textAreaRight" fmla="*/ 5940000 w 7920000"/>
              <a:gd name="textAreaTop" fmla="*/ 245160 h 981000"/>
              <a:gd name="textAreaBottom" fmla="*/ 952200 h 981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60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c600"/>
                </a:solidFill>
                <a:latin typeface="Bookman Old Style"/>
              </a:rPr>
              <a:t>ФОРТ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94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8785080" cy="79236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9900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33cc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734080"/>
            <a:ext cx="5616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Міл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33"/>
                </a:solidFill>
                <a:latin typeface="Bookman Old Style"/>
              </a:rPr>
              <a:t>Ступеня Порівня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г. Пікуй (вид з перевалу на Воловцем)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c600"/>
                </a:solidFill>
                <a:latin typeface="Bookman Old Style"/>
              </a:rPr>
              <a:t>Острів Грамотнос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10199"/>
                </a:solidFill>
                <a:latin typeface="Bookman Old Style"/>
              </a:rPr>
              <a:t>Бездога..о, зеле..о, спросо..я, зра..я, тума..о, духмя..о</a:t>
            </a:r>
            <a:r>
              <a:rPr b="1" i="1" lang="ru-RU" sz="3600" spc="-1" strike="noStrike">
                <a:solidFill>
                  <a:srgbClr val="010199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18129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0:08:38Z</dcterms:created>
  <dc:creator>Vitali</dc:creator>
  <dc:description/>
  <dc:language>en-US</dc:language>
  <cp:lastModifiedBy>Admin</cp:lastModifiedBy>
  <dcterms:modified xsi:type="dcterms:W3CDTF">2011-02-27T09:56:12Z</dcterms:modified>
  <cp:revision>11</cp:revision>
  <dc:subject/>
  <dc:title>Урок  української мови  в 7 класі</dc:title>
</cp:coreProperties>
</file>