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1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9FC-94AC-4EC7-9E6A-74B68E3D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FDC-FE88-451A-A171-23B812CD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929-76F9-4B91-8157-864FB94C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98F-6417-4DEF-8DA5-2E516F58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8CB65-CAB7-42CB-99DA-4CC4F7BC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9BB2D-9714-43D0-93A4-4DAD0259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12054-23BC-40FA-ACA5-45E24137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13549-A587-4EF5-B88D-4473A37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F4D2E-DE98-4B3E-AC52-6C1796E9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49E46-58AE-4EC4-AC5A-A354410E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13A39-6A1E-402D-BD67-ECA278B0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4B3-601A-4BE9-B0B5-B6253E6B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FFC85-1399-4A92-912C-57785533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D894C-6098-4F7D-8D3D-BCA3583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DC1E3-2710-4AE6-821C-15F56DF2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9EE66-AED6-4A71-8C74-D461CE0B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21FAD-D84B-4CD4-8346-CA252039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460-CC8E-4741-8326-74781729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3F0-E791-49B4-8F95-EAFEC4B6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6CD-698B-4BDD-800B-822B9D42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154-B508-4E94-BD5E-E0DE3AC7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AC3-7F40-410C-AFB5-58F02B0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099-ACA9-4466-AF92-0AC8BE53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2DD-41C0-494E-A07B-D07E0B9F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6353-FF9B-4A9D-AD2A-D57975A6A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80A-793D-4900-B802-9350F6D94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Урок </a:t>
            </a:r>
            <a:br>
              <a:rPr sz="5400"/>
            </a:b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української мови </a:t>
            </a:r>
            <a:br>
              <a:rPr sz="5400"/>
            </a:b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в 7 класі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© </a:t>
            </a: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Робота вчите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української      мови та літератури              Гуляйпільського колегіуму “Лідер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Макеєвої Оксани Володимирів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4175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805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9933"/>
                </a:solidFill>
                <a:latin typeface="Bookman Old Style"/>
              </a:rPr>
              <a:t>Затока НЕ-Н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3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Місто Прислів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557360"/>
            <a:ext cx="4321440" cy="49672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1557360"/>
            <a:ext cx="4176720" cy="496728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10199"/>
                </a:solidFill>
                <a:uFillTx/>
                <a:latin typeface="Bookman Old Style"/>
              </a:rPr>
              <a:t>Сонячний промі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10199"/>
                </a:solidFill>
                <a:uFillTx/>
                <a:latin typeface="Bookman Old Style"/>
              </a:rPr>
              <a:t>Весняна посмі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637000"/>
            <a:ext cx="223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10199"/>
                </a:solidFill>
                <a:latin typeface="Bookman Old Style"/>
              </a:rPr>
              <a:t>У/досвіта, до/речі, без/наміру, тим/часово, що/тижня, тяжко/важко, врешті/решт, раз/у/раз, з/дня/на/день, з/діда/прадіда, по/нашому, коли/небудь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2637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10199"/>
                </a:solidFill>
                <a:latin typeface="Bookman Old Style"/>
              </a:rPr>
              <a:t>За/молоду,   у/плав, через/силу, стрім/голов, на/в/шпильки, по/декуди, по/всюди, рано/ранесенько, вчора/позавчора, з/давніх/давен, по/своєму, по/батьківсь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Головний скар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1197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66"/>
                </a:solidFill>
                <a:latin typeface="Bookman Old Style"/>
              </a:rPr>
              <a:t>Тренувальний 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556000" y="1844640"/>
            <a:ext cx="3960720" cy="47512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81360"/>
            <a:ext cx="352728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1. В;              7. 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2. В;              8. 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3. Б;              9. 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4. В;              10. 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5. Б;              11. 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6. А;              12.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445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9933"/>
                </a:solidFill>
                <a:latin typeface="Bookman Old Style"/>
              </a:rPr>
              <a:t>Вітаємо переможців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33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67280" y="2781360"/>
            <a:ext cx="302580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Підготуватися до ТК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Повторити § 24-32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впр. 255 (1,2), впр. 254 (1,2) – на високий і достатній рівень.</a:t>
            </a:r>
            <a:r>
              <a:rPr b="1" i="1" lang="ru-RU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Прислівник </a:t>
            </a:r>
            <a:br>
              <a:rPr sz="4800"/>
            </a:b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як самостійна </a:t>
            </a:r>
            <a:br>
              <a:rPr sz="4800"/>
            </a:b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частина мов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Bookman Old Style"/>
              </a:rPr>
              <a:t>Узагальнення та систематизація вивченого матеріа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827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Мета уроку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узагальнити і систематизувати знання про прислівник як самостійну частину мов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закріпити вміння розрізняти розряди прислівника, утворювати його ступені порівняння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правильно писати прислівник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з’ясувати, яку ж роль відіграють прислівники у тексті і взагалі у нашому житті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розвивати логічне мисленн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вчитися  бачити прекрасне у звичайному, а з  уроку винести любов до рідного сло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35280" y="549360"/>
            <a:ext cx="50515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Мало знати, потрібно й використовува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Мало бажати, потрібно й роби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Й.Ге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0" r="0" b="42257"/>
          <a:stretch/>
        </p:blipFill>
        <p:spPr>
          <a:xfrm>
            <a:off x="684360" y="3903840"/>
            <a:ext cx="4464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32000" y="1697040"/>
            <a:ext cx="6480000" cy="4946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260280"/>
            <a:ext cx="8136000" cy="1125720"/>
          </a:xfrm>
          <a:custGeom>
            <a:avLst/>
            <a:gdLst>
              <a:gd name="textAreaLeft" fmla="*/ 2034000 w 8136000"/>
              <a:gd name="textAreaRight" fmla="*/ 6102000 w 8136000"/>
              <a:gd name="textAreaTop" fmla="*/ 281520 h 1125720"/>
              <a:gd name="textAreaBottom" fmla="*/ 109260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692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У морфологічному мо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484280"/>
            <a:ext cx="6193080" cy="4897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421000"/>
            <a:ext cx="44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Коло, мимоволі, малий, троє, утричі, близький, далеко, раз у раз, інший, танути, інколи, сонний, вільний, сонно, четверо, тихий, тендіт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У морфологічному мо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1484280"/>
            <a:ext cx="6193080" cy="4897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492280"/>
            <a:ext cx="19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М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имовол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У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трич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Д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але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Р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аз у р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І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нк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С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о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Т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енді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60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5734080"/>
            <a:ext cx="56163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33"/>
                </a:solidFill>
                <a:latin typeface="Bookman Old Style"/>
              </a:rPr>
              <a:t>Міл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33"/>
                </a:solidFill>
                <a:latin typeface="Bookman Old Style"/>
              </a:rPr>
              <a:t>Ступеня Порівня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г. Пікуй (вид з перевалу на Воловцем)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c600"/>
                </a:solidFill>
                <a:latin typeface="Bookman Old Style"/>
              </a:rPr>
              <a:t>Острів Грамотност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10199"/>
                </a:solidFill>
                <a:latin typeface="Bookman Old Style"/>
              </a:rPr>
              <a:t>Бездога..о, зеле..о, спросо..я, зра..я, тума..о, духмя..о</a:t>
            </a:r>
            <a:r>
              <a:rPr b="1" i="1" lang="ru-RU" sz="3600" spc="-1" strike="noStrike">
                <a:solidFill>
                  <a:srgbClr val="010199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0:08:38Z</dcterms:created>
  <dc:creator>Vitali</dc:creator>
  <dc:description/>
  <dc:language>en-US</dc:language>
  <cp:lastModifiedBy>Admin</cp:lastModifiedBy>
  <dcterms:modified xsi:type="dcterms:W3CDTF">2011-02-27T09:56:12Z</dcterms:modified>
  <cp:revision>11</cp:revision>
  <dc:subject/>
  <dc:title>Урок  української мови  в 7 класі</dc:title>
</cp:coreProperties>
</file>