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EC8-6D22-4F1B-B6A9-960256E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2A6-B92B-4B3E-ABFD-D087731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A36-57FB-4DFB-B6DC-C5597672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6CD-025D-453A-8334-7F228FE9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2D12-B156-48D1-8041-755DDCE5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5D6E-6236-4D96-B2E1-57D5A02D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9DEF-2ACB-4526-88A2-DCE81409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BC2CC-EDAA-41A1-BC38-9F31F8B9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FCFA-48AB-4B59-AC05-E8E7569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518E-EADA-42B5-9447-55BAEE1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6E3F-17BF-48A2-9B79-E44B85F6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908-0EFD-4C71-AA82-A0C611E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9D6F-B1A3-4F91-994D-B7B7F7E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B8C57-5D74-47BA-B7A9-A31DD2D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D61E6-B663-4E7C-9F42-86373D82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C0474-D7E7-488C-B1F6-2E323B56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28880-6062-40AC-A0BC-B2DFEE9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ACA-F27F-4959-B2BC-F48BD675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B1A-0D1D-49C8-98C9-BE39CEE9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44-6B8A-4BB1-8D73-9954380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A3D-05A1-4554-AF7E-5D5DD3F1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D13-F4E5-4C44-9E91-B7E87CE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599-7C2E-48DE-B4F5-21000C0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D2B-391B-4CEB-B9FB-3CB28C1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9EF5-8745-4AA2-A446-408D415A2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B4F-9301-461F-8E64-B90725BCF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рок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країнської мови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в 7 клас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© </a:t>
            </a: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Робота вчите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української      мови та літератури              Гуляйпільського колегіуму “Лідер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Макеєвої Оксани Володимирів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4175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80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Затока НЕ-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Місто Прислі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557360"/>
            <a:ext cx="4321440" cy="4967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557360"/>
            <a:ext cx="4176720" cy="496728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Сонячний промі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Весняна посмі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637000"/>
            <a:ext cx="223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У/досвіта, до/речі, без/наміру, тим/часово, що/тижня, тяжко/важко, врешті/решт, раз/у/раз, з/дня/на/день, з/діда/прадіда, по/нашому, коли/небудь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637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За/молоду,   у/плав, через/силу, стрім/голов, на/в/шпильки, по/декуди, по/всюди, рано/ранесенько, вчора/позавчора, з/давніх/давен, по/своєму, по/батьківсь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Головний ска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66"/>
                </a:solidFill>
                <a:latin typeface="Bookman Old Style"/>
              </a:rPr>
              <a:t>Тренувальни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556000" y="1844640"/>
            <a:ext cx="3960720" cy="4751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81360"/>
            <a:ext cx="35272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1. В;              7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2. В;              8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3. Б;              9. 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4. В;              10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5. Б;              11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6. А;              12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445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Вітаємо переможці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258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ідготуватися до ТК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овторити § 24-32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впр. 255 (1,2), впр. 254 (1,2) – на високий і достатній рівень.</a:t>
            </a:r>
            <a:r>
              <a:rPr b="1" i="1" lang="ru-RU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Прислівник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як самостійна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частина мов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Bookman Old Style"/>
              </a:rPr>
              <a:t>Узагальнення та систематизація вивченого матері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82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Мета урок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узагальнити і систематизувати знання про прислівник як самостійну частину мов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акріпити вміння розрізняти розряди прислівника, утворювати його ступені порівнянн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правильно писати прислівник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’ясувати, яку ж роль відіграють прислівники у тексті і взагалі у нашому житті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розвивати логічне мислен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вчитися  бачити прекрасне у звичайному, а з  уроку винести любов до рідного сло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35280" y="549360"/>
            <a:ext cx="5051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знати, потрібно й використовув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бажати, потрібно й роби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Й.Ге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0" b="42257"/>
          <a:stretch/>
        </p:blipFill>
        <p:spPr>
          <a:xfrm>
            <a:off x="684360" y="3903840"/>
            <a:ext cx="446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32000" y="1697040"/>
            <a:ext cx="6480000" cy="494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60280"/>
            <a:ext cx="8136000" cy="1125720"/>
          </a:xfrm>
          <a:custGeom>
            <a:avLst/>
            <a:gdLst>
              <a:gd name="textAreaLeft" fmla="*/ 2034000 w 8136000"/>
              <a:gd name="textAreaRight" fmla="*/ 6102000 w 8136000"/>
              <a:gd name="textAreaTop" fmla="*/ 281520 h 1125720"/>
              <a:gd name="textAreaBottom" fmla="*/ 109260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692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421000"/>
            <a:ext cx="44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Коло, мимоволі, малий, троє, утричі, близький, далеко, раз у раз, інший, танути, інколи, сонний, вільний, сонно, четверо, тихий, тенді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492280"/>
            <a:ext cx="19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М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имовол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У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три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Д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ле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Р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з у 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І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нк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С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о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Т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енді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60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734080"/>
            <a:ext cx="5616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Мі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Ступеня Порівня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г. Пікуй (вид з перевалу на Воловцем)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c600"/>
                </a:solidFill>
                <a:latin typeface="Bookman Old Style"/>
              </a:rPr>
              <a:t>Острів Грамотнос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10199"/>
                </a:solidFill>
                <a:latin typeface="Bookman Old Style"/>
              </a:rPr>
              <a:t>Бездога..о, зеле..о, спросо..я, зра..я, тума..о, духмя..о</a:t>
            </a:r>
            <a:r>
              <a:rPr b="1" i="1" lang="ru-RU" sz="3600" spc="-1" strike="noStrike">
                <a:solidFill>
                  <a:srgbClr val="010199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0:08:38Z</dcterms:created>
  <dc:creator>Vitali</dc:creator>
  <dc:description/>
  <dc:language>en-US</dc:language>
  <cp:lastModifiedBy>Admin</cp:lastModifiedBy>
  <dcterms:modified xsi:type="dcterms:W3CDTF">2011-02-27T09:56:12Z</dcterms:modified>
  <cp:revision>11</cp:revision>
  <dc:subject/>
  <dc:title>Урок  української мови  в 7 класі</dc:title>
</cp:coreProperties>
</file>