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1873-E327-4C8A-AB25-30460B493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3839-9C0B-44E6-9B12-0B2CFA9B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E588-2AA0-4015-B27C-A9666C1D0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AAD1-3776-445F-B3D1-8F3C40AA5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BD8D-A2DF-447F-A016-A0AF13E04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E663-681B-46DD-BAE9-E8A6A6DA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3076-901B-42CD-9D0A-8C23920B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1F56-4547-42B1-8CF7-1FDBD569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9AD8-546B-48B8-8F0D-F5C829B3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0660-FBD9-43EC-B68A-57A1B8F2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4C2D-338D-4882-8B9B-E9830F30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25AF-41ED-4444-BCF9-E5554ADB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F60E-63A2-40DC-8291-4AAEE01E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15C2-5041-45E8-908A-DC6BC5DC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0319-027D-437E-A6B9-C1A988CA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2251-0D03-4296-A405-251040C90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5FA6-F4BC-48D1-B700-544548C9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0B8E-19F1-497C-B04B-F54FC20D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99B1-AC2B-4FD0-93D6-A872BF62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90BC-E7FE-44FB-B7E5-7FD0E2EC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5D48-0E7C-40C2-AD53-5B218E39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53AE-E54D-4932-9402-DB1AF831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2A61-AE4C-4156-B1E3-C83C5565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6163-9FEE-425E-9B58-1B325824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06CD-16D7-4304-A845-8EA578BEF4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6B2A-6DEB-4CA1-84EA-DEE3E7C5B4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google.com.ua/imgres?imgurl=http://i.bigmir.net/img/dnevnik/uploads/1410781/486719/12.jpg&amp;imgrefurl=http://dnevnik.bigmir.net/article/486719&amp;usg=__6hIE-YKQjthkE3aGc4PDd06WqkQ=&amp;h=300&amp;w=450&amp;sz=29&amp;hl=uk&amp;start=10&amp;zoom=1&amp;itbs=1&amp;tbnid=ixqST4ji6pR6IM:&amp;tbnh=85&amp;tbnw=127&amp;prev=/images%3Fq%3D%25D0%25A1%25D0%25B8%25D0%25BC%25D0%25B2%25D0%25BE%25D0%25BB%25D0%25B8%2B%25D0%25A3%25D0%25BA%25D1%2580%25D0%25B0%25D1%2597%25D0%25BD%25D0%25B8%26hl%3Duk%26sa%3DG%26gbv%3D2%26tbs%3Disch: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99ff99"/>
                </a:solidFill>
                <a:latin typeface="Arial"/>
              </a:rPr>
              <a:t>Рідна мова</a:t>
            </a:r>
            <a:r>
              <a:rPr b="0" lang="ru-RU" sz="6000" spc="-1" strike="noStrike">
                <a:solidFill>
                  <a:srgbClr val="99ff99"/>
                </a:solidFill>
                <a:latin typeface="Arial"/>
              </a:rPr>
              <a:t> чиста, як роса 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924000" y="3357720"/>
            <a:ext cx="504036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наче юна зоря світанкова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и лісами, степами ідеш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країнська чарівная мово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и у серці народу живеш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3504960" cy="4104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Літературний аукціо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76720" y="191628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«Найбільше і найдорожче добро в кожного народу - це його мова, ота жива схованка людського духу, його багата скарбниця, в яку народ складає і своє давнє життя, і свої сподіванки, і розум, і досвід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(Панас Мирний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33464"/>
          <a:stretch/>
        </p:blipFill>
        <p:spPr>
          <a:xfrm>
            <a:off x="179280" y="1268280"/>
            <a:ext cx="3024360" cy="25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Поетична хвилин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95280" y="1600200"/>
            <a:ext cx="469116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Наша мова калин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І ласкава, і медов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І багата, і небідна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От що мова наша рід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345600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Гра “Хто найшвидше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тицю пізнати по пір'ю, а людину по мові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Хто мови своєї цурається, хай сам себе стидаєть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ідна мова – не полова: її за вітром не розвієш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лово до слова – зложиться мо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Історична сторін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ерші спроби пись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Два різновиди старосло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янських писемних знак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Кириличний алфаві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ерша книга “Апостол” – 1574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Книги, як рідкісні скарб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Невмируща мо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067280" y="3068640"/>
            <a:ext cx="46195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Любіть Україну у сні й наяву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ишневу свою Україну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Красу її, вічно живу і нову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І мову її соло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ї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671640" cy="45352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27640" y="765000"/>
            <a:ext cx="2448000" cy="1872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16:08:18Z</dcterms:created>
  <dc:creator>Home</dc:creator>
  <dc:description/>
  <dc:language>en-US</dc:language>
  <cp:lastModifiedBy>Makarenko</cp:lastModifiedBy>
  <dcterms:modified xsi:type="dcterms:W3CDTF">2010-11-19T05:53:25Z</dcterms:modified>
  <cp:revision>7</cp:revision>
  <dc:subject/>
  <dc:title>Рідна мова чиста, як роса </dc:title>
</cp:coreProperties>
</file>