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6EC-047F-40FF-8925-8DCBD28B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498-DFD1-43DC-9E4D-7A2BC9DF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C9E-3E1A-4768-84A4-0FB6A57C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763-2107-4EE4-812D-316547DD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6225-02BF-4584-A217-32DF0902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5809-60B1-4A34-A8B1-936FF7F2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B806-7FE6-46AD-A57A-9591D85D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7B7B-32B7-4A8D-ACCC-B592DFE9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7F02-CE97-4AEC-9AFE-342B3EBB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0B7B-CE97-4278-A6B4-04762741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6D99-7EDA-4D46-B809-7BF7C37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48B-C162-4762-9584-0DEACDA9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FF60-BCC7-4DFB-B8BF-5E9D6948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EF30-FD53-4ADF-AA5D-C2DCB81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ACB2-D08E-4D9E-A823-0A32C14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CDCE-F701-4979-88B2-E0852719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24F6-C2D6-4F77-86F7-1A2E1B90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C60-C020-45E1-90B3-3309C525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148-E847-44AB-B79A-60350975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081-CBAA-4BD8-8D39-47F78E84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C20-4980-4CB3-A2BA-7E3F1393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BA4-E468-4BF3-9DE2-F42423B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AEC-052D-42ED-BD39-F945B11D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168-3B9C-47F9-9CD7-0BF91027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5A86-0429-4ACB-8960-C70C8DAD3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73B2-A860-4896-9FED-5A5AB5893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.ua/imgres?imgurl=http://i.bigmir.net/img/dnevnik/uploads/1410781/486719/12.jpg&amp;imgrefurl=http://dnevnik.bigmir.net/article/486719&amp;usg=__6hIE-YKQjthkE3aGc4PDd06WqkQ=&amp;h=300&amp;w=450&amp;sz=29&amp;hl=uk&amp;start=10&amp;zoom=1&amp;itbs=1&amp;tbnid=ixqST4ji6pR6IM:&amp;tbnh=85&amp;tbnw=127&amp;prev=/images%3Fq%3D%25D0%25A1%25D0%25B8%25D0%25BC%25D0%25B2%25D0%25BE%25D0%25BB%25D0%25B8%2B%25D0%25A3%25D0%25BA%25D1%2580%25D0%25B0%25D1%2597%25D0%25BD%25D0%25B8%26hl%3Duk%26sa%3DG%26gbv%3D2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99ff99"/>
                </a:solidFill>
                <a:latin typeface="Arial"/>
              </a:rPr>
              <a:t>Рідна мова</a:t>
            </a:r>
            <a:r>
              <a:rPr b="0" lang="ru-RU" sz="6000" spc="-1" strike="noStrike">
                <a:solidFill>
                  <a:srgbClr val="99ff99"/>
                </a:solidFill>
                <a:latin typeface="Arial"/>
              </a:rPr>
              <a:t> чиста, як роса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924000" y="3357720"/>
            <a:ext cx="5040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наче юна зоря світанков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 лісами, степами ідеш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раїнська чарівная мово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 у серці народу живе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3504960" cy="4104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ітературний аукці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76720" y="19162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«Найбільше і найдорожче добро в кожного народу - це його мова, ота жива схованка людського духу, його багата скарбниця, в яку народ складає і своє давнє життя, і свої сподіванки, і розум, і досвід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(Панас Мирний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33464"/>
          <a:stretch/>
        </p:blipFill>
        <p:spPr>
          <a:xfrm>
            <a:off x="179280" y="1268280"/>
            <a:ext cx="302436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оетична хвил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ша мова калин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ласкава, і медо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багата, і небідн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т що мова наша рід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Гра “Хто найшвидше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тицю пізнати по пір'ю, а людину по мов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то мови своєї цурається, хай сам себе стидає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ідна мова – не полова: її за вітром не розвіє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лово до слова – зложиться м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Історична сторі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ші спроби пись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ва різновиди старос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нських писемних зна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ириличний алфаві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ша книга “Апостол” – 1574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ниги, як рідкісні скарб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вмируща м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067280" y="3068640"/>
            <a:ext cx="4619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Любіть Україну у сні й наяв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шневу свою Україн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расу її, вічно живу і нов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мову її со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ї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671640" cy="453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765000"/>
            <a:ext cx="2448000" cy="18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08:18Z</dcterms:created>
  <dc:creator>Home</dc:creator>
  <dc:description/>
  <dc:language>en-US</dc:language>
  <cp:lastModifiedBy>Makarenko</cp:lastModifiedBy>
  <dcterms:modified xsi:type="dcterms:W3CDTF">2010-11-19T05:53:25Z</dcterms:modified>
  <cp:revision>7</cp:revision>
  <dc:subject/>
  <dc:title>Рідна мова чиста, як роса </dc:title>
</cp:coreProperties>
</file>