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A22-9AA0-4597-A615-953492B2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A65-E632-4D64-9CE8-110F0AC1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719-BBA6-42C7-8A2D-4733DD65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CF6-E5D4-49A0-AD10-48BF64CE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2EB0-E30A-4A0E-A4EF-AFFC6BBF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EC05-CC00-4C81-B342-286F0E32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CD75-9EE5-43BD-9ABA-C4A78D9C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6541-001E-445F-8B3E-6CFEDC7E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E4C3-5717-4A5E-B97E-CCD526A0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4E8A-7A9E-425B-9CDE-C3038A6F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36F9-F483-4F15-8F79-F605352E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5C0-67F2-4962-8505-DE2A9E3B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35C1-1E6F-4B5A-8019-5EF7771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F1D6-5CB2-4EC1-9E59-D17AD487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E370-55A2-4655-B90E-8802DBC6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8878-F724-4EB1-A547-3F9C45F9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A88B-F348-49B3-B2E5-CDF9D46D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D1A-D0FB-433F-B355-92FD0239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87D-E6BB-48B8-B1A9-BCE9685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6EE-EA82-416C-B38D-AAA3CAA2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4E0-8CC7-4366-96A8-A7C9D79C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701-F592-48DF-BAEB-6A04BC8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F4E-9DBD-498C-85E9-0508E95C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97C-04C4-4199-867A-4B614728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594B-1BDC-4BC6-9D6C-CA7B73ECB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FE2D-129D-4D38-8F55-58925E43E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.ua/imgres?imgurl=http://i.bigmir.net/img/dnevnik/uploads/1410781/486719/12.jpg&amp;imgrefurl=http://dnevnik.bigmir.net/article/486719&amp;usg=__6hIE-YKQjthkE3aGc4PDd06WqkQ=&amp;h=300&amp;w=450&amp;sz=29&amp;hl=uk&amp;start=10&amp;zoom=1&amp;itbs=1&amp;tbnid=ixqST4ji6pR6IM:&amp;tbnh=85&amp;tbnw=127&amp;prev=/images%3Fq%3D%25D0%25A1%25D0%25B8%25D0%25BC%25D0%25B2%25D0%25BE%25D0%25BB%25D0%25B8%2B%25D0%25A3%25D0%25BA%25D1%2580%25D0%25B0%25D1%2597%25D0%25BD%25D0%25B8%26hl%3Duk%26sa%3DG%26gbv%3D2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99ff99"/>
                </a:solidFill>
                <a:latin typeface="Arial"/>
              </a:rPr>
              <a:t>Рідна мова</a:t>
            </a:r>
            <a:r>
              <a:rPr b="0" lang="ru-RU" sz="6000" spc="-1" strike="noStrike">
                <a:solidFill>
                  <a:srgbClr val="99ff99"/>
                </a:solidFill>
                <a:latin typeface="Arial"/>
              </a:rPr>
              <a:t> чиста, як роса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924000" y="3357720"/>
            <a:ext cx="5040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наче юна зоря світанков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 лісами, степами ідеш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раїнська чарівная мово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 у серці народу живе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3504960" cy="4104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ітературний аукці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76720" y="19162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«Найбільше і найдорожче добро в кожного народу - це його мова, ота жива схованка людського духу, його багата скарбниця, в яку народ складає і своє давнє життя, і свої сподіванки, і розум, і досвід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(Панас Мирний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33464"/>
          <a:stretch/>
        </p:blipFill>
        <p:spPr>
          <a:xfrm>
            <a:off x="179280" y="1268280"/>
            <a:ext cx="302436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оетична хвил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ша мова калин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ласкава, і медо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багата, і небідн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т що мова наша рід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Гра “Хто найшвидше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тицю пізнати по пір'ю, а людину по мов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то мови своєї цурається, хай сам себе стидає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ідна мова – не полова: її за вітром не розвіє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лово до слова – зложиться м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Історична сторі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ші спроби пись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ва різновиди старос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нських писемних зна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ириличний алфаві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ша книга “Апостол” – 1574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ниги, як рідкісні скарб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вмируща м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067280" y="3068640"/>
            <a:ext cx="4619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Любіть Україну у сні й наяв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шневу свою Україн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расу її, вічно живу і нов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мову її со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ї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671640" cy="453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765000"/>
            <a:ext cx="2448000" cy="18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08:18Z</dcterms:created>
  <dc:creator>Home</dc:creator>
  <dc:description/>
  <dc:language>en-US</dc:language>
  <cp:lastModifiedBy>Makarenko</cp:lastModifiedBy>
  <dcterms:modified xsi:type="dcterms:W3CDTF">2010-11-19T05:53:25Z</dcterms:modified>
  <cp:revision>7</cp:revision>
  <dc:subject/>
  <dc:title>Рідна мова чиста, як роса </dc:title>
</cp:coreProperties>
</file>