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8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0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11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7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2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6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</p:sldMasterIdLst>
  <p:sldIdLst>
    <p:sldId id="256" r:id="rId49"/>
    <p:sldId id="257" r:id="rId50"/>
    <p:sldId id="258" r:id="rId51"/>
    <p:sldId id="259" r:id="rId52"/>
    <p:sldId id="260" r:id="rId53"/>
    <p:sldId id="261" r:id="rId54"/>
    <p:sldId id="262" r:id="rId55"/>
    <p:sldId id="263" r:id="rId56"/>
    <p:sldId id="264" r:id="rId57"/>
    <p:sldId id="265" r:id="rId58"/>
    <p:sldId id="266" r:id="rId59"/>
    <p:sldId id="26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" Target="slides/slide1.xml"/><Relationship Id="rId50" Type="http://schemas.openxmlformats.org/officeDocument/2006/relationships/slide" Target="slides/slide2.xml"/><Relationship Id="rId51" Type="http://schemas.openxmlformats.org/officeDocument/2006/relationships/slide" Target="slides/slide3.xml"/><Relationship Id="rId52" Type="http://schemas.openxmlformats.org/officeDocument/2006/relationships/slide" Target="slides/slide4.xml"/><Relationship Id="rId53" Type="http://schemas.openxmlformats.org/officeDocument/2006/relationships/slide" Target="slides/slide5.xml"/><Relationship Id="rId54" Type="http://schemas.openxmlformats.org/officeDocument/2006/relationships/slide" Target="slides/slide6.xml"/><Relationship Id="rId55" Type="http://schemas.openxmlformats.org/officeDocument/2006/relationships/slide" Target="slides/slide7.xml"/><Relationship Id="rId56" Type="http://schemas.openxmlformats.org/officeDocument/2006/relationships/slide" Target="slides/slide8.xml"/><Relationship Id="rId57" Type="http://schemas.openxmlformats.org/officeDocument/2006/relationships/slide" Target="slides/slide9.xml"/><Relationship Id="rId58" Type="http://schemas.openxmlformats.org/officeDocument/2006/relationships/slide" Target="slides/slide10.xml"/><Relationship Id="rId59" Type="http://schemas.openxmlformats.org/officeDocument/2006/relationships/slide" Target="slides/slide11.xml"/><Relationship Id="rId60" Type="http://schemas.openxmlformats.org/officeDocument/2006/relationships/slide" Target="slides/slide12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B1A2C-9715-4BD0-A070-19F6E9595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327-DC2F-406E-8C67-FD659C5B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12EA54-5CC7-435D-AEBA-5C6A7306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75A814-6BBB-4F9D-B337-F6C2713F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81B519-78AA-4A3A-8D09-4D849B4F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5071FA-6923-4891-A6E6-5ACB5870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F928B7-727C-4D6C-AA01-37B1951E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C3488-8C0B-4CE7-AA61-48995B2F3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67C05-399B-4BE6-B136-E0341E4B6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491BA-4DF4-4886-999F-D1D6B39D0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1F889-C5D3-4334-A8A9-A781F16B1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5840DA5-717E-4D27-A23A-3CB2AC2E1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46B3-03DF-4C5D-B9CC-3B074EDE2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FFD6EE-8433-49CA-9511-30C13810D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D3FF9E2-A23F-4FBE-88EB-F05FC063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8C304E-476D-4BBB-8C21-372F1953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6E37608-3298-47AE-8525-773429511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AAA7D1E-BEF6-4040-A9B4-06110192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36F4A25-A215-4DD3-857D-915832DC5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8EEE5A8-1623-462A-A166-3632D0982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DDEEAA-5F00-49F5-A2E8-CDFCBD463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D021C3-051E-45C9-80DA-F41111C5E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D820EEE-C597-41E1-84D8-9B7F43E22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9350-CBF7-454A-9E80-E726ADC8A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B512B56-42AA-4B20-820C-040A07892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23AF4-27AD-4C97-BF3D-3275B08EA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FC6404-1F29-456D-B37E-7043BD48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84F72-1F3B-4DA4-987B-E7B7682A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5E3465-6437-4457-9CBF-861E2C4D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F4BE55-6445-4C78-818D-1A7DC337E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D8B68A-FB2F-4183-84A6-FEB87F22D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0A6811-39C3-4702-BEEA-89F91EC9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8865D-7369-407C-AAEC-7B5FB931C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BB712-3F6E-4C44-8B08-9ABB78C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6A2E1-E5D5-4A6D-9DCC-2FE2C6F8C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BE2BC3-18C5-4C44-82CC-0A5C8D13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4B1BFD-8E2F-4534-9B7F-497195780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002722-9867-4C01-83E6-B1AFC9A0B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EB019648-8501-41CD-9275-B1930EEBE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98276FF-EED1-4C05-9DE3-C80F0A51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11981B9-4140-40E2-95C6-99E3D55A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C53C70-119C-43B5-BE72-E6EFCFD03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C1BA2F1-E791-4E99-9C7F-A01A6C1B0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717694B-D2E8-4699-AC59-6F019CC1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801D5E4-181E-4DEA-9294-9ADA31B9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87C7-1966-41E7-8060-FB4D8CA75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2068EE8-5422-4B6E-B14E-B9B7E9B4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CDE59F-293E-42E8-8C1A-B9D032F7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2D24D2F-74FB-4000-AE28-88E689515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D149AFD-8C6F-42FF-990A-A83608C6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9005331-D588-4EEA-9149-3CE236026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FC537E-ACAF-4706-8BCB-38F9B2DE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F2FDBF-4676-48A9-88C4-51AAD35D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ED3821-D86A-433C-A7F8-1169D4EE2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A88ED-CB5C-4640-8648-111C6A43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10324-0ADC-4A7D-8E0B-8269FDC34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8D92C-10CB-4D8C-A913-FCF5665B5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E9BE3A-36D0-4308-8D2A-64247D9D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B9277A-AC39-4B0E-92F2-DCC89ABF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B9AA67-84E6-4ADA-9B7C-B1080665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31D3A9-B3BA-43E1-98D7-218B894E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A67B1-D995-4A1C-BF8D-C2AB92DB5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2AA01B-9CC1-4D07-8D7D-CE84858F1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F7D79A-E610-4DEB-B6A9-27FC1FF8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7F59D5-EA69-4AAF-B8FA-798E7DC26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C9668D-6C2D-4358-9EAC-8B010F483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18462A-FD05-429B-B702-951B667C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F67B2-E27D-4EC3-AC64-7D9F68CD7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652BA2-EB89-4E8D-8E65-860B2074E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D949AB-449C-4065-99C0-895223F67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25358-EA16-4F01-8466-A8AD21BC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68F37F-7F49-4997-8822-8790EC308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DE67FC-36C0-4370-99A9-87545141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88B824-80A7-4F4E-B769-D8827F6E8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DC214-AD45-4A6F-9DD3-C7C8C8FCA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672752-B7E9-4D04-85F4-C0E315F1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4CE73A-12AB-439A-8892-D5C12B7DB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CAC4F1-049F-45BE-9CE0-5B9CB2363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0937-AFB2-41CF-BA23-2DFCF14F8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0F3BE-EAC1-4242-8C16-933372449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09E605-8D92-40B4-A82F-351AF7B0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BA4A9E-FCC5-4639-BAB8-710460C2C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A2C02E-A216-4963-B837-58C3C4CF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8A8974-CBF5-4D5D-846B-781D6833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ED677C-3BE4-4CFB-BBDD-30434BA7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D4BE46-BA78-4A40-A92C-0F9DC828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28F08-AE11-489C-A4A8-D07A5F458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692E6B-9BC0-4EC7-95E3-808B4D0C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BF31C7-207A-4930-899D-67B3D2A55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E52E-5839-4F76-9FFC-857D8F6B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9FE3F6-BE9D-4AAE-87C4-486B50FA3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5262088-557E-4EC4-9B51-6FAFAF56B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63BC042-687B-4593-973A-D5A915A3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1EC9D1A-4EA4-413F-B47B-56274C6D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51783A5-FF98-4376-83EA-73225BD1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7B1FC9E-3850-4E81-9A4A-6D898760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5D3A1DA-CC99-4FAE-9327-DC56B76D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0165537-6424-4E33-B1AD-9659889E1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BDB550F-B46B-44DD-B1CE-371A29B19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C251C20-BFC0-41CC-A2AD-BA6763CB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6E2F3-C5D9-4DE0-A200-99CE4AFF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137E4FE-709C-4199-881A-0474A824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6E63111-BCC2-494C-9A5E-0C774B8A7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A75291D-4490-4F3E-87E7-DD6BDAE55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2328C45-3E4D-42A3-A43C-4A193ED15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AFD95C-3614-45F8-9DC3-5249FB55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70C790D-8BC3-4352-BAE6-024A1C04B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272539D-BC1C-42BB-93E1-749CFE7E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1AB93E3-3A8C-494C-9052-515C58D48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DF169E0-997B-4902-B60C-3330AEAB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3398EB-BC17-46EC-A61B-85DD2BB5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AA92-20C7-463E-B3E2-E9096AFD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E9789-4CA4-40D6-8C86-EF5474B3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58016A26-262B-4734-9F23-6EBFB954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EA78F5FA-DFC3-47B1-BC79-8C418447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D17937F-6459-4C44-8C72-52010C3B5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2854D7F-FDB0-4EAD-9204-83621CCA1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1771CD9-1FE8-403F-8A43-C573F196D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1391A6-55A9-44FD-910B-81CFDFC7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63C88C-809E-49BA-AAE7-01EF847AB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87ECCF-165D-42EC-B519-3E5850A5A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407780-07CF-46D0-A345-B241E8B31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C8DECE-C615-42F9-9016-6EBD6431B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31982-2AED-4C1C-BB24-DA0B9522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0B41BB-096C-4E97-B746-C3891DD0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18B8EE-F5DA-4C17-A258-0B5B0A75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A7208B-BE5D-4018-98DF-A0EBA0A3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790770-662D-4F29-B10F-5BE842B0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9367AA-F82A-44A2-9C64-A23F771A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2CFA28-EDC4-4EC0-ABE2-7447B9246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89F54C-70FA-4095-BA74-809C11409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A08B07-ED63-46AE-A32E-B7C2ED42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91F8E-68B4-4593-BF73-D289937C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B4A67A-635F-42FE-99FE-706162142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E039F-B7E7-4B91-A727-BE125C7C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73A386F-CB40-471B-AA5A-B978EFDA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810735-E721-48FB-9E8A-26B58DE99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03F5387-DDB1-401C-96FD-1ADAAE40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A7E8BF-7F7D-43AF-A354-CF84D56B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17FAC3-973A-4039-8D28-61B2B384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3F7EC7-8F40-4216-A596-EC678E94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06C60A-1EF5-4524-93C0-F28F81FB0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8FD049-560B-486A-8DBB-494EA7C6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66C858-D245-4DC5-9DAE-1B34B1793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61DA48-B083-46EC-9BF0-6E383B37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4FCE3-5EA2-4795-835C-559B4EB87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85AF70-8461-490B-9878-581A3EC70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C0F232-C154-4E30-A571-0E85FCD0E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44F8D7-148F-48AB-82A7-026F053D1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B7DCB5-9FE1-418A-9A34-C468C316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EEEAA74-261B-4836-BDC1-F8022236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F77391B-6187-48E5-82C5-5BB10F238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CED452-4F10-482E-B076-F61D0F78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8589E5A-E33F-45F4-9A57-76DD9868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3ABC73-7AC6-4A4F-829B-9F44876C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364B2C-880D-47C6-A2BB-B05A70289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037B0-1F8D-4151-9F6A-129C3943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9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40BE65-384D-43AD-B536-52FA0FD0F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F8E0D5-0D16-488A-BE46-0C61F795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70A86-2705-4EEE-9B65-7EED2210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B4C7ED-D02D-41B4-8D80-EA3441138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94D49B-329E-4E43-9836-1416279C2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3EDC0E-86CE-4204-ADCB-3698A011E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9F32FF-A20C-4BB4-8E1C-BE499AA9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BC9FBC-526D-46B2-8A6A-52DE66AA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9819A0-AB62-4BBE-BE97-09E576984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62E3C8-914B-4F99-99D7-BB60C177F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90AE5-C6E9-470D-9888-F7F494738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F97F90-33F6-47E3-8242-8A6DC75B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E03795-08E5-45E5-A014-6DD03A9A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3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6231C0-4B92-4940-B9D2-A77C73788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093D30-9C43-4F6D-B6E5-69863316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5FDF8F-7C53-4F81-94B4-1FD5B35B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45D4C22-0DCA-4BF9-8BE7-DA64484A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6A90911-57C3-4C8E-A23D-0471A5BDF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EE82A-9B79-483C-8E2B-E42B3F88D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32CD68-68F5-4258-8DAE-5453C842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0BB67C3-AF5A-4071-981C-12A76C9B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6BE1A-8875-4043-823E-D8165A07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647FCE-9830-438A-A4FE-647EBE595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DF234BE-2EA2-4A1E-A81A-52BE01DC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1A0F0B-3CB7-4F0E-B1B5-F26483926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D2DCAE7-49BB-4A9E-8DC1-CAD524AD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2E4525-45CE-4921-85C1-495E0C907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4EB56E-DBDA-4DB6-9A45-2B04051F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6811EB-60A9-4BC2-B81A-275ADDAD9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AC6C14-E4F8-4C71-BB20-1954D317C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67472C-8062-4203-B3AC-E3B939C9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482A57-A01D-4A28-8830-C10D9E75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EFF55-F3FE-4E23-9284-0CC86C2EE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13DA36A-B026-4BA1-ABC6-006B5FD8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C938CE-FE7B-4F23-9232-74AD9F9B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183917-5A34-4BFB-B933-452B4415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9F1D212-2339-45E7-B314-038E2921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899131-35D3-4494-9734-481BB52A9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C1F589F-188E-4C72-9A28-DD86AF044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7FE8A2-B1BD-449F-B328-AE7E0D328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EDEFC1-0EB7-4717-8E18-0C55AC36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5F78E9-28D7-4F68-BC4F-0A4FA7AE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BC34F1-530E-44F4-91FF-0ED4DFB1C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4AD41-EB39-46E6-899C-8799857E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B2BB87-5C9C-4EEE-9EA7-C5E26FF5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FE803D-F817-465F-9D4E-45AD17526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4304DE-204A-4024-9BC2-3C8373F7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B3F5DAE-896C-4938-A0B8-0BCB0452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51BA09E-818E-4C34-B656-65AC705C4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E74DB6-16DE-4CE4-8E20-CBB307E81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9C4847-3E0A-413E-BBF8-94280D4C0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808075-28CD-406A-983A-9BEB917F3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C00801-32D8-4818-9079-0A677A56C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0F4C33-82AB-4D90-BE37-7860FF15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6A8FA-1792-450B-8925-7ACE78552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A55F2F-4CE8-42FD-9E22-E065BFD4B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5BE45A-3E37-4E7C-8FA1-8B08C0C9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D0358B-E2D3-40DB-86EC-8C4E5A04F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7154830-2735-4A33-AFBD-5D235C8A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F56FA47-F46E-4AA3-B1CD-0D50BB705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7868142-DEB5-44CC-96ED-83BDBB05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F28BC8-2F67-4E7B-B325-63304604B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02F2B20-BC3A-4032-9C3D-4D46C79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36DDC8F-3F7E-4C1D-89AF-2C384FC9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61B1E55-B181-4F72-96D5-2A6519E73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DF92-E2B1-4A9D-8F32-8CFD40111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41BAD-9E89-401D-976A-EAC11FA9C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CC647F-8E24-4680-936A-36FB583A8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ABA4ADC6-4C85-4D4F-B8CF-70F072DA2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39CBB4B-328C-4414-8E48-7147D9F29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5E3542F0-6531-45DC-9083-03EDAADA0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17549B81-EF53-44D8-B3EE-43C1C5659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E1925669-7543-4988-B20B-022D842FF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43710972-F434-48D7-B949-B1E266405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68FEDF59-1C64-4CED-A7AD-55D48027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67D4463-DD04-45E2-9EB1-2DEE53EF7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98A58055-86BF-4548-8DF0-72601777D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7D6D9-9977-4169-9F7E-1B4D4340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0AB4DC87-475B-49A6-8724-C2FFA549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C967F85D-82B1-4DA0-8F2B-16776825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7"/>
          </p:nvPr>
        </p:nvSpPr>
        <p:spPr/>
        <p:txBody>
          <a:bodyPr/>
          <a:p>
            <a:fld id="{3348F516-2E16-4534-9B8E-4DA14410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40A939-8B09-4218-A674-C73012F4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F512F1F-FA8D-4810-BF4C-B901D84B4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EB0AF38-26FC-4B99-863D-DD68547C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426376-3F1F-4011-9750-AEE7FB60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5844CCC-50E4-4C18-8FEC-17C03B23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4741DBA-EAC2-4ADF-B173-48F7B2F68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85FBB56-FFDD-433E-8E7B-8E8CB52A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91312D-4475-4BDE-9845-64F76C33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FE1D17F-6CF0-4767-AB4C-F4EA9B029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AAA3E5B-9B52-4B23-AF32-E3276BE2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37855C2-2BD8-46A7-8CA0-229A17C6B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90575A9-4E0A-487D-92A3-0868FC5F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59F4687-4974-4F90-88AB-F0EFDFB7A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F753FCE-5DEC-4DF3-A357-EB1FD2A1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795CAB29-CCB5-4208-A8D7-9C543391D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11BD7A5-B0B6-4C5D-91D6-F43AC6B88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C2BE6FF-B41F-4DF6-9848-439079BE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CDB5609A-D5CF-4D9A-B3FD-47E095CD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6D254-F1C7-4222-BCC1-7B874491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01ECCD1-2595-49A4-8E28-C266D86A1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19AC31AD-EC45-426D-A907-428C1B9F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B2FDCE65-F4BD-4B97-906E-EE2F259D3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3A217EFC-B861-4957-9653-CA8E8F1C2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E5374112-601D-407C-83A4-5AB32AA99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DCA122BF-9123-460D-8C47-1605282249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3"/>
          </p:nvPr>
        </p:nvSpPr>
        <p:spPr/>
        <p:txBody>
          <a:bodyPr/>
          <a:p>
            <a:fld id="{AC98349D-5510-4FBF-A9AE-67FA4EF88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0D864D-72C4-4EFC-B180-7055E6D16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F697693-3077-4288-8F75-B786A366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EBAA05-11BF-46A1-A3DF-2022F80B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55BE0-BC61-402A-9F47-B6EBD14B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66B560-0720-4878-8866-79A066CF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FC42131-8D87-4E29-8759-5C22112B8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317A6EB-DEB2-442D-A3B6-511447D4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5EBA38-5194-410F-AA8D-BF53B7F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DCDFF2E-38F4-4A4D-AE32-8C3F48D6A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53B9AD-0ECF-427E-BF73-BCCD7D58F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9D6383-815B-4C8C-8A5A-80DABF84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644A3E2-16CB-45F2-9AC9-6FFAA7B7B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3AE2B5B-7A7A-4034-96DC-6482EE112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B528917-BDE4-4047-A3A1-196E7C1D1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279C2-BB72-4D94-B3AE-8C6F3EE1E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243FBB6-0CB2-4DCF-AAB3-9F3D1F0B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263E08-AF96-4AA4-B559-F838C180E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7229D9-E02A-4C0C-B869-2A5C54D88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5589F6E-7D1B-49D9-8B05-98B3EA3E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01FE98-F721-4C25-9712-94CF2E464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C1778D-665A-4BBE-8DC4-9A72298E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7867AED-BF16-47A3-9D30-23854FEE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435D69F-5A60-453E-A739-337FC20A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F79405-301B-4296-8D24-EB8D41D8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C93326-1030-4EAF-A4C3-D5CF58CC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A8E43-EF52-4411-910B-6AC71ACC4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E2C6B3B-E5C5-45ED-9D9F-7E26EB4FA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004122-4411-43A3-A4E6-9D102BFF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71B3230-961C-430B-9FB8-B430561F2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0B34FC4-0BCD-4F6B-A27A-C109D287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4BD814-E1F4-4A82-A047-916440C5F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F81A68-6C27-4801-B583-21D85DF15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33283C-8EB7-4DEF-BC0D-81FF47CF0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B849D1-263E-41F9-89D7-864507A5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6E4D71B-2A38-4225-831A-4390F598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288A9D7-2A30-48EF-879B-D0BDD68B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3215-471D-4BE4-9842-69F39937C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C99FF8-ABFF-4AAE-B2EA-0E5135ED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77AA85-B355-4AF9-9B91-5505C6160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5431B5-996C-45CD-966B-B31F44192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EE345258-1296-43BE-B1C3-49FE42D7C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884C866-91B1-42C6-83C4-58602827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351B9552-D4BE-448D-9EEF-7EF173A1A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949AFAA-EAD4-4DC9-B9F2-E8E9C31C0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85CED07A-1136-4718-B626-DF643EFD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0982D09C-D46D-4631-B746-A5EB46028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268F4EBC-7ACD-4D5A-AD2C-8AA038A0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4FBF4A-54C5-4E0E-8638-6664376B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A6A041C8-77F1-4978-92E7-DE447D32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3D86B84-3281-4BB8-9808-8C6E65E9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A0761C8-CB77-4FA5-8126-E73EE92B8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93A9958F-A181-43E5-A421-27BFD9820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2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5"/>
          </p:nvPr>
        </p:nvSpPr>
        <p:spPr/>
        <p:txBody>
          <a:bodyPr/>
          <a:p>
            <a:fld id="{C346E0EC-50F9-4286-91B2-B408D01D0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37DC53D-F3BA-4DCE-B500-7441BF423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21D8FC1B-A2A2-46A0-B30F-11528C18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0F77F28-CD3C-4E02-8DAA-1E8DC1F88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A76DEE91-62FB-492F-ACC2-91A26E8B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DA579B94-4121-4495-A934-9A22E659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37CBB-4114-47AA-AFE2-DD545DE3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639163E8-1EDC-44CB-BE4F-DC39FC46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9BB4AD57-5AB4-462F-995B-B986862AF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BB19CF8A-2F0D-4BE1-A79C-56D6CD33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D35FB4A-2AA2-4D36-842B-19657E6A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E249296B-31AC-4971-B1A6-F28DEE1A2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5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44E340C-40C8-46EF-97B4-B9F13F5CC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8"/>
          </p:nvPr>
        </p:nvSpPr>
        <p:spPr/>
        <p:txBody>
          <a:bodyPr/>
          <a:p>
            <a:fld id="{F2545859-C44A-4A32-A257-EA39E087A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D99A26-A449-4CD0-A6A7-ABEC6CDF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86C3A7-9B02-4D3A-B28F-C706E1967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2A220A2-B388-441F-8448-AD67FB9A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713-302A-46C6-892B-656941B1E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B5295-6ED0-4DE5-8352-565A05FD4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A1AD2DB-9A50-4232-B791-9509C870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68766EF-F3A8-4BFE-848D-BCD943DB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10B2D87-3444-4E49-A855-8C325C925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76B395-ED45-4321-AA16-A371F8C3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F9099C7-E252-4EC8-A5E3-09B73201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CD35DFB-1F5B-482B-96EB-463600B7B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1B07DA-40B5-4F9A-81E9-8097F0614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5A34F2-7BF7-4168-AD68-CE3E2799F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B155C28-E817-4DDC-8721-193351838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B7FDD3FB-AFD2-4B18-82A1-FBD5B4B23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F7AE2A-1117-44E1-B68F-CAD901454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9CCAB87F-D9C7-4E1D-B6C5-D66D4E7C5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78FD784-4D8C-493F-806E-36E20146F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C262672-AFB0-4868-B003-3F2FD083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5FA7B4F-E150-4C2D-B159-65CC3CDB4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05FA3747-C275-4C4E-8F36-B136CF07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61738EC9-4BCB-4274-AB81-5066C52B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8752E350-A3DB-42A5-896C-2387819B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0F26758-5558-472B-A0F4-3FF02967B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D779E413-CEA5-4A78-9334-ED37EC01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FF085F72-A34C-49BF-8C35-3A6D8F811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8EC8E8-63A1-4FC9-A62A-9E9AE0469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4"/>
          </p:nvPr>
        </p:nvSpPr>
        <p:spPr/>
        <p:txBody>
          <a:bodyPr/>
          <a:p>
            <a:fld id="{1D912E17-9743-4F55-83A3-8BB6B5C2D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708110-55C9-4EF5-B2C2-58D6185E5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D49D4E-60EA-42D0-8E34-EBF20E45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22DD865-3573-4C0A-B0AD-9114F82B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E1D232-30BF-4009-AD95-1F35D329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10FA1FD-7B0D-4B33-B1C4-70666B84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F0D45BB-9483-49E3-A8B5-2030770B8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499D23F-343D-4837-8D06-794F32FE4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F1B87BF-5E43-4EBB-B765-39E9934BB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B41783-80FC-4909-AB8B-A032C015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798322-8C47-4122-AEB9-B6DE872D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F820C0-0F73-49FC-BC6B-FB820C568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C648C2-1E9D-483D-9952-61C40746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941CABC-1843-484A-A7D3-6300D763C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44AEBD2-EDBF-42C8-921A-C1E9B0293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C5609B4-6728-4B53-9C09-4A083FC30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DA12A0-B0C6-48DB-B32D-C05B54B23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9B95BC3-E353-446B-896D-41C41206B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035F769-541C-417C-8716-5855E9A03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C6076C-3BF1-4B3B-A2C2-EC732EDA7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95A4991-758F-4868-8AA5-C3F32084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D203-5CFB-4F84-B4EA-BF18FB1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0C0125A-1165-4731-BF4D-BA9104350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C5F8D1-527D-442C-8005-1D3FC2DC6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FCF3AE4-9DA4-4BFF-A86D-F575976E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9E5B695-CB90-43E1-A892-A01074D24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65D7CD-7F56-400C-98E3-08AAAE4B3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2623790-7F16-4B95-802C-6BBE7013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BCAFFD07-DD62-4141-823E-5912530B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E6908C1F-C451-4A89-AE2E-02E45CB3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64A9093-3522-4F63-95E3-C23709FC6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030F0B35-B892-450B-AC7C-F22642709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9C353-2349-4740-8CD9-6468541E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FEF59B2-B847-466F-A0F1-429E53200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B4CBBCF-EEAF-4AF3-A344-138088DF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E92D584-2FE3-400D-A328-1AACFD6F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961F91A0-78B0-4A22-BB71-CDAC6519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328AAD0F-19B8-40BC-9B7C-C0F8BD1E7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22601C2B-F4DA-4E14-B53A-8D8835798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3"/>
          </p:nvPr>
        </p:nvSpPr>
        <p:spPr/>
        <p:txBody>
          <a:bodyPr/>
          <a:p>
            <a:fld id="{5B1D7486-7D69-45EB-BD8B-14903789B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B4F8E07-FE4F-4567-9274-62E7DCBFD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0A832C5-8025-4416-8DBE-772A68ACD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2310C6-A392-4486-B0FF-4E7EA3F1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08C8-35C8-4BA3-8E22-C734CA6C6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FFA1D40-D803-46FF-87C1-E85C0229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843F9CD-26FC-4A5B-8DF3-EAE15640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6CD4F3B-5D34-4B2F-A09C-E93013903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FF7B33F-DD9C-4D04-89EE-CD391571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327CD60-F2F1-40C6-BA83-2092987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630B795-BC3E-4D7D-ABD4-5B82190D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BF48E9-A531-47F4-BC25-089E9E5C6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5B6E31-AEDF-449A-9CD1-65F839423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F52A6B9-1616-4E35-A7DD-4B6FC7E02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220134E-8AC1-4AC6-861F-2B074879D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637DB-2ACD-48F3-A8F2-AA5253547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65BA0D-AB5B-4364-8602-BA7040388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242163E-30B2-4C9C-A3C2-20301C43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E6D8DD8-E3C6-4BD1-949B-D418109A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4BCF01-B857-41ED-AD49-384B7020A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45524B1-6A63-4D7B-8D5C-A6D82829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ECCD692-8D2D-4DD2-8DF4-C4D8CE3C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6836E9-6F99-4DB7-A5E5-7E2ADBB53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7B0DB1-7823-4CBC-8321-8BE74E94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DBE1E21-525D-47B2-A134-96C720330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7E3A033-7FCB-4696-B25F-45CBD8BC3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F63DF-5952-4649-998B-CBB0C87FA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90847C2-7AF2-4FB1-9733-47383C2DC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DE7141E-F604-413A-A21A-EF6FD091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0928F65-2E95-4F1F-B482-6A3910F83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B7E080F-9FB7-49E8-8BF3-DA5975526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34F0B71-B0BB-418B-85C0-0C6D1F1E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ACA20AF-77F1-4909-B686-E03E58AE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255E80-9D5C-470F-AEDF-872B5E1A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E282D6B-199F-45F9-92B6-53BF0175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29D4391-335F-448F-B0D7-CE1118E2C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C3F9908-C6EA-4A54-85CE-05181F4A5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88DDF2-613A-437A-BE44-A129980A8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C1D1157-A4D3-44F1-99E7-418486C0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6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32C5AE-CC01-4F7D-AFE9-F92D6E625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7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36DFF5D-6438-4827-8199-DEBE6FB82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CAA58D0-094D-475F-B4E4-F1805A104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74F84C9-6D72-4921-A0D9-F67EE3DE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0D4D764-0564-49DF-9129-88F652ED9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D346B98-9A7E-495F-BD3D-08C4C8596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EC0D05-6404-4FF8-BEA9-D893EB8D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A45353B-3359-4CE3-B7C2-F447CD20E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64A936-FA3E-442D-BD95-1A7D26B61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5E3-878B-4393-9BC1-9CB552092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F6CE24-1917-4221-B28E-FEA5EAC4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2CB69F-9E5E-4162-8DBD-F900B9F94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71DDC1C-BFD2-49F8-96E8-30600A0D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EC70B6E-174C-4F0C-BF0A-489DBAFB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0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485E2F8-AC77-46B4-BFFA-207D84FF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1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05B45BD-2935-4D95-B34D-7CCA1358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BB5EEF2-331A-4B8F-9AF9-25EF0E306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5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95D10D4-F81D-4A14-BBD5-352F5751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55AB470-B16A-4146-BC81-8CBF3E6BE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2B64E92-DF5F-412C-B918-5F7976512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53D5AEF-F9F9-482B-AFE2-D69E21B7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4A353-649F-406F-AEB9-87A7EF1F9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D784B9C-AA54-4562-92C4-073F2AAC9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086DE5-3A05-4E57-ADBE-ABBD46ED5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5231570-05EC-4A8D-A01F-F65F3814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17BB1EE-E19E-4185-A0F8-083C25CD1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7A65881-9781-4BCF-A7C1-8C067187C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9AA77B5-3981-461F-B842-AE804EF4D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5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7014A9B-A72D-4F28-9ED3-26F9D765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0BBE454-D3D5-4EB6-9F1D-D91E2665D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1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2707CE7-6F9C-4C1A-8A29-52FB342E1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B57DC86-2935-4B3C-8760-BF3CCDC8C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8D41A-3838-484F-A17A-E596F86F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7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A4057CC-7F87-46CA-A484-F88D5E3B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4BC3A32-104E-4BD3-AD21-D4FE587A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08365AD-5C4C-4211-AA13-FA373340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8A3050-6256-4A09-8E08-1CA48AD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6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620471D-CC4C-43B8-99CA-4EC6B0F3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3F5386B-B010-402D-A42B-1DBB1FC5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BCDABE6-FB60-4122-AB2D-EBE49713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98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B22C478-88DA-49D4-B881-613C18520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0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1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2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3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4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05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5374789-81B2-4505-9628-3803F7A0D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ADBF4DB-BD18-4185-A6EC-73ED89804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0F4CE-9E40-45B5-8313-19D4DDCD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1812F8F-CA76-4BE7-B787-5588B422F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3151F9-5BBD-4A7D-947D-0F412CD0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E3E7331-2C1E-44FE-BADD-51BFA0B3D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1E878D8-EB3D-4749-8906-A66316CEE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44CDEFB-E9FC-4C69-8CA4-AB72C4694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110E50E-817F-4E3E-9B03-DB0799C7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BFC2A93-DDA9-4B14-8573-BCBA3E92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3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028027-2EC0-4938-BC80-E4491B74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C9A22BA-8B2E-4618-96AD-C5ED5542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092E06B-CAC0-4495-8D2A-84B2EFD76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09B0E-49AE-4D2D-9130-E5660363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955B376-2CFF-44C9-810F-5AD135BC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81AB005-F5EA-43C7-9D61-12D7DF54D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C43F8DB-FBAC-47BE-9AF2-5C195826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8D2AF0B-79B0-4409-A548-DF86BA08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3FB8D5F-080B-4FBF-8FF4-A7A0BE7FC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7BFD8DC-9E05-4D44-A067-287533358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3133409-15D3-4AFA-BA69-6BD29A1D9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B8ACDDA-A220-4E60-B80C-FD260C0E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3035119-762C-469F-BDD5-3DE50DAF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0D1302-9564-405F-85AC-A516D4D1A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C735A-FD4C-407F-8128-1ACC3850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300CD0E-3544-4198-821B-D698C479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51FC4C1-222B-4B99-8847-F92B4A8B9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B4ED9C0-3CFE-48EC-8681-1896D18F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60558AB-E254-4A0A-8FE7-7DADD61A7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1BCD3A0-9A80-4C40-A319-1D489151A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45D13C-6B45-4946-9032-54AB92A2D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F0BB88-3F2E-45E5-B93D-2302A9C6C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73C2607-7542-4ACB-8E17-5F6181F94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A449A1F-32AA-4F5D-BAEE-E3E96026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3D1A37-7760-4944-AEE2-C7B3930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A3BD06-69A3-403B-962A-813AFEBF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A429D41-C565-478F-A718-1F592BCA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400EC03-AE3E-4241-8D19-9D5195E1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C22829C-84CB-4264-89A1-D614E7578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E450A0E-3ED8-4482-B486-13349F104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ECB2C63-EB63-4928-8E37-92C0199CD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FB443-5EC2-436A-92EE-394949D8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6AD132-8AF6-4218-B727-22877DAA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B0463-93F4-43DF-8B81-027F8318A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039C-C7C8-4A05-8C7A-B5938AEE7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14056F-A67E-4E2E-B934-92DA5067F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DB0BE-A149-4A6C-B8BC-850802AA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14BD4C-3B4D-4622-9477-B5BAA2BB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19597-9A55-4A9D-B019-56164379E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7C0FD-24C8-40A8-8389-92C4E60C6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A29A0-B761-445B-A07F-B6B7EB3D1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461A5-D53A-42F8-AECA-E7607BE2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7C417-5197-4764-A489-56F0BE144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E06EE-1B11-47EE-9AAA-C6D57D4D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BA946-3FB4-42E4-BCEB-D0AB3689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816-2180-449A-B1DB-EECFAC7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E5994-7CD4-4831-AF51-133EA9FAB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5BFDA-C4C0-4103-B3C3-452C50D6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7C9F12-9D3E-479F-B667-F69ACD28D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8CE8DE-9796-4405-8154-59207268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D362C-1F6E-408E-AC40-4564E914A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7D3B4-F75E-4CCC-B5A9-B03671094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DBA932-BC4F-4B5D-8145-178E28DB9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A1A913-4664-4B28-8AB8-459187CD1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2431B-75EB-4F62-B1C1-9E0E77149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040E6F-816D-4255-B3B2-282F618D9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0E85-5F5B-4623-BCCA-72A14954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28502-8CE6-4B60-8E7F-3D06321BF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A658E-8AEF-45FB-977F-D3FF1AC6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3A38E-4847-4CC9-832C-7E5325B3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0DD87C-A17C-4857-9131-6F9F27006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D1F3D-4ADD-4576-A2D1-6CE55182F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83B5CE-3E75-48C7-886C-C8DD2C0FC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10674-32F1-497F-A01A-95AD71E8E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9A974E-BC9C-43B4-8012-A37A880F5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0581D4-FD05-4AA5-9FE0-D4096C5CD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5B4E8-C3A7-42AF-BBE2-A0E2359A1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87DD-4E2C-484F-AB52-4F1A91229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B97F4-C7D4-4655-8DC1-3E6B11E0F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FCF178-72F6-4F38-8CC9-66A368CDE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988F91-435A-4347-972D-29517BEC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E49E33-94DA-4CD0-825C-E3BCBFFA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8C35E9-E3D1-4466-9FD7-25B89A6C2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ABB0B0-1C7F-403C-8A87-D6102C338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125B28-DE6E-4687-ADA5-5D371873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4ACBA-049D-4CCE-9E9A-A92636558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7959F8-47AF-43CA-8A94-40F511139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774F3B-FBC6-4CA4-A141-1C905598E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69.xml"/><Relationship Id="rId4" Type="http://schemas.openxmlformats.org/officeDocument/2006/relationships/slideLayout" Target="../slideLayouts/slideLayout470.xml"/><Relationship Id="rId5" Type="http://schemas.openxmlformats.org/officeDocument/2006/relationships/slideLayout" Target="../slideLayouts/slideLayout471.xml"/><Relationship Id="rId6" Type="http://schemas.openxmlformats.org/officeDocument/2006/relationships/slideLayout" Target="../slideLayouts/slideLayout472.xml"/><Relationship Id="rId7" Type="http://schemas.openxmlformats.org/officeDocument/2006/relationships/slideLayout" Target="../slideLayouts/slideLayout473.xml"/><Relationship Id="rId8" Type="http://schemas.openxmlformats.org/officeDocument/2006/relationships/slideLayout" Target="../slideLayouts/slideLayout474.xml"/><Relationship Id="rId9" Type="http://schemas.openxmlformats.org/officeDocument/2006/relationships/slideLayout" Target="../slideLayouts/slideLayout475.xml"/><Relationship Id="rId10" Type="http://schemas.openxmlformats.org/officeDocument/2006/relationships/slideLayout" Target="../slideLayouts/slideLayout476.xml"/><Relationship Id="rId11" Type="http://schemas.openxmlformats.org/officeDocument/2006/relationships/slideLayout" Target="../slideLayouts/slideLayout477.xml"/><Relationship Id="rId12" Type="http://schemas.openxmlformats.org/officeDocument/2006/relationships/slideLayout" Target="../slideLayouts/slideLayout478.xml"/><Relationship Id="rId13" Type="http://schemas.openxmlformats.org/officeDocument/2006/relationships/slideLayout" Target="../slideLayouts/slideLayout479.xml"/><Relationship Id="rId14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481.xml"/><Relationship Id="rId4" Type="http://schemas.openxmlformats.org/officeDocument/2006/relationships/slideLayout" Target="../slideLayouts/slideLayout482.xml"/><Relationship Id="rId5" Type="http://schemas.openxmlformats.org/officeDocument/2006/relationships/slideLayout" Target="../slideLayouts/slideLayout483.xml"/><Relationship Id="rId6" Type="http://schemas.openxmlformats.org/officeDocument/2006/relationships/slideLayout" Target="../slideLayouts/slideLayout484.xml"/><Relationship Id="rId7" Type="http://schemas.openxmlformats.org/officeDocument/2006/relationships/slideLayout" Target="../slideLayouts/slideLayout485.xml"/><Relationship Id="rId8" Type="http://schemas.openxmlformats.org/officeDocument/2006/relationships/slideLayout" Target="../slideLayouts/slideLayout486.xml"/><Relationship Id="rId9" Type="http://schemas.openxmlformats.org/officeDocument/2006/relationships/slideLayout" Target="../slideLayouts/slideLayout487.xml"/><Relationship Id="rId10" Type="http://schemas.openxmlformats.org/officeDocument/2006/relationships/slideLayout" Target="../slideLayouts/slideLayout488.xml"/><Relationship Id="rId11" Type="http://schemas.openxmlformats.org/officeDocument/2006/relationships/slideLayout" Target="../slideLayouts/slideLayout489.xml"/><Relationship Id="rId12" Type="http://schemas.openxmlformats.org/officeDocument/2006/relationships/slideLayout" Target="../slideLayouts/slideLayout490.xml"/><Relationship Id="rId13" Type="http://schemas.openxmlformats.org/officeDocument/2006/relationships/slideLayout" Target="../slideLayouts/slideLayout491.xml"/><Relationship Id="rId14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17.xml"/><Relationship Id="rId4" Type="http://schemas.openxmlformats.org/officeDocument/2006/relationships/slideLayout" Target="../slideLayouts/slideLayout518.xml"/><Relationship Id="rId5" Type="http://schemas.openxmlformats.org/officeDocument/2006/relationships/slideLayout" Target="../slideLayouts/slideLayout519.xml"/><Relationship Id="rId6" Type="http://schemas.openxmlformats.org/officeDocument/2006/relationships/slideLayout" Target="../slideLayouts/slideLayout520.xml"/><Relationship Id="rId7" Type="http://schemas.openxmlformats.org/officeDocument/2006/relationships/slideLayout" Target="../slideLayouts/slideLayout521.xml"/><Relationship Id="rId8" Type="http://schemas.openxmlformats.org/officeDocument/2006/relationships/slideLayout" Target="../slideLayouts/slideLayout522.xml"/><Relationship Id="rId9" Type="http://schemas.openxmlformats.org/officeDocument/2006/relationships/slideLayout" Target="../slideLayouts/slideLayout523.xml"/><Relationship Id="rId10" Type="http://schemas.openxmlformats.org/officeDocument/2006/relationships/slideLayout" Target="../slideLayouts/slideLayout524.xml"/><Relationship Id="rId11" Type="http://schemas.openxmlformats.org/officeDocument/2006/relationships/slideLayout" Target="../slideLayouts/slideLayout525.xml"/><Relationship Id="rId12" Type="http://schemas.openxmlformats.org/officeDocument/2006/relationships/slideLayout" Target="../slideLayouts/slideLayout526.xml"/><Relationship Id="rId13" Type="http://schemas.openxmlformats.org/officeDocument/2006/relationships/slideLayout" Target="../slideLayouts/slideLayout527.xml"/><Relationship Id="rId14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77BC3-E3B6-4B0A-8A11-AFEE4FB834F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14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5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8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29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14A7-FB72-4632-A1B9-BD30BBDBC26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ftr" idx="30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45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60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F9F3-3B03-49C9-BA00-1A2DCE140B8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dt" idx="34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sldNum" idx="35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6133-F286-43C7-A9B2-F500BD7414F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ftr" idx="36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45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6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547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3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3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39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B09D-9D0C-4BAB-B2F0-BAAE1417DBB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59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592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3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40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4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42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36E0D-CC07-4FEB-8CAC-17D038AA7EA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63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638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 type="dt" idx="4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 type="ftr" idx="4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 type="sldNum" idx="45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B435-1EE7-4B31-86B5-51D9261A601A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 type="dt" idx="46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 type="sldNum" idx="47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CF0D-3665-40E8-8AB1-B7FE0283ACF3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 type="ftr" idx="48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 type="dt" idx="49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 type="sldNum" idx="50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C01FB-F7B2-4406-BABE-5D7EB2C7C052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 type="ftr" idx="51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3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764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766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 type="dt" idx="52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 type="ftr" idx="53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 type="sldNum" idx="54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EFE0-7F8A-4449-82D9-2028BFEF35D9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0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 type="dt" idx="55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 type="ftr" idx="56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 type="sldNum" idx="57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672AF-5C2D-4B3A-AC3F-FBBB8E2AA69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CC82A-26D9-4331-8E68-FC40FAE3785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3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 type="dt" idx="58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 type="ftr" idx="59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 type="sldNum" idx="60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F7900-E471-499A-82F3-75AAF8257503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96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 type="dt" idx="61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 type="ftr" idx="62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 type="sldNum" idx="63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0E4C-DB31-44A1-BF3A-1C22847D4D4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9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940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1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42" name="Прямая соединительная линия 8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6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6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6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D51D-D761-473C-BBC5-655DF997E0B5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8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 type="dt" idx="6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 type="ftr" idx="6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 type="sldNum" idx="6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646E0-E540-489A-8CDB-57CBBD6347CE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9" name="Прямоугольник 8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 type="dt" idx="7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 type="ftr" idx="7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 type="sldNum" idx="7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1217-4B86-43C5-AFD3-C6EED4B02AB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07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 type="dt" idx="7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 type="ftr" idx="7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8" name="PlaceHolder 5"/>
          <p:cNvSpPr>
            <a:spLocks noGrp="1"/>
          </p:cNvSpPr>
          <p:nvPr>
            <p:ph type="sldNum" idx="7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CDA2-80A4-42B6-9AA3-3D83D7DF5E42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5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1116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7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 type="dt" idx="76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 type="sldNum" idx="77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D02C9-91B0-4B4D-892E-96D43028632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 type="ftr" idx="78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9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160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1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162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 type="dt" idx="7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 type="ftr" idx="8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 type="sldNum" idx="8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0CDE4-CA71-4277-8DB9-ACA50C0F24C6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Прямоугольник 6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8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sldNum" idx="8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5BE0-D15A-4506-BDD6-539759DA750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ftr" idx="8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6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47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249" name="Прямоугольник 9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 type="dt" idx="85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 type="ftr" idx="86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4" name="PlaceHolder 5"/>
          <p:cNvSpPr>
            <a:spLocks noGrp="1"/>
          </p:cNvSpPr>
          <p:nvPr>
            <p:ph type="sldNum" idx="87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6BA35-911E-4E8F-A302-B55FFE9E62C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89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1AE4-5AF0-4539-AF07-5C7A0C05891A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1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292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3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294" name="Прямоугольник 9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5" name="Прямоугольник 10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8" name="PlaceHolder 3"/>
          <p:cNvSpPr>
            <a:spLocks noGrp="1"/>
          </p:cNvSpPr>
          <p:nvPr>
            <p:ph type="dt" idx="88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PlaceHolder 4"/>
          <p:cNvSpPr>
            <a:spLocks noGrp="1"/>
          </p:cNvSpPr>
          <p:nvPr>
            <p:ph type="ftr" idx="89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0" name="PlaceHolder 5"/>
          <p:cNvSpPr>
            <a:spLocks noGrp="1"/>
          </p:cNvSpPr>
          <p:nvPr>
            <p:ph type="sldNum" idx="90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8449-A78E-4898-902F-040D5C517DC4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38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9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340" name="Прямоугольник 6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 type="dt" idx="9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 type="ftr" idx="92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 type="sldNum" idx="9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89CC-75BE-4FF4-9A3C-DAB24063A970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Прямоугольник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 type="dt" idx="94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 type="sldNum" idx="95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6631E-5CCB-47A6-8052-7080C8B545FE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PlaceHolder 5"/>
          <p:cNvSpPr>
            <a:spLocks noGrp="1"/>
          </p:cNvSpPr>
          <p:nvPr>
            <p:ph type="ftr" idx="96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 type="dt" idx="97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 type="sldNum" idx="98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BAC5-5EF3-484A-820C-F87A20954DB1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5"/>
          <p:cNvSpPr>
            <a:spLocks noGrp="1"/>
          </p:cNvSpPr>
          <p:nvPr>
            <p:ph type="ftr" idx="99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6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7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8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9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0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1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2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3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4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5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0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01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02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C67B-1B6B-4C4C-96A2-0F3740BE2098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2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 type="dt" idx="10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 type="sldNum" idx="104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6DBF3-AAC2-495F-B66D-3D03941C80AF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PlaceHolder 5"/>
          <p:cNvSpPr>
            <a:spLocks noGrp="1"/>
          </p:cNvSpPr>
          <p:nvPr>
            <p:ph type="ftr" idx="105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7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 type="dt" idx="106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4"/>
          <p:cNvSpPr>
            <a:spLocks noGrp="1"/>
          </p:cNvSpPr>
          <p:nvPr>
            <p:ph type="ftr" idx="10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8" name="PlaceHolder 5"/>
          <p:cNvSpPr>
            <a:spLocks noGrp="1"/>
          </p:cNvSpPr>
          <p:nvPr>
            <p:ph type="sldNum" idx="10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3E74-3EDF-47A1-934F-E96D01E31F5A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Прямоугольник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6" name="Прямоугольник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7" name="Прямоугольник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8" name="Прямоугольник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9" name="Прямоугольник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0" name="Скругленный прямоугольник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1" name="Скругленный прямоугольник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2" name="Прямоугольник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3" name="Прямоугольник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4" name="Прямоугольник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5" name="Прямоугольник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dt" idx="109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ftr" idx="110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sldNum" idx="111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F67F-E452-45A5-8028-222D83E4AAC4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8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9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0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1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2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3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4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5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6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7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8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9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 type="dt" idx="112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 type="sldNum" idx="11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C5314-9F2E-4C91-9840-87CEC1D2857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 type="ftr" idx="1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2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3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4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5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6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7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8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9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0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1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2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3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 type="dt" idx="115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 type="ftr" idx="116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 type="sldNum" idx="117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BE89-C417-4A91-B642-AA8FA50541F0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Прямоугольник с двумя скругленными противолежащими углами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33" name="Прямоугольник с двумя скругленными противолежащими углами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35" name="PlaceHolder 1"/>
          <p:cNvSpPr>
            <a:spLocks noGrp="1"/>
          </p:cNvSpPr>
          <p:nvPr>
            <p:ph type="ftr" idx="1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1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b9bbb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b9bbb2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2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5010A-9345-4A34-B23E-EB98B758C67D}" type="slidenum">
              <a:rPr b="0" lang="ru-RU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Cambri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Cambr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786" name="Скругленный прямоугольник 9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1787" name="Скругленный прямоугольник 9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 type="dt" idx="11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PlaceHolder 4"/>
          <p:cNvSpPr>
            <a:spLocks noGrp="1"/>
          </p:cNvSpPr>
          <p:nvPr>
            <p:ph type="ftr" idx="11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3" name="PlaceHolder 5"/>
          <p:cNvSpPr>
            <a:spLocks noGrp="1"/>
          </p:cNvSpPr>
          <p:nvPr>
            <p:ph type="sldNum" idx="12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7615-86B3-4A32-AC3C-D9616AB17BD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3"/>
    <p:sldLayoutId id="2147484157" r:id="rId4"/>
    <p:sldLayoutId id="2147484158" r:id="rId5"/>
    <p:sldLayoutId id="2147484159" r:id="rId6"/>
    <p:sldLayoutId id="2147484160" r:id="rId7"/>
    <p:sldLayoutId id="2147484161" r:id="rId8"/>
    <p:sldLayoutId id="2147484162" r:id="rId9"/>
    <p:sldLayoutId id="2147484163" r:id="rId10"/>
    <p:sldLayoutId id="2147484164" r:id="rId11"/>
    <p:sldLayoutId id="2147484165" r:id="rId12"/>
    <p:sldLayoutId id="2147484166" r:id="rId13"/>
    <p:sldLayoutId id="2147484167" r:id="rId14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Скругленный прямоугольник 13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183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183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 type="dt" idx="12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 type="ftr" idx="12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 type="sldNum" idx="12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8E39-DC77-480F-B977-736B403FFF7A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3"/>
    <p:sldLayoutId id="2147484170" r:id="rId4"/>
    <p:sldLayoutId id="2147484171" r:id="rId5"/>
    <p:sldLayoutId id="2147484172" r:id="rId6"/>
    <p:sldLayoutId id="2147484173" r:id="rId7"/>
    <p:sldLayoutId id="2147484174" r:id="rId8"/>
    <p:sldLayoutId id="2147484175" r:id="rId9"/>
    <p:sldLayoutId id="2147484176" r:id="rId10"/>
    <p:sldLayoutId id="2147484177" r:id="rId11"/>
    <p:sldLayoutId id="2147484178" r:id="rId12"/>
    <p:sldLayoutId id="2147484179" r:id="rId13"/>
    <p:sldLayoutId id="2147484180" r:id="rId14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 type="dt" idx="12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 type="ftr" idx="12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 type="sldNum" idx="12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4B6B8-88F9-46B2-8273-8E69359305C0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Скругленный прямоугольник 14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 type="dt" idx="12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 type="ftr" idx="12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 type="sldNum" idx="12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9AB67-8374-4788-A522-82236A72A674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рямоугольник 1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1" name="Скругленный прямоугольник 12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2" name="Прямоугольник 6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3" name="Прямоугольник 9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4" name="Прямоугольник 10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 type="dt" idx="13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8" name="PlaceHolder 4"/>
          <p:cNvSpPr>
            <a:spLocks noGrp="1"/>
          </p:cNvSpPr>
          <p:nvPr>
            <p:ph type="ftr" idx="13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9" name="PlaceHolder 5"/>
          <p:cNvSpPr>
            <a:spLocks noGrp="1"/>
          </p:cNvSpPr>
          <p:nvPr>
            <p:ph type="sldNum" idx="13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5023C-9B4C-49C2-ADFA-4A762B1494B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3"/>
    <p:sldLayoutId id="2147484209" r:id="rId4"/>
    <p:sldLayoutId id="2147484210" r:id="rId5"/>
    <p:sldLayoutId id="2147484211" r:id="rId6"/>
    <p:sldLayoutId id="2147484212" r:id="rId7"/>
    <p:sldLayoutId id="2147484213" r:id="rId8"/>
    <p:sldLayoutId id="2147484214" r:id="rId9"/>
    <p:sldLayoutId id="2147484215" r:id="rId10"/>
    <p:sldLayoutId id="2147484216" r:id="rId11"/>
    <p:sldLayoutId id="2147484217" r:id="rId12"/>
    <p:sldLayoutId id="2147484218" r:id="rId13"/>
    <p:sldLayoutId id="2147484219" r:id="rId14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Прямоугольник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2007" name="Скругленный прямоугольник 9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2008" name="Скругленный прямоугольник 9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010" name="Прямоугольник 6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1" name="Прямоугольник 7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2" name="Прямоугольник 8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14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15" name="PlaceHolder 3"/>
          <p:cNvSpPr>
            <a:spLocks noGrp="1"/>
          </p:cNvSpPr>
          <p:nvPr>
            <p:ph type="dt" idx="13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PlaceHolder 4"/>
          <p:cNvSpPr>
            <a:spLocks noGrp="1"/>
          </p:cNvSpPr>
          <p:nvPr>
            <p:ph type="ftr" idx="134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17" name="PlaceHolder 5"/>
          <p:cNvSpPr>
            <a:spLocks noGrp="1"/>
          </p:cNvSpPr>
          <p:nvPr>
            <p:ph type="sldNum" idx="13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87B6-AD98-4B61-9ACA-FB274E6EC2E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5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6" name="Прямоугольник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7" name="Скругленный прямоугольник 8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136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137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138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FE59-29BC-414B-83D3-F87A3AF4804A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1" name="Прямоугольник 10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2" name="Прямоугольник 11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3" name="Прямоугольник 12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dt" idx="139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ftr" idx="140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sldNum" idx="141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C302-9611-4435-A1EB-71091A655F85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6D59-523F-4E0B-A7B7-78554BDADD5D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2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3EA8-BDAC-4199-975F-D950BAD46D39}" type="slidenum">
              <a:rPr b="0" lang="ru-RU" sz="24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285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86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FBE41-62BA-4E08-87FF-69350996621B}" type="slidenum">
              <a:rPr b="0" lang="ru-RU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0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2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3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4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5496-AA13-446F-AA06-B956FB33EEA3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B2D59-3B1E-4D8D-BF22-60D8DE9177A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2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Заголовок 3" descr=""/>
          <p:cNvPicPr/>
          <p:nvPr/>
        </p:nvPicPr>
        <p:blipFill>
          <a:blip r:embed="rId2"/>
          <a:stretch/>
        </p:blipFill>
        <p:spPr>
          <a:xfrm>
            <a:off x="450720" y="-73080"/>
            <a:ext cx="8626680" cy="1481040"/>
          </a:xfrm>
          <a:prstGeom prst="rect">
            <a:avLst/>
          </a:prstGeom>
          <a:ln w="0">
            <a:noFill/>
          </a:ln>
        </p:spPr>
      </p:pic>
      <p:sp>
        <p:nvSpPr>
          <p:cNvPr id="214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Загальні відомості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Тверда груп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М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яка група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Відмінювання прикметників з основою на м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який приголосни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Відмінювання прикметників з основою 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на -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  <a:p>
            <a:pPr marL="277200" indent="-27720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Відмінювання прикметників на -лиций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99680" y="285480"/>
            <a:ext cx="86439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64" name=""/>
          <p:cNvSpPr txBox="1"/>
          <p:nvPr/>
        </p:nvSpPr>
        <p:spPr>
          <a:xfrm>
            <a:off x="642960" y="1500120"/>
            <a:ext cx="8043840" cy="4626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За особливим зразком відмінюються складні прикметники , другою частиною яких є –лиций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ідмінювання прикметників на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-лиц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6" name=""/>
          <p:cNvGraphicFramePr/>
          <p:nvPr/>
        </p:nvGraphicFramePr>
        <p:xfrm>
          <a:off x="1992240" y="1857240"/>
          <a:ext cx="5365800" cy="4023000"/>
        </p:xfrm>
        <a:graphic>
          <a:graphicData uri="http://schemas.openxmlformats.org/drawingml/2006/table">
            <a:tbl>
              <a:tblPr/>
              <a:tblGrid>
                <a:gridCol w="362160"/>
                <a:gridCol w="1253880"/>
                <a:gridCol w="1173240"/>
                <a:gridCol w="1170000"/>
                <a:gridCol w="1089000"/>
                <a:gridCol w="317520"/>
              </a:tblGrid>
              <a:tr h="428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f81bd"/>
                          </a:solidFill>
                          <a:latin typeface="Calibri"/>
                          <a:ea typeface="Calibri"/>
                        </a:rPr>
                        <a:t>чолові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f81bd"/>
                          </a:solidFill>
                          <a:latin typeface="Calibri"/>
                          <a:ea typeface="Calibri"/>
                        </a:rPr>
                        <a:t>жіно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f81bd"/>
                          </a:solidFill>
                          <a:latin typeface="Calibri"/>
                          <a:ea typeface="Calibri"/>
                        </a:rPr>
                        <a:t>середн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4f81bd"/>
                          </a:solidFill>
                          <a:latin typeface="Calibri"/>
                          <a:ea typeface="Calibri"/>
                        </a:rPr>
                        <a:t>множ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й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,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,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ілолиц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96464"/>
                </a:solidFill>
                <a:latin typeface="Calibri"/>
              </a:rPr>
              <a:t>Відмінювання прикметників на </a:t>
            </a:r>
            <a:br>
              <a:rPr sz="3600"/>
            </a:br>
            <a:r>
              <a:rPr b="0" lang="uk-UA" sz="3600" spc="-1" strike="noStrike">
                <a:solidFill>
                  <a:srgbClr val="696464"/>
                </a:solidFill>
                <a:latin typeface="Calibri"/>
              </a:rPr>
              <a:t>-лиций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168" name=""/>
          <p:cNvGraphicFramePr/>
          <p:nvPr/>
        </p:nvGraphicFramePr>
        <p:xfrm>
          <a:off x="1643040" y="1928880"/>
          <a:ext cx="5416560" cy="3500280"/>
        </p:xfrm>
        <a:graphic>
          <a:graphicData uri="http://schemas.openxmlformats.org/drawingml/2006/table">
            <a:tbl>
              <a:tblPr/>
              <a:tblGrid>
                <a:gridCol w="361080"/>
                <a:gridCol w="1302480"/>
                <a:gridCol w="1170720"/>
                <a:gridCol w="1167480"/>
                <a:gridCol w="1242000"/>
                <a:gridCol w="173520"/>
              </a:tblGrid>
              <a:tr h="668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d34817"/>
                          </a:solidFill>
                          <a:latin typeface="Calibri"/>
                          <a:ea typeface="Calibri"/>
                        </a:rPr>
                        <a:t>чолові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d34817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d34817"/>
                          </a:solidFill>
                          <a:latin typeface="Calibri"/>
                          <a:ea typeface="Calibri"/>
                        </a:rPr>
                        <a:t>жіно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d34817"/>
                          </a:solidFill>
                          <a:latin typeface="Calibri"/>
                          <a:ea typeface="Calibri"/>
                        </a:rPr>
                        <a:t>середн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d34817"/>
                          </a:solidFill>
                          <a:latin typeface="Calibri"/>
                          <a:ea typeface="Calibri"/>
                        </a:rPr>
                        <a:t>множ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й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,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0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6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,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7" name="Заголовок 1" descr=""/>
          <p:cNvPicPr/>
          <p:nvPr/>
        </p:nvPicPr>
        <p:blipFill>
          <a:blip r:embed="rId1"/>
          <a:stretch/>
        </p:blipFill>
        <p:spPr>
          <a:xfrm>
            <a:off x="244440" y="317520"/>
            <a:ext cx="7461360" cy="1150920"/>
          </a:xfrm>
          <a:prstGeom prst="rect">
            <a:avLst/>
          </a:prstGeom>
          <a:ln w="0">
            <a:noFill/>
          </a:ln>
        </p:spPr>
      </p:pic>
      <p:sp>
        <p:nvSpPr>
          <p:cNvPr id="2148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До твердої групи належать прикметники з твердим кінцевим приголосним основи. Наприклад: </a:t>
            </a:r>
            <a:r>
              <a:rPr b="0" i="1" lang="uk-UA" sz="2600" spc="-1" strike="noStrike" u="sng">
                <a:solidFill>
                  <a:srgbClr val="000000"/>
                </a:solidFill>
                <a:uFillTx/>
                <a:latin typeface="Trebuchet MS"/>
              </a:rPr>
              <a:t>добрий, вразливий, милий, прекрасний, народний, чистий.</a:t>
            </a: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 Сюди ж належать всі присвійні прикметники: </a:t>
            </a:r>
            <a:r>
              <a:rPr b="0" i="1" lang="uk-UA" sz="2600" spc="-1" strike="noStrike" u="sng">
                <a:solidFill>
                  <a:srgbClr val="000000"/>
                </a:solidFill>
                <a:uFillTx/>
                <a:latin typeface="Trebuchet MS"/>
              </a:rPr>
              <a:t>батьків, Олексіїв, мамин, Софіїн</a:t>
            </a:r>
            <a:r>
              <a:rPr b="0" lang="uk-UA" sz="2600" spc="-1" strike="noStrike">
                <a:solidFill>
                  <a:srgbClr val="000000"/>
                </a:solidFill>
                <a:latin typeface="Trebuchet MS"/>
              </a:rPr>
              <a:t>, а також короткі форми прикметників: </a:t>
            </a:r>
            <a:r>
              <a:rPr b="0" i="1" lang="uk-UA" sz="2600" spc="-1" strike="noStrike" u="sng">
                <a:solidFill>
                  <a:srgbClr val="000000"/>
                </a:solidFill>
                <a:uFillTx/>
                <a:latin typeface="Trebuchet MS"/>
              </a:rPr>
              <a:t>зелен, повен, годен, рад, жив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696464"/>
                </a:solidFill>
                <a:latin typeface="Calibri"/>
              </a:rPr>
              <a:t>Відмінювання прикметників твердої груп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graphicFrame>
        <p:nvGraphicFramePr>
          <p:cNvPr id="2150" name=""/>
          <p:cNvGraphicFramePr/>
          <p:nvPr/>
        </p:nvGraphicFramePr>
        <p:xfrm>
          <a:off x="857160" y="1571760"/>
          <a:ext cx="6600960" cy="3643200"/>
        </p:xfrm>
        <a:graphic>
          <a:graphicData uri="http://schemas.openxmlformats.org/drawingml/2006/table">
            <a:tbl>
              <a:tblPr/>
              <a:tblGrid>
                <a:gridCol w="443880"/>
                <a:gridCol w="1537200"/>
                <a:gridCol w="1524960"/>
                <a:gridCol w="1656000"/>
                <a:gridCol w="1266120"/>
                <a:gridCol w="173520"/>
              </a:tblGrid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e6263"/>
                          </a:solidFill>
                          <a:latin typeface="Calibri"/>
                          <a:ea typeface="Calibri"/>
                        </a:rPr>
                        <a:t>Чолові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e6263"/>
                          </a:solidFill>
                          <a:latin typeface="Calibri"/>
                          <a:ea typeface="Calibri"/>
                        </a:rPr>
                        <a:t>жіно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e6263"/>
                          </a:solidFill>
                          <a:latin typeface="Calibri"/>
                          <a:ea typeface="Calibri"/>
                        </a:rPr>
                        <a:t>середн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e6263"/>
                          </a:solidFill>
                          <a:latin typeface="Calibri"/>
                          <a:ea typeface="Calibri"/>
                        </a:rPr>
                        <a:t>множ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1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6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й,-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,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0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гар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1" name="Заголовок 1" descr=""/>
          <p:cNvPicPr/>
          <p:nvPr/>
        </p:nvPicPr>
        <p:blipFill>
          <a:blip r:embed="rId1"/>
          <a:stretch/>
        </p:blipFill>
        <p:spPr>
          <a:xfrm>
            <a:off x="285840" y="255600"/>
            <a:ext cx="8450280" cy="1176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52" name=""/>
          <p:cNvGraphicFramePr/>
          <p:nvPr/>
        </p:nvGraphicFramePr>
        <p:xfrm>
          <a:off x="1928880" y="1785960"/>
          <a:ext cx="5572080" cy="3227400"/>
        </p:xfrm>
        <a:graphic>
          <a:graphicData uri="http://schemas.openxmlformats.org/drawingml/2006/table">
            <a:tbl>
              <a:tblPr/>
              <a:tblGrid>
                <a:gridCol w="365760"/>
                <a:gridCol w="1262880"/>
                <a:gridCol w="1254960"/>
                <a:gridCol w="1471680"/>
                <a:gridCol w="1044000"/>
                <a:gridCol w="17352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b23b7e"/>
                          </a:solidFill>
                          <a:latin typeface="Calibri"/>
                          <a:ea typeface="Calibri"/>
                        </a:rPr>
                        <a:t>Чолові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b23b7e"/>
                          </a:solidFill>
                          <a:latin typeface="Calibri"/>
                          <a:ea typeface="Calibri"/>
                        </a:rPr>
                        <a:t>жіно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b23b7e"/>
                          </a:solidFill>
                          <a:latin typeface="Calibri"/>
                          <a:ea typeface="Calibri"/>
                        </a:rPr>
                        <a:t>середн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b23b7e"/>
                          </a:solidFill>
                          <a:latin typeface="Calibri"/>
                          <a:ea typeface="Calibri"/>
                        </a:rPr>
                        <a:t>множ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й,-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,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5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и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3" name="Заголовок 1" descr=""/>
          <p:cNvPicPr/>
          <p:nvPr/>
        </p:nvPicPr>
        <p:blipFill>
          <a:blip r:embed="rId2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2154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До м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якої групи належать прикметники, основа яких закінчується на м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Cambria"/>
              </a:rPr>
              <a:t>який приголосний та –й: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i="1" lang="uk-UA" sz="3200" spc="-1" strike="noStrike" u="sng">
                <a:solidFill>
                  <a:srgbClr val="ff0000"/>
                </a:solidFill>
                <a:uFillTx/>
                <a:latin typeface="Cambria"/>
              </a:rPr>
              <a:t>осінній, ранній, художній, колишній, справжній, безкраїй, короткошиїй.</a:t>
            </a:r>
            <a:endParaRPr b="0" lang="en-US" sz="3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ідмінювання прикметників з основою на м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’</a:t>
            </a: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ий приголосни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6" name=""/>
          <p:cNvGraphicFramePr/>
          <p:nvPr/>
        </p:nvGraphicFramePr>
        <p:xfrm>
          <a:off x="2143080" y="1981080"/>
          <a:ext cx="5560920" cy="3205440"/>
        </p:xfrm>
        <a:graphic>
          <a:graphicData uri="http://schemas.openxmlformats.org/drawingml/2006/table">
            <a:tbl>
              <a:tblPr/>
              <a:tblGrid>
                <a:gridCol w="361440"/>
                <a:gridCol w="1302120"/>
                <a:gridCol w="1240560"/>
                <a:gridCol w="1302480"/>
                <a:gridCol w="1181880"/>
                <a:gridCol w="17352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Чолові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жіно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середн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множ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2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ь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сінн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24456"/>
                </a:solidFill>
                <a:latin typeface="Trebuchet MS"/>
              </a:rPr>
              <a:t>Відмінювання прикметників м</a:t>
            </a: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’</a:t>
            </a:r>
            <a:r>
              <a:rPr b="0" lang="uk-UA" sz="3600" spc="-1" strike="noStrike">
                <a:solidFill>
                  <a:srgbClr val="424456"/>
                </a:solidFill>
                <a:latin typeface="Trebuchet MS"/>
              </a:rPr>
              <a:t>якої групи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158" name=""/>
          <p:cNvGraphicFramePr/>
          <p:nvPr/>
        </p:nvGraphicFramePr>
        <p:xfrm>
          <a:off x="2214720" y="2643120"/>
          <a:ext cx="5429160" cy="2913120"/>
        </p:xfrm>
        <a:graphic>
          <a:graphicData uri="http://schemas.openxmlformats.org/drawingml/2006/table">
            <a:tbl>
              <a:tblPr/>
              <a:tblGrid>
                <a:gridCol w="361800"/>
                <a:gridCol w="1251000"/>
                <a:gridCol w="1243080"/>
                <a:gridCol w="1216080"/>
                <a:gridCol w="1163520"/>
                <a:gridCol w="193680"/>
              </a:tblGrid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8462e"/>
                          </a:solidFill>
                          <a:latin typeface="Calibri"/>
                          <a:ea typeface="Calibri"/>
                        </a:rPr>
                        <a:t>чолові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8462e"/>
                          </a:solidFill>
                          <a:latin typeface="Calibri"/>
                          <a:ea typeface="Calibri"/>
                        </a:rPr>
                        <a:t>жіно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8462e"/>
                          </a:solidFill>
                          <a:latin typeface="Calibri"/>
                          <a:ea typeface="Calibri"/>
                        </a:rPr>
                        <a:t>середн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68462e"/>
                          </a:solidFill>
                          <a:latin typeface="Calibri"/>
                          <a:ea typeface="Calibri"/>
                        </a:rPr>
                        <a:t>множ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ru-RU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8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й,-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-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,-і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6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-і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Відмінювання прикметників з основою на -й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60" name=""/>
          <p:cNvGraphicFramePr/>
          <p:nvPr/>
        </p:nvGraphicFramePr>
        <p:xfrm>
          <a:off x="1143000" y="1905120"/>
          <a:ext cx="6572160" cy="3952800"/>
        </p:xfrm>
        <a:graphic>
          <a:graphicData uri="http://schemas.openxmlformats.org/drawingml/2006/table">
            <a:tbl>
              <a:tblPr/>
              <a:tblGrid>
                <a:gridCol w="440640"/>
                <a:gridCol w="1519920"/>
                <a:gridCol w="1510200"/>
                <a:gridCol w="1513800"/>
                <a:gridCol w="1414800"/>
                <a:gridCol w="173520"/>
              </a:tblGrid>
              <a:tr h="40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чолові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жіно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середн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31859c"/>
                          </a:solidFill>
                          <a:latin typeface="Calibri"/>
                          <a:ea typeface="Calibri"/>
                        </a:rPr>
                        <a:t>множ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й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й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й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0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й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й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8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й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 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0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й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6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й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й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і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безкра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424456"/>
                </a:solidFill>
                <a:latin typeface="Trebuchet MS"/>
              </a:rPr>
              <a:t>Відмінювання прикметників з основою на -й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2162" name=""/>
          <p:cNvGraphicFramePr/>
          <p:nvPr/>
        </p:nvGraphicFramePr>
        <p:xfrm>
          <a:off x="1992240" y="2214720"/>
          <a:ext cx="5210280" cy="3105000"/>
        </p:xfrm>
        <a:graphic>
          <a:graphicData uri="http://schemas.openxmlformats.org/drawingml/2006/table">
            <a:tbl>
              <a:tblPr/>
              <a:tblGrid>
                <a:gridCol w="361440"/>
                <a:gridCol w="1251360"/>
                <a:gridCol w="1170720"/>
                <a:gridCol w="1167480"/>
                <a:gridCol w="1086840"/>
                <a:gridCol w="173520"/>
              </a:tblGrid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53548a"/>
                          </a:solidFill>
                          <a:latin typeface="Calibri"/>
                          <a:ea typeface="Calibri"/>
                        </a:rPr>
                        <a:t>чолові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53548a"/>
                          </a:solidFill>
                          <a:latin typeface="Calibri"/>
                          <a:ea typeface="Calibri"/>
                        </a:rPr>
                        <a:t>жіночи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53548a"/>
                          </a:solidFill>
                          <a:latin typeface="Calibri"/>
                          <a:ea typeface="Calibri"/>
                        </a:rPr>
                        <a:t>середні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53548a"/>
                          </a:solidFill>
                          <a:latin typeface="Calibri"/>
                          <a:ea typeface="Calibri"/>
                        </a:rPr>
                        <a:t>множи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7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ї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6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й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г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є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,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3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и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5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,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й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ому,</a:t>
                      </a: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м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-</a:t>
                      </a:r>
                      <a:r>
                        <a:rPr b="0" lang="uk-UA" sz="1800" spc="-1" strike="noStrike">
                          <a:solidFill>
                            <a:srgbClr val="ff0000"/>
                          </a:solidFill>
                          <a:latin typeface="Calibri"/>
                          <a:ea typeface="Calibri"/>
                        </a:rPr>
                        <a:t>ї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Cambria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4T10:34:32Z</dcterms:created>
  <dc:creator>Admin</dc:creator>
  <dc:description/>
  <dc:language>en-US</dc:language>
  <cp:lastModifiedBy>Admin</cp:lastModifiedBy>
  <dcterms:modified xsi:type="dcterms:W3CDTF">2011-01-14T11:07:49Z</dcterms:modified>
  <cp:revision>39</cp:revision>
  <dc:subject/>
  <dc:title>Особливості відмінювання прикметників</dc:title>
</cp:coreProperties>
</file>