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gif" ContentType="image/gif"/>
  <Override PartName="/ppt/media/image14.jpeg" ContentType="image/jpeg"/>
  <Override PartName="/ppt/media/image1.gif" ContentType="image/gif"/>
  <Override PartName="/ppt/media/image3.png" ContentType="image/png"/>
  <Override PartName="/ppt/media/image4.gif" ContentType="image/gif"/>
  <Override PartName="/ppt/media/image11.jpeg" ContentType="image/jpeg"/>
  <Override PartName="/ppt/media/image6.wmf" ContentType="image/x-wmf"/>
  <Override PartName="/ppt/media/image7.gif" ContentType="image/gif"/>
  <Override PartName="/ppt/media/image12.gif" ContentType="image/gif"/>
  <Override PartName="/ppt/media/image5.png" ContentType="image/png"/>
  <Override PartName="/ppt/media/image2.gif" ContentType="image/gif"/>
  <Override PartName="/ppt/media/image8.jpeg" ContentType="image/jpe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89FF3-46F5-4336-993F-204CB38AB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E9708-2FB4-4089-BCA2-3568B0415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66200-381A-4B4A-BE5E-9A25DED5A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BE8FF-71F4-4BE8-87D1-DDFC6FB15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D454-5E50-4168-838E-51E1F04C5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683D3-9CE9-4D62-A8F1-BB3B18E6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F3FF-964C-4A3D-B3E7-CF758E633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A4DD1-1E60-416E-89A8-1365ADFE6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FF88F-6A20-4607-8750-C9E379773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BEF40-8FE7-4FC4-BFE5-6FF562284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A158-6258-4048-9C16-20FA2EC7E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AEB0-C4B3-4613-8D87-1241DAEF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B6693-36B7-41B5-B038-2E4F1306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png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4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1.gi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wmf"/><Relationship Id="rId3" Type="http://schemas.openxmlformats.org/officeDocument/2006/relationships/image" Target="../media/image6.wm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jpeg"/><Relationship Id="rId3" Type="http://schemas.openxmlformats.org/officeDocument/2006/relationships/image" Target="../media/image1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.gi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3.gif"/><Relationship Id="rId7" Type="http://schemas.openxmlformats.org/officeDocument/2006/relationships/image" Target="../media/image3.png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Arial"/>
              </a:rPr>
              <a:t>Розділові знаки при однорідних членах речення, звертаннях, вставних словах. 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03280" y="3141720"/>
            <a:ext cx="640080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400" spc="-1" strike="noStrike">
                <a:solidFill>
                  <a:srgbClr val="000000"/>
                </a:solidFill>
                <a:latin typeface="Arial"/>
              </a:rPr>
              <a:t>Урок – подорож в країну Синтаксису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44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45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Однорідні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члени речення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49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Звертання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53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3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Вставні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слова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56" name="Picture 17" descr="поезд-2"/>
            <p:cNvPicPr/>
            <p:nvPr/>
          </p:nvPicPr>
          <p:blipFill>
            <a:blip r:embed="rId1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" name="Picture 18" descr="AG00162_"/>
          <p:cNvPicPr/>
          <p:nvPr/>
        </p:nvPicPr>
        <p:blipFill>
          <a:blip r:embed="rId2"/>
          <a:stretch/>
        </p:blipFill>
        <p:spPr>
          <a:xfrm>
            <a:off x="7086600" y="228600"/>
            <a:ext cx="1701720" cy="1755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3"/>
          <a:stretch/>
        </p:blipFill>
        <p:spPr>
          <a:xfrm>
            <a:off x="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0" descr="AG00001_"/>
          <p:cNvPicPr/>
          <p:nvPr/>
        </p:nvPicPr>
        <p:blipFill>
          <a:blip r:embed="rId4"/>
          <a:stretch/>
        </p:blipFill>
        <p:spPr>
          <a:xfrm>
            <a:off x="1332000" y="55897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21" descr="AG00001_"/>
          <p:cNvPicPr/>
          <p:nvPr/>
        </p:nvPicPr>
        <p:blipFill>
          <a:blip r:embed="rId5"/>
          <a:stretch/>
        </p:blipFill>
        <p:spPr>
          <a:xfrm>
            <a:off x="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22" descr="AG00001_"/>
          <p:cNvPicPr/>
          <p:nvPr/>
        </p:nvPicPr>
        <p:blipFill>
          <a:blip r:embed="rId6"/>
          <a:stretch/>
        </p:blipFill>
        <p:spPr>
          <a:xfrm>
            <a:off x="2556000" y="5791320"/>
            <a:ext cx="923760" cy="10666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3" descr="AG00001_"/>
          <p:cNvPicPr/>
          <p:nvPr/>
        </p:nvPicPr>
        <p:blipFill>
          <a:blip r:embed="rId7"/>
          <a:stretch/>
        </p:blipFill>
        <p:spPr>
          <a:xfrm>
            <a:off x="179280" y="3933720"/>
            <a:ext cx="924120" cy="10670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"/>
          <p:cNvSpPr/>
          <p:nvPr/>
        </p:nvSpPr>
        <p:spPr>
          <a:xfrm>
            <a:off x="2362320" y="380880"/>
            <a:ext cx="39621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Труд оживляє гори й води,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У нім ніщо не пропада,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Бо мертва є краса людини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Й краса людини без труда.</a:t>
            </a:r>
            <a:br>
              <a:rPr sz="2000"/>
            </a:b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                              В. Сосю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6" dur="5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500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2767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WordArt 2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 кінцева "Гімназія  № 153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6" name="Picture 17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337" name="Picture 18" descr="DSCF0154"/>
          <p:cNvPicPr/>
          <p:nvPr/>
        </p:nvPicPr>
        <p:blipFill>
          <a:blip r:embed="rId2"/>
          <a:stretch/>
        </p:blipFill>
        <p:spPr>
          <a:xfrm>
            <a:off x="1979640" y="1484280"/>
            <a:ext cx="5905440" cy="4429080"/>
          </a:xfrm>
          <a:prstGeom prst="rect">
            <a:avLst/>
          </a:prstGeom>
          <a:ln w="0">
            <a:noFill/>
          </a:ln>
        </p:spPr>
      </p:pic>
      <p:grpSp>
        <p:nvGrpSpPr>
          <p:cNvPr id="338" name="Group 19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39" name="Group 20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40" name="Oval 21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Oval 22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Rectangle 23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3" name="Group 24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44" name="Oval 25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Oval 26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Rectangle 27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7" name="Group 28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48" name="Oval 29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Oval 30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Rectangle 31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000000"/>
                    </a:solidFill>
                    <a:latin typeface="Verdana"/>
                  </a:rPr>
                  <a:t>                                                                  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Д.З.  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                                                                           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придумайте сказку о  словах  иностранцах  и  проиллюстрируйте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                                                                </a:t>
                </a:r>
                <a:r>
                  <a:rPr b="0" lang="en-US" sz="1800" spc="-1" strike="noStrike">
                    <a:solidFill>
                      <a:srgbClr val="ffffff"/>
                    </a:solidFill>
                    <a:latin typeface="Verdana"/>
                  </a:rPr>
                  <a:t>рисунками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51" name="Picture 32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0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0" dur="2132" fill="hold"/>
                                        <p:tgtEl>
                                          <p:spTgt spid="33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309 0.00254 L 0.96649 -0.00787 E">
                                      <p:cBhvr>
                                        <p:cTn id="274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дом_2"/>
          <p:cNvPicPr/>
          <p:nvPr/>
        </p:nvPicPr>
        <p:blipFill>
          <a:blip r:embed="rId1"/>
          <a:stretch/>
        </p:blipFill>
        <p:spPr>
          <a:xfrm>
            <a:off x="0" y="0"/>
            <a:ext cx="9144000" cy="2852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3"/>
          <p:cNvSpPr/>
          <p:nvPr/>
        </p:nvSpPr>
        <p:spPr>
          <a:xfrm>
            <a:off x="152280" y="5029200"/>
            <a:ext cx="9144000" cy="197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іс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250920" y="2060640"/>
            <a:ext cx="8642160" cy="72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істо Словосполученн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Group 5"/>
          <p:cNvGrpSpPr/>
          <p:nvPr/>
        </p:nvGrpSpPr>
        <p:grpSpPr>
          <a:xfrm>
            <a:off x="-9067680" y="4648320"/>
            <a:ext cx="12280680" cy="1981080"/>
            <a:chOff x="-9067680" y="4648320"/>
            <a:chExt cx="12280680" cy="1981080"/>
          </a:xfrm>
        </p:grpSpPr>
        <p:grpSp>
          <p:nvGrpSpPr>
            <p:cNvPr id="68" name="Group 6"/>
            <p:cNvGrpSpPr/>
            <p:nvPr/>
          </p:nvGrpSpPr>
          <p:grpSpPr>
            <a:xfrm>
              <a:off x="-3054240" y="5045040"/>
              <a:ext cx="2844000" cy="1582920"/>
              <a:chOff x="-3054240" y="5045040"/>
              <a:chExt cx="2844000" cy="1582920"/>
            </a:xfrm>
          </p:grpSpPr>
          <p:sp>
            <p:nvSpPr>
              <p:cNvPr id="69" name="Oval 7"/>
              <p:cNvSpPr/>
              <p:nvPr/>
            </p:nvSpPr>
            <p:spPr>
              <a:xfrm>
                <a:off x="-12250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Oval 8"/>
              <p:cNvSpPr/>
              <p:nvPr/>
            </p:nvSpPr>
            <p:spPr>
              <a:xfrm>
                <a:off x="-28522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Rectangle 9"/>
              <p:cNvSpPr/>
              <p:nvPr/>
            </p:nvSpPr>
            <p:spPr>
              <a:xfrm>
                <a:off x="-3054240" y="5045040"/>
                <a:ext cx="284400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Які члени рече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називаютьс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однорідними?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0"/>
            <p:cNvGrpSpPr/>
            <p:nvPr/>
          </p:nvGrpSpPr>
          <p:grpSpPr>
            <a:xfrm>
              <a:off x="-6078240" y="4792680"/>
              <a:ext cx="2844360" cy="1836000"/>
              <a:chOff x="-6078240" y="4792680"/>
              <a:chExt cx="2844360" cy="1836000"/>
            </a:xfrm>
          </p:grpSpPr>
          <p:sp>
            <p:nvSpPr>
              <p:cNvPr id="73" name="Oval 11"/>
              <p:cNvSpPr/>
              <p:nvPr/>
            </p:nvSpPr>
            <p:spPr>
              <a:xfrm>
                <a:off x="-42494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Oval 12"/>
              <p:cNvSpPr/>
              <p:nvPr/>
            </p:nvSpPr>
            <p:spPr>
              <a:xfrm>
                <a:off x="-58766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Rectangle 13"/>
              <p:cNvSpPr/>
              <p:nvPr/>
            </p:nvSpPr>
            <p:spPr>
              <a:xfrm>
                <a:off x="-6078240" y="4792680"/>
                <a:ext cx="284436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Розділові знаки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при однорідних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членах речення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" name="Group 14"/>
            <p:cNvGrpSpPr/>
            <p:nvPr/>
          </p:nvGrpSpPr>
          <p:grpSpPr>
            <a:xfrm>
              <a:off x="-9067680" y="5045040"/>
              <a:ext cx="2844000" cy="1583280"/>
              <a:chOff x="-9067680" y="5045040"/>
              <a:chExt cx="2844000" cy="1583280"/>
            </a:xfrm>
          </p:grpSpPr>
          <p:sp>
            <p:nvSpPr>
              <p:cNvPr id="77" name="Oval 15"/>
              <p:cNvSpPr/>
              <p:nvPr/>
            </p:nvSpPr>
            <p:spPr>
              <a:xfrm>
                <a:off x="-72385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Oval 16"/>
              <p:cNvSpPr/>
              <p:nvPr/>
            </p:nvSpPr>
            <p:spPr>
              <a:xfrm>
                <a:off x="-88657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Rectangle 17"/>
              <p:cNvSpPr/>
              <p:nvPr/>
            </p:nvSpPr>
            <p:spPr>
              <a:xfrm>
                <a:off x="-9067680" y="5045040"/>
                <a:ext cx="284400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Розділові знаки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1800" spc="-1" strike="noStrike">
                    <a:solidFill>
                      <a:srgbClr val="ffffff"/>
                    </a:solidFill>
                    <a:latin typeface="Comic Sans MS"/>
                  </a:rPr>
                  <a:t>при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1800" spc="-1" strike="noStrike">
                    <a:solidFill>
                      <a:srgbClr val="ffffff"/>
                    </a:solidFill>
                    <a:latin typeface="Comic Sans MS"/>
                  </a:rPr>
                  <a:t>узагальнюючих словах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0" name="Picture 18" descr="поезд-2"/>
            <p:cNvPicPr/>
            <p:nvPr/>
          </p:nvPicPr>
          <p:blipFill>
            <a:blip r:embed="rId2"/>
            <a:stretch/>
          </p:blipFill>
          <p:spPr>
            <a:xfrm>
              <a:off x="-29880" y="4648320"/>
              <a:ext cx="32428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Line 19"/>
          <p:cNvSpPr/>
          <p:nvPr/>
        </p:nvSpPr>
        <p:spPr>
          <a:xfrm>
            <a:off x="0" y="6858000"/>
            <a:ext cx="9144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0"/>
          <p:cNvSpPr/>
          <p:nvPr/>
        </p:nvSpPr>
        <p:spPr>
          <a:xfrm flipH="1">
            <a:off x="-684720" y="6669000"/>
            <a:ext cx="9828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21"/>
          <p:cNvSpPr/>
          <p:nvPr/>
        </p:nvSpPr>
        <p:spPr>
          <a:xfrm>
            <a:off x="179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Line 22"/>
          <p:cNvSpPr/>
          <p:nvPr/>
        </p:nvSpPr>
        <p:spPr>
          <a:xfrm>
            <a:off x="32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Line 23"/>
          <p:cNvSpPr/>
          <p:nvPr/>
        </p:nvSpPr>
        <p:spPr>
          <a:xfrm>
            <a:off x="611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24"/>
          <p:cNvSpPr/>
          <p:nvPr/>
        </p:nvSpPr>
        <p:spPr>
          <a:xfrm>
            <a:off x="826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25"/>
          <p:cNvSpPr/>
          <p:nvPr/>
        </p:nvSpPr>
        <p:spPr>
          <a:xfrm>
            <a:off x="111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6"/>
          <p:cNvSpPr/>
          <p:nvPr/>
        </p:nvSpPr>
        <p:spPr>
          <a:xfrm>
            <a:off x="1258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7"/>
          <p:cNvSpPr/>
          <p:nvPr/>
        </p:nvSpPr>
        <p:spPr>
          <a:xfrm>
            <a:off x="29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8"/>
          <p:cNvSpPr/>
          <p:nvPr/>
        </p:nvSpPr>
        <p:spPr>
          <a:xfrm>
            <a:off x="270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9"/>
          <p:cNvSpPr/>
          <p:nvPr/>
        </p:nvSpPr>
        <p:spPr>
          <a:xfrm>
            <a:off x="248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30"/>
          <p:cNvSpPr/>
          <p:nvPr/>
        </p:nvSpPr>
        <p:spPr>
          <a:xfrm>
            <a:off x="2268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Line 31"/>
          <p:cNvSpPr/>
          <p:nvPr/>
        </p:nvSpPr>
        <p:spPr>
          <a:xfrm>
            <a:off x="20509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32"/>
          <p:cNvSpPr/>
          <p:nvPr/>
        </p:nvSpPr>
        <p:spPr>
          <a:xfrm>
            <a:off x="18352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33"/>
          <p:cNvSpPr/>
          <p:nvPr/>
        </p:nvSpPr>
        <p:spPr>
          <a:xfrm>
            <a:off x="1619280" y="6715080"/>
            <a:ext cx="0" cy="142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34"/>
          <p:cNvSpPr/>
          <p:nvPr/>
        </p:nvSpPr>
        <p:spPr>
          <a:xfrm>
            <a:off x="4211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35"/>
          <p:cNvSpPr/>
          <p:nvPr/>
        </p:nvSpPr>
        <p:spPr>
          <a:xfrm>
            <a:off x="399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36"/>
          <p:cNvSpPr/>
          <p:nvPr/>
        </p:nvSpPr>
        <p:spPr>
          <a:xfrm>
            <a:off x="3780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37"/>
          <p:cNvSpPr/>
          <p:nvPr/>
        </p:nvSpPr>
        <p:spPr>
          <a:xfrm>
            <a:off x="35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8"/>
          <p:cNvSpPr/>
          <p:nvPr/>
        </p:nvSpPr>
        <p:spPr>
          <a:xfrm>
            <a:off x="3348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39"/>
          <p:cNvSpPr/>
          <p:nvPr/>
        </p:nvSpPr>
        <p:spPr>
          <a:xfrm>
            <a:off x="313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40"/>
          <p:cNvSpPr/>
          <p:nvPr/>
        </p:nvSpPr>
        <p:spPr>
          <a:xfrm>
            <a:off x="63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41"/>
          <p:cNvSpPr/>
          <p:nvPr/>
        </p:nvSpPr>
        <p:spPr>
          <a:xfrm>
            <a:off x="507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42"/>
          <p:cNvSpPr/>
          <p:nvPr/>
        </p:nvSpPr>
        <p:spPr>
          <a:xfrm>
            <a:off x="493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43"/>
          <p:cNvSpPr/>
          <p:nvPr/>
        </p:nvSpPr>
        <p:spPr>
          <a:xfrm>
            <a:off x="457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4"/>
          <p:cNvSpPr/>
          <p:nvPr/>
        </p:nvSpPr>
        <p:spPr>
          <a:xfrm>
            <a:off x="435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45"/>
          <p:cNvSpPr/>
          <p:nvPr/>
        </p:nvSpPr>
        <p:spPr>
          <a:xfrm>
            <a:off x="4716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46"/>
          <p:cNvSpPr/>
          <p:nvPr/>
        </p:nvSpPr>
        <p:spPr>
          <a:xfrm>
            <a:off x="6012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47"/>
          <p:cNvSpPr/>
          <p:nvPr/>
        </p:nvSpPr>
        <p:spPr>
          <a:xfrm>
            <a:off x="5796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48"/>
          <p:cNvSpPr/>
          <p:nvPr/>
        </p:nvSpPr>
        <p:spPr>
          <a:xfrm>
            <a:off x="5508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49"/>
          <p:cNvSpPr/>
          <p:nvPr/>
        </p:nvSpPr>
        <p:spPr>
          <a:xfrm>
            <a:off x="536400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50"/>
          <p:cNvSpPr/>
          <p:nvPr/>
        </p:nvSpPr>
        <p:spPr>
          <a:xfrm>
            <a:off x="6732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51"/>
          <p:cNvSpPr/>
          <p:nvPr/>
        </p:nvSpPr>
        <p:spPr>
          <a:xfrm>
            <a:off x="687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52"/>
          <p:cNvSpPr/>
          <p:nvPr/>
        </p:nvSpPr>
        <p:spPr>
          <a:xfrm>
            <a:off x="651672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3"/>
          <p:cNvSpPr/>
          <p:nvPr/>
        </p:nvSpPr>
        <p:spPr>
          <a:xfrm>
            <a:off x="7164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54"/>
          <p:cNvSpPr/>
          <p:nvPr/>
        </p:nvSpPr>
        <p:spPr>
          <a:xfrm>
            <a:off x="7667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55"/>
          <p:cNvSpPr/>
          <p:nvPr/>
        </p:nvSpPr>
        <p:spPr>
          <a:xfrm>
            <a:off x="7380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56"/>
          <p:cNvSpPr/>
          <p:nvPr/>
        </p:nvSpPr>
        <p:spPr>
          <a:xfrm>
            <a:off x="7885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57"/>
          <p:cNvSpPr/>
          <p:nvPr/>
        </p:nvSpPr>
        <p:spPr>
          <a:xfrm>
            <a:off x="867564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58"/>
          <p:cNvSpPr/>
          <p:nvPr/>
        </p:nvSpPr>
        <p:spPr>
          <a:xfrm>
            <a:off x="817236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59"/>
          <p:cNvSpPr/>
          <p:nvPr/>
        </p:nvSpPr>
        <p:spPr>
          <a:xfrm>
            <a:off x="8317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60"/>
          <p:cNvSpPr/>
          <p:nvPr/>
        </p:nvSpPr>
        <p:spPr>
          <a:xfrm>
            <a:off x="8893080" y="6669000"/>
            <a:ext cx="0" cy="189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61"/>
          <p:cNvSpPr/>
          <p:nvPr/>
        </p:nvSpPr>
        <p:spPr>
          <a:xfrm>
            <a:off x="2261160" y="3079080"/>
            <a:ext cx="443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МІСТО РЕЧЕННЯ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62" descr=""/>
          <p:cNvPicPr/>
          <p:nvPr/>
        </p:nvPicPr>
        <p:blipFill>
          <a:blip r:embed="rId3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1605240" y="304920"/>
            <a:ext cx="445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нція “Просте реченн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81560" y="304920"/>
            <a:ext cx="430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Станція “Члени речення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120" y="3048120"/>
            <a:ext cx="765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000000"/>
                </a:solidFill>
                <a:latin typeface="Arial"/>
              </a:rPr>
              <a:t>Станція “Однорідні члени речення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5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30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3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500"/>
                            </p:stCondLst>
                            <p:childTnLst>
                              <p:par>
                                <p:cTn id="3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2132" fill="hold"/>
                                        <p:tgtEl>
                                          <p:spTgt spid="12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174 -0.0222 L 0.00347 -0.38885 E">
                                      <p:cBhvr>
                                        <p:cTn id="60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69" dur="5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457200" y="1522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 "Ігров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380880" y="152352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 варіант – 1. Ми збирали малину, ожину, ягоди, чорницю. 2. Дівчина назбирала повний кошик сироїжок, підберезників, грибів, опеньок, лисич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ІІ варіант – 1. Зимують у лісопарках міст горобці, галки, сороки, птахи, коноплянки, зяблики. 2. На городі влітку ростуть гарбузи, кавуни, овочі, картопля і цибул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8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7620120" y="3809880"/>
            <a:ext cx="838080" cy="7318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4191120" y="2438280"/>
            <a:ext cx="914400" cy="79848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-89154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-7086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-769608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-8229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-586728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-525780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-44197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-37339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-2895480" y="54100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-2133720" y="541008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-160020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-83808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-9067680" y="4648320"/>
            <a:ext cx="12280680" cy="1981080"/>
            <a:chOff x="-9067680" y="4648320"/>
            <a:chExt cx="12280680" cy="1981080"/>
          </a:xfrm>
        </p:grpSpPr>
        <p:grpSp>
          <p:nvGrpSpPr>
            <p:cNvPr id="146" name="Group 5"/>
            <p:cNvGrpSpPr/>
            <p:nvPr/>
          </p:nvGrpSpPr>
          <p:grpSpPr>
            <a:xfrm>
              <a:off x="-3054240" y="5045040"/>
              <a:ext cx="2844000" cy="1582920"/>
              <a:chOff x="-3054240" y="5045040"/>
              <a:chExt cx="2844000" cy="1582920"/>
            </a:xfrm>
          </p:grpSpPr>
          <p:sp>
            <p:nvSpPr>
              <p:cNvPr id="147" name="Oval 6"/>
              <p:cNvSpPr/>
              <p:nvPr/>
            </p:nvSpPr>
            <p:spPr>
              <a:xfrm>
                <a:off x="-12250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Oval 7"/>
              <p:cNvSpPr/>
              <p:nvPr/>
            </p:nvSpPr>
            <p:spPr>
              <a:xfrm>
                <a:off x="-28522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8"/>
              <p:cNvSpPr/>
              <p:nvPr/>
            </p:nvSpPr>
            <p:spPr>
              <a:xfrm>
                <a:off x="-3054240" y="5045040"/>
                <a:ext cx="284400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48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800" spc="-1" strike="noStrike">
                    <a:solidFill>
                      <a:srgbClr val="bbe0e3"/>
                    </a:solidFill>
                    <a:latin typeface="Comic Sans MS"/>
                  </a:rPr>
                  <a:t>: 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800" spc="-1" strike="noStrike">
                    <a:solidFill>
                      <a:srgbClr val="bbe0e3"/>
                    </a:solidFill>
                    <a:latin typeface="Comic Sans MS"/>
                  </a:rPr>
                  <a:t> ,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800" spc="-1" strike="noStrike">
                    <a:solidFill>
                      <a:srgbClr val="bbe0e3"/>
                    </a:solidFill>
                    <a:latin typeface="Comic Sans MS"/>
                  </a:rPr>
                  <a:t> і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800" spc="-1" strike="noStrike">
                    <a:solidFill>
                      <a:srgbClr val="bbe0e3"/>
                    </a:solidFill>
                    <a:latin typeface="Comic Sans MS"/>
                  </a:rPr>
                  <a:t>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0" name="Group 9"/>
            <p:cNvGrpSpPr/>
            <p:nvPr/>
          </p:nvGrpSpPr>
          <p:grpSpPr>
            <a:xfrm>
              <a:off x="-6078240" y="4792680"/>
              <a:ext cx="2844360" cy="1836000"/>
              <a:chOff x="-6078240" y="4792680"/>
              <a:chExt cx="2844360" cy="1836000"/>
            </a:xfrm>
          </p:grpSpPr>
          <p:sp>
            <p:nvSpPr>
              <p:cNvPr id="151" name="Oval 10"/>
              <p:cNvSpPr/>
              <p:nvPr/>
            </p:nvSpPr>
            <p:spPr>
              <a:xfrm>
                <a:off x="-42494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Oval 11"/>
              <p:cNvSpPr/>
              <p:nvPr/>
            </p:nvSpPr>
            <p:spPr>
              <a:xfrm>
                <a:off x="-58766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2"/>
              <p:cNvSpPr/>
              <p:nvPr/>
            </p:nvSpPr>
            <p:spPr>
              <a:xfrm>
                <a:off x="-6078240" y="4792680"/>
                <a:ext cx="284436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,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та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– </a:t>
                </a:r>
                <a:r>
                  <a:rPr b="0" lang="uk-UA" sz="48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.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4" name="Group 13"/>
            <p:cNvGrpSpPr/>
            <p:nvPr/>
          </p:nvGrpSpPr>
          <p:grpSpPr>
            <a:xfrm>
              <a:off x="-9067680" y="5045040"/>
              <a:ext cx="2844000" cy="1583280"/>
              <a:chOff x="-9067680" y="5045040"/>
              <a:chExt cx="2844000" cy="1583280"/>
            </a:xfrm>
          </p:grpSpPr>
          <p:sp>
            <p:nvSpPr>
              <p:cNvPr id="155" name="Oval 14"/>
              <p:cNvSpPr/>
              <p:nvPr/>
            </p:nvSpPr>
            <p:spPr>
              <a:xfrm>
                <a:off x="-72385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Oval 15"/>
              <p:cNvSpPr/>
              <p:nvPr/>
            </p:nvSpPr>
            <p:spPr>
              <a:xfrm>
                <a:off x="-88657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6"/>
              <p:cNvSpPr/>
              <p:nvPr/>
            </p:nvSpPr>
            <p:spPr>
              <a:xfrm>
                <a:off x="-9067680" y="5045040"/>
                <a:ext cx="284400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   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і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 ,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2400" spc="-1" strike="noStrike">
                    <a:solidFill>
                      <a:srgbClr val="ffffff"/>
                    </a:solidFill>
                    <a:latin typeface="Comic Sans MS"/>
                  </a:rPr>
                  <a:t>і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О</a:t>
                </a:r>
                <a:r>
                  <a:rPr b="0" lang="uk-UA" sz="3800" spc="-1" strike="noStrike">
                    <a:solidFill>
                      <a:srgbClr val="ffffff"/>
                    </a:solidFill>
                    <a:latin typeface="Comic Sans MS"/>
                  </a:rPr>
                  <a:t> .   </a:t>
                </a:r>
                <a:endParaRPr b="0" lang="en-US" sz="3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158" name="Picture 17" descr="поезд-2"/>
            <p:cNvPicPr/>
            <p:nvPr/>
          </p:nvPicPr>
          <p:blipFill>
            <a:blip r:embed="rId4"/>
            <a:stretch/>
          </p:blipFill>
          <p:spPr>
            <a:xfrm>
              <a:off x="-29880" y="4648320"/>
              <a:ext cx="324288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9" name=""/>
          <p:cNvSpPr/>
          <p:nvPr/>
        </p:nvSpPr>
        <p:spPr>
          <a:xfrm>
            <a:off x="4392360" y="324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92360" y="324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392360" y="32464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0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3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9" dur="500"/>
                                        <p:tgtEl>
                                          <p:spTgt spid="1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2132" fill="hold"/>
                                        <p:tgtEl>
                                          <p:spTgt spid="13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11" dur="5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Line 2"/>
          <p:cNvSpPr/>
          <p:nvPr/>
        </p:nvSpPr>
        <p:spPr>
          <a:xfrm>
            <a:off x="0" y="3068640"/>
            <a:ext cx="914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AutoShape 3"/>
          <p:cNvSpPr/>
          <p:nvPr/>
        </p:nvSpPr>
        <p:spPr>
          <a:xfrm>
            <a:off x="324000" y="2421000"/>
            <a:ext cx="2160360" cy="302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AutoShape 4"/>
          <p:cNvSpPr/>
          <p:nvPr/>
        </p:nvSpPr>
        <p:spPr>
          <a:xfrm>
            <a:off x="179280" y="1773360"/>
            <a:ext cx="1871640" cy="136836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755640" y="3789360"/>
            <a:ext cx="503280" cy="1440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"/>
          <p:cNvSpPr/>
          <p:nvPr/>
        </p:nvSpPr>
        <p:spPr>
          <a:xfrm>
            <a:off x="826920" y="4365720"/>
            <a:ext cx="0" cy="2156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AutoShape 7"/>
          <p:cNvSpPr/>
          <p:nvPr/>
        </p:nvSpPr>
        <p:spPr>
          <a:xfrm rot="19986000">
            <a:off x="1850760" y="3497400"/>
            <a:ext cx="698400" cy="771480"/>
          </a:xfrm>
          <a:prstGeom prst="parallelogram">
            <a:avLst>
              <a:gd name="adj" fmla="val 58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"/>
          <p:cNvSpPr/>
          <p:nvPr/>
        </p:nvSpPr>
        <p:spPr>
          <a:xfrm>
            <a:off x="2124000" y="35002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9"/>
          <p:cNvSpPr/>
          <p:nvPr/>
        </p:nvSpPr>
        <p:spPr>
          <a:xfrm flipV="1">
            <a:off x="1403280" y="3141360"/>
            <a:ext cx="3673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0"/>
          <p:cNvSpPr/>
          <p:nvPr/>
        </p:nvSpPr>
        <p:spPr>
          <a:xfrm flipH="1">
            <a:off x="2627280" y="3141720"/>
            <a:ext cx="244944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"/>
          <p:cNvSpPr/>
          <p:nvPr/>
        </p:nvSpPr>
        <p:spPr>
          <a:xfrm>
            <a:off x="1835280" y="6381720"/>
            <a:ext cx="1081080" cy="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12"/>
          <p:cNvSpPr/>
          <p:nvPr/>
        </p:nvSpPr>
        <p:spPr>
          <a:xfrm>
            <a:off x="2340000" y="5950080"/>
            <a:ext cx="863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3"/>
          <p:cNvSpPr/>
          <p:nvPr/>
        </p:nvSpPr>
        <p:spPr>
          <a:xfrm>
            <a:off x="2700360" y="55166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4"/>
          <p:cNvSpPr/>
          <p:nvPr/>
        </p:nvSpPr>
        <p:spPr>
          <a:xfrm>
            <a:off x="3059280" y="522936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5"/>
          <p:cNvSpPr/>
          <p:nvPr/>
        </p:nvSpPr>
        <p:spPr>
          <a:xfrm>
            <a:off x="3276720" y="4941720"/>
            <a:ext cx="647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6"/>
          <p:cNvSpPr/>
          <p:nvPr/>
        </p:nvSpPr>
        <p:spPr>
          <a:xfrm>
            <a:off x="3492360" y="472428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7"/>
          <p:cNvSpPr/>
          <p:nvPr/>
        </p:nvSpPr>
        <p:spPr>
          <a:xfrm>
            <a:off x="3708360" y="450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8"/>
          <p:cNvSpPr/>
          <p:nvPr/>
        </p:nvSpPr>
        <p:spPr>
          <a:xfrm>
            <a:off x="3708360" y="450864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9"/>
          <p:cNvSpPr/>
          <p:nvPr/>
        </p:nvSpPr>
        <p:spPr>
          <a:xfrm>
            <a:off x="3851280" y="4365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20"/>
          <p:cNvSpPr/>
          <p:nvPr/>
        </p:nvSpPr>
        <p:spPr>
          <a:xfrm>
            <a:off x="4067280" y="4221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1"/>
          <p:cNvSpPr/>
          <p:nvPr/>
        </p:nvSpPr>
        <p:spPr>
          <a:xfrm>
            <a:off x="4140360" y="407664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"/>
          <p:cNvSpPr/>
          <p:nvPr/>
        </p:nvSpPr>
        <p:spPr>
          <a:xfrm>
            <a:off x="4284720" y="393372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3"/>
          <p:cNvSpPr/>
          <p:nvPr/>
        </p:nvSpPr>
        <p:spPr>
          <a:xfrm>
            <a:off x="4356000" y="3860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4"/>
          <p:cNvSpPr/>
          <p:nvPr/>
        </p:nvSpPr>
        <p:spPr>
          <a:xfrm>
            <a:off x="4427640" y="3789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5"/>
          <p:cNvSpPr/>
          <p:nvPr/>
        </p:nvSpPr>
        <p:spPr>
          <a:xfrm>
            <a:off x="4500720" y="371628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6"/>
          <p:cNvSpPr/>
          <p:nvPr/>
        </p:nvSpPr>
        <p:spPr>
          <a:xfrm>
            <a:off x="4572000" y="3645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7"/>
          <p:cNvSpPr/>
          <p:nvPr/>
        </p:nvSpPr>
        <p:spPr>
          <a:xfrm>
            <a:off x="4643280" y="35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8"/>
          <p:cNvSpPr/>
          <p:nvPr/>
        </p:nvSpPr>
        <p:spPr>
          <a:xfrm flipV="1">
            <a:off x="1258920" y="3212640"/>
            <a:ext cx="3744720" cy="3645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9"/>
          <p:cNvSpPr/>
          <p:nvPr/>
        </p:nvSpPr>
        <p:spPr>
          <a:xfrm flipH="1">
            <a:off x="2771280" y="3141720"/>
            <a:ext cx="2305080" cy="3716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30"/>
          <p:cNvSpPr/>
          <p:nvPr/>
        </p:nvSpPr>
        <p:spPr>
          <a:xfrm>
            <a:off x="2666880" y="342900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AutoShape 31"/>
          <p:cNvSpPr/>
          <p:nvPr/>
        </p:nvSpPr>
        <p:spPr>
          <a:xfrm>
            <a:off x="3276720" y="0"/>
            <a:ext cx="2057400" cy="1752480"/>
          </a:xfrm>
          <a:custGeom>
            <a:avLst/>
            <a:gdLst>
              <a:gd name="textAreaLeft" fmla="*/ 698040 w 2057400"/>
              <a:gd name="textAreaRight" fmla="*/ 1359360 w 2057400"/>
              <a:gd name="textAreaTop" fmla="*/ 594720 h 1752480"/>
              <a:gd name="textAreaBottom" fmla="*/ 115776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5910" y="11228"/>
                </a:lnTo>
                <a:lnTo>
                  <a:pt x="198" y="12861"/>
                </a:lnTo>
                <a:lnTo>
                  <a:pt x="6081" y="12153"/>
                </a:lnTo>
                <a:lnTo>
                  <a:pt x="786" y="14846"/>
                </a:lnTo>
                <a:lnTo>
                  <a:pt x="6466" y="13105"/>
                </a:lnTo>
                <a:lnTo>
                  <a:pt x="1742" y="16682"/>
                </a:lnTo>
                <a:lnTo>
                  <a:pt x="6985" y="13889"/>
                </a:lnTo>
                <a:lnTo>
                  <a:pt x="3163" y="18437"/>
                </a:lnTo>
                <a:lnTo>
                  <a:pt x="7645" y="14561"/>
                </a:lnTo>
                <a:lnTo>
                  <a:pt x="4761" y="19754"/>
                </a:lnTo>
                <a:lnTo>
                  <a:pt x="8420" y="15094"/>
                </a:lnTo>
                <a:lnTo>
                  <a:pt x="6580" y="20741"/>
                </a:lnTo>
                <a:lnTo>
                  <a:pt x="9365" y="15495"/>
                </a:lnTo>
                <a:lnTo>
                  <a:pt x="8555" y="21364"/>
                </a:lnTo>
                <a:lnTo>
                  <a:pt x="10287" y="15682"/>
                </a:lnTo>
                <a:lnTo>
                  <a:pt x="10800" y="21600"/>
                </a:lnTo>
                <a:lnTo>
                  <a:pt x="11228" y="15690"/>
                </a:lnTo>
                <a:lnTo>
                  <a:pt x="12861" y="21402"/>
                </a:lnTo>
                <a:lnTo>
                  <a:pt x="12153" y="15519"/>
                </a:lnTo>
                <a:lnTo>
                  <a:pt x="14846" y="20814"/>
                </a:lnTo>
                <a:lnTo>
                  <a:pt x="13105" y="15134"/>
                </a:lnTo>
                <a:lnTo>
                  <a:pt x="16682" y="19858"/>
                </a:lnTo>
                <a:lnTo>
                  <a:pt x="13889" y="14615"/>
                </a:lnTo>
                <a:lnTo>
                  <a:pt x="18437" y="18437"/>
                </a:lnTo>
                <a:lnTo>
                  <a:pt x="14561" y="13955"/>
                </a:lnTo>
                <a:lnTo>
                  <a:pt x="19754" y="16839"/>
                </a:lnTo>
                <a:lnTo>
                  <a:pt x="15094" y="13180"/>
                </a:lnTo>
                <a:lnTo>
                  <a:pt x="20741" y="15020"/>
                </a:lnTo>
                <a:lnTo>
                  <a:pt x="15495" y="12235"/>
                </a:lnTo>
                <a:lnTo>
                  <a:pt x="21364" y="13045"/>
                </a:lnTo>
                <a:lnTo>
                  <a:pt x="15682" y="11313"/>
                </a:lnTo>
                <a:lnTo>
                  <a:pt x="21600" y="10800"/>
                </a:lnTo>
                <a:lnTo>
                  <a:pt x="15690" y="10372"/>
                </a:lnTo>
                <a:lnTo>
                  <a:pt x="21402" y="8739"/>
                </a:lnTo>
                <a:lnTo>
                  <a:pt x="15519" y="9447"/>
                </a:lnTo>
                <a:lnTo>
                  <a:pt x="20814" y="6754"/>
                </a:lnTo>
                <a:lnTo>
                  <a:pt x="15134" y="8495"/>
                </a:lnTo>
                <a:lnTo>
                  <a:pt x="19858" y="4918"/>
                </a:lnTo>
                <a:lnTo>
                  <a:pt x="14615" y="7711"/>
                </a:lnTo>
                <a:lnTo>
                  <a:pt x="18437" y="3163"/>
                </a:lnTo>
                <a:lnTo>
                  <a:pt x="13955" y="7039"/>
                </a:lnTo>
                <a:lnTo>
                  <a:pt x="16839" y="1846"/>
                </a:lnTo>
                <a:lnTo>
                  <a:pt x="13180" y="6506"/>
                </a:lnTo>
                <a:lnTo>
                  <a:pt x="15020" y="859"/>
                </a:lnTo>
                <a:lnTo>
                  <a:pt x="12235" y="6105"/>
                </a:lnTo>
                <a:lnTo>
                  <a:pt x="13045" y="236"/>
                </a:lnTo>
                <a:lnTo>
                  <a:pt x="11313" y="5918"/>
                </a:lnTo>
                <a:lnTo>
                  <a:pt x="10800" y="0"/>
                </a:lnTo>
                <a:lnTo>
                  <a:pt x="10372" y="5910"/>
                </a:lnTo>
                <a:lnTo>
                  <a:pt x="8739" y="198"/>
                </a:lnTo>
                <a:lnTo>
                  <a:pt x="9447" y="6081"/>
                </a:lnTo>
                <a:lnTo>
                  <a:pt x="6754" y="786"/>
                </a:lnTo>
                <a:lnTo>
                  <a:pt x="8495" y="6466"/>
                </a:lnTo>
                <a:lnTo>
                  <a:pt x="4918" y="1742"/>
                </a:lnTo>
                <a:lnTo>
                  <a:pt x="7711" y="6985"/>
                </a:lnTo>
                <a:lnTo>
                  <a:pt x="3163" y="3163"/>
                </a:lnTo>
                <a:lnTo>
                  <a:pt x="7039" y="7645"/>
                </a:lnTo>
                <a:lnTo>
                  <a:pt x="1846" y="4761"/>
                </a:lnTo>
                <a:lnTo>
                  <a:pt x="6506" y="8420"/>
                </a:lnTo>
                <a:lnTo>
                  <a:pt x="859" y="6580"/>
                </a:lnTo>
                <a:lnTo>
                  <a:pt x="6105" y="9365"/>
                </a:lnTo>
                <a:lnTo>
                  <a:pt x="236" y="8555"/>
                </a:lnTo>
                <a:lnTo>
                  <a:pt x="5918" y="1028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fcc99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32"/>
          <p:cNvSpPr/>
          <p:nvPr/>
        </p:nvSpPr>
        <p:spPr>
          <a:xfrm>
            <a:off x="2666880" y="1981080"/>
            <a:ext cx="3306960" cy="459720"/>
          </a:xfrm>
          <a:prstGeom prst="rect">
            <a:avLst/>
          </a:prstGeom>
          <a:solidFill>
            <a:srgbClr val="ffffff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AutoShape 3"/>
          <p:cNvSpPr/>
          <p:nvPr/>
        </p:nvSpPr>
        <p:spPr>
          <a:xfrm flipH="1">
            <a:off x="6019920" y="2590920"/>
            <a:ext cx="2133360" cy="3025800"/>
          </a:xfrm>
          <a:prstGeom prst="cube">
            <a:avLst>
              <a:gd name="adj" fmla="val 25000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AutoShape 4"/>
          <p:cNvSpPr/>
          <p:nvPr/>
        </p:nvSpPr>
        <p:spPr>
          <a:xfrm>
            <a:off x="152280" y="1752480"/>
            <a:ext cx="1871640" cy="136872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AutoShape 4"/>
          <p:cNvSpPr/>
          <p:nvPr/>
        </p:nvSpPr>
        <p:spPr>
          <a:xfrm flipH="1">
            <a:off x="5409360" y="1676520"/>
            <a:ext cx="2514600" cy="1828800"/>
          </a:xfrm>
          <a:prstGeom prst="triangle">
            <a:avLst>
              <a:gd name="adj" fmla="val 50000"/>
            </a:avLst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AutoShape 7"/>
          <p:cNvSpPr/>
          <p:nvPr/>
        </p:nvSpPr>
        <p:spPr>
          <a:xfrm rot="19986000">
            <a:off x="5862600" y="3870360"/>
            <a:ext cx="762120" cy="771480"/>
          </a:xfrm>
          <a:prstGeom prst="parallelogram">
            <a:avLst>
              <a:gd name="adj" fmla="val 5865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5"/>
          <p:cNvSpPr/>
          <p:nvPr/>
        </p:nvSpPr>
        <p:spPr>
          <a:xfrm>
            <a:off x="7162920" y="3886200"/>
            <a:ext cx="503280" cy="1440000"/>
          </a:xfrm>
          <a:prstGeom prst="rect">
            <a:avLst/>
          </a:prstGeom>
          <a:solidFill>
            <a:srgbClr val="99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7238880" y="4495680"/>
            <a:ext cx="0" cy="21600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AutoShape 30"/>
          <p:cNvSpPr/>
          <p:nvPr/>
        </p:nvSpPr>
        <p:spPr>
          <a:xfrm>
            <a:off x="8229600" y="342900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utoShape 30"/>
          <p:cNvSpPr/>
          <p:nvPr/>
        </p:nvSpPr>
        <p:spPr>
          <a:xfrm>
            <a:off x="2438280" y="373392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30"/>
          <p:cNvSpPr/>
          <p:nvPr/>
        </p:nvSpPr>
        <p:spPr>
          <a:xfrm>
            <a:off x="8077320" y="396252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utoShape 30"/>
          <p:cNvSpPr/>
          <p:nvPr/>
        </p:nvSpPr>
        <p:spPr>
          <a:xfrm>
            <a:off x="-216000" y="4114800"/>
            <a:ext cx="432000" cy="792000"/>
          </a:xfrm>
          <a:prstGeom prst="upArrow">
            <a:avLst>
              <a:gd name="adj1" fmla="val 50000"/>
              <a:gd name="adj2" fmla="val 45833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AutoShape 30"/>
          <p:cNvSpPr/>
          <p:nvPr/>
        </p:nvSpPr>
        <p:spPr>
          <a:xfrm>
            <a:off x="5562720" y="4343400"/>
            <a:ext cx="431640" cy="792000"/>
          </a:xfrm>
          <a:prstGeom prst="upArrow">
            <a:avLst>
              <a:gd name="adj1" fmla="val 50000"/>
              <a:gd name="adj2" fmla="val 45872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AutoShape 30"/>
          <p:cNvSpPr/>
          <p:nvPr/>
        </p:nvSpPr>
        <p:spPr>
          <a:xfrm>
            <a:off x="8381880" y="4800600"/>
            <a:ext cx="762120" cy="914400"/>
          </a:xfrm>
          <a:prstGeom prst="upArrow">
            <a:avLst>
              <a:gd name="adj1" fmla="val 50000"/>
              <a:gd name="adj2" fmla="val 29995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WordArt 2"/>
          <p:cNvSpPr txBox="1"/>
          <p:nvPr/>
        </p:nvSpPr>
        <p:spPr>
          <a:xfrm>
            <a:off x="152280" y="380880"/>
            <a:ext cx="3048120" cy="5335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істечко Звертання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6" name="WordArt 2"/>
          <p:cNvSpPr txBox="1"/>
          <p:nvPr/>
        </p:nvSpPr>
        <p:spPr>
          <a:xfrm>
            <a:off x="5791320" y="152280"/>
            <a:ext cx="2743200" cy="9144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істечко 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ставні слова</a:t>
            </a:r>
            <a:endParaRPr b="0" i="1" lang="en-US" sz="20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07" name="WordArt 2"/>
          <p:cNvSpPr txBox="1"/>
          <p:nvPr/>
        </p:nvSpPr>
        <p:spPr>
          <a:xfrm>
            <a:off x="2666880" y="1905120"/>
            <a:ext cx="32004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333399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"Теоретичн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333399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08" name="Group 5"/>
          <p:cNvGrpSpPr/>
          <p:nvPr/>
        </p:nvGrpSpPr>
        <p:grpSpPr>
          <a:xfrm>
            <a:off x="-9067680" y="4648320"/>
            <a:ext cx="12280680" cy="1981080"/>
            <a:chOff x="-9067680" y="4648320"/>
            <a:chExt cx="12280680" cy="1981080"/>
          </a:xfrm>
        </p:grpSpPr>
        <p:grpSp>
          <p:nvGrpSpPr>
            <p:cNvPr id="209" name="Group 6"/>
            <p:cNvGrpSpPr/>
            <p:nvPr/>
          </p:nvGrpSpPr>
          <p:grpSpPr>
            <a:xfrm>
              <a:off x="-3054240" y="5045040"/>
              <a:ext cx="2844000" cy="1582920"/>
              <a:chOff x="-3054240" y="5045040"/>
              <a:chExt cx="2844000" cy="1582920"/>
            </a:xfrm>
          </p:grpSpPr>
          <p:sp>
            <p:nvSpPr>
              <p:cNvPr id="210" name="Oval 7"/>
              <p:cNvSpPr/>
              <p:nvPr/>
            </p:nvSpPr>
            <p:spPr>
              <a:xfrm>
                <a:off x="-12250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Oval 8"/>
              <p:cNvSpPr/>
              <p:nvPr/>
            </p:nvSpPr>
            <p:spPr>
              <a:xfrm>
                <a:off x="-2852280" y="5923440"/>
                <a:ext cx="81288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Rectangle 9"/>
              <p:cNvSpPr/>
              <p:nvPr/>
            </p:nvSpPr>
            <p:spPr>
              <a:xfrm>
                <a:off x="-3054240" y="5045040"/>
                <a:ext cx="284400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ffffff"/>
                    </a:solidFill>
                    <a:latin typeface="Comic Sans MS"/>
                  </a:rPr>
                  <a:t>Повідомлення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ffffff"/>
                    </a:solidFill>
                    <a:latin typeface="Comic Sans MS"/>
                  </a:rPr>
                  <a:t>на лінгвістичн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uk-UA" sz="2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1" lang="uk-UA" sz="2800" spc="-1" strike="noStrike">
                    <a:solidFill>
                      <a:srgbClr val="ffffff"/>
                    </a:solidFill>
                    <a:latin typeface="Comic Sans MS"/>
                  </a:rPr>
                  <a:t>тему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3" name="Group 10"/>
            <p:cNvGrpSpPr/>
            <p:nvPr/>
          </p:nvGrpSpPr>
          <p:grpSpPr>
            <a:xfrm>
              <a:off x="-6078240" y="4792680"/>
              <a:ext cx="2844360" cy="1836000"/>
              <a:chOff x="-6078240" y="4792680"/>
              <a:chExt cx="2844360" cy="1836000"/>
            </a:xfrm>
          </p:grpSpPr>
          <p:sp>
            <p:nvSpPr>
              <p:cNvPr id="214" name="Oval 11"/>
              <p:cNvSpPr/>
              <p:nvPr/>
            </p:nvSpPr>
            <p:spPr>
              <a:xfrm>
                <a:off x="-42494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Oval 12"/>
              <p:cNvSpPr/>
              <p:nvPr/>
            </p:nvSpPr>
            <p:spPr>
              <a:xfrm>
                <a:off x="-5876640" y="5924160"/>
                <a:ext cx="81396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Rectangle 13"/>
              <p:cNvSpPr/>
              <p:nvPr/>
            </p:nvSpPr>
            <p:spPr>
              <a:xfrm>
                <a:off x="-6078240" y="4792680"/>
                <a:ext cx="284436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17" name="Group 14"/>
            <p:cNvGrpSpPr/>
            <p:nvPr/>
          </p:nvGrpSpPr>
          <p:grpSpPr>
            <a:xfrm>
              <a:off x="-9067680" y="5045040"/>
              <a:ext cx="2844000" cy="1583280"/>
              <a:chOff x="-9067680" y="5045040"/>
              <a:chExt cx="2844000" cy="1583280"/>
            </a:xfrm>
          </p:grpSpPr>
          <p:sp>
            <p:nvSpPr>
              <p:cNvPr id="218" name="Oval 15"/>
              <p:cNvSpPr/>
              <p:nvPr/>
            </p:nvSpPr>
            <p:spPr>
              <a:xfrm>
                <a:off x="-72385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Oval 16"/>
              <p:cNvSpPr/>
              <p:nvPr/>
            </p:nvSpPr>
            <p:spPr>
              <a:xfrm>
                <a:off x="-8865720" y="5924160"/>
                <a:ext cx="81288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Rectangle 17"/>
              <p:cNvSpPr/>
              <p:nvPr/>
            </p:nvSpPr>
            <p:spPr>
              <a:xfrm>
                <a:off x="-9067680" y="5045040"/>
                <a:ext cx="284400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4000" spc="-1" strike="noStrike">
                    <a:solidFill>
                      <a:srgbClr val="ffffff"/>
                    </a:solidFill>
                    <a:latin typeface="Comic Sans MS"/>
                  </a:rPr>
                  <a:t>Усний тест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21" name="Picture 18" descr="поезд-2"/>
            <p:cNvPicPr/>
            <p:nvPr/>
          </p:nvPicPr>
          <p:blipFill>
            <a:blip r:embed="rId1"/>
            <a:stretch/>
          </p:blipFill>
          <p:spPr>
            <a:xfrm>
              <a:off x="-29880" y="4648320"/>
              <a:ext cx="324288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2" name="Picture 19" descr="AG00317_"/>
          <p:cNvPicPr/>
          <p:nvPr/>
        </p:nvPicPr>
        <p:blipFill>
          <a:blip r:embed="rId2"/>
          <a:stretch/>
        </p:blipFill>
        <p:spPr>
          <a:xfrm>
            <a:off x="3809880" y="4876920"/>
            <a:ext cx="1038240" cy="13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withEffect" fill="hold" presetClass="emph" presetID="27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" dur="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18" dur="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9" dur="500" autoRev="1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5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3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137" dur="5000" fill="hold"/>
                                        <p:tgtEl>
                                          <p:spTgt spid="2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23" descr=""/>
          <p:cNvPicPr/>
          <p:nvPr/>
        </p:nvPicPr>
        <p:blipFill>
          <a:blip r:embed="rId1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248520"/>
          </a:xfrm>
          <a:prstGeom prst="rect">
            <a:avLst/>
          </a:prstGeom>
          <a:ln w="0">
            <a:noFill/>
          </a:ln>
        </p:spPr>
      </p:pic>
      <p:grpSp>
        <p:nvGrpSpPr>
          <p:cNvPr id="225" name="Group 5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226" name="Group 6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227" name="Oval 7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Oval 8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Rectangle 9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Розставит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розділові знаки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0" name="Group 10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231" name="Oval 11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Oval 12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Rectangle 13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Вставити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пропущені 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3600" spc="-1" strike="noStrike">
                    <a:solidFill>
                      <a:srgbClr val="ffffff"/>
                    </a:solidFill>
                    <a:latin typeface="Comic Sans MS"/>
                  </a:rPr>
                  <a:t>літери.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4" name="Group 14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235" name="Oval 15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Oval 16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Rectangle 17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Переписати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 </a:t>
                </a:r>
                <a:r>
                  <a:rPr b="0" lang="uk-UA" sz="2800" spc="-1" strike="noStrike">
                    <a:solidFill>
                      <a:srgbClr val="ffffff"/>
                    </a:solidFill>
                    <a:latin typeface="Comic Sans MS"/>
                  </a:rPr>
                  <a:t>речення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38" name="Picture 18" descr="поезд-2"/>
            <p:cNvPicPr/>
            <p:nvPr/>
          </p:nvPicPr>
          <p:blipFill>
            <a:blip r:embed="rId3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39" name="WordArt 4"/>
          <p:cNvSpPr txBox="1"/>
          <p:nvPr/>
        </p:nvSpPr>
        <p:spPr>
          <a:xfrm>
            <a:off x="1066680" y="0"/>
            <a:ext cx="701064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         </a:t>
            </a: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 "Пунктуаційн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40" name=""/>
          <p:cNvSpPr/>
          <p:nvPr/>
        </p:nvSpPr>
        <p:spPr>
          <a:xfrm>
            <a:off x="457200" y="195840"/>
            <a:ext cx="8381880" cy="533628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в.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віти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зоре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на все поле, поки місяц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uk-UA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ійде. Ти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аше диво кал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ове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охана материнс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ь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ка мово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Вже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ень здаєт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я сивим і бе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з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илим, і домліває в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заростях ріка... Здаєт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я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через хвилину я побачу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собор в тумані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І в. Здрастуй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сонце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і здрастуй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вітре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! Здрастуй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свіжосте нив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! Кажут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1" lang="uk-UA" sz="28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мудрість пр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ходить з рока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го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можливо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не знайду я слова, щоб оспіва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рідний край. В краю пр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и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дніпровс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ь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кім ми стрілись з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тобою</a:t>
            </a:r>
            <a:r>
              <a:rPr b="1" lang="uk-UA" sz="2400" spc="-1" strike="noStrike">
                <a:solidFill>
                  <a:srgbClr val="ff0000"/>
                </a:solidFill>
                <a:latin typeface="Arial"/>
              </a:rPr>
              <a:t>,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в</a:t>
            </a:r>
            <a:r>
              <a:rPr b="1" lang="uk-UA" sz="2400" spc="-1" strike="noStrike" u="sng">
                <a:solidFill>
                  <a:srgbClr val="ff0000"/>
                </a:solidFill>
                <a:uFillTx/>
                <a:latin typeface="Arial"/>
              </a:rPr>
              <a:t>е</a:t>
            </a:r>
            <a:r>
              <a:rPr b="0" lang="uk-UA" sz="2400" spc="-1" strike="noStrike" u="sng">
                <a:solidFill>
                  <a:srgbClr val="000000"/>
                </a:solidFill>
                <a:uFillTx/>
                <a:latin typeface="Arial"/>
              </a:rPr>
              <a:t>селко моя золота</a:t>
            </a:r>
            <a:r>
              <a:rPr b="0" lang="uk-UA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2132" fill="hold"/>
                                        <p:tgtEl>
                                          <p:spTgt spid="22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208 0.00254 L 0.24792 0.00254 E">
                                      <p:cBhvr>
                                        <p:cTn id="154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309 -0.02892 L 1.00851 -0.03401 E">
                                      <p:cBhvr>
                                        <p:cTn id="157" dur="2000" fill="hold"/>
                                        <p:tgtEl>
                                          <p:spTgt spid="2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/>
          </p:nvPr>
        </p:nvSpPr>
        <p:spPr>
          <a:xfrm>
            <a:off x="380520" y="2895480"/>
            <a:ext cx="8534520" cy="24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-й варіант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Здається, через хвилину я побачу собор в тумані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-й варіан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В краю придніпровськім ми стрілись з тобою, веселко моя золо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7"/>
          <p:cNvSpPr/>
          <p:nvPr/>
        </p:nvSpPr>
        <p:spPr>
          <a:xfrm>
            <a:off x="611280" y="5950080"/>
            <a:ext cx="1224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Line 8"/>
          <p:cNvSpPr/>
          <p:nvPr/>
        </p:nvSpPr>
        <p:spPr>
          <a:xfrm>
            <a:off x="3492360" y="595008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9"/>
          <p:cNvSpPr/>
          <p:nvPr/>
        </p:nvSpPr>
        <p:spPr>
          <a:xfrm>
            <a:off x="3492360" y="6021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0"/>
          <p:cNvSpPr/>
          <p:nvPr/>
        </p:nvSpPr>
        <p:spPr>
          <a:xfrm>
            <a:off x="20509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"/>
          <p:cNvSpPr/>
          <p:nvPr/>
        </p:nvSpPr>
        <p:spPr>
          <a:xfrm>
            <a:off x="241128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2"/>
          <p:cNvSpPr/>
          <p:nvPr/>
        </p:nvSpPr>
        <p:spPr>
          <a:xfrm>
            <a:off x="2771640" y="5950080"/>
            <a:ext cx="217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3"/>
          <p:cNvSpPr/>
          <p:nvPr/>
        </p:nvSpPr>
        <p:spPr>
          <a:xfrm>
            <a:off x="305928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4"/>
          <p:cNvSpPr/>
          <p:nvPr/>
        </p:nvSpPr>
        <p:spPr>
          <a:xfrm>
            <a:off x="5508720" y="5950080"/>
            <a:ext cx="23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5"/>
          <p:cNvSpPr/>
          <p:nvPr/>
        </p:nvSpPr>
        <p:spPr>
          <a:xfrm>
            <a:off x="5508720" y="602136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6"/>
          <p:cNvSpPr/>
          <p:nvPr/>
        </p:nvSpPr>
        <p:spPr>
          <a:xfrm>
            <a:off x="442764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7"/>
          <p:cNvSpPr/>
          <p:nvPr/>
        </p:nvSpPr>
        <p:spPr>
          <a:xfrm>
            <a:off x="478800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8"/>
          <p:cNvSpPr/>
          <p:nvPr/>
        </p:nvSpPr>
        <p:spPr>
          <a:xfrm>
            <a:off x="5076720" y="59500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Picture 18" descr="AG00428_"/>
          <p:cNvPicPr/>
          <p:nvPr/>
        </p:nvPicPr>
        <p:blipFill>
          <a:blip r:embed="rId1"/>
          <a:stretch/>
        </p:blipFill>
        <p:spPr>
          <a:xfrm>
            <a:off x="6019920" y="762120"/>
            <a:ext cx="2724120" cy="216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6000"/>
                            </p:stCondLst>
                            <p:childTnLst>
                              <p:par>
                                <p:cTn id="19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8000"/>
                            </p:stCondLst>
                            <p:childTnLst>
                              <p:par>
                                <p:cTn id="19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2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2000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24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12000"/>
                            </p:stCondLst>
                            <p:childTnLst>
                              <p:par>
                                <p:cTn id="21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2000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2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-89154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-7086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-769608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-8229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-586728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-525780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-44197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-37339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-2895480" y="54100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-2133720" y="541008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-160020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-83808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WordArt 35"/>
          <p:cNvSpPr txBox="1"/>
          <p:nvPr/>
        </p:nvSpPr>
        <p:spPr>
          <a:xfrm>
            <a:off x="3733920" y="533520"/>
            <a:ext cx="51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 "Творч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68" name="Picture 36" descr="J0076204"/>
          <p:cNvPicPr/>
          <p:nvPr/>
        </p:nvPicPr>
        <p:blipFill>
          <a:blip r:embed="rId1"/>
          <a:stretch/>
        </p:blipFill>
        <p:spPr>
          <a:xfrm>
            <a:off x="0" y="-304920"/>
            <a:ext cx="3562200" cy="2156040"/>
          </a:xfrm>
          <a:prstGeom prst="rect">
            <a:avLst/>
          </a:prstGeom>
          <a:ln w="0">
            <a:noFill/>
          </a:ln>
        </p:spPr>
      </p:pic>
      <p:grpSp>
        <p:nvGrpSpPr>
          <p:cNvPr id="269" name="Group 4"/>
          <p:cNvGrpSpPr/>
          <p:nvPr/>
        </p:nvGrpSpPr>
        <p:grpSpPr>
          <a:xfrm>
            <a:off x="-9037800" y="4419720"/>
            <a:ext cx="12281040" cy="2214000"/>
            <a:chOff x="-9037800" y="4419720"/>
            <a:chExt cx="12281040" cy="2214000"/>
          </a:xfrm>
        </p:grpSpPr>
        <p:grpSp>
          <p:nvGrpSpPr>
            <p:cNvPr id="270" name="Group 5"/>
            <p:cNvGrpSpPr/>
            <p:nvPr/>
          </p:nvGrpSpPr>
          <p:grpSpPr>
            <a:xfrm>
              <a:off x="-3024360" y="4863240"/>
              <a:ext cx="2844360" cy="1769400"/>
              <a:chOff x="-3024360" y="4863240"/>
              <a:chExt cx="2844360" cy="1769400"/>
            </a:xfrm>
          </p:grpSpPr>
          <p:sp>
            <p:nvSpPr>
              <p:cNvPr id="271" name="Oval 6"/>
              <p:cNvSpPr/>
              <p:nvPr/>
            </p:nvSpPr>
            <p:spPr>
              <a:xfrm>
                <a:off x="-1194840" y="5844960"/>
                <a:ext cx="813240" cy="787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" name="Oval 7"/>
              <p:cNvSpPr/>
              <p:nvPr/>
            </p:nvSpPr>
            <p:spPr>
              <a:xfrm>
                <a:off x="-2822400" y="5844960"/>
                <a:ext cx="813240" cy="787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" name="Rectangle 8"/>
              <p:cNvSpPr/>
              <p:nvPr/>
            </p:nvSpPr>
            <p:spPr>
              <a:xfrm>
                <a:off x="-3024360" y="4863240"/>
                <a:ext cx="2844360" cy="1375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а в другому 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словами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4" name="Group 9"/>
            <p:cNvGrpSpPr/>
            <p:nvPr/>
          </p:nvGrpSpPr>
          <p:grpSpPr>
            <a:xfrm>
              <a:off x="-6048360" y="4581360"/>
              <a:ext cx="2844720" cy="2052000"/>
              <a:chOff x="-6048360" y="4581360"/>
              <a:chExt cx="2844720" cy="2052000"/>
            </a:xfrm>
          </p:grpSpPr>
          <p:sp>
            <p:nvSpPr>
              <p:cNvPr id="275" name="Oval 10"/>
              <p:cNvSpPr/>
              <p:nvPr/>
            </p:nvSpPr>
            <p:spPr>
              <a:xfrm>
                <a:off x="-4219560" y="5846040"/>
                <a:ext cx="814320" cy="787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" name="Oval 11"/>
              <p:cNvSpPr/>
              <p:nvPr/>
            </p:nvSpPr>
            <p:spPr>
              <a:xfrm>
                <a:off x="-5846760" y="5846040"/>
                <a:ext cx="814320" cy="787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" name="Rectangle 12"/>
              <p:cNvSpPr/>
              <p:nvPr/>
            </p:nvSpPr>
            <p:spPr>
              <a:xfrm>
                <a:off x="-6048360" y="4581360"/>
                <a:ext cx="2844720" cy="17607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щоб подані слова 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у першому випадку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були членами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 </a:t>
                </a: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речення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78" name="Group 13"/>
            <p:cNvGrpSpPr/>
            <p:nvPr/>
          </p:nvGrpSpPr>
          <p:grpSpPr>
            <a:xfrm>
              <a:off x="-9037800" y="4863240"/>
              <a:ext cx="2844360" cy="1769400"/>
              <a:chOff x="-9037800" y="4863240"/>
              <a:chExt cx="2844360" cy="1769400"/>
            </a:xfrm>
          </p:grpSpPr>
          <p:sp>
            <p:nvSpPr>
              <p:cNvPr id="279" name="Oval 14"/>
              <p:cNvSpPr/>
              <p:nvPr/>
            </p:nvSpPr>
            <p:spPr>
              <a:xfrm>
                <a:off x="-7208280" y="5845680"/>
                <a:ext cx="813240" cy="786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Oval 15"/>
              <p:cNvSpPr/>
              <p:nvPr/>
            </p:nvSpPr>
            <p:spPr>
              <a:xfrm>
                <a:off x="-8835840" y="5845680"/>
                <a:ext cx="813240" cy="786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Rectangle 16"/>
              <p:cNvSpPr/>
              <p:nvPr/>
            </p:nvSpPr>
            <p:spPr>
              <a:xfrm>
                <a:off x="-9037800" y="4863240"/>
                <a:ext cx="2844360" cy="137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Verdana"/>
                  </a:rPr>
                  <a:t>Складіт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Verdana"/>
                  </a:rPr>
                  <a:t>речення</a:t>
                </a: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282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419720"/>
              <a:ext cx="3243240" cy="22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83" name=""/>
          <p:cNvSpPr/>
          <p:nvPr/>
        </p:nvSpPr>
        <p:spPr>
          <a:xfrm>
            <a:off x="1752480" y="2286000"/>
            <a:ext cx="556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й варіант  Видн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-й варіант На щаст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34" dur="5000" fill="hold"/>
                                        <p:tgtEl>
                                          <p:spTgt spid="2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-89154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-7086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-769608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-8229600" y="548640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-586728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-5257800" y="533412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-44197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-3733920" y="533412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-2895480" y="5410080"/>
            <a:ext cx="53316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Уз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000000"/>
                </a:solidFill>
                <a:latin typeface="Arial"/>
              </a:rPr>
              <a:t>С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-2133720" y="5410080"/>
            <a:ext cx="38124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-160020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-838080" y="5410080"/>
            <a:ext cx="380880" cy="4572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WordArt 35"/>
          <p:cNvSpPr txBox="1"/>
          <p:nvPr/>
        </p:nvSpPr>
        <p:spPr>
          <a:xfrm>
            <a:off x="3733920" y="533520"/>
            <a:ext cx="5113080" cy="86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Зупинка "Творч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7" name="Picture 36" descr="J0076204"/>
          <p:cNvPicPr/>
          <p:nvPr/>
        </p:nvPicPr>
        <p:blipFill>
          <a:blip r:embed="rId1"/>
          <a:stretch/>
        </p:blipFill>
        <p:spPr>
          <a:xfrm>
            <a:off x="0" y="-228600"/>
            <a:ext cx="3562200" cy="2155680"/>
          </a:xfrm>
          <a:prstGeom prst="rect">
            <a:avLst/>
          </a:prstGeom>
          <a:ln w="0">
            <a:noFill/>
          </a:ln>
        </p:spPr>
      </p:pic>
      <p:grpSp>
        <p:nvGrpSpPr>
          <p:cNvPr id="298" name="Group 4"/>
          <p:cNvGrpSpPr/>
          <p:nvPr/>
        </p:nvGrpSpPr>
        <p:grpSpPr>
          <a:xfrm>
            <a:off x="-9037800" y="4419720"/>
            <a:ext cx="12281040" cy="2214000"/>
            <a:chOff x="-9037800" y="4419720"/>
            <a:chExt cx="12281040" cy="2214000"/>
          </a:xfrm>
        </p:grpSpPr>
        <p:grpSp>
          <p:nvGrpSpPr>
            <p:cNvPr id="299" name="Group 5"/>
            <p:cNvGrpSpPr/>
            <p:nvPr/>
          </p:nvGrpSpPr>
          <p:grpSpPr>
            <a:xfrm>
              <a:off x="-3024360" y="4863240"/>
              <a:ext cx="2844360" cy="1769400"/>
              <a:chOff x="-3024360" y="4863240"/>
              <a:chExt cx="2844360" cy="1769400"/>
            </a:xfrm>
          </p:grpSpPr>
          <p:sp>
            <p:nvSpPr>
              <p:cNvPr id="300" name="Oval 6"/>
              <p:cNvSpPr/>
              <p:nvPr/>
            </p:nvSpPr>
            <p:spPr>
              <a:xfrm>
                <a:off x="-1194840" y="5844960"/>
                <a:ext cx="813240" cy="787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Oval 7"/>
              <p:cNvSpPr/>
              <p:nvPr/>
            </p:nvSpPr>
            <p:spPr>
              <a:xfrm>
                <a:off x="-2822400" y="5844960"/>
                <a:ext cx="813240" cy="78768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Rectangle 8"/>
              <p:cNvSpPr/>
              <p:nvPr/>
            </p:nvSpPr>
            <p:spPr>
              <a:xfrm>
                <a:off x="-3024360" y="4863240"/>
                <a:ext cx="2844360" cy="137520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а в другому –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1" i="1" lang="uk-UA" sz="2800" spc="-1" strike="noStrike">
                    <a:solidFill>
                      <a:srgbClr val="ffffff"/>
                    </a:solidFill>
                    <a:latin typeface="Arial"/>
                  </a:rPr>
                  <a:t>підметом.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3" name="Group 9"/>
            <p:cNvGrpSpPr/>
            <p:nvPr/>
          </p:nvGrpSpPr>
          <p:grpSpPr>
            <a:xfrm>
              <a:off x="-6048360" y="4581360"/>
              <a:ext cx="2844720" cy="2052000"/>
              <a:chOff x="-6048360" y="4581360"/>
              <a:chExt cx="2844720" cy="2052000"/>
            </a:xfrm>
          </p:grpSpPr>
          <p:sp>
            <p:nvSpPr>
              <p:cNvPr id="304" name="Oval 10"/>
              <p:cNvSpPr/>
              <p:nvPr/>
            </p:nvSpPr>
            <p:spPr>
              <a:xfrm>
                <a:off x="-4219560" y="5846040"/>
                <a:ext cx="814320" cy="787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Oval 11"/>
              <p:cNvSpPr/>
              <p:nvPr/>
            </p:nvSpPr>
            <p:spPr>
              <a:xfrm>
                <a:off x="-5846760" y="5846040"/>
                <a:ext cx="814320" cy="7873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Rectangle 12"/>
              <p:cNvSpPr/>
              <p:nvPr/>
            </p:nvSpPr>
            <p:spPr>
              <a:xfrm>
                <a:off x="-6048360" y="4581360"/>
                <a:ext cx="2844720" cy="176076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800" spc="-1" strike="noStrike">
                    <a:solidFill>
                      <a:srgbClr val="ffffff"/>
                    </a:solidFill>
                    <a:latin typeface="Verdana"/>
                  </a:rPr>
                  <a:t>щоб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800" spc="-1" strike="noStrike">
                    <a:solidFill>
                      <a:srgbClr val="ffffff"/>
                    </a:solidFill>
                    <a:latin typeface="Verdana"/>
                  </a:rPr>
                  <a:t>словосполучення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800" spc="-1" strike="noStrike">
                    <a:solidFill>
                      <a:srgbClr val="ffffff"/>
                    </a:solidFill>
                    <a:latin typeface="Verdana"/>
                  </a:rPr>
                  <a:t>виступали в одному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1800" spc="-1" strike="noStrike">
                    <a:solidFill>
                      <a:srgbClr val="ffffff"/>
                    </a:solidFill>
                    <a:latin typeface="Verdana"/>
                  </a:rPr>
                  <a:t>реченні звертанням,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7" name="Group 13"/>
            <p:cNvGrpSpPr/>
            <p:nvPr/>
          </p:nvGrpSpPr>
          <p:grpSpPr>
            <a:xfrm>
              <a:off x="-9037800" y="4863240"/>
              <a:ext cx="2844360" cy="1769400"/>
              <a:chOff x="-9037800" y="4863240"/>
              <a:chExt cx="2844360" cy="1769400"/>
            </a:xfrm>
          </p:grpSpPr>
          <p:sp>
            <p:nvSpPr>
              <p:cNvPr id="308" name="Oval 14"/>
              <p:cNvSpPr/>
              <p:nvPr/>
            </p:nvSpPr>
            <p:spPr>
              <a:xfrm>
                <a:off x="-7208280" y="5845680"/>
                <a:ext cx="813240" cy="786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Oval 15"/>
              <p:cNvSpPr/>
              <p:nvPr/>
            </p:nvSpPr>
            <p:spPr>
              <a:xfrm>
                <a:off x="-8835840" y="5845680"/>
                <a:ext cx="813240" cy="7869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Rectangle 16"/>
              <p:cNvSpPr/>
              <p:nvPr/>
            </p:nvSpPr>
            <p:spPr>
              <a:xfrm>
                <a:off x="-9037800" y="4863240"/>
                <a:ext cx="2844360" cy="137592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Verdana"/>
                  </a:rPr>
                  <a:t>Складіть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uk-UA" sz="2800" spc="-1" strike="noStrike">
                    <a:solidFill>
                      <a:srgbClr val="ffffff"/>
                    </a:solidFill>
                    <a:latin typeface="Verdana"/>
                  </a:rPr>
                  <a:t>речення</a:t>
                </a:r>
                <a:r>
                  <a:rPr b="1" i="1" lang="uk-UA" sz="2000" spc="-1" strike="noStrike">
                    <a:solidFill>
                      <a:srgbClr val="ffffff"/>
                    </a:solidFill>
                    <a:latin typeface="Verdana"/>
                  </a:rPr>
                  <a:t>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11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419720"/>
              <a:ext cx="3243240" cy="221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12" name=""/>
          <p:cNvSpPr/>
          <p:nvPr/>
        </p:nvSpPr>
        <p:spPr>
          <a:xfrm>
            <a:off x="1143000" y="2286000"/>
            <a:ext cx="6858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1-й варіант    Рідне міс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2-й варіант    Рідна шко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1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48" dur="5000" fill="hold"/>
                                        <p:tgtEl>
                                          <p:spTgt spid="2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J0145223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15" name="Group 4"/>
          <p:cNvGrpSpPr/>
          <p:nvPr/>
        </p:nvGrpSpPr>
        <p:grpSpPr>
          <a:xfrm>
            <a:off x="-9037800" y="4653000"/>
            <a:ext cx="12281040" cy="1981080"/>
            <a:chOff x="-9037800" y="4653000"/>
            <a:chExt cx="12281040" cy="1981080"/>
          </a:xfrm>
        </p:grpSpPr>
        <p:grpSp>
          <p:nvGrpSpPr>
            <p:cNvPr id="316" name="Group 5"/>
            <p:cNvGrpSpPr/>
            <p:nvPr/>
          </p:nvGrpSpPr>
          <p:grpSpPr>
            <a:xfrm>
              <a:off x="-3024360" y="5049720"/>
              <a:ext cx="2844360" cy="1582920"/>
              <a:chOff x="-3024360" y="5049720"/>
              <a:chExt cx="2844360" cy="1582920"/>
            </a:xfrm>
          </p:grpSpPr>
          <p:sp>
            <p:nvSpPr>
              <p:cNvPr id="317" name="Oval 6"/>
              <p:cNvSpPr/>
              <p:nvPr/>
            </p:nvSpPr>
            <p:spPr>
              <a:xfrm>
                <a:off x="-119484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" name="Oval 7"/>
              <p:cNvSpPr/>
              <p:nvPr/>
            </p:nvSpPr>
            <p:spPr>
              <a:xfrm>
                <a:off x="-2822400" y="5928120"/>
                <a:ext cx="81324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Rectangle 8"/>
              <p:cNvSpPr/>
              <p:nvPr/>
            </p:nvSpPr>
            <p:spPr>
              <a:xfrm>
                <a:off x="-3024360" y="5049720"/>
                <a:ext cx="2844360" cy="1230480"/>
              </a:xfrm>
              <a:prstGeom prst="rect">
                <a:avLst/>
              </a:prstGeom>
              <a:solidFill>
                <a:srgbClr val="3333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капюшон, шок,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Vrinda"/>
                  </a:rPr>
                  <a:t>шомпол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0" name="Group 9"/>
            <p:cNvGrpSpPr/>
            <p:nvPr/>
          </p:nvGrpSpPr>
          <p:grpSpPr>
            <a:xfrm>
              <a:off x="-6048360" y="4797360"/>
              <a:ext cx="2844720" cy="1836000"/>
              <a:chOff x="-6048360" y="4797360"/>
              <a:chExt cx="2844720" cy="1836000"/>
            </a:xfrm>
          </p:grpSpPr>
          <p:sp>
            <p:nvSpPr>
              <p:cNvPr id="321" name="Oval 10"/>
              <p:cNvSpPr/>
              <p:nvPr/>
            </p:nvSpPr>
            <p:spPr>
              <a:xfrm>
                <a:off x="-42195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" name="Oval 11"/>
              <p:cNvSpPr/>
              <p:nvPr/>
            </p:nvSpPr>
            <p:spPr>
              <a:xfrm>
                <a:off x="-5846760" y="5928840"/>
                <a:ext cx="814320" cy="70452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" name="Rectangle 12"/>
              <p:cNvSpPr/>
              <p:nvPr/>
            </p:nvSpPr>
            <p:spPr>
              <a:xfrm>
                <a:off x="-6048360" y="4797360"/>
                <a:ext cx="2844720" cy="1575720"/>
              </a:xfrm>
              <a:prstGeom prst="rect">
                <a:avLst/>
              </a:prstGeom>
              <a:solidFill>
                <a:srgbClr val="24882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крыжовник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рох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ов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4" name="Group 13"/>
            <p:cNvGrpSpPr/>
            <p:nvPr/>
          </p:nvGrpSpPr>
          <p:grpSpPr>
            <a:xfrm>
              <a:off x="-9037800" y="5049720"/>
              <a:ext cx="2844360" cy="1583280"/>
              <a:chOff x="-9037800" y="5049720"/>
              <a:chExt cx="2844360" cy="1583280"/>
            </a:xfrm>
          </p:grpSpPr>
          <p:sp>
            <p:nvSpPr>
              <p:cNvPr id="325" name="Oval 14"/>
              <p:cNvSpPr/>
              <p:nvPr/>
            </p:nvSpPr>
            <p:spPr>
              <a:xfrm>
                <a:off x="-720828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Oval 15"/>
              <p:cNvSpPr/>
              <p:nvPr/>
            </p:nvSpPr>
            <p:spPr>
              <a:xfrm>
                <a:off x="-8835840" y="5928840"/>
                <a:ext cx="813240" cy="70416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Rectangle 16"/>
              <p:cNvSpPr/>
              <p:nvPr/>
            </p:nvSpPr>
            <p:spPr>
              <a:xfrm>
                <a:off x="-9037800" y="5049720"/>
                <a:ext cx="2844360" cy="1231200"/>
              </a:xfrm>
              <a:prstGeom prst="rect">
                <a:avLst/>
              </a:prstGeom>
              <a:solidFill>
                <a:srgbClr val="0000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жёлудь,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Verdana"/>
                  </a:rPr>
                  <a:t>шёпот, шёлк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328" name="Picture 17" descr="поезд-2"/>
            <p:cNvPicPr/>
            <p:nvPr/>
          </p:nvPicPr>
          <p:blipFill>
            <a:blip r:embed="rId2"/>
            <a:stretch/>
          </p:blipFill>
          <p:spPr>
            <a:xfrm>
              <a:off x="0" y="4653000"/>
              <a:ext cx="3243240" cy="1981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9" name="Picture 18" descr="AG00158_"/>
          <p:cNvPicPr/>
          <p:nvPr/>
        </p:nvPicPr>
        <p:blipFill>
          <a:blip r:embed="rId3"/>
          <a:stretch/>
        </p:blipFill>
        <p:spPr>
          <a:xfrm>
            <a:off x="2484360" y="2060640"/>
            <a:ext cx="1106640" cy="180000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19" descr="AG00158_"/>
          <p:cNvPicPr/>
          <p:nvPr/>
        </p:nvPicPr>
        <p:blipFill>
          <a:blip r:embed="rId4"/>
          <a:stretch/>
        </p:blipFill>
        <p:spPr>
          <a:xfrm>
            <a:off x="684360" y="404640"/>
            <a:ext cx="930240" cy="151308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20" descr="AG00158_"/>
          <p:cNvPicPr/>
          <p:nvPr/>
        </p:nvPicPr>
        <p:blipFill>
          <a:blip r:embed="rId5"/>
          <a:stretch/>
        </p:blipFill>
        <p:spPr>
          <a:xfrm>
            <a:off x="4788000" y="2565360"/>
            <a:ext cx="1195200" cy="1944720"/>
          </a:xfrm>
          <a:prstGeom prst="rect">
            <a:avLst/>
          </a:prstGeom>
          <a:ln w="0">
            <a:noFill/>
          </a:ln>
        </p:spPr>
      </p:pic>
      <p:sp>
        <p:nvSpPr>
          <p:cNvPr id="332" name="WordArt 21"/>
          <p:cNvSpPr txBox="1"/>
          <p:nvPr/>
        </p:nvSpPr>
        <p:spPr>
          <a:xfrm>
            <a:off x="1692360" y="0"/>
            <a:ext cx="5111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ТАНЦИЯ "Отдыхайка"</a:t>
            </a:r>
            <a:endParaRPr b="0" lang="en-US" sz="1800" spc="1" strike="noStrike">
              <a:ln w="19080">
                <a:solidFill>
                  <a:srgbClr val="0000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33" name="Picture 22" descr="AG00160_"/>
          <p:cNvPicPr/>
          <p:nvPr/>
        </p:nvPicPr>
        <p:blipFill>
          <a:blip r:embed="rId6"/>
          <a:stretch/>
        </p:blipFill>
        <p:spPr>
          <a:xfrm>
            <a:off x="1547640" y="981000"/>
            <a:ext cx="476280" cy="48600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23" descr=""/>
          <p:cNvPicPr/>
          <p:nvPr/>
        </p:nvPicPr>
        <p:blipFill>
          <a:blip r:embed="rId7"/>
          <a:stretch/>
        </p:blipFill>
        <p:spPr>
          <a:xfrm>
            <a:off x="8839080" y="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-2.44218E-006 L 1.0059 0.00278 E">
                                      <p:cBhvr>
                                        <p:cTn id="254" dur="5000" fill="hold"/>
                                        <p:tgtEl>
                                          <p:spTgt spid="3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0"/>
                            </p:stCondLst>
                            <p:childTnLst>
                              <p:par>
                                <p:cTn id="25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7" dur="2000" fill="hold"/>
                                        <p:tgtEl>
                                          <p:spTgt spid="332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1.23034E-006 C 0.00712 -0.00208 0.01407 -0.00463 0.02118 -0.00717 C 0.06893 -0.00555 0.06337 -0.00486 0.09462 -1.23034E-006 C 0.10313 0.003 0.11042 0.00856 0.11858 0.01249 C 0.12344 0.01873 0.13229 0.03376 0.13455 0.04255 C 0.1375 0.05411 0.13837 0.0666 0.14132 0.07817 C 0.14254 0.0895 0.14445 0.09713 0.14931 0.10661 C 0.15139 0.1154 0.15504 0.12488 0.1599 0.13136 C 0.16077 0.13483 0.16181 0.1383 0.16268 0.142 C 0.16302 0.14385 0.16337 0.14547 0.16389 0.14732 C 0.16476 0.15078 0.16667 0.15795 0.16667 0.15795 C 0.16702 0.16744 0.16684 0.17692 0.16788 0.1864 C 0.16841 0.19195 0.17118 0.19681 0.17188 0.20236 C 0.1724 0.20652 0.17188 0.21115 0.17327 0.21485 C 0.17466 0.21831 0.17882 0.21808 0.18125 0.22016 C 0.18941 0.21646 0.19427 0.21531 0.20122 0.20953 C 0.20886 0.20328 0.21111 0.19149 0.21997 0.1864 C 0.22622 0.18293 0.23334 0.18247 0.23993 0.18108 C 0.25139 0.17854 0.26337 0.17622 0.27466 0.17229 C 0.28143 0.16651 0.28941 0.16697 0.29723 0.16512 C 0.30434 0.16674 0.31129 0.16905 0.31858 0.17044 C 0.32327 0.17299 0.32622 0.17437 0.33056 0.17761 C 0.33195 0.17877 0.33334 0.17969 0.33455 0.18108 C 0.33559 0.18224 0.33611 0.18386 0.33733 0.18478 C 0.33941 0.1864 0.34184 0.18663 0.34393 0.18825 C 0.35782 0.19843 0.3467 0.19334 0.35591 0.19704 C 0.36111 0.20189 0.36823 0.20259 0.37327 0.20768 C 0.375 0.20953 0.37657 0.21207 0.37865 0.21323 C 0.38264 0.21554 0.39011 0.21693 0.39462 0.21855 C 0.39775 0.22687 0.39792 0.2308 0.40521 0.22733 C 0.41111 0.23103 0.41268 0.23589 0.41858 0.23982 C 0.42049 0.24907 0.42344 0.25786 0.42657 0.26642 C 0.42743 0.26526 0.43056 0.26295 0.42934 0.26295 C 0.42778 0.26295 0.42587 0.26434 0.42535 0.26642 C 0.42396 0.27174 0.42726 0.27428 0.42934 0.27706 C 0.43056 0.28561 0.42969 0.29001 0.43594 0.29301 C 0.43646 0.29718 0.43507 0.3025 0.43733 0.3055 C 0.43993 0.30897 0.44254 0.2951 0.44254 0.29486 C 0.44479 0.29533 0.44775 0.29417 0.44931 0.29648 C 0.45104 0.29926 0.45052 0.30365 0.45052 0.30735 C 0.45052 0.32863 0.45157 0.35014 0.44931 0.37118 C 0.44913 0.37234 0.44028 0.38737 0.43854 0.39084 C 0.43507 0.39801 0.43334 0.40749 0.42795 0.41212 C 0.42379 0.41559 0.42327 0.41559 0.41997 0.4209 C 0.41615 0.42692 0.41077 0.43732 0.40521 0.44056 C 0.40104 0.44288 0.39618 0.44195 0.39202 0.44403 C 0.38229 0.44889 0.37431 0.4512 0.36389 0.45282 C 0.33264 0.46392 0.35695 0.45606 0.27726 0.45282 C 0.26632 0.45236 0.25955 0.44126 0.25052 0.43524 C 0.2467 0.4327 0.24254 0.43154 0.23854 0.42969 C 0.22413 0.42299 0.21372 0.40795 0.19861 0.4031 C 0.16875 0.39338 0.10851 0.39824 0.09202 0.39778 C 0.08577 0.39639 0.08073 0.39338 0.07466 0.39084 C 0.06354 0.38043 0.0507 0.36794 0.04254 0.35337 C 0.03663 0.34274 0.03299 0.32863 0.02934 0.31614 C 0.03038 0.27544 0.02205 0.22387 0.05868 0.21138 C 0.06389 0.20652 0.06615 0.19935 0.07066 0.19357 C 0.07084 0.19311 0.07483 0.18293 0.07466 0.18108 C 0.07396 0.16975 0.06875 0.15217 0.06129 0.1457 C 0.05486 0.13251 0.04688 0.13182 0.03594 0.12789 C 0.02657 0.12442 0.01667 0.11401 0.0066 0.11355 C -0.0276 0.1117 -0.0618 0.11008 -0.096 0.10823 C -0.11527 0.10245 -0.11562 0.09135 -0.13073 0.07817 C -0.13333 0.07077 -0.13646 0.06683 -0.1401 0.06036 C -0.14097 0.05666 -0.14323 0.05342 -0.14409 0.04972 C -0.14548 0.04325 -0.14566 0.03654 -0.1467 0.03006 C -0.14774 0.02428 -0.14948 0.01249 -0.14948 0.01249 C -0.14861 -0.0081 -0.15104 -0.01758 -0.14271 -0.03192 C -0.13941 -0.0444 -0.13021 -0.04672 -0.12274 -0.05319 C -0.11927 -0.06082 -0.1158 -0.06453 -0.10937 -0.06753 C -0.10625 -0.07054 -0.10277 -0.07262 -0.1 -0.07632 C -0.09791 -0.0791 -0.0967 -0.08256 -0.09479 -0.08534 C -0.09288 -0.09274 -0.08958 -0.09528 -0.08402 -0.0976 C -0.08003 -0.10315 -0.07604 -0.10477 -0.07066 -0.10662 C -0.02916 -0.14894 -0.06632 -0.11332 0.07188 -0.11008 C 0.08802 -0.10962 0.11997 -0.10315 0.11997 -0.10315 C 0.12848 -0.09852 0.13698 -0.09598 0.14532 -0.09066 C 0.14948 -0.08511 0.15295 -0.08071 0.15868 -0.07817 C 0.16094 -0.06869 0.15886 -0.07447 0.16667 -0.06406 C 0.17292 -0.05574 0.17761 -0.04579 0.18386 -0.03724 C 0.18698 -0.03284 0.19271 -0.03469 0.19723 -0.03377 C 0.20469 -0.03238 0.21129 -0.03099 0.21858 -0.02845 C 0.24827 -0.03307 0.23473 -0.02798 0.24931 -0.04255 C 0.25313 -0.05296 0.25573 -0.0636 0.25868 -0.0747 C 0.25973 -0.08742 0.26146 -0.09922 0.26268 -0.11194 C 0.26198 -0.05851 0.26754 -0.000230000000000001 0.24931 0.04972 C 0.24792 0.06221 0.24584 0.07979 0.23854 0.08881 C 0.23542 0.09921 0.23143 0.10453 0.22657 0.11355 C 0.22379 0.11887 0.2224 0.12696 0.21997 0.13136 C 0.21806 0.13483 0.21545 0.13737 0.2132 0.14038 C 0.21007 0.14454 0.20782 0.14986 0.20521 0.15448 C 0.2033 0.15795 0.20174 0.16165 0.2 0.16512 C 0.19913 0.16697 0.19723 0.17044 0.19723 0.17044 C 0.19601 0.17576 0.19323 0.1864 0.19323 0.1864 C 0.19375 0.19357 0.1915 0.20189 0.19462 0.20768 C 0.19636 0.21068 0.19792 0.20143 0.2 0.19889 C 0.20122 0.1975 0.20278 0.19681 0.204 0.19542 C 0.20643 0.19264 0.20834 0.18941 0.21059 0.1864 C 0.21684 0.17807 0.22292 0.16975 0.22934 0.16165 C 0.23264 0.15772 0.23646 0.15448 0.23993 0.15102 C 0.24132 0.14963 0.24393 0.14732 0.24393 0.14732 C 0.24705 0.13529 0.26354 0.12812 0.27188 0.12442 C 0.27726 0.11725 0.27153 0.12373 0.27986 0.11887 C 0.28716 0.11471 0.29358 0.10754 0.30122 0.10476 C 0.31146 0.09574 0.32257 0.10014 0.33455 0.10129 C 0.33768 0.10245 0.34098 0.10314 0.34393 0.10476 C 0.3467 0.10615 0.34913 0.10869 0.35191 0.11008 C 0.36042 0.11424 0.36997 0.11448 0.37865 0.11887 C 0.38716 0.12303 0.38351 0.12118 0.39063 0.12789 C 0.39323 0.13043 0.39861 0.13506 0.39861 0.13506 C 0.40261 0.14315 0.40504 0.1457 0.41198 0.14917 C 0.41598 0.15726 0.42101 0.16443 0.42535 0.17229 C 0.42674 0.17461 0.42934 0.17946 0.42934 0.17946 C 0.43108 0.18709 0.43403 0.19288 0.43594 0.20074 C 0.43646 0.21485 0.43733 0.22918 0.43733 0.24329 C 0.43733 0.25578 0.43403 0.26827 0.43594 0.28053 C 0.43663 0.28469 0.43889 0.27266 0.44132 0.26989 C 0.44584 0.26503 0.45591 0.26017 0.46129 0.25578 C 0.46632 0.25162 0.46788 0.24722 0.47327 0.24514 C 0.47952 0.23843 0.48507 0.23543 0.49202 0.2308 C 0.49775 0.22687 0.50174 0.22109 0.50799 0.21855 C 0.51216 0.21253 0.51667 0.20837 0.52257 0.20606 C 0.52657 0.20074 0.53299 0.19773 0.53854 0.19542 C 0.54254 0.19172 0.54601 0.19033 0.55052 0.18825 C 0.58663 0.18894 0.62275 0.18732 0.65868 0.1901 C 0.66181 0.19033 0.66372 0.19565 0.66667 0.19704 C 0.67882 0.20259 0.68108 0.21161 0.69462 0.21485 C 0.69948 0.21878 0.70365 0.22317 0.7092 0.22548 C 0.71493 0.22502 0.72084 0.22525 0.72657 0.22387 C 0.73056 0.22294 0.73334 0.213 0.73594 0.20953 C 0.73768 0.20282 0.74098 0.19773 0.74393 0.19172 C 0.74809 0.1709 0.74219 0.19727 0.74792 0.17946 C 0.75174 0.16744 0.75348 0.1531 0.75591 0.14038 C 0.75538 0.12373 0.75573 0.10708 0.75452 0.09066 C 0.75417 0.08487 0.75087 0.08002 0.74931 0.07447 C 0.7474 0.0673 0.74549 0.05828 0.74254 0.05157 C 0.73559 0.03608 0.71962 0.02382 0.7066 0.01942 C 0.69827 0.01226 0.68837 0.00879 0.67865 0.00717 C 0.66788 -0.00023 0.64896 -0.00162 0.63733 -0.00185 C 0.58837 -0.00278 0.53959 -0.00301 0.49063 -0.00347 C 0.48264 -0.01411 0.49462 0.00046 0.48264 -0.00879 C 0.46962 -0.01897 0.48629 -0.01133 0.47466 -0.01596 C 0.46979 -0.02243 0.46511 -0.02798 0.46129 -0.03562 C 0.46354 -0.04695 0.47848 -0.06013 0.48785 -0.06036 C 0.55104 -0.06152 0.61407 -0.06152 0.67726 -0.06221 C 0.68386 -0.06638 0.68577 -0.06776 0.69063 -0.0747 C 0.69358 -0.0791 0.7 -0.08696 0.7 -0.08696 C 0.70452 -0.11355 0.69861 -0.12512 0.68125 -0.13321 C 0.66476 -0.13252 0.64844 -0.13252 0.63195 -0.13136 C 0.61563 -0.13044 0.59167 -0.11725 0.57466 -0.11194 C 0.55729 -0.10662 0.54236 -0.10592 0.52396 -0.10477 C 0.51476 -0.10245 0.50643 -0.09783 0.49723 -0.09598 C 0.4875 -0.09158 0.49202 -0.0932 0.48386 -0.09066 C 0.44306 -0.09135 0.4099 -0.06823 0.38525 -0.10315 C 0.3816 -0.11702 0.37136 -0.11332 0.36268 -0.11194 C 0.35834 -0.10638 0.35764 -0.09829 0.3533 -0.09228 C 0.35104 -0.06638 0.34584 -0.03307 0.36129 -0.01249 C 0.3665 0.00162 0.37344 0.01202 0.38525 0.01596 C 0.39375 0.02359 0.40122 0.03029 0.41059 0.03561 C 0.41563 0.04232 0.42136 0.04856 0.42795 0.05157 C 0.43386 0.05943 0.44045 0.0636 0.44532 0.07285 C 0.44809 0.09667 0.45122 0.11794 0.46129 0.13853 C 0.46493 0.16212 0.45938 0.13483 0.46667 0.15263 C 0.46841 0.15703 0.46875 0.16258 0.47066 0.16697 C 0.47865 0.18594 0.49011 0.20189 0.49861 0.22016 C 0.51129 0.24769 0.52379 0.27659 0.53854 0.30203 C 0.54184 0.30758 0.54983 0.33372 0.55191 0.33557 C 0.5599 0.34227 0.57813 0.3432 0.58525 0.34459 C 0.63698 0.35476 0.68924 0.3543 0.74132 0.35522 C 0.74653 0.35985 0.74775 0.36101 0.74931 0.36933 C 0.75157 0.40217 0.76858 0.48774 0.72934 0.48843 C 0.62223 0.49029 0.51511 0.49075 0.40799 0.4919 C 0.39809 0.49352 0.38837 0.49468 0.37865 0.49722 C 0.37327 0.49861 0.36268 0.50092 0.36268 0.50092 C 0.30591 0.49907 0.27205 0.50509 0.22535 0.48843 C 0.21563 0.48034 0.22778 0.48959 0.21459 0.48312 C 0.20348 0.4778 0.19254 0.46924 0.18125 0.46531 C 0.17292 0.45791 0.16163 0.45421 0.15191 0.45282 C 0.13629 0.43732 0.10868 0.44218 0.08924 0.43871 C 0.07934 0.43501 0.07014 0.43316 0.0599 0.43154 C 0.05295 0.42831 0.04827 0.42553 0.04132 0.4209 C 0.03733 0.41813 0.03247 0.41975 0.02795 0.41905 C 0.01268 0.40564 -0.00521 0.40379 -0.02274 0.39778 C -0.03333 0.38853 -0.04566 0.38691 -0.05746 0.38182 C -0.06198 0.37581 -0.06389 0.37234 -0.06545 0.36401 C -0.06632 0.26942 -0.0533 0.26341 -0.07343 0.21323 C -0.07448 0.20698 -0.07517 0.20028 -0.07882 0.19542 C -0.08316 0.18964 -0.08281 0.19357 -0.08802 0.18825 C -0.09791 0.17831 -0.08906 0.18293 -0.09739 0.17946 C -0.10902 0.16859 -0.10937 0.16512 -0.12413 0.16165 C -0.12951 0.15795 -0.13333 0.15287 -0.13871 0.14917 C -0.14514 0.14477 -0.15173 0.14177 -0.15868 0.13853 C -0.16284 0.13043 -0.1717 0.12442 -0.17743 0.11725 C -0.17916 0.10869 -0.18212 0.10083 -0.18402 0.09227 C -0.18368 0.05967 -0.18368 0.02729 -0.18281 -0.00532 C -0.18246 -0.02035 -0.1743 -0.04186 -0.17066 -0.05689 C -0.16788 -0.06823 -0.16632 -0.08187 -0.16007 -0.09066 C -0.15712 -0.10477 -0.15989 -0.10014 -0.15468 -0.10662 C -0.15173 -0.12442 -0.1559 -0.10592 -0.15069 -0.11725 C -0.14843 -0.12234 -0.14948 -0.13021 -0.1467 -0.13506 C -0.14097 -0.14478 -0.13402 -0.15102 -0.12534 -0.15449 C -0.11771 -0.15379 -0.10937 -0.15611 -0.10277 -0.15102 C -0.09218 -0.14269 -0.09114 -0.13899 -0.07882 -0.13506 C -0.06493 -0.1228 -0.04392 -0.12442 -0.02812 -0.12442 E">
                                      <p:cBhvr>
                                        <p:cTn id="261" dur="5000" fill="hold"/>
                                        <p:tgtEl>
                                          <p:spTgt spid="3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5000"/>
                            </p:stCondLst>
                            <p:childTnLst>
                              <p:par>
                                <p:cTn id="26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4" dur="2132" fill="hold"/>
                                        <p:tgtEl>
                                          <p:spTgt spid="3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Гость</cp:lastModifiedBy>
  <dcterms:modified xsi:type="dcterms:W3CDTF">2010-10-14T09:49:19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