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EC5-2551-4C00-B87C-9C85BC242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FAD-0D26-451C-99F2-0ED36DFD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3C6-C166-42E5-AA8E-A0A6C25C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679-0025-4920-BB37-8976B55D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858D-D500-4510-8B47-DFBDCB51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09F-0A97-461E-B933-BFA0D6ED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F3A-4C58-4230-8AE2-DC040554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4DF2-44F2-4E61-9DE5-7C688694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804-51EE-4EE4-8F0D-E71C398D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DC8-AF14-464A-8439-3572E5B9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0F9-3725-422F-A7A7-9C0817F2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889-44A2-422D-B9C5-A5E4D99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F973-D6D6-42D1-B1AB-23846E2D645B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Я чую – і я забуваю.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Я бачу – і я пам'ятаю.</a:t>
            </a:r>
            <a:br>
              <a:rPr sz="4400"/>
            </a:b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Я роблю – і я розумію!</a:t>
            </a:r>
            <a:br>
              <a:rPr sz="4400"/>
            </a:br>
            <a:r>
              <a:rPr b="1" i="1" lang="uk-UA" sz="4400" spc="-1" strike="noStrike">
                <a:solidFill>
                  <a:srgbClr val="000000"/>
                </a:solidFill>
                <a:latin typeface="Arial"/>
              </a:rPr>
              <a:t>Конфуцій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кріпленн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нов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атеріал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600"/>
            </a:b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Розв'язування зада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побутові прилади в приміщенні необхідно з'єднувати паралель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прилад у кімнаті з'єднаний не паралельно, а послідовно зі споживач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птахи спокійно сідають  на лінії електропередач? Хоча коли птах доторкнеться крилом чи хвостом до стовпа, то він ги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ва резистори опорам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Ом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Ом з'єднано послідовно. Напруга на першому резистор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. Обчисліть загальні силу струму, напругу, оп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ва резистори опорами 4 Ом та 6 Ом з'єднано паралельно. Сила струму в першому резисторі 3 А. Обчисліть загальні силу струму, напругу, опі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ий опір ділянок? Опір кожного резистора 1 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2276640"/>
            <a:ext cx="3599640" cy="450720"/>
            <a:chOff x="684360" y="2276640"/>
            <a:chExt cx="3599640" cy="450720"/>
          </a:xfrm>
        </p:grpSpPr>
        <p:grpSp>
          <p:nvGrpSpPr>
            <p:cNvPr id="123" name=""/>
            <p:cNvGrpSpPr/>
            <p:nvPr/>
          </p:nvGrpSpPr>
          <p:grpSpPr>
            <a:xfrm>
              <a:off x="684360" y="2276640"/>
              <a:ext cx="1799640" cy="450720"/>
              <a:chOff x="684360" y="2276640"/>
              <a:chExt cx="1799640" cy="450720"/>
            </a:xfrm>
          </p:grpSpPr>
          <p:sp>
            <p:nvSpPr>
              <p:cNvPr id="124" name=""/>
              <p:cNvSpPr/>
              <p:nvPr/>
            </p:nvSpPr>
            <p:spPr>
              <a:xfrm>
                <a:off x="1134000" y="2276640"/>
                <a:ext cx="900000" cy="45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034000" y="2502000"/>
                <a:ext cx="45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84360" y="2502000"/>
                <a:ext cx="44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484360" y="2276640"/>
              <a:ext cx="1799640" cy="450720"/>
              <a:chOff x="2484360" y="2276640"/>
              <a:chExt cx="1799640" cy="450720"/>
            </a:xfrm>
          </p:grpSpPr>
          <p:sp>
            <p:nvSpPr>
              <p:cNvPr id="128" name=""/>
              <p:cNvSpPr/>
              <p:nvPr/>
            </p:nvSpPr>
            <p:spPr>
              <a:xfrm>
                <a:off x="2934000" y="2276640"/>
                <a:ext cx="900000" cy="45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834000" y="2502000"/>
                <a:ext cx="45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84360" y="2502000"/>
                <a:ext cx="44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826920" y="4005360"/>
            <a:ext cx="3168720" cy="1357200"/>
            <a:chOff x="826920" y="4005360"/>
            <a:chExt cx="3168720" cy="1357200"/>
          </a:xfrm>
        </p:grpSpPr>
        <p:grpSp>
          <p:nvGrpSpPr>
            <p:cNvPr id="132" name=""/>
            <p:cNvGrpSpPr/>
            <p:nvPr/>
          </p:nvGrpSpPr>
          <p:grpSpPr>
            <a:xfrm>
              <a:off x="1505880" y="4005360"/>
              <a:ext cx="1810440" cy="452520"/>
              <a:chOff x="1505880" y="4005360"/>
              <a:chExt cx="1810440" cy="452520"/>
            </a:xfrm>
          </p:grpSpPr>
          <p:sp>
            <p:nvSpPr>
              <p:cNvPr id="133" name=""/>
              <p:cNvSpPr/>
              <p:nvPr/>
            </p:nvSpPr>
            <p:spPr>
              <a:xfrm>
                <a:off x="1958400" y="4005360"/>
                <a:ext cx="905400" cy="45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863800" y="42314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05880" y="42314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505880" y="4910040"/>
              <a:ext cx="1810440" cy="452520"/>
              <a:chOff x="1505880" y="4910040"/>
              <a:chExt cx="1810440" cy="452520"/>
            </a:xfrm>
          </p:grpSpPr>
          <p:sp>
            <p:nvSpPr>
              <p:cNvPr id="137" name=""/>
              <p:cNvSpPr/>
              <p:nvPr/>
            </p:nvSpPr>
            <p:spPr>
              <a:xfrm>
                <a:off x="1958400" y="4910040"/>
                <a:ext cx="905400" cy="452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63800" y="513612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05880" y="513612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505880" y="4231440"/>
              <a:ext cx="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16680" y="4231440"/>
              <a:ext cx="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6680" y="4683600"/>
              <a:ext cx="67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826920" y="4683600"/>
              <a:ext cx="67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1640" y="3213000"/>
            <a:ext cx="3312000" cy="2365200"/>
            <a:chOff x="4571640" y="3213000"/>
            <a:chExt cx="3312000" cy="2365200"/>
          </a:xfrm>
        </p:grpSpPr>
        <p:grpSp>
          <p:nvGrpSpPr>
            <p:cNvPr id="145" name=""/>
            <p:cNvGrpSpPr/>
            <p:nvPr/>
          </p:nvGrpSpPr>
          <p:grpSpPr>
            <a:xfrm>
              <a:off x="5281560" y="5105520"/>
              <a:ext cx="1891800" cy="472680"/>
              <a:chOff x="5281560" y="5105520"/>
              <a:chExt cx="1891800" cy="472680"/>
            </a:xfrm>
          </p:grpSpPr>
          <p:sp>
            <p:nvSpPr>
              <p:cNvPr id="146" name=""/>
              <p:cNvSpPr/>
              <p:nvPr/>
            </p:nvSpPr>
            <p:spPr>
              <a:xfrm>
                <a:off x="5754240" y="5105520"/>
                <a:ext cx="946080" cy="47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700320" y="5341680"/>
                <a:ext cx="47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281560" y="5341680"/>
                <a:ext cx="47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5281560" y="3213000"/>
              <a:ext cx="1891800" cy="472680"/>
              <a:chOff x="5281560" y="3213000"/>
              <a:chExt cx="1891800" cy="472680"/>
            </a:xfrm>
          </p:grpSpPr>
          <p:sp>
            <p:nvSpPr>
              <p:cNvPr id="150" name=""/>
              <p:cNvSpPr/>
              <p:nvPr/>
            </p:nvSpPr>
            <p:spPr>
              <a:xfrm>
                <a:off x="5754240" y="3213000"/>
                <a:ext cx="946080" cy="47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700320" y="3449160"/>
                <a:ext cx="47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81560" y="3449160"/>
                <a:ext cx="47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5281560" y="4159080"/>
              <a:ext cx="1891800" cy="472680"/>
              <a:chOff x="5281560" y="4159080"/>
              <a:chExt cx="1891800" cy="472680"/>
            </a:xfrm>
          </p:grpSpPr>
          <p:sp>
            <p:nvSpPr>
              <p:cNvPr id="154" name=""/>
              <p:cNvSpPr/>
              <p:nvPr/>
            </p:nvSpPr>
            <p:spPr>
              <a:xfrm>
                <a:off x="5754240" y="4159080"/>
                <a:ext cx="946080" cy="47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700320" y="4395240"/>
                <a:ext cx="47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81560" y="4395240"/>
                <a:ext cx="47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281560" y="3449520"/>
              <a:ext cx="0" cy="18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3449520"/>
              <a:ext cx="0" cy="18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74080" y="439596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571640" y="4395960"/>
              <a:ext cx="70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140360" y="2276640"/>
            <a:ext cx="3599640" cy="450720"/>
            <a:chOff x="4140360" y="2276640"/>
            <a:chExt cx="3599640" cy="450720"/>
          </a:xfrm>
        </p:grpSpPr>
        <p:grpSp>
          <p:nvGrpSpPr>
            <p:cNvPr id="162" name=""/>
            <p:cNvGrpSpPr/>
            <p:nvPr/>
          </p:nvGrpSpPr>
          <p:grpSpPr>
            <a:xfrm>
              <a:off x="4140360" y="2276640"/>
              <a:ext cx="1799640" cy="450720"/>
              <a:chOff x="4140360" y="2276640"/>
              <a:chExt cx="1799640" cy="450720"/>
            </a:xfrm>
          </p:grpSpPr>
          <p:sp>
            <p:nvSpPr>
              <p:cNvPr id="163" name=""/>
              <p:cNvSpPr/>
              <p:nvPr/>
            </p:nvSpPr>
            <p:spPr>
              <a:xfrm>
                <a:off x="4590000" y="2276640"/>
                <a:ext cx="900000" cy="45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90000" y="2502000"/>
                <a:ext cx="45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140360" y="2502000"/>
                <a:ext cx="44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5940360" y="2276640"/>
              <a:ext cx="1799640" cy="450720"/>
              <a:chOff x="5940360" y="2276640"/>
              <a:chExt cx="1799640" cy="450720"/>
            </a:xfrm>
          </p:grpSpPr>
          <p:sp>
            <p:nvSpPr>
              <p:cNvPr id="167" name=""/>
              <p:cNvSpPr/>
              <p:nvPr/>
            </p:nvSpPr>
            <p:spPr>
              <a:xfrm>
                <a:off x="6390000" y="2276640"/>
                <a:ext cx="900000" cy="450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90000" y="2502000"/>
                <a:ext cx="45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940360" y="2502000"/>
                <a:ext cx="44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Підсум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нового ми вивчили на уроц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види з'єднань вам відом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, на вашу думку, можна застосувати або застосовують закони послідовного або паралельного з'єднань провідник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вигляд має математичний запис законів послідовного або паралельного з'єдн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лідовне з’єднання провідник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аралельне з’єднання провідник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76720" y="2997360"/>
            <a:ext cx="2016360" cy="11300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1584360" cy="1166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148360" y="4076640"/>
            <a:ext cx="122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вчит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,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Arial"/>
              </a:rPr>
              <a:t>розв'язати вправу 8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56000" y="3213000"/>
            <a:ext cx="1408320" cy="2309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4360" y="3141720"/>
            <a:ext cx="3429000" cy="2577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940360" y="227664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978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струму вимірюється приладом… </a:t>
            </a: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иця опору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Причиною електричного опору металу є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амперах вимірюється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ицею напруги є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ила струму в провіднику залежить від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апруга вимірюється…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диницею сили струму є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пір провідника залежить від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 Омах вимірюєть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кон Ома записується так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еличина заряду, що проходить через провідник, залежить від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96244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Ампер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Рух і взаємодія части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ила стр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Во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Напруги, оп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Вольтмет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Амп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Довжини, площі перерізу, матері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Опі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І=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333399"/>
                </a:solidFill>
                <a:latin typeface="Arial"/>
              </a:rPr>
              <a:t>Сили струму, ч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137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Arial"/>
              </a:rPr>
              <a:t>Тема: З’єднання провідників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знайомитись із видами  з’єднання провідників, розглянути властивості цих з'єдн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вчитись розраховувати характеристики простих електричних кі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озвивати вміння робити теоретичні виснов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ослідовне з’єднання провідникі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’єднання елементів електричного кола, при якому провідники з’єднуються один за одним – кінець одного елемента з початком наступного, називають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слідовни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’єднанн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79640" y="3313080"/>
            <a:ext cx="38163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кони послідовного з’єднання провідникі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=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-298" r="35092" b="0"/>
          <a:stretch/>
        </p:blipFill>
        <p:spPr>
          <a:xfrm>
            <a:off x="762120" y="1989000"/>
            <a:ext cx="3097080" cy="360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148360" y="4149720"/>
            <a:ext cx="158436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Паралельне з’єднання провідникі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аралельни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азивається таке з'єднання елементів кола, при якому одні кінці всіх елементів приєднуються до однієї точки електричного кола, а інші кінці – до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64000" y="2131920"/>
            <a:ext cx="2571840" cy="34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акони паралельного з’єднання провідни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6720" y="4076640"/>
            <a:ext cx="1224000" cy="990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03640" y="2986200"/>
            <a:ext cx="2016360" cy="11300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610920" y="2565360"/>
            <a:ext cx="3743280" cy="2088360"/>
            <a:chOff x="610920" y="2565360"/>
            <a:chExt cx="3743280" cy="2088360"/>
          </a:xfrm>
        </p:grpSpPr>
        <p:grpSp>
          <p:nvGrpSpPr>
            <p:cNvPr id="65" name=""/>
            <p:cNvGrpSpPr/>
            <p:nvPr/>
          </p:nvGrpSpPr>
          <p:grpSpPr>
            <a:xfrm>
              <a:off x="1359720" y="2565360"/>
              <a:ext cx="2246760" cy="695880"/>
              <a:chOff x="1359720" y="2565360"/>
              <a:chExt cx="2246760" cy="695880"/>
            </a:xfrm>
          </p:grpSpPr>
          <p:sp>
            <p:nvSpPr>
              <p:cNvPr id="66" name=""/>
              <p:cNvSpPr/>
              <p:nvPr/>
            </p:nvSpPr>
            <p:spPr>
              <a:xfrm>
                <a:off x="1857960" y="2565360"/>
                <a:ext cx="1248120" cy="69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R 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106080" y="2913120"/>
                <a:ext cx="500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1359720" y="2913120"/>
                <a:ext cx="49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359720" y="3957840"/>
              <a:ext cx="2246760" cy="695880"/>
              <a:chOff x="1359720" y="3957840"/>
              <a:chExt cx="2246760" cy="695880"/>
            </a:xfrm>
          </p:grpSpPr>
          <p:sp>
            <p:nvSpPr>
              <p:cNvPr id="70" name=""/>
              <p:cNvSpPr/>
              <p:nvPr/>
            </p:nvSpPr>
            <p:spPr>
              <a:xfrm>
                <a:off x="1857960" y="3957840"/>
                <a:ext cx="1248120" cy="695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R 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06080" y="4305600"/>
                <a:ext cx="500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359720" y="4305600"/>
                <a:ext cx="49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3605760" y="36100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610920" y="3610080"/>
              <a:ext cx="74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59720" y="2913480"/>
              <a:ext cx="0" cy="13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05760" y="2913480"/>
              <a:ext cx="0" cy="139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користання послідовного та паралельного з'єдна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608360" cy="415944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6011640" y="1484280"/>
            <a:ext cx="2287800" cy="4781160"/>
            <a:chOff x="6011640" y="1484280"/>
            <a:chExt cx="2287800" cy="4781160"/>
          </a:xfrm>
        </p:grpSpPr>
        <p:grpSp>
          <p:nvGrpSpPr>
            <p:cNvPr id="80" name=""/>
            <p:cNvGrpSpPr/>
            <p:nvPr/>
          </p:nvGrpSpPr>
          <p:grpSpPr>
            <a:xfrm>
              <a:off x="6011640" y="1484280"/>
              <a:ext cx="2287800" cy="4781160"/>
              <a:chOff x="6011640" y="1484280"/>
              <a:chExt cx="2287800" cy="4781160"/>
            </a:xfrm>
          </p:grpSpPr>
          <p:sp>
            <p:nvSpPr>
              <p:cNvPr id="81" name=""/>
              <p:cNvSpPr/>
              <p:nvPr/>
            </p:nvSpPr>
            <p:spPr>
              <a:xfrm>
                <a:off x="7841520" y="4570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6011640" y="1484280"/>
                <a:ext cx="2287800" cy="4781160"/>
                <a:chOff x="6011640" y="1484280"/>
                <a:chExt cx="2287800" cy="478116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6012000" y="1941480"/>
                  <a:ext cx="0" cy="297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" name=""/>
                <p:cNvGrpSpPr/>
                <p:nvPr/>
              </p:nvGrpSpPr>
              <p:grpSpPr>
                <a:xfrm>
                  <a:off x="6011640" y="1484280"/>
                  <a:ext cx="2287800" cy="4781160"/>
                  <a:chOff x="6011640" y="1484280"/>
                  <a:chExt cx="2287800" cy="478116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8298720" y="1941480"/>
                    <a:ext cx="720" cy="3901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" name=""/>
                  <p:cNvGrpSpPr/>
                  <p:nvPr/>
                </p:nvGrpSpPr>
                <p:grpSpPr>
                  <a:xfrm>
                    <a:off x="6012000" y="5414040"/>
                    <a:ext cx="2286720" cy="851400"/>
                    <a:chOff x="6012000" y="5414040"/>
                    <a:chExt cx="2286720" cy="851400"/>
                  </a:xfrm>
                </p:grpSpPr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012000" y="5848560"/>
                      <a:ext cx="1674000" cy="2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7692120" y="5414040"/>
                      <a:ext cx="1080" cy="851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7916040" y="5631480"/>
                      <a:ext cx="0" cy="434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7916040" y="5848560"/>
                      <a:ext cx="382680" cy="1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" name=""/>
                  <p:cNvSpPr/>
                  <p:nvPr/>
                </p:nvSpPr>
                <p:spPr>
                  <a:xfrm flipV="1">
                    <a:off x="6469200" y="4913280"/>
                    <a:ext cx="22860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2" name=""/>
                  <p:cNvGrpSpPr/>
                  <p:nvPr/>
                </p:nvGrpSpPr>
                <p:grpSpPr>
                  <a:xfrm>
                    <a:off x="6011640" y="1484280"/>
                    <a:ext cx="2287080" cy="914400"/>
                    <a:chOff x="6011640" y="1484280"/>
                    <a:chExt cx="2287080" cy="91440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926760" y="1484280"/>
                      <a:ext cx="914760" cy="914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7841520" y="194148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 flipH="1">
                      <a:off x="6011640" y="1941480"/>
                      <a:ext cx="914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V="1">
                      <a:off x="7040880" y="1598040"/>
                      <a:ext cx="68580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7040880" y="1598400"/>
                      <a:ext cx="68580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8" name=""/>
                  <p:cNvGrpSpPr/>
                  <p:nvPr/>
                </p:nvGrpSpPr>
                <p:grpSpPr>
                  <a:xfrm>
                    <a:off x="6011640" y="2741400"/>
                    <a:ext cx="2287080" cy="914400"/>
                    <a:chOff x="6011640" y="2741400"/>
                    <a:chExt cx="2287080" cy="91440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926760" y="2741400"/>
                      <a:ext cx="914760" cy="91440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7841520" y="3198600"/>
                      <a:ext cx="457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 flipH="1">
                      <a:off x="6011640" y="3198600"/>
                      <a:ext cx="914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 flipV="1">
                      <a:off x="7040880" y="2855160"/>
                      <a:ext cx="68580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7040880" y="2855520"/>
                      <a:ext cx="685800" cy="68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4" name=""/>
                  <p:cNvSpPr/>
                  <p:nvPr/>
                </p:nvSpPr>
                <p:spPr>
                  <a:xfrm>
                    <a:off x="6926760" y="4113000"/>
                    <a:ext cx="914760" cy="914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>
                    <a:off x="6469200" y="457020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V="1">
                    <a:off x="6012000" y="53704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469200" y="5370480"/>
                    <a:ext cx="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469200" y="4570200"/>
                    <a:ext cx="0" cy="34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V="1">
                    <a:off x="6012000" y="4913280"/>
                    <a:ext cx="228600" cy="4572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" name=""/>
              <p:cNvGrpSpPr/>
              <p:nvPr/>
            </p:nvGrpSpPr>
            <p:grpSpPr>
              <a:xfrm>
                <a:off x="7040880" y="4227120"/>
                <a:ext cx="685800" cy="686160"/>
                <a:chOff x="7040880" y="4227120"/>
                <a:chExt cx="685800" cy="686160"/>
              </a:xfrm>
            </p:grpSpPr>
            <p:sp>
              <p:nvSpPr>
                <p:cNvPr id="111" name=""/>
                <p:cNvSpPr/>
                <p:nvPr/>
              </p:nvSpPr>
              <p:spPr>
                <a:xfrm flipV="1">
                  <a:off x="7040880" y="4227120"/>
                  <a:ext cx="6858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040880" y="4227480"/>
                  <a:ext cx="68580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"/>
            <p:cNvSpPr/>
            <p:nvPr/>
          </p:nvSpPr>
          <p:spPr>
            <a:xfrm>
              <a:off x="6732720" y="5734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32720" y="5950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64360" y="5734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6732360" y="5734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4:05:01Z</dcterms:created>
  <dc:creator>Customer</dc:creator>
  <dc:description/>
  <dc:language>en-US</dc:language>
  <cp:lastModifiedBy>User</cp:lastModifiedBy>
  <dcterms:modified xsi:type="dcterms:W3CDTF">2015-02-23T16:40:04Z</dcterms:modified>
  <cp:revision>45</cp:revision>
  <dc:subject/>
  <dc:title>Послідовне і паралельне з’єднання провідників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4140</vt:lpwstr>
  </property>
</Properties>
</file>