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2172-84EC-4699-B3E7-1398718CA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F3E9-5691-4423-A73B-8C1D3EB8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18C4-5EB9-4A33-8CE3-59E4653BF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FF97-B236-436A-AEDE-5A338A6BB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BFE2-5F55-4DF2-A28F-4485AA04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055D-2CE6-4F10-BCFC-B599DC24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1196-7B32-4EFC-AB4C-B2D4A919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3927-497E-4368-A29A-47662721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6A3C-FD26-4B0B-A03E-81B6F7AD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7365-27F5-40F6-B757-60613DCC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0A22-63BB-41B3-BC2D-CEEAE1BB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ED9F-858C-41D4-9120-FE3E186B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E00F-CB6D-4F94-8A97-FCBB27B69227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55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Я чую – і я забуваю.</a:t>
            </a:r>
            <a:br>
              <a:rPr sz="4400"/>
            </a:b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Я бачу – і я пам'ятаю.</a:t>
            </a:r>
            <a:br>
              <a:rPr sz="4400"/>
            </a:b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Я роблю – і я розумію!</a:t>
            </a:r>
            <a:br>
              <a:rPr sz="4400"/>
            </a:br>
            <a:r>
              <a:rPr b="1" i="1" lang="uk-UA" sz="4400" spc="-1" strike="noStrike">
                <a:solidFill>
                  <a:srgbClr val="000000"/>
                </a:solidFill>
                <a:latin typeface="Arial"/>
              </a:rPr>
              <a:t>Конфуцій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Закріпленн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новог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матеріалу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3600"/>
            </a:b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Розв'язування зада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ому побутові прилади в приміщенні необхідно з'єднувати паралель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ий прилад у кімнаті з'єднаний не паралельно, а послідовно зі споживач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ому птахи спокійно сідають  на лінії електропередач? Хоча коли птах доторкнеться крилом чи хвостом до стовпа, то він гин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ва резистори опорам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Ом т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Ом з'єднано послідовно. Напруга на першому резисторі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В. Обчисліть загальні силу струму, напругу, опі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3789360"/>
            <a:ext cx="8229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ва резистори опорами 4 Ом та 6 Ом з'єднано паралельно. Сила струму в першому резисторі 3 А. Обчисліть загальні силу струму, напругу, опі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Який опір ділянок? Опір кожного резистора 1 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84360" y="2276640"/>
            <a:ext cx="3599640" cy="450720"/>
            <a:chOff x="684360" y="2276640"/>
            <a:chExt cx="3599640" cy="450720"/>
          </a:xfrm>
        </p:grpSpPr>
        <p:grpSp>
          <p:nvGrpSpPr>
            <p:cNvPr id="123" name=""/>
            <p:cNvGrpSpPr/>
            <p:nvPr/>
          </p:nvGrpSpPr>
          <p:grpSpPr>
            <a:xfrm>
              <a:off x="684360" y="2276640"/>
              <a:ext cx="1799640" cy="450720"/>
              <a:chOff x="684360" y="2276640"/>
              <a:chExt cx="1799640" cy="450720"/>
            </a:xfrm>
          </p:grpSpPr>
          <p:sp>
            <p:nvSpPr>
              <p:cNvPr id="124" name=""/>
              <p:cNvSpPr/>
              <p:nvPr/>
            </p:nvSpPr>
            <p:spPr>
              <a:xfrm>
                <a:off x="1134000" y="2276640"/>
                <a:ext cx="900000" cy="450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034000" y="2502000"/>
                <a:ext cx="45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84360" y="2502000"/>
                <a:ext cx="44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2484360" y="2276640"/>
              <a:ext cx="1799640" cy="450720"/>
              <a:chOff x="2484360" y="2276640"/>
              <a:chExt cx="1799640" cy="450720"/>
            </a:xfrm>
          </p:grpSpPr>
          <p:sp>
            <p:nvSpPr>
              <p:cNvPr id="128" name=""/>
              <p:cNvSpPr/>
              <p:nvPr/>
            </p:nvSpPr>
            <p:spPr>
              <a:xfrm>
                <a:off x="2934000" y="2276640"/>
                <a:ext cx="900000" cy="450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834000" y="2502000"/>
                <a:ext cx="45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484360" y="2502000"/>
                <a:ext cx="44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" name=""/>
          <p:cNvGrpSpPr/>
          <p:nvPr/>
        </p:nvGrpSpPr>
        <p:grpSpPr>
          <a:xfrm>
            <a:off x="826920" y="4005360"/>
            <a:ext cx="3168720" cy="1357200"/>
            <a:chOff x="826920" y="4005360"/>
            <a:chExt cx="3168720" cy="1357200"/>
          </a:xfrm>
        </p:grpSpPr>
        <p:grpSp>
          <p:nvGrpSpPr>
            <p:cNvPr id="132" name=""/>
            <p:cNvGrpSpPr/>
            <p:nvPr/>
          </p:nvGrpSpPr>
          <p:grpSpPr>
            <a:xfrm>
              <a:off x="1505880" y="4005360"/>
              <a:ext cx="1810440" cy="452520"/>
              <a:chOff x="1505880" y="4005360"/>
              <a:chExt cx="1810440" cy="452520"/>
            </a:xfrm>
          </p:grpSpPr>
          <p:sp>
            <p:nvSpPr>
              <p:cNvPr id="133" name=""/>
              <p:cNvSpPr/>
              <p:nvPr/>
            </p:nvSpPr>
            <p:spPr>
              <a:xfrm>
                <a:off x="1958400" y="4005360"/>
                <a:ext cx="905400" cy="452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863800" y="4231440"/>
                <a:ext cx="45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505880" y="4231440"/>
                <a:ext cx="45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1505880" y="4910040"/>
              <a:ext cx="1810440" cy="452520"/>
              <a:chOff x="1505880" y="4910040"/>
              <a:chExt cx="1810440" cy="452520"/>
            </a:xfrm>
          </p:grpSpPr>
          <p:sp>
            <p:nvSpPr>
              <p:cNvPr id="137" name=""/>
              <p:cNvSpPr/>
              <p:nvPr/>
            </p:nvSpPr>
            <p:spPr>
              <a:xfrm>
                <a:off x="1958400" y="4910040"/>
                <a:ext cx="905400" cy="452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63800" y="5136120"/>
                <a:ext cx="45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505880" y="5136120"/>
                <a:ext cx="45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1505880" y="4231440"/>
              <a:ext cx="0" cy="90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316680" y="4231440"/>
              <a:ext cx="0" cy="90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16680" y="4683600"/>
              <a:ext cx="67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826920" y="4683600"/>
              <a:ext cx="67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571640" y="3213000"/>
            <a:ext cx="3312000" cy="2365200"/>
            <a:chOff x="4571640" y="3213000"/>
            <a:chExt cx="3312000" cy="2365200"/>
          </a:xfrm>
        </p:grpSpPr>
        <p:grpSp>
          <p:nvGrpSpPr>
            <p:cNvPr id="145" name=""/>
            <p:cNvGrpSpPr/>
            <p:nvPr/>
          </p:nvGrpSpPr>
          <p:grpSpPr>
            <a:xfrm>
              <a:off x="5281560" y="5105520"/>
              <a:ext cx="1891800" cy="472680"/>
              <a:chOff x="5281560" y="5105520"/>
              <a:chExt cx="1891800" cy="472680"/>
            </a:xfrm>
          </p:grpSpPr>
          <p:sp>
            <p:nvSpPr>
              <p:cNvPr id="146" name=""/>
              <p:cNvSpPr/>
              <p:nvPr/>
            </p:nvSpPr>
            <p:spPr>
              <a:xfrm>
                <a:off x="5754240" y="5105520"/>
                <a:ext cx="946080" cy="472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700320" y="5341680"/>
                <a:ext cx="47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281560" y="5341680"/>
                <a:ext cx="47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5281560" y="3213000"/>
              <a:ext cx="1891800" cy="472680"/>
              <a:chOff x="5281560" y="3213000"/>
              <a:chExt cx="1891800" cy="472680"/>
            </a:xfrm>
          </p:grpSpPr>
          <p:sp>
            <p:nvSpPr>
              <p:cNvPr id="150" name=""/>
              <p:cNvSpPr/>
              <p:nvPr/>
            </p:nvSpPr>
            <p:spPr>
              <a:xfrm>
                <a:off x="5754240" y="3213000"/>
                <a:ext cx="946080" cy="472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700320" y="3449160"/>
                <a:ext cx="47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281560" y="3449160"/>
                <a:ext cx="47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5281560" y="4159080"/>
              <a:ext cx="1891800" cy="472680"/>
              <a:chOff x="5281560" y="4159080"/>
              <a:chExt cx="1891800" cy="472680"/>
            </a:xfrm>
          </p:grpSpPr>
          <p:sp>
            <p:nvSpPr>
              <p:cNvPr id="154" name=""/>
              <p:cNvSpPr/>
              <p:nvPr/>
            </p:nvSpPr>
            <p:spPr>
              <a:xfrm>
                <a:off x="5754240" y="4159080"/>
                <a:ext cx="946080" cy="472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700320" y="4395240"/>
                <a:ext cx="47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281560" y="4395240"/>
                <a:ext cx="47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5281560" y="3449520"/>
              <a:ext cx="0" cy="189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74080" y="3449520"/>
              <a:ext cx="0" cy="189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74080" y="4395960"/>
              <a:ext cx="70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4571640" y="4395960"/>
              <a:ext cx="70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4140360" y="2276640"/>
            <a:ext cx="3599640" cy="450720"/>
            <a:chOff x="4140360" y="2276640"/>
            <a:chExt cx="3599640" cy="450720"/>
          </a:xfrm>
        </p:grpSpPr>
        <p:grpSp>
          <p:nvGrpSpPr>
            <p:cNvPr id="162" name=""/>
            <p:cNvGrpSpPr/>
            <p:nvPr/>
          </p:nvGrpSpPr>
          <p:grpSpPr>
            <a:xfrm>
              <a:off x="4140360" y="2276640"/>
              <a:ext cx="1799640" cy="450720"/>
              <a:chOff x="4140360" y="2276640"/>
              <a:chExt cx="1799640" cy="450720"/>
            </a:xfrm>
          </p:grpSpPr>
          <p:sp>
            <p:nvSpPr>
              <p:cNvPr id="163" name=""/>
              <p:cNvSpPr/>
              <p:nvPr/>
            </p:nvSpPr>
            <p:spPr>
              <a:xfrm>
                <a:off x="4590000" y="2276640"/>
                <a:ext cx="900000" cy="450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490000" y="2502000"/>
                <a:ext cx="45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140360" y="2502000"/>
                <a:ext cx="44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5940360" y="2276640"/>
              <a:ext cx="1799640" cy="450720"/>
              <a:chOff x="5940360" y="2276640"/>
              <a:chExt cx="1799640" cy="450720"/>
            </a:xfrm>
          </p:grpSpPr>
          <p:sp>
            <p:nvSpPr>
              <p:cNvPr id="167" name=""/>
              <p:cNvSpPr/>
              <p:nvPr/>
            </p:nvSpPr>
            <p:spPr>
              <a:xfrm>
                <a:off x="6390000" y="2276640"/>
                <a:ext cx="900000" cy="450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290000" y="2502000"/>
                <a:ext cx="45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940360" y="2502000"/>
                <a:ext cx="44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Підсум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Що нового ми вивчили на уроц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і види з'єднань вам відом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е, на вашу думку, можна застосувати або застосовують закони послідовного або паралельного з'єднань провідникі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ий вигляд має математичний запис законів послідовного або паралельного з'єднан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ослідовне з’єднання провідникі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=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=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=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аралельне з’єднання провідник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=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=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076720" y="2997360"/>
            <a:ext cx="2016360" cy="11300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900000" y="3716280"/>
            <a:ext cx="1584360" cy="11667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5148360" y="4076640"/>
            <a:ext cx="1224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Домашнє завд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Вивчит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§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розв'язати вправу 8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356000" y="3213000"/>
            <a:ext cx="1408320" cy="23097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84360" y="3141720"/>
            <a:ext cx="3429000" cy="25779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5940360" y="2276640"/>
            <a:ext cx="2571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497844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ила струму вимірюється приладом…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диниця опору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ичиною електричного опору металу є…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 амперах вимірюється…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диницею напруги є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ила струму в провіднику залежить від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пруга вимірюється…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диницею сили струму є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пір провідника залежить від…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 Омах вимірюєть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кон Ома записується так…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еличина заряду, що проходить через провідник, залежить від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724000" y="836280"/>
            <a:ext cx="296244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Ампермет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Рух і взаємодія части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Сила стру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Воль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Напруги, опо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Вольтмет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Амп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Довжини, площі перерізу, матеріа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Опі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І=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/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Сили струму, час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8137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000000"/>
                </a:solidFill>
                <a:latin typeface="Arial"/>
              </a:rPr>
              <a:t>Тема: З’єднання провідників.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Мета уро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Ознайомитись із видами  з’єднання провідників, розглянути властивості цих з'єднан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Навчитись розраховувати характеристики простих електричних кі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Розвивати вміння робити теоретичні виснов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Послідовне з’єднання провідникі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’єднання елементів електричного кола, при якому провідники з’єднуються один за одним – кінець одного елемента з початком наступного, називають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ослідовним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з’єднанн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79640" y="3313080"/>
            <a:ext cx="381636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Закони послідовного з’єднання провідникі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=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=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=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-298" r="35092" b="0"/>
          <a:stretch/>
        </p:blipFill>
        <p:spPr>
          <a:xfrm>
            <a:off x="762120" y="1989000"/>
            <a:ext cx="3097080" cy="3600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148360" y="4149720"/>
            <a:ext cx="158436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Паралельне з’єднання провідникі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аралельним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називається таке з'єднання елементів кола, при якому одні кінці всіх елементів приєднуються до однієї точки електричного кола, а інші кінці – до друг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64000" y="2131920"/>
            <a:ext cx="2571840" cy="343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Закони паралельного з’єднання провідникі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=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=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76720" y="4076640"/>
            <a:ext cx="1224000" cy="990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003640" y="2986200"/>
            <a:ext cx="2016360" cy="1130040"/>
          </a:xfrm>
          <a:prstGeom prst="rect">
            <a:avLst/>
          </a:prstGeom>
          <a:ln w="0">
            <a:noFill/>
          </a:ln>
        </p:spPr>
      </p:pic>
      <p:grpSp>
        <p:nvGrpSpPr>
          <p:cNvPr id="64" name=""/>
          <p:cNvGrpSpPr/>
          <p:nvPr/>
        </p:nvGrpSpPr>
        <p:grpSpPr>
          <a:xfrm>
            <a:off x="610920" y="2565360"/>
            <a:ext cx="3743280" cy="2088360"/>
            <a:chOff x="610920" y="2565360"/>
            <a:chExt cx="3743280" cy="2088360"/>
          </a:xfrm>
        </p:grpSpPr>
        <p:grpSp>
          <p:nvGrpSpPr>
            <p:cNvPr id="65" name=""/>
            <p:cNvGrpSpPr/>
            <p:nvPr/>
          </p:nvGrpSpPr>
          <p:grpSpPr>
            <a:xfrm>
              <a:off x="1359720" y="2565360"/>
              <a:ext cx="2246760" cy="695880"/>
              <a:chOff x="1359720" y="2565360"/>
              <a:chExt cx="2246760" cy="695880"/>
            </a:xfrm>
          </p:grpSpPr>
          <p:sp>
            <p:nvSpPr>
              <p:cNvPr id="66" name=""/>
              <p:cNvSpPr/>
              <p:nvPr/>
            </p:nvSpPr>
            <p:spPr>
              <a:xfrm>
                <a:off x="1857960" y="2565360"/>
                <a:ext cx="1248120" cy="695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R 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106080" y="2913120"/>
                <a:ext cx="50040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>
                <a:off x="1359720" y="2913120"/>
                <a:ext cx="49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1359720" y="3957840"/>
              <a:ext cx="2246760" cy="695880"/>
              <a:chOff x="1359720" y="3957840"/>
              <a:chExt cx="2246760" cy="695880"/>
            </a:xfrm>
          </p:grpSpPr>
          <p:sp>
            <p:nvSpPr>
              <p:cNvPr id="70" name=""/>
              <p:cNvSpPr/>
              <p:nvPr/>
            </p:nvSpPr>
            <p:spPr>
              <a:xfrm>
                <a:off x="1857960" y="3957840"/>
                <a:ext cx="1248120" cy="695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R 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06080" y="4305600"/>
                <a:ext cx="50040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1359720" y="4305600"/>
                <a:ext cx="49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3605760" y="3610080"/>
              <a:ext cx="74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610920" y="3610080"/>
              <a:ext cx="74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359720" y="2913480"/>
              <a:ext cx="0" cy="139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605760" y="2913480"/>
              <a:ext cx="0" cy="139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Використання послідовного та паралельного з'єднан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4608360" cy="4159440"/>
          </a:xfrm>
          <a:prstGeom prst="rect">
            <a:avLst/>
          </a:prstGeom>
          <a:ln w="0">
            <a:noFill/>
          </a:ln>
        </p:spPr>
      </p:pic>
      <p:grpSp>
        <p:nvGrpSpPr>
          <p:cNvPr id="79" name=""/>
          <p:cNvGrpSpPr/>
          <p:nvPr/>
        </p:nvGrpSpPr>
        <p:grpSpPr>
          <a:xfrm>
            <a:off x="6011640" y="1484280"/>
            <a:ext cx="2287800" cy="4781160"/>
            <a:chOff x="6011640" y="1484280"/>
            <a:chExt cx="2287800" cy="4781160"/>
          </a:xfrm>
        </p:grpSpPr>
        <p:grpSp>
          <p:nvGrpSpPr>
            <p:cNvPr id="80" name=""/>
            <p:cNvGrpSpPr/>
            <p:nvPr/>
          </p:nvGrpSpPr>
          <p:grpSpPr>
            <a:xfrm>
              <a:off x="6011640" y="1484280"/>
              <a:ext cx="2287800" cy="4781160"/>
              <a:chOff x="6011640" y="1484280"/>
              <a:chExt cx="2287800" cy="4781160"/>
            </a:xfrm>
          </p:grpSpPr>
          <p:sp>
            <p:nvSpPr>
              <p:cNvPr id="81" name=""/>
              <p:cNvSpPr/>
              <p:nvPr/>
            </p:nvSpPr>
            <p:spPr>
              <a:xfrm>
                <a:off x="7841520" y="45702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6011640" y="1484280"/>
                <a:ext cx="2287800" cy="4781160"/>
                <a:chOff x="6011640" y="1484280"/>
                <a:chExt cx="2287800" cy="478116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6012000" y="1941480"/>
                  <a:ext cx="0" cy="297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4" name=""/>
                <p:cNvGrpSpPr/>
                <p:nvPr/>
              </p:nvGrpSpPr>
              <p:grpSpPr>
                <a:xfrm>
                  <a:off x="6011640" y="1484280"/>
                  <a:ext cx="2287800" cy="4781160"/>
                  <a:chOff x="6011640" y="1484280"/>
                  <a:chExt cx="2287800" cy="4781160"/>
                </a:xfrm>
              </p:grpSpPr>
              <p:sp>
                <p:nvSpPr>
                  <p:cNvPr id="85" name=""/>
                  <p:cNvSpPr/>
                  <p:nvPr/>
                </p:nvSpPr>
                <p:spPr>
                  <a:xfrm>
                    <a:off x="8298720" y="1941480"/>
                    <a:ext cx="720" cy="3901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6" name=""/>
                  <p:cNvGrpSpPr/>
                  <p:nvPr/>
                </p:nvGrpSpPr>
                <p:grpSpPr>
                  <a:xfrm>
                    <a:off x="6012000" y="5414040"/>
                    <a:ext cx="2286720" cy="851400"/>
                    <a:chOff x="6012000" y="5414040"/>
                    <a:chExt cx="2286720" cy="851400"/>
                  </a:xfrm>
                </p:grpSpPr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6012000" y="5848560"/>
                      <a:ext cx="1674000" cy="2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" name=""/>
                    <p:cNvSpPr/>
                    <p:nvPr/>
                  </p:nvSpPr>
                  <p:spPr>
                    <a:xfrm>
                      <a:off x="7692120" y="5414040"/>
                      <a:ext cx="1080" cy="851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" name=""/>
                    <p:cNvSpPr/>
                    <p:nvPr/>
                  </p:nvSpPr>
                  <p:spPr>
                    <a:xfrm>
                      <a:off x="7916040" y="5631480"/>
                      <a:ext cx="0" cy="434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7916040" y="5848560"/>
                      <a:ext cx="382680" cy="1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1" name=""/>
                  <p:cNvSpPr/>
                  <p:nvPr/>
                </p:nvSpPr>
                <p:spPr>
                  <a:xfrm flipV="1">
                    <a:off x="6469200" y="4913280"/>
                    <a:ext cx="22860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2" name=""/>
                  <p:cNvGrpSpPr/>
                  <p:nvPr/>
                </p:nvGrpSpPr>
                <p:grpSpPr>
                  <a:xfrm>
                    <a:off x="6011640" y="1484280"/>
                    <a:ext cx="2287080" cy="914400"/>
                    <a:chOff x="6011640" y="1484280"/>
                    <a:chExt cx="2287080" cy="914400"/>
                  </a:xfrm>
                </p:grpSpPr>
                <p:sp>
                  <p:nvSpPr>
                    <p:cNvPr id="93" name=""/>
                    <p:cNvSpPr/>
                    <p:nvPr/>
                  </p:nvSpPr>
                  <p:spPr>
                    <a:xfrm>
                      <a:off x="6926760" y="1484280"/>
                      <a:ext cx="914760" cy="91440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" name=""/>
                    <p:cNvSpPr/>
                    <p:nvPr/>
                  </p:nvSpPr>
                  <p:spPr>
                    <a:xfrm>
                      <a:off x="7841520" y="194148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" name=""/>
                    <p:cNvSpPr/>
                    <p:nvPr/>
                  </p:nvSpPr>
                  <p:spPr>
                    <a:xfrm flipH="1">
                      <a:off x="6011640" y="1941480"/>
                      <a:ext cx="914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 flipV="1">
                      <a:off x="7040880" y="1598040"/>
                      <a:ext cx="685800" cy="685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" name=""/>
                    <p:cNvSpPr/>
                    <p:nvPr/>
                  </p:nvSpPr>
                  <p:spPr>
                    <a:xfrm>
                      <a:off x="7040880" y="1598400"/>
                      <a:ext cx="685800" cy="685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" name=""/>
                  <p:cNvGrpSpPr/>
                  <p:nvPr/>
                </p:nvGrpSpPr>
                <p:grpSpPr>
                  <a:xfrm>
                    <a:off x="6011640" y="2741400"/>
                    <a:ext cx="2287080" cy="914400"/>
                    <a:chOff x="6011640" y="2741400"/>
                    <a:chExt cx="2287080" cy="914400"/>
                  </a:xfrm>
                </p:grpSpPr>
                <p:sp>
                  <p:nvSpPr>
                    <p:cNvPr id="99" name=""/>
                    <p:cNvSpPr/>
                    <p:nvPr/>
                  </p:nvSpPr>
                  <p:spPr>
                    <a:xfrm>
                      <a:off x="6926760" y="2741400"/>
                      <a:ext cx="914760" cy="91440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" name=""/>
                    <p:cNvSpPr/>
                    <p:nvPr/>
                  </p:nvSpPr>
                  <p:spPr>
                    <a:xfrm>
                      <a:off x="7841520" y="31986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" name=""/>
                    <p:cNvSpPr/>
                    <p:nvPr/>
                  </p:nvSpPr>
                  <p:spPr>
                    <a:xfrm flipH="1">
                      <a:off x="6011640" y="3198600"/>
                      <a:ext cx="914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" name=""/>
                    <p:cNvSpPr/>
                    <p:nvPr/>
                  </p:nvSpPr>
                  <p:spPr>
                    <a:xfrm flipV="1">
                      <a:off x="7040880" y="2855160"/>
                      <a:ext cx="685800" cy="685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"/>
                    <p:cNvSpPr/>
                    <p:nvPr/>
                  </p:nvSpPr>
                  <p:spPr>
                    <a:xfrm>
                      <a:off x="7040880" y="2855520"/>
                      <a:ext cx="685800" cy="685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4" name=""/>
                  <p:cNvSpPr/>
                  <p:nvPr/>
                </p:nvSpPr>
                <p:spPr>
                  <a:xfrm>
                    <a:off x="6926760" y="4113000"/>
                    <a:ext cx="914760" cy="914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>
                    <a:off x="6469200" y="457020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V="1">
                    <a:off x="6012000" y="537048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469200" y="537048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469200" y="4570200"/>
                    <a:ext cx="0" cy="342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V="1">
                    <a:off x="6012000" y="4913280"/>
                    <a:ext cx="22860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0" name=""/>
              <p:cNvGrpSpPr/>
              <p:nvPr/>
            </p:nvGrpSpPr>
            <p:grpSpPr>
              <a:xfrm>
                <a:off x="7040880" y="4227120"/>
                <a:ext cx="685800" cy="686160"/>
                <a:chOff x="7040880" y="4227120"/>
                <a:chExt cx="685800" cy="686160"/>
              </a:xfrm>
            </p:grpSpPr>
            <p:sp>
              <p:nvSpPr>
                <p:cNvPr id="111" name=""/>
                <p:cNvSpPr/>
                <p:nvPr/>
              </p:nvSpPr>
              <p:spPr>
                <a:xfrm flipV="1">
                  <a:off x="7040880" y="4227120"/>
                  <a:ext cx="685800" cy="685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040880" y="4227480"/>
                  <a:ext cx="685800" cy="685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" name=""/>
            <p:cNvSpPr/>
            <p:nvPr/>
          </p:nvSpPr>
          <p:spPr>
            <a:xfrm>
              <a:off x="6732720" y="57340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732720" y="595008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64360" y="57340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6732360" y="573408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14:05:01Z</dcterms:created>
  <dc:creator>Customer</dc:creator>
  <dc:description/>
  <dc:language>en-US</dc:language>
  <cp:lastModifiedBy>User</cp:lastModifiedBy>
  <dcterms:modified xsi:type="dcterms:W3CDTF">2015-02-23T16:40:04Z</dcterms:modified>
  <cp:revision>45</cp:revision>
  <dc:subject/>
  <dc:title>Послідовне і паралельне з’єднання провідників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002000000000001024140</vt:lpwstr>
  </property>
</Properties>
</file>