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2DE-34BA-4E7F-97CE-0B842257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7A5-B24A-4E5F-8688-2DEFA471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B91-FB71-425A-B6A0-415B3A6E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003-02C7-4DCE-BC97-BA540355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EF6-5458-486B-A2B9-E47F40B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A12-91D2-4FAF-A1B7-570FD89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AE9-2FEE-4C29-AF9B-3CF05BBD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96E-EC4E-42E2-837D-334D5E27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A19-A2E8-43E6-A34C-A6BD78FE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918-98F0-4A1C-B97E-DC087DF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9B5-272F-452C-9D4B-074EE70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951-508D-4300-B2B7-95C7F58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CB9-F855-47CC-8324-B401279B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99"/>
                </a:solidFill>
                <a:latin typeface="Arial"/>
              </a:rPr>
              <a:t>Урок на тему: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 “</a:t>
            </a:r>
            <a:r>
              <a:rPr b="1" i="1" lang="uk-UA" sz="4400" spc="-1" strike="noStrike">
                <a:solidFill>
                  <a:srgbClr val="009999"/>
                </a:solidFill>
                <a:latin typeface="Arial"/>
              </a:rPr>
              <a:t>Енергозберігальні лампи та їх використання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195640" y="4941720"/>
            <a:ext cx="504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9 к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Вчитель фізики: Мельникович Н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672000" cy="273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71640" y="4437000"/>
            <a:ext cx="367200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жарювання лампи не купу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 світ від катастрофи ти врят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42900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363960"/>
            <a:ext cx="741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Переваги енергозберігальних лам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Люмінесцент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220572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номія електроенергії – до 80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тривалість служби за умови правильної експлуатації – до 10000 годин (до 10 рокі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висока світловід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изька тепловіддача (виділяє менше теплової енергії, ніж лампа розжарю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різноманітність кольорів світлового потоку (м’яке біле світло, денне світло, холодне біле світл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5-49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39640" y="642960"/>
            <a:ext cx="813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75200"/>
            <a:ext cx="838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Переваги енергозберігальних лам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2. Світлодіодних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105080" cy="251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3280" y="972360"/>
            <a:ext cx="430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економія електроенергії – до 9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тривалість служби за умови належної експлуатації – від 20 до 50 тисяч годин (умовно 20-50 рокі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висока світловід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правлене світло, відсутність розсію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різноманітність розмірів та фор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значна міцність (ударна, вібраційна, температурна) та вологостійк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екологічна та протипожежна, безпечна (відсутність парів ртуті, ультрафіолетового та інфрачервоного випроміню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дзвичайна гнучкість щодо вибору відтінків кольорів світ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езмінність характеристик світла протягом тривалого терміну служ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5-49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0"/>
            <a:ext cx="84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33360"/>
            <a:ext cx="8280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Arial"/>
              </a:rPr>
              <a:t>Висно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Замінивши традиційні лампи розжарювання в усіх квартирах, будинках та під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їздах України на енергозберігаючі, можна отримати такий екологічний та соціально-економічний ефек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Економія електроенергії – понад 1 084 ТВт на рі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Заощадження коштів – понад 13 млрд грн на рі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Зменшення викидів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uk-UA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333399"/>
                </a:solidFill>
                <a:latin typeface="Arial"/>
              </a:rPr>
              <a:t>в атмосферу – понад 1 626 000 кт. на рі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Arial"/>
              </a:rPr>
              <a:t>Це еквівален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4392720" cy="41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549360"/>
            <a:ext cx="8136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Arial"/>
              </a:rPr>
              <a:t>Ціна споживання лампи = вартість лампи в магазині + витрати на використання лам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273800" cy="30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4321080"/>
            <a:ext cx="79916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Тож скажімо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“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ТАК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”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енергоефективним лампам, тому що во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Споживають менше електроенергії на 80-9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Довше служать в освітленні будинкі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Економлять гроші сім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Зменшують дію парникового ефект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Впливають на припинення глобального потеплінн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258920" y="1700280"/>
            <a:ext cx="431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13600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Недоліки енергозберігальних ламп</a:t>
            </a: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Одним із недоліків енергозберігальних ламп є їхня вартість – придбати такі лампи можна в середньому за 10 – 80 гривень залежно від потужності й виробника. Найкращими й, відповідно, найдорожчими є лампи виробництва “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sram</a:t>
            </a: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”, “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hilips</a:t>
            </a: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”, “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Lux</a:t>
            </a: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Енергоощадні лампи випромінюють високочастотні електромагнітні хвилі частотою від 30 до 100 кГц, які згубно впливають на зір люд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Споживачам варто знати ще один момент. Лампа наповнена парою ртуті, тому потрібно не допускати її розбиття в оселі. У кожній лампі міститься від 4 до 150 міліграмів рту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- Проблемою стає й утилізація енергозберігальних ламп, котрі є екологічно шкідливими, тому викидати їх фактично заборон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76500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рагмент мультфільму про енергозберігаль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79640" y="1484280"/>
            <a:ext cx="5040360" cy="3960720"/>
            <a:chOff x="1979640" y="1484280"/>
            <a:chExt cx="5040360" cy="39607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979640" y="1484280"/>
              <a:ext cx="5040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124000" y="4292280"/>
              <a:ext cx="4824720" cy="108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468360" y="692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Чим небезпечна пара ртут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Лише один грам ртуті, який потрапив у довкілля, здатний спричинити забруднення (перевищити рівні гранично допустимих концентрацій) більше, ніж 3300000 м</a:t>
            </a:r>
            <a:r>
              <a:rPr b="1" lang="en-US" sz="1600" spc="-1" strike="noStrike">
                <a:solidFill>
                  <a:srgbClr val="333399"/>
                </a:solidFill>
                <a:latin typeface=""/>
              </a:rPr>
              <a:t>3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 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Мізерні дози ртуті можуть викликати гострі фізичні та психічні розлади, мікромеркуріалізм – хворобу, що виникає, коли на людину тривалий час впливає пара ртуті ( втрата працездатності, неуважність, постійні головні болі, дратівливість, поганий 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Більші дози ртуті можуть повністю зруйнувати особистість – людина не контролює стан голоду, настрій, роботу опорно-рухової системи, роботу м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язів, роботу мо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Сильне отруєння може призвести до божевіл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2920" y="500040"/>
            <a:ext cx="7345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Times New Roman"/>
              </a:rPr>
              <a:t>Це повинен знати кож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Лампа розжарювання – це застаріла технологія освітленн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3" descr="Incandescent_light_bulb.svg.png"/>
          <p:cNvPicPr/>
          <p:nvPr/>
        </p:nvPicPr>
        <p:blipFill>
          <a:blip r:embed="rId2"/>
          <a:stretch/>
        </p:blipFill>
        <p:spPr>
          <a:xfrm>
            <a:off x="468360" y="2060640"/>
            <a:ext cx="3024000" cy="388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2349360"/>
            <a:ext cx="468000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Недоліки лампи розжарю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соке енергоспоживання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лише 5% енергії йде на освітлення, а 95% - на нагрів самої лампи. Ця лампа використовує дуже багато електрики, що сприяє посиленню парникового еф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роткий термін служби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лише 1000 годин, що дорівнює у середньому 1 року експлуат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620640"/>
            <a:ext cx="8280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92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Країни світу, що відмовилися та не відмовилися від ламп розжар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476280"/>
            <a:ext cx="8136000" cy="61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Цікаво знати, щ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Лідерами з теоретичних та практичних досліджень, впровадження і використання технологій енергозбереження та ЕЕ освітлення є Японія, США і країни Європейського Сою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До аварії на АЕ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укусі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Японія в два рази випереджала за енергоефективністю США і країни ЄС, у 10 разів Китай і в 17 разів – Росію. Після аварії країна посилила політику економії електроенергії. З 01.07.2011 року всім споживачам електроенергії було наказано скоротити споживання на 15%. І завдання навіть було перевиконано – скорочення склало 21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Так, третій за величиною в Японії банк “Сумітомо-Міцуї” купив для своїх офісів 3000 настільних ламп з використанням економічних, довговічних світлодіодів і відключив усе звичайне освітлення, люстри. Підсумок – економія 20% електроенергії в липні-серпні 2011 року. А велика мережева компані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о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у 320 своїх магазинах у липні-серпні 2011 року скоротила споживання енергії на 32% шляхом оптимізації роботи прилавків, що охолоджуються та освітл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Європейська комісія вирішила поетапно заборонити використовувати енергоємні лампи у домоволодіннях Європи до 2016 року і відмовитися від виробництва та продаж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атових ламп, крім енергетичного клас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, а також прозорих ламп розжарювання потужністю понад 80 Вт – 2009 рі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зорих ламп розжарювання потужністю 65 Вт – 2010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зорих ламп розжарювання потужністю 45 Вт – 2011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зорих ламп розжарювання потужністю понад 12 Вт – 2012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сіх ламп енергетичного клас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– 2016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 2013 році передбачено заходи щодо підвищення вимог до як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 США діє великомасштабна державна програ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tar EPA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Envoronmental Protecton Agency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) щодо захисту здоров’я та навколишнього середовища у тому числі за рахунок продукції енергоефективного освітл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9640" y="549360"/>
            <a:ext cx="8425080" cy="66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оект 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Енергозберігальна лампа: ощадлива, поки світить, але небезпечна, коли згасне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Times New Roman"/>
              </a:rPr>
              <a:t>Тип проекту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інформаційно-пошук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Times New Roman"/>
              </a:rPr>
              <a:t>Проблем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“Що важливіше: заощадження коштів чи здоров’я людини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Цілі проек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ібрати інформацію про принцип дії енергозберігальних лам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новити переваги енергозберігальних ламп над лампами розжарю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лідити небезпеку, яку створює пара ртуті, що міститься в лампі, на організм люд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зробити рекомендації щодо збереження енергії в школ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 одночасного збереження здоров'я школярі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95280" y="260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Що ми можемо зробити для збереження енергії в школі та одночасного збереження нашого здоров</a:t>
            </a: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. Вимикати світло, коли воно не потріб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Використовувати енергозберігальні лампи ( 5 енергозберігальних ламп споживають таку саму енергію, як одна лампа розжарювання), дотримуючись правил експлуатації та утиліз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. Замінити матові плафони на прозорі скляні з керамічним патр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. Частіше витирати пил із лампочок і плафон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. Забезпечити максимальний доступ денного світла (частіше мити вікна, не захаращувати підвіконня зайвими предме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.Стіни кабінетів фарбувати в білий колір, бо світлі стіни відбивають 70-80% світла, тоді як темні відбивають тільки 10-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6"/>
          <p:cNvSpPr/>
          <p:nvPr/>
        </p:nvSpPr>
        <p:spPr>
          <a:xfrm>
            <a:off x="395280" y="14590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692280"/>
            <a:ext cx="8064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Times New Roman"/>
              </a:rPr>
              <a:t>Яким є майбутнє енергозберігальних лам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Є альтернативи – галогенні лампи або технології на базі люмінесцентних ді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Во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набагато практичніше – їх можна викидати на сміт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дають кращу якість світла – випромінюють майже монохроматичне світло, що зменшує ультрафіолетове випромінювання та енергоспожи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доступніші для широкого вжитку (за твердженням експерті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споживають лише 3 Вт, а здатні перебувати в експлуатації близько 50000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6922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Times New Roman"/>
              </a:rPr>
              <a:t>Фізична ві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Для чого потрібне використання енергозберігальних лам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Яке явище лежить в основі енергозберігальної ламп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Назвати переваги енергозберігальних лам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Назвати недоліки енергозберігальних лам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Що ми можемо зробити для збереження енергії в школ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Яким є майбутнє енергозберігальних лам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39640" y="476280"/>
            <a:ext cx="822960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Семіна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Сучасний світ енергозберігальни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2. Переваги енергозберігальни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3. Недоліки енергозберігальни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4. Чим небезпечна пара рту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5. Це повинен знати кож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6. Цікаво знати, щ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7. Що ми можемо зробити для збереження енергії в школі та одночасного збереження нашого здоров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8. Яким є майбутнє енергозберігальних ламп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417600"/>
            <a:ext cx="82072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99"/>
                </a:solidFill>
                <a:latin typeface="Arial"/>
              </a:rPr>
              <a:t>І. Актуалізація пробл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освітлення в побутовому секторі припадає близько 25% спожитої електроенергії (близько 10 млрд кВ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год), що призводить до викидів СО</a:t>
            </a:r>
            <a:r>
              <a:rPr b="1" i="1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(оксиду вуглецю – парникового газу) у розмірі близько 12, 5 млн.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Механізм впливу парникових газів на планету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209080" cy="39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9640" y="47628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Раціональне використання електроенергії – основне вирішення проблеми її економії і скорочення викидів парникових газів.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08160" y="2181600"/>
            <a:ext cx="54882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640872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45320"/>
            <a:ext cx="8209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І. Етапи реалізації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іагностико-концептуа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та визначення функцій пошукових гру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поділ доручень між керівниками та учасниками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шук джерел інформації з поданої те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Організацій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бір матеріалів із науково-популярних видань на тем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нергозберігальні лампи та їхній негативний вплив на організм люди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стематизація та оформлення отриманого матеріа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актич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езентації проекту у формі семін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ком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ютерної презентації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ення матеріалів проекту та його презентації на сайті шк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ІІ. Очікувані резуль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ормування знань про принцип дії енергозберігальних ламп, їхні переваги над лампами розжарювання та негативний вплив на організм люд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досконалення життєвих компетентностей учнів: інформаційної, соціально-трудової, навчально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ормування навичок дослідницької роб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досконалення вміння орієнтуватися в інформаційному просторі та аналізувати отриману інформаці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ілюстративних та інформаційних матеріал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робка рекомендацій щодо енергозбереження здо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школя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50920" y="476280"/>
            <a:ext cx="820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Arial"/>
              </a:rPr>
              <a:t>Сучасний світ та енергозберігаль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176720" cy="288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708360" y="3860640"/>
            <a:ext cx="493236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888000" cy="590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4032360" cy="58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9640" y="4046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679640" cy="597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74328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9:25:33Z</dcterms:created>
  <dc:creator>User</dc:creator>
  <dc:description/>
  <dc:language>en-US</dc:language>
  <cp:lastModifiedBy>Admin</cp:lastModifiedBy>
  <dcterms:modified xsi:type="dcterms:W3CDTF">2015-01-05T11:37:51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b000000000001024140</vt:lpwstr>
  </property>
</Properties>
</file>