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8DC-8D35-49D2-9B65-BD3AB029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667-DC06-43C0-9723-4378FD61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0C4-4840-400F-BAE2-7678D2DB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BC4-AA79-463E-994D-2F7FD3CF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A84B-EA55-4864-A1B4-9EEB2905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F541-E081-4096-934B-E3E5DCBA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C31A-ECCE-4C76-A7B7-2D192AB8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CC73-6051-4735-88D1-51568CB7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8A3B-0682-4326-AC57-653F2AC7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1835-7AFF-481A-AE0B-83A3A9D8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F7EC-E686-4758-B2EE-E77F4DF7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577-BD30-4791-8731-F4C06314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9EA4-2226-484E-BB3A-C5C4D1F2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F299-D83D-4101-8C7C-49A10DD9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D727-0FCC-4247-B29A-10635941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60AE-E9EC-49C7-9D22-AC8EA471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8903-3C2F-4E96-8D1E-7996521A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8B954-4B5D-4FB6-96C6-A2A99F30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AA8D1-F216-41EB-B4E5-86F8936F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415FD-4F58-4C7A-BB4E-765CB033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430B0-A6FE-44CD-87C4-D19BEACC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D6C98-0EE5-4E20-9F8D-F772DE8B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CB1-0C9B-4671-A83C-8DDD0B5A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EC649-023C-440F-BACD-50E11063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4FA92-578F-4C71-A847-F1396505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762B6-1C56-41B8-BBFC-CA98BB42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B4658C-4854-4CBF-9375-BA70197A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BE5AD-12C2-4485-B44F-9D1E0EED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FE653-2DAF-4938-8F57-CEAA1C43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369E5-4226-45E4-8DA7-5624D93C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17CA2-3653-4D8C-97E8-F22DE455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51F04-140A-4BAF-BF3F-D2B3FF6A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89ECD-AE74-4B36-844E-F2DDEF02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AA4-EC58-4ABC-B079-44E7F44E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5F296-FC2B-4118-B9F2-D6EACA01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0C970-2438-4851-98B5-541AF2ED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B8DFC-B52E-4BB4-9FF4-DD45D05A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007E1-6F12-4919-B78D-19C5D942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3EE43-34DA-4097-9866-C7374FAD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0FF83-86C1-4FBB-9166-3CE427BF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13D95-F581-426A-8CF0-5184E56E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3FC9D-8CDA-4D14-8B88-3DC3286F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74AF4-6CE8-4521-B573-B14CB981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B0C-B0C3-48F6-8F4A-0E0DCF69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A7DE-5312-4DFB-A219-E200915E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C3EF-B673-48CF-A66E-540A60B8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0FC-AFDF-4C3B-8512-039DAA8A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677-BC5A-4A4A-9DE0-41A2AB32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7B3F-ABB6-4DC9-A280-20A817F6092D}" type="slidenum"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2CEF-EABF-48B9-ADB9-DB7C15A163BD}" type="slidenum"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9C47-5D4C-4899-8E4E-75692B1F6818}" type="slidenum"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3EFC-BBF2-42FA-9CC0-35D934ADB762}" type="slidenum"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12142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r>
              <a:rPr b="0" lang="uk-UA" sz="8800" spc="-1" strike="noStrike">
                <a:solidFill>
                  <a:srgbClr val="ffffff"/>
                </a:solidFill>
                <a:latin typeface="Trebuchet MS"/>
              </a:rPr>
              <a:t>Агрегатні стани речовини</a:t>
            </a:r>
            <a:endParaRPr b="0" lang="en-US" sz="88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хема 1" descr=""/>
          <p:cNvPicPr/>
          <p:nvPr/>
        </p:nvPicPr>
        <p:blipFill>
          <a:blip r:embed="rId1"/>
          <a:srcRect l="-9555" t="0" r="-5541" b="-5476"/>
          <a:stretch/>
        </p:blipFill>
        <p:spPr>
          <a:xfrm>
            <a:off x="142920" y="785880"/>
            <a:ext cx="87868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Схема 6" descr=""/>
          <p:cNvPicPr/>
          <p:nvPr/>
        </p:nvPicPr>
        <p:blipFill>
          <a:blip r:embed="rId1"/>
          <a:srcRect l="-7755" t="-9711" r="-28851" b="-27507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Схема 7" descr=""/>
          <p:cNvPicPr/>
          <p:nvPr/>
        </p:nvPicPr>
        <p:blipFill>
          <a:blip r:embed="rId1"/>
          <a:srcRect l="-11228" t="-28916" r="-3425" b="-25838"/>
          <a:stretch/>
        </p:blipFill>
        <p:spPr>
          <a:xfrm>
            <a:off x="357120" y="357120"/>
            <a:ext cx="8429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Схема 8" descr=""/>
          <p:cNvPicPr/>
          <p:nvPr/>
        </p:nvPicPr>
        <p:blipFill>
          <a:blip r:embed="rId1"/>
          <a:srcRect l="-57459" t="-4323" r="-50342" b="-2675"/>
          <a:stretch/>
        </p:blipFill>
        <p:spPr>
          <a:xfrm>
            <a:off x="0" y="357120"/>
            <a:ext cx="9144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Объект 3" descr=""/>
          <p:cNvPicPr/>
          <p:nvPr/>
        </p:nvPicPr>
        <p:blipFill>
          <a:blip r:embed="rId1"/>
          <a:srcRect l="-5141" t="-5395" r="-4372" b="-2870"/>
          <a:stretch/>
        </p:blipFill>
        <p:spPr>
          <a:xfrm>
            <a:off x="214200" y="357120"/>
            <a:ext cx="86439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Объект 4" descr=""/>
          <p:cNvPicPr/>
          <p:nvPr/>
        </p:nvPicPr>
        <p:blipFill>
          <a:blip r:embed="rId1"/>
          <a:srcRect l="-485" t="-4628" r="-353" b="-1251"/>
          <a:stretch/>
        </p:blipFill>
        <p:spPr>
          <a:xfrm>
            <a:off x="0" y="57168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Объект 5" descr=""/>
          <p:cNvPicPr/>
          <p:nvPr/>
        </p:nvPicPr>
        <p:blipFill>
          <a:blip r:embed="rId1"/>
          <a:srcRect l="-1195" t="-6530" r="-32" b="-1375"/>
          <a:stretch/>
        </p:blipFill>
        <p:spPr>
          <a:xfrm>
            <a:off x="428760" y="571680"/>
            <a:ext cx="85010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2" descr=""/>
          <p:cNvPicPr/>
          <p:nvPr/>
        </p:nvPicPr>
        <p:blipFill>
          <a:blip r:embed="rId1"/>
          <a:stretch/>
        </p:blipFill>
        <p:spPr>
          <a:xfrm>
            <a:off x="506520" y="781200"/>
            <a:ext cx="829620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00:45:09Z</dcterms:created>
  <dc:creator>user</dc:creator>
  <dc:description/>
  <dc:language>en-US</dc:language>
  <cp:lastModifiedBy>Admin</cp:lastModifiedBy>
  <dcterms:modified xsi:type="dcterms:W3CDTF">2014-12-27T08:18:24Z</dcterms:modified>
  <cp:revision>2</cp:revision>
  <dc:subject/>
  <dc:title>Агрегатні стани речови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19000000000001024140</vt:lpwstr>
  </property>
</Properties>
</file>