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9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25.png" ContentType="image/png"/>
  <Override PartName="/ppt/media/image33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7B4-D7E9-48EA-8FD8-4C9E7720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D75-CF4A-4885-B486-716FE690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54D2B-8AF1-49A3-94BD-E2330F48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DFA364-78F9-4B3E-BAD8-92DA3DD5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C77D5-FD68-4955-BF18-93639B4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1A2953-4E98-4E19-A3ED-423105B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A74312-0743-4370-8DFA-B65E7AE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01B44F-FD13-4744-8276-A2EA8CF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F5D2EA-65CA-4AB8-9E1F-EC0CCC4E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EFCDEC-18BE-43E9-A093-397FD442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5F92B2-27D3-41E2-9892-648EB239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816-2907-4771-A3C9-A8A1A859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2FA-C7F6-40F4-BD9E-0D35FB1F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B31C6-848C-4C63-9555-C91D74E9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3C208-D71E-4A29-9EF3-29294944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8930F-1182-42A1-9B66-447EF37D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6D2A8-C6DE-4AE5-99CE-1D5C0534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3A3E9-30D6-4996-B20B-585D8C02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110F4-82B7-4089-9E7A-4A83F2D4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2BE54-7B56-4CCF-9A05-02A0E62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A64-928C-48C0-9376-E450CACB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B72AA-73DE-4C7B-930B-4656075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4FD79-D6FB-41B0-9188-F2B0EF3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20E13-57FC-44B4-9E68-3987C212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8E42B-3E45-4BD1-AEA6-6264848C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A850B-2BDA-473E-82EF-EAE6922E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1FFC-B8F6-4764-B697-EF1B2304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FB15-549D-4297-B86A-FAD08B1B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65C9-6A2D-4221-976E-BC7B7EE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CC04-D2C4-411E-BF51-EA235242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75F6-20A4-4259-98D8-54CBB9D2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179-07EC-4F0E-815C-7870D680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2DFF-B7BE-454B-9092-C03CF175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AF35-0086-49E1-A0B8-7874F13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4A15-7B79-4546-9220-EBDD54C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912A-E7CC-486F-B2A6-D5C643F5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6880-52E2-4A09-986B-6DB057C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3D83-8DD9-4D82-B357-C3887318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4652-BA4C-49BC-B66A-1045AC6E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B860F-21B2-4291-8DEE-BE8A7B46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258B1-BEED-485A-84BF-2533D158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D13C8-C24A-4B54-9BA5-D72643EF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073-BA81-4516-BC34-F7BD29E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75D6D-7847-4E4C-8EF7-8907BD24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ADDDC-E4E7-400A-977B-439793AB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F0FAE-8561-42A7-818C-F54EBB70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BA47B-0C68-49B8-B0D9-B1E1E6D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15556-C4A3-4CA9-B267-C410320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60C53-6172-49DD-B4D1-AEB357B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2BC66-5048-48F1-A818-11ACA01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4A546-AF87-42C4-9970-FD98412A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C85EA-2B6E-4692-BD1E-6B3F7C3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BF3E-879B-483A-B51E-611F46ED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510-F936-4EE3-BB4A-08A7D37F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74F1-F64E-4885-9CA1-6537C3E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36FE-21E9-466A-8F89-E7F85D8F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CA0A5-5AB7-4F9E-8102-D8EA15E6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4D52-DE81-4D21-A07F-3A85F4BC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1F20-2850-40BC-A539-6BF8CA5E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A4C29-D82F-4272-8785-AC9DEDA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B86BF-2D02-45E8-B913-86374753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F3FE-80D3-4498-9C2F-9599873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77B3-C8DC-4AEC-855E-70306E13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398F8-97D0-4817-A7BD-8317749E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988-FF61-4CE7-8D18-E16102FA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59120-1439-44A2-A0A6-1AD0BD87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5AD24-6020-48F2-A9CF-30645A86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2954-B31B-4FD3-B243-0FD8FE87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C5880-940C-4C0C-BCE8-AACA174D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51F0-57F5-4F82-BA76-A6214BFF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9B96-FFCE-40A1-B109-B6105AC2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4A99-064B-4515-AE2E-6EA87CEB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0CDF-6747-479C-AAD9-4B1CDC7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326D4-2AC4-494B-B963-83BECDEA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675D4-F00F-4DF8-B0B7-C9516AB7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370-B2B9-478B-952E-5AB6E87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2FCDD-8B0C-4B17-9E8B-10FCCFD8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8E0B-D5A7-48C1-A68E-586C8BC4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0159-339B-42C1-9BA3-6528846E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8BA70-1B88-44C2-A383-D38B4C14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58C9-822D-4E48-BEFE-17548C6E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33797-93D9-40D7-AC17-1046EBA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B6A53-799E-424D-803E-674ED666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E52C-8E77-4A18-AD17-1DA585B5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7858-EACF-4227-8754-F299E2DD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80C03-4420-46BB-8C15-3A00A8B2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2D0-116F-4FC0-9878-3F940A2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BFFC6-5992-444A-B21C-8B7948E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02C9-37CF-4902-BA60-BA6AB84A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11FA2-3F5A-4490-855A-FCFA07CC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F85FB-1BBE-4264-8EA7-988F0557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796F2-5663-4059-8E7E-E91FC7DA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45F2A0-4D8E-4973-9277-38D6A6B5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CE92D-18A9-4F65-B6EB-A8E3EEF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05AECC-5B5B-414A-8EC0-4C3A41F5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0118ED-EFF1-4CB4-A156-A773B73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20DD22-7FA7-42C0-AC89-B010A868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1CD-FD59-46C3-BB70-1590B046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A0546E-BD9F-4830-A64A-E7F79233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7B1250-B513-400F-8FC7-19DFFA9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B20CD-DEDB-49A4-9352-56D768C4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17F6C6-254C-447A-875C-9966DBE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29D08-FFF8-4D8B-B64A-98BE2BFE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5B14D-45C1-4E85-929B-20F1127A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53A1C6-11BB-4829-9668-C6AF4C78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1BF619-7E21-48D4-AFB2-FEBFA191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192CBB-D39B-4EBA-91EE-588EF2E1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0AF2D-DCA0-4C13-8AFF-5B3CE60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FB3F-5F21-4679-A12B-839AF85D9DBC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9453-1EB7-48DD-B0BE-C85F52623CF6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99F8-B808-4666-95DF-C6FA87EEABCC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793B-3476-4528-B6D7-9FA427FDE440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D7FC-DD88-43F1-90DF-91FB77006FBA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5C50-F7AE-4770-B095-6B19A458BE90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AA8-10F6-43C8-9784-C1CEE801A232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e8637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36B5-DA21-40CF-8641-5D939087BE28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4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7598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2b6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2b6bc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854-80B5-4EB5-8577-6AF9687FDD5B}" type="slidenum">
              <a:rPr b="0" lang="uk-UA" sz="16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79200" y="378000"/>
            <a:ext cx="8809200" cy="40845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050920" y="4533840"/>
            <a:ext cx="656136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р 004.jpg"/>
          <p:cNvPicPr/>
          <p:nvPr/>
        </p:nvPicPr>
        <p:blipFill>
          <a:blip r:embed="rId3"/>
          <a:stretch/>
        </p:blipFill>
        <p:spPr>
          <a:xfrm>
            <a:off x="2340000" y="1557360"/>
            <a:ext cx="4608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2"/>
          <a:stretch/>
        </p:blipFill>
        <p:spPr>
          <a:xfrm>
            <a:off x="450720" y="5072040"/>
            <a:ext cx="8242560" cy="146196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3" descr="perun7516_2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34" name="Содержимое 2" descr=""/>
          <p:cNvPicPr/>
          <p:nvPr/>
        </p:nvPicPr>
        <p:blipFill>
          <a:blip r:embed="rId2"/>
          <a:stretch/>
        </p:blipFill>
        <p:spPr>
          <a:xfrm>
            <a:off x="450720" y="1536840"/>
            <a:ext cx="842508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36" name="Содержимое 2" descr=""/>
          <p:cNvPicPr/>
          <p:nvPr/>
        </p:nvPicPr>
        <p:blipFill>
          <a:blip r:embed="rId2"/>
          <a:stretch/>
        </p:blipFill>
        <p:spPr>
          <a:xfrm>
            <a:off x="444600" y="1432080"/>
            <a:ext cx="8364600" cy="44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450720" y="5297400"/>
            <a:ext cx="8364600" cy="1170000"/>
          </a:xfrm>
          <a:prstGeom prst="rect">
            <a:avLst/>
          </a:prstGeom>
          <a:ln w="0">
            <a:noFill/>
          </a:ln>
        </p:spPr>
      </p:pic>
      <p:pic>
        <p:nvPicPr>
          <p:cNvPr id="438" name="Содержимое 3" descr="Helmholtz.jpg"/>
          <p:cNvPicPr/>
          <p:nvPr/>
        </p:nvPicPr>
        <p:blipFill>
          <a:blip r:embed="rId3"/>
          <a:stretch/>
        </p:blipFill>
        <p:spPr>
          <a:xfrm>
            <a:off x="755640" y="476280"/>
            <a:ext cx="1968480" cy="25398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Joule.jpg"/>
          <p:cNvPicPr/>
          <p:nvPr/>
        </p:nvPicPr>
        <p:blipFill>
          <a:blip r:embed="rId4"/>
          <a:stretch/>
        </p:blipFill>
        <p:spPr>
          <a:xfrm>
            <a:off x="3635280" y="1989000"/>
            <a:ext cx="1981440" cy="254016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5" descr="Mayer.jpg"/>
          <p:cNvPicPr/>
          <p:nvPr/>
        </p:nvPicPr>
        <p:blipFill>
          <a:blip r:embed="rId5"/>
          <a:stretch/>
        </p:blipFill>
        <p:spPr>
          <a:xfrm>
            <a:off x="6372360" y="404640"/>
            <a:ext cx="1815840" cy="25401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6"/>
          <p:cNvSpPr/>
          <p:nvPr/>
        </p:nvSpPr>
        <p:spPr>
          <a:xfrm>
            <a:off x="6300720" y="3068640"/>
            <a:ext cx="19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Роберт Майєр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3635280" y="4797360"/>
            <a:ext cx="22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Джеймс Джоул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611280" y="314172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Герман Гельмгольц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mbria"/>
              </a:rPr>
              <a:t>Енергія не виникає і не зникає , а тільки змінює свою форму і переходить від одного тіла до іншого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Еп˳ + Ек˳ = Еп + Ек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47" name="Содержимое 3" descr="99644595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TextBox 4" descr=""/>
          <p:cNvPicPr/>
          <p:nvPr/>
        </p:nvPicPr>
        <p:blipFill>
          <a:blip r:embed="rId3"/>
          <a:stretch/>
        </p:blipFill>
        <p:spPr>
          <a:xfrm>
            <a:off x="743040" y="3790800"/>
            <a:ext cx="755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50" name="Содержимое 3" descr="2478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4"/>
          <p:cNvSpPr/>
          <p:nvPr/>
        </p:nvSpPr>
        <p:spPr>
          <a:xfrm>
            <a:off x="0" y="5157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Під час зіткнення астероїда з Землею кінетична енергія переходить в інші види енергії, що може призвести до землетрусів, цунамі.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53" name="Содержимое 2" descr=""/>
          <p:cNvPicPr/>
          <p:nvPr/>
        </p:nvPicPr>
        <p:blipFill>
          <a:blip r:embed="rId2"/>
          <a:stretch/>
        </p:blipFill>
        <p:spPr>
          <a:xfrm>
            <a:off x="378000" y="1639800"/>
            <a:ext cx="83152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397" name="Содержимое 2" descr=""/>
          <p:cNvPicPr/>
          <p:nvPr/>
        </p:nvPicPr>
        <p:blipFill>
          <a:blip r:embed="rId2"/>
          <a:stretch/>
        </p:blipFill>
        <p:spPr>
          <a:xfrm>
            <a:off x="450720" y="1468440"/>
            <a:ext cx="8461440" cy="471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2"/>
          <a:stretch/>
        </p:blipFill>
        <p:spPr>
          <a:xfrm>
            <a:off x="450720" y="4761000"/>
            <a:ext cx="8242560" cy="210960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3" descr="ddfc2bf4d7e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4853160" y="1262160"/>
            <a:ext cx="3479760" cy="3322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3672000" cy="40320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792000" cy="5112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5"/>
          <a:stretch/>
        </p:blipFill>
        <p:spPr>
          <a:xfrm>
            <a:off x="3059280" y="2421000"/>
            <a:ext cx="742680" cy="4777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7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6"/>
          <a:stretch/>
        </p:blipFill>
        <p:spPr>
          <a:xfrm>
            <a:off x="4284720" y="2997360"/>
            <a:ext cx="4319640" cy="90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390600" y="2992320"/>
            <a:ext cx="7375320" cy="1390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95280" y="-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1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5689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15" name="Picture 1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600360" cy="39592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9280" rIns="53928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3"/>
          <a:stretch/>
        </p:blipFill>
        <p:spPr>
          <a:xfrm>
            <a:off x="3348000" y="2276640"/>
            <a:ext cx="781200" cy="5047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4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9280" rIns="53928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743040" cy="479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7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5"/>
          <a:stretch/>
        </p:blipFill>
        <p:spPr>
          <a:xfrm>
            <a:off x="4572000" y="2997360"/>
            <a:ext cx="4321080" cy="90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Cambria"/>
              </a:rPr>
              <a:t>Механічна енергія залишається незмінною 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65044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fe8637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Cambria"/>
              </a:rPr>
              <a:t>Наведіть приклади перетворення одного виду енергії на інший 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4f"/>
              </a:solidFill>
              <a:latin typeface="Cambria"/>
            </a:endParaRPr>
          </a:p>
        </p:txBody>
      </p:sp>
      <p:pic>
        <p:nvPicPr>
          <p:cNvPr id="428" name="Содержимое 2" descr=""/>
          <p:cNvPicPr/>
          <p:nvPr/>
        </p:nvPicPr>
        <p:blipFill>
          <a:blip r:embed="rId2"/>
          <a:stretch/>
        </p:blipFill>
        <p:spPr>
          <a:xfrm>
            <a:off x="450720" y="163980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26:54Z</dcterms:created>
  <dc:creator>Користувач</dc:creator>
  <dc:description/>
  <dc:language>en-US</dc:language>
  <cp:lastModifiedBy>Admin</cp:lastModifiedBy>
  <dcterms:modified xsi:type="dcterms:W3CDTF">2014-12-13T07:03:59Z</dcterms:modified>
  <cp:revision>21</cp:revision>
  <dc:subject/>
  <dc:title>Закон збереження енерг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8000000000001024140</vt:lpwstr>
  </property>
</Properties>
</file>