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9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25.png" ContentType="image/png"/>
  <Override PartName="/ppt/media/image33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AF2-DE18-4369-AFE5-23A105DF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237-4F76-43D2-A069-C88EEA7E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06ECA0-2DE1-40A1-B0F5-60549AEC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B16892-0AA7-4D26-B467-FADA3D0C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CD47D8-874E-4D57-83C3-60DEB937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57D3B2-6191-42EA-AFD8-3038D86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D9FF5-5DBE-475F-9228-872657EF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07350-496A-40D4-B96B-401E731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DFE40-303C-42AD-A00D-4833A685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3D7EE-8BCF-474F-8CB6-5CC091C1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7A3B4-965A-4751-87B9-B9BAF921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75A-2E5C-4494-9B92-88C520F9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2E6-13EA-4E93-807C-DB3C032F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8FD3D-4F15-4962-A1A5-3BFCCFAF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241C-4572-4A3C-BD6C-F2E81408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19E2E-6310-4E4F-BF86-AFA0DBA0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6B8A8-28F7-43A2-83B3-C7ABAD1B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D6ABB-08E2-411A-A66E-EFE5541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F77A2-88BB-45E7-8354-A7A3B006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C2F65-2E7B-433B-BE23-967CA653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4F5-6CAE-47E2-890F-D9FDCDE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874DB-2333-473E-9F16-C14032A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28898-9E73-497D-9AD5-8D1F1A7B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3E8EA-6C82-4679-8A41-E074C08C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73136-C307-4A06-B7BA-4679A63A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68BC3-7F0D-4E94-B277-2D11EC42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0DBD-8BAC-4E99-98D9-6FB1832D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F774-4DEB-4147-9730-0CD03AD8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DAC3-9F46-416F-8549-C9FB8665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60D5-7788-41A4-904C-48226324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9DFA-72A1-4AF6-B8DF-4E0989BD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F87-4498-41A4-93D8-F177B40C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18B3-428E-49C8-A8E0-D9C0C508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C6A5-A781-42BA-8501-2FF059BA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392D-6582-4C46-BC0C-A9547943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6F71-0EB6-4643-8AC2-6E9CD7F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341F-53B7-4A92-9863-4C91679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31EA-DE70-4791-A1C5-0A096D34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A07D-1208-4CE1-871F-50DA1199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9F3D1-BB58-4D2B-8EF3-8DBA82D0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1F5A6-44E2-402F-A912-9F25DEC6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CEB94-120E-4943-9A4C-F8A5A6B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7B6-93F2-4089-A9A2-FA7BD36C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92B04-98ED-4301-935E-1278D102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94B7B-D7BB-470A-A8F4-79C038BC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A5535-216E-43DE-A0F4-14905A04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DD8B3-3092-43CE-B8E7-CD0AEB24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B9657-C638-49C9-865E-005D6F22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BE71C-589B-4EAD-8931-DB85926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F98F7-C543-4048-9C1A-C9F1CC97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CD80B-80C7-4D1D-A28D-24A238B9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0C413-D3A1-4249-8918-4A99ACED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31F0-02B9-4959-9497-2AEEC8F9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FD4-0ACD-4F36-A210-4D0DC3B5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047F7-64BF-4CAA-8D81-5536053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FF6E-8767-490E-9998-AF8C372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CDD1-476E-441F-8E34-AA4ADDFE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4ED5C-7B1F-4AB9-B5EB-D7F95DC1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E0B3-3E95-42B2-96BF-C4FB1F75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2AA72-A5FD-4A6F-8C91-09679A7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D2A3-470B-4210-B5A8-5F1FA8D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E326-6D6E-4CA0-8771-994BD77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7EA80-1D01-471E-BA8A-5F076AA3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7A96E-73FE-4AF3-8A5A-D27F3403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93F-D625-4C6D-B5E7-4846046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7A6A-DE97-4CF6-82EF-C2AABFBF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DC5F0-300A-4025-86B3-B2A2EC41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55E03-F55A-40B9-B9D4-721CC7DC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1397B-6938-46AF-8CBE-19B39C95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D85A0-ABB7-4C38-96F4-8D0E19D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B514-85C4-4246-BF7D-2A62DF1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CD042-1EA9-43BF-8801-6ABDB989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E1AF-DCA0-4F03-9A38-EDA2FF12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7DED-7141-47A6-9D42-EAFB26CA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44AF-2B7C-4625-BCD3-DBC9AE1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37A-E8B9-401C-99DA-441BDE53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F899D-C9C1-4DCF-B646-A551A241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C0FF-5D50-46EA-8116-59F7FFC9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904B-06B6-4AD2-A102-F5C81D84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6323D-BBE2-4A55-B53D-47A6A04A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905B9-C405-4D42-A263-A0AF7E5B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1DB4-D2A5-4C58-B914-211CDAD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2416-112C-416C-8842-D7F75FE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6F0F2-F8A7-4905-9D1A-EA6A2624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3095C-DF29-44CB-9AE1-163431ED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CF221-AB74-4DBB-9A6C-8F984943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7A2-F09C-4C6A-8A57-01661299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CF9E-B8AF-4C76-B146-C903653C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102F6-EB63-44E7-A626-0875495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4BAE3-C051-47A6-A253-CF3608ED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418EE-78EC-4BE9-AD84-491EF833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E83D8-4CD8-40DA-AF0F-2822DFC3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16E1D-723C-47EE-9979-D6642E10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DA1382-3519-401B-9BD8-93D08A1B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6F0309-63A4-403E-B309-40606774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94FFBD-0E64-4D68-AD85-142B1514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C3BDF-9CDC-4792-9DCF-F64EA3F4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283-0FDE-423E-8B06-ED05D297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A83DC-1BE8-4271-A764-F3F810E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2DFFC-4191-4CE2-AA8E-B4C5757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B2C82-A1A3-4F46-A715-FD0ABF62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35714-EAB4-4A51-9025-CA3A378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85827E-5E97-4201-8A1A-F7615012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CAD3A7-2ABA-4DCA-A39E-E4A7AB93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4D549D-4C3C-4252-93E4-3401C03B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725FB-B723-4945-89CD-E624590C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069AF4-9252-47A2-A4DA-38BD2A8E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69C9C-4D3F-4925-8581-BB7F183C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CFA6-71F1-44D0-BF06-D6F2FE36355E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B2BC-9B92-4518-9A7D-2398A5B98FE2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5869-1BA7-4965-B7E4-3F143F3797F7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C4FE-BC45-4C8F-86B5-26D08A70EE83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98BA-8AC7-4921-86B9-E2DDD2A51325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0ECF-7E37-4BB9-AD11-4C1C75B8DB12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9BFB-7DC0-4571-BE15-4351168A8B45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D4D9-66AE-4EF4-A761-2D8754E56DC8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D7B4-F4FB-4989-9DCE-F0F7F257B849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79200" y="378000"/>
            <a:ext cx="8809200" cy="40845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050920" y="4533840"/>
            <a:ext cx="656136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р 004.jpg"/>
          <p:cNvPicPr/>
          <p:nvPr/>
        </p:nvPicPr>
        <p:blipFill>
          <a:blip r:embed="rId3"/>
          <a:stretch/>
        </p:blipFill>
        <p:spPr>
          <a:xfrm>
            <a:off x="2340000" y="1557360"/>
            <a:ext cx="4608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2"/>
          <a:stretch/>
        </p:blipFill>
        <p:spPr>
          <a:xfrm>
            <a:off x="450720" y="5072040"/>
            <a:ext cx="8242560" cy="146196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3" descr="perun7516_2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34" name="Содержимое 2" descr=""/>
          <p:cNvPicPr/>
          <p:nvPr/>
        </p:nvPicPr>
        <p:blipFill>
          <a:blip r:embed="rId2"/>
          <a:stretch/>
        </p:blipFill>
        <p:spPr>
          <a:xfrm>
            <a:off x="450720" y="1536840"/>
            <a:ext cx="842508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36" name="Содержимое 2" descr=""/>
          <p:cNvPicPr/>
          <p:nvPr/>
        </p:nvPicPr>
        <p:blipFill>
          <a:blip r:embed="rId2"/>
          <a:stretch/>
        </p:blipFill>
        <p:spPr>
          <a:xfrm>
            <a:off x="444600" y="1432080"/>
            <a:ext cx="8364600" cy="44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450720" y="5297400"/>
            <a:ext cx="8364600" cy="1170000"/>
          </a:xfrm>
          <a:prstGeom prst="rect">
            <a:avLst/>
          </a:prstGeom>
          <a:ln w="0">
            <a:noFill/>
          </a:ln>
        </p:spPr>
      </p:pic>
      <p:pic>
        <p:nvPicPr>
          <p:cNvPr id="438" name="Содержимое 3" descr="Helmholtz.jpg"/>
          <p:cNvPicPr/>
          <p:nvPr/>
        </p:nvPicPr>
        <p:blipFill>
          <a:blip r:embed="rId3"/>
          <a:stretch/>
        </p:blipFill>
        <p:spPr>
          <a:xfrm>
            <a:off x="755640" y="476280"/>
            <a:ext cx="1968480" cy="25398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Joule.jpg"/>
          <p:cNvPicPr/>
          <p:nvPr/>
        </p:nvPicPr>
        <p:blipFill>
          <a:blip r:embed="rId4"/>
          <a:stretch/>
        </p:blipFill>
        <p:spPr>
          <a:xfrm>
            <a:off x="3635280" y="1989000"/>
            <a:ext cx="1981440" cy="254016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5" descr="Mayer.jpg"/>
          <p:cNvPicPr/>
          <p:nvPr/>
        </p:nvPicPr>
        <p:blipFill>
          <a:blip r:embed="rId5"/>
          <a:stretch/>
        </p:blipFill>
        <p:spPr>
          <a:xfrm>
            <a:off x="6372360" y="404640"/>
            <a:ext cx="1815840" cy="25401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6"/>
          <p:cNvSpPr/>
          <p:nvPr/>
        </p:nvSpPr>
        <p:spPr>
          <a:xfrm>
            <a:off x="6300720" y="3068640"/>
            <a:ext cx="19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Роберт Майєр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3635280" y="4797360"/>
            <a:ext cx="22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Джеймс Джоул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611280" y="314172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Герман Гельмгольц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mbria"/>
              </a:rPr>
              <a:t>Енергія не виникає і не зникає , а тільки змінює свою форму і переходить від одного тіла до іншого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Еп˳ + Ек˳ = Еп + Ек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47" name="Содержимое 3" descr="99644595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TextBox 4" descr=""/>
          <p:cNvPicPr/>
          <p:nvPr/>
        </p:nvPicPr>
        <p:blipFill>
          <a:blip r:embed="rId3"/>
          <a:stretch/>
        </p:blipFill>
        <p:spPr>
          <a:xfrm>
            <a:off x="743040" y="3790800"/>
            <a:ext cx="755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50" name="Содержимое 3" descr="2478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4"/>
          <p:cNvSpPr/>
          <p:nvPr/>
        </p:nvSpPr>
        <p:spPr>
          <a:xfrm>
            <a:off x="0" y="5157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Під час зіткнення астероїда з Землею кінетична енергія переходить в інші види енергії, що може призвести до землетрусів, цунамі.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53" name="Содержимое 2" descr=""/>
          <p:cNvPicPr/>
          <p:nvPr/>
        </p:nvPicPr>
        <p:blipFill>
          <a:blip r:embed="rId2"/>
          <a:stretch/>
        </p:blipFill>
        <p:spPr>
          <a:xfrm>
            <a:off x="378000" y="1639800"/>
            <a:ext cx="83152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397" name="Содержимое 2" descr=""/>
          <p:cNvPicPr/>
          <p:nvPr/>
        </p:nvPicPr>
        <p:blipFill>
          <a:blip r:embed="rId2"/>
          <a:stretch/>
        </p:blipFill>
        <p:spPr>
          <a:xfrm>
            <a:off x="450720" y="1468440"/>
            <a:ext cx="8461440" cy="471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2"/>
          <a:stretch/>
        </p:blipFill>
        <p:spPr>
          <a:xfrm>
            <a:off x="450720" y="4761000"/>
            <a:ext cx="8242560" cy="210960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3" descr="ddfc2bf4d7e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4853160" y="1262160"/>
            <a:ext cx="3479760" cy="3322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3672000" cy="40320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792000" cy="5112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5"/>
          <a:stretch/>
        </p:blipFill>
        <p:spPr>
          <a:xfrm>
            <a:off x="3059280" y="2421000"/>
            <a:ext cx="742680" cy="4777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7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6"/>
          <a:stretch/>
        </p:blipFill>
        <p:spPr>
          <a:xfrm>
            <a:off x="4284720" y="2997360"/>
            <a:ext cx="4319640" cy="90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390600" y="2992320"/>
            <a:ext cx="7375320" cy="1390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95280" y="-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1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5689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15" name="Picture 1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600360" cy="39592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9280" rIns="53928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3"/>
          <a:stretch/>
        </p:blipFill>
        <p:spPr>
          <a:xfrm>
            <a:off x="3348000" y="2276640"/>
            <a:ext cx="781200" cy="5047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4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9280" rIns="53928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743040" cy="479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7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5"/>
          <a:stretch/>
        </p:blipFill>
        <p:spPr>
          <a:xfrm>
            <a:off x="4572000" y="2997360"/>
            <a:ext cx="4321080" cy="90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Cambria"/>
              </a:rPr>
              <a:t>Механічна енергія залишається незмінною 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65044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Cambria"/>
              </a:rPr>
              <a:t>Наведіть приклади перетворення одного виду енергії на інший 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28" name="Содержимое 2" descr=""/>
          <p:cNvPicPr/>
          <p:nvPr/>
        </p:nvPicPr>
        <p:blipFill>
          <a:blip r:embed="rId2"/>
          <a:stretch/>
        </p:blipFill>
        <p:spPr>
          <a:xfrm>
            <a:off x="450720" y="163980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26:54Z</dcterms:created>
  <dc:creator>Користувач</dc:creator>
  <dc:description/>
  <dc:language>en-US</dc:language>
  <cp:lastModifiedBy>Admin</cp:lastModifiedBy>
  <dcterms:modified xsi:type="dcterms:W3CDTF">2014-12-13T07:03:59Z</dcterms:modified>
  <cp:revision>21</cp:revision>
  <dc:subject/>
  <dc:title>Закон збереження енерг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8000000000001024140</vt:lpwstr>
  </property>
</Properties>
</file>