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11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1.jpeg" ContentType="image/jpe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D2A5-3613-4189-B081-FBEDB172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0729-2D60-43C3-AFB0-DEE2976A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59D-A533-4141-A8E8-073EF1D8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4BFE-E9F2-4C72-9740-1A36BCEB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1C4-4AFD-43B5-9DE2-9111A95D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465-C30E-4FD3-98E9-675B35B8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57C-2A8B-4BE3-A457-709E9766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F0E6-1938-4C68-ABD3-BC8D74E1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828-24A9-4590-A543-89BA6D77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273-2137-43EB-A2B1-D3552D39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C5D-3EDA-4C16-9F39-5CCE9232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3D64-F0A0-4D83-A8EA-4F264131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59C8-600B-456C-A0EB-C0045CF7FFF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3080" y="1784520"/>
            <a:ext cx="7772400" cy="18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 Light"/>
              </a:rPr>
              <a:t>Тема уроку: </a:t>
            </a:r>
            <a:r>
              <a:rPr b="1" lang="uk-UA" sz="4000" spc="-1" strike="noStrike">
                <a:solidFill>
                  <a:srgbClr val="000000"/>
                </a:solidFill>
                <a:latin typeface="Calibri Light"/>
              </a:rPr>
              <a:t>Прості механізми. Важіль. Блок. Умова рівноваги важеля. Момент сили.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" y="3320640"/>
            <a:ext cx="866448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Мета: сформувати в учнів поняття: простих механізмів важеля та блоку, плече дії сили, момент сили; визначити умову рівноваги важеля;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озвивати творче мислення, уміння спостерігати та аналізувати; виховувати політехнічний кругозір учні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Дайте мені точку опори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і я зрушу Зем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рхім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1328085951_1234"/>
          <p:cNvPicPr/>
          <p:nvPr/>
        </p:nvPicPr>
        <p:blipFill>
          <a:blip r:embed="rId1"/>
          <a:stretch/>
        </p:blipFill>
        <p:spPr>
          <a:xfrm>
            <a:off x="4119480" y="166680"/>
            <a:ext cx="2136960" cy="146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pyram2"/>
          <p:cNvPicPr/>
          <p:nvPr/>
        </p:nvPicPr>
        <p:blipFill>
          <a:blip r:embed="rId2"/>
          <a:stretch/>
        </p:blipFill>
        <p:spPr>
          <a:xfrm>
            <a:off x="7101000" y="150840"/>
            <a:ext cx="1778040" cy="2225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15e-i1"/>
          <p:cNvPicPr/>
          <p:nvPr/>
        </p:nvPicPr>
        <p:blipFill>
          <a:blip r:embed="rId3"/>
          <a:stretch/>
        </p:blipFill>
        <p:spPr>
          <a:xfrm>
            <a:off x="343080" y="150840"/>
            <a:ext cx="280188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7" descr=""/>
          <p:cNvPicPr/>
          <p:nvPr/>
        </p:nvPicPr>
        <p:blipFill>
          <a:blip r:embed="rId1"/>
          <a:srcRect l="0" t="0" r="-122" b="188"/>
          <a:stretch/>
        </p:blipFill>
        <p:spPr>
          <a:xfrm>
            <a:off x="0" y="3892680"/>
            <a:ext cx="3051000" cy="280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"/>
          <p:cNvPicPr/>
          <p:nvPr/>
        </p:nvPicPr>
        <p:blipFill>
          <a:blip r:embed="rId2"/>
          <a:stretch/>
        </p:blipFill>
        <p:spPr>
          <a:xfrm>
            <a:off x="6197760" y="3892680"/>
            <a:ext cx="2835000" cy="26175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35120" y="2762280"/>
            <a:ext cx="4073760" cy="24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Arial"/>
                <a:ea typeface="Times New Roman"/>
              </a:rPr>
              <a:t>ℓ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- плече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сили.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[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ℓ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] =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м 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(ОА и ОВ – плеч</a:t>
            </a:r>
            <a:r>
              <a:rPr b="0" lang="uk-UA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і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сил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F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₁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та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F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₂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77880" y="875520"/>
            <a:ext cx="778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Calibri"/>
              </a:rPr>
              <a:t>Плече важеля – частина важеля, до якого при­кладена сила відносно осі обертанн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" name="важіль.mp4" descr=""/>
          <p:cNvPicPr/>
          <p:nvPr/>
        </p:nvPicPr>
        <p:blipFill>
          <a:blip r:embed="rId1"/>
          <a:stretch/>
        </p:blipFill>
        <p:spPr>
          <a:xfrm>
            <a:off x="82440" y="0"/>
            <a:ext cx="897408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 Light"/>
              </a:rPr>
              <a:t>Правило рівноваги важел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3" name="Объект 2" descr=""/>
          <p:cNvPicPr/>
          <p:nvPr/>
        </p:nvPicPr>
        <p:blipFill>
          <a:blip r:embed="rId1"/>
          <a:stretch/>
        </p:blipFill>
        <p:spPr>
          <a:xfrm>
            <a:off x="628560" y="1822320"/>
            <a:ext cx="7886880" cy="435312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3292560" y="2700360"/>
            <a:ext cx="255888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 Light"/>
              </a:rPr>
              <a:t>Типи важелів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6" name="Picture 2" descr="&amp;Fcy;&amp;acy;&amp;jcy;&amp;lcy;:LeverFirstClass.svg"/>
          <p:cNvPicPr/>
          <p:nvPr/>
        </p:nvPicPr>
        <p:blipFill>
          <a:blip r:embed="rId1"/>
          <a:stretch/>
        </p:blipFill>
        <p:spPr>
          <a:xfrm>
            <a:off x="541440" y="3648240"/>
            <a:ext cx="403056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&amp;Fcy;&amp;acy;&amp;jcy;&amp;lcy;:LeverSecondClass.svg"/>
          <p:cNvPicPr/>
          <p:nvPr/>
        </p:nvPicPr>
        <p:blipFill>
          <a:blip r:embed="rId2"/>
          <a:stretch/>
        </p:blipFill>
        <p:spPr>
          <a:xfrm>
            <a:off x="4768920" y="3822840"/>
            <a:ext cx="4260960" cy="213012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887400" y="2649600"/>
            <a:ext cx="388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Важіль першого тип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4803120" y="2670120"/>
            <a:ext cx="37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Важіль другого тип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Момент сил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1" name="Объект 2" descr=""/>
          <p:cNvPicPr/>
          <p:nvPr/>
        </p:nvPicPr>
        <p:blipFill>
          <a:blip r:embed="rId1"/>
          <a:stretch/>
        </p:blipFill>
        <p:spPr>
          <a:xfrm>
            <a:off x="628560" y="1822320"/>
            <a:ext cx="78868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Блок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Calibri"/>
              </a:rPr>
              <a:t>Блок </a:t>
            </a: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uk-UA" sz="2100" spc="-1" strike="noStrike">
                <a:solidFill>
                  <a:srgbClr val="000000"/>
                </a:solidFill>
                <a:latin typeface="Calibri"/>
              </a:rPr>
              <a:t>це колесо з жолобом, закріплене в обоймі, яке обертається навколо своєї осі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ttp://upload.wikimedia.org/wikipedia/commons/9/9a/PulleyShip.JPG"/>
          <p:cNvPicPr/>
          <p:nvPr/>
        </p:nvPicPr>
        <p:blipFill>
          <a:blip r:embed="rId1"/>
          <a:stretch/>
        </p:blipFill>
        <p:spPr>
          <a:xfrm>
            <a:off x="5003640" y="316404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u.jimdo.com/www52/o/s3dd788ec6f7fbab8/img/iacf61cb140fa9cc9/1354830045/std/%D0%B0-%D1%86%D0%B5-%D0%BD%D0%B5%D1%80%D1%83%D1%85%D0%BE%D0%BC%D0%B8%D0%B9-%D0%B1%D0%BB%D0%BE%D0%BA.jpg"/>
          <p:cNvPicPr/>
          <p:nvPr/>
        </p:nvPicPr>
        <p:blipFill>
          <a:blip r:embed="rId2"/>
          <a:stretch/>
        </p:blipFill>
        <p:spPr>
          <a:xfrm>
            <a:off x="1052640" y="3164040"/>
            <a:ext cx="24336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Нерухомий блок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2520" y="1201320"/>
            <a:ext cx="571500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Нерухомий блок </a:t>
            </a: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– </a:t>
            </a:r>
            <a:r>
              <a:rPr b="0" i="1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блок, вісь якого закріпле­на і під час піднімання вантажів він не підні­мається й не опускається</a:t>
            </a:r>
            <a:r>
              <a:rPr b="0" i="1" lang="ru-RU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 Light"/>
                <a:ea typeface="Calibri"/>
              </a:rPr>
              <a:t>Нерухомий блок можна розглядати як рівноплечий важіль, у якого плечі сил дорівнюють радіусу колеса: </a:t>
            </a:r>
            <a:r>
              <a:rPr b="0" i="1" lang="ru-RU" sz="2100" spc="-1" strike="noStrike">
                <a:solidFill>
                  <a:srgbClr val="0563c1"/>
                </a:solidFill>
                <a:latin typeface="Calibri Light"/>
                <a:ea typeface="Calibri"/>
              </a:rPr>
              <a:t>OA</a:t>
            </a:r>
            <a:r>
              <a:rPr b="0" i="1" lang="en-US" sz="2100" spc="-1" strike="noStrike">
                <a:solidFill>
                  <a:srgbClr val="0563c1"/>
                </a:solidFill>
                <a:latin typeface="Calibri Light"/>
                <a:ea typeface="Calibri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alibri Light"/>
                <a:ea typeface="Calibri"/>
              </a:rPr>
              <a:t>=</a:t>
            </a:r>
            <a:r>
              <a:rPr b="0" lang="en-US" sz="21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0" i="1" lang="ru-RU" sz="2100" spc="-1" strike="noStrike">
                <a:solidFill>
                  <a:srgbClr val="0563c1"/>
                </a:solidFill>
                <a:latin typeface="Calibri Light"/>
                <a:ea typeface="Calibri"/>
              </a:rPr>
              <a:t>OB</a:t>
            </a:r>
            <a:r>
              <a:rPr b="0" lang="ru-RU" sz="2100" spc="-1" strike="noStrike">
                <a:solidFill>
                  <a:srgbClr val="000000"/>
                </a:solidFill>
                <a:latin typeface="Calibri Light"/>
                <a:ea typeface="Calibri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У</a:t>
            </a:r>
            <a:r>
              <a:rPr b="0" lang="ru-RU" sz="2100" spc="-1" strike="noStrike">
                <a:solidFill>
                  <a:srgbClr val="000000"/>
                </a:solidFill>
                <a:latin typeface="Calibri Light"/>
                <a:ea typeface="Calibri"/>
              </a:rPr>
              <a:t>мовою рівноваги блоку буде рівність прикладених си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 Light"/>
              </a:rPr>
              <a:t>F </a:t>
            </a:r>
            <a:r>
              <a:rPr b="1" lang="ru-RU" sz="2100" spc="-1" strike="noStrike">
                <a:solidFill>
                  <a:srgbClr val="000000"/>
                </a:solidFill>
                <a:latin typeface="Calibri Light"/>
              </a:rPr>
              <a:t>= </a:t>
            </a:r>
            <a:r>
              <a:rPr b="1" i="1" lang="ru-RU" sz="2100" spc="-1" strike="noStrike">
                <a:solidFill>
                  <a:srgbClr val="000000"/>
                </a:solidFill>
                <a:latin typeface="Calibri Light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 Light"/>
              </a:rPr>
              <a:t>Звідси випливає, що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ff0000"/>
                </a:solidFill>
                <a:latin typeface="Calibri Light"/>
              </a:rPr>
              <a:t>Нерухомий блок не дає виграшу в силі, але дозволяє змінювати напрямок дії сил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272280" y="1635120"/>
            <a:ext cx="276696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6075360" y="1325520"/>
            <a:ext cx="3068640" cy="4848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788652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Рухомий блок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1" name="Объект 2" descr=""/>
          <p:cNvPicPr/>
          <p:nvPr/>
        </p:nvPicPr>
        <p:blipFill>
          <a:blip r:embed="rId2"/>
          <a:stretch/>
        </p:blipFill>
        <p:spPr>
          <a:xfrm>
            <a:off x="249120" y="701640"/>
            <a:ext cx="62550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Коловорот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1440" y="15094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Коловорот – це нерухомий блок, який оберта­ється разом із закріпленою в ньому вісс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://upload.wikimedia.org/wikipedia/commons/thumb/4/43/Agricola_waterwheel.jpg/220px-Agricola_waterwheel.jpg"/>
          <p:cNvPicPr/>
          <p:nvPr/>
        </p:nvPicPr>
        <p:blipFill>
          <a:blip r:embed="rId1"/>
          <a:stretch/>
        </p:blipFill>
        <p:spPr>
          <a:xfrm>
            <a:off x="5151600" y="2770200"/>
            <a:ext cx="2444760" cy="3889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://upload.wikimedia.org/wikipedia/commons/thumb/4/46/Wheelaxle_quackenbos.gif/250px-Wheelaxle_quackenbos.gif"/>
          <p:cNvPicPr/>
          <p:nvPr/>
        </p:nvPicPr>
        <p:blipFill>
          <a:blip r:embed="rId2"/>
          <a:stretch/>
        </p:blipFill>
        <p:spPr>
          <a:xfrm>
            <a:off x="1182600" y="3849840"/>
            <a:ext cx="23814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Calibri Light"/>
              </a:rPr>
              <a:t>Похила площи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6142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охила площина — це площина, розміщена під кутом до горизон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753240" y="2552760"/>
            <a:ext cx="2036880" cy="1942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2622600"/>
            <a:ext cx="3630600" cy="3138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3400560" y="3873600"/>
            <a:ext cx="33526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Що таке простий механізм?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8560" y="238716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остий механізм – пристрій, що використовується для виконання роботи, і який перетворює значення сили та її напрямо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1"/>
          <p:cNvGrpSpPr/>
          <p:nvPr/>
        </p:nvGrpSpPr>
        <p:grpSpPr>
          <a:xfrm>
            <a:off x="250920" y="330480"/>
            <a:ext cx="8713800" cy="4466880"/>
            <a:chOff x="250920" y="330480"/>
            <a:chExt cx="8713800" cy="4466880"/>
          </a:xfrm>
        </p:grpSpPr>
        <p:pic>
          <p:nvPicPr>
            <p:cNvPr id="132" name="Picture 6" descr=""/>
            <p:cNvPicPr/>
            <p:nvPr/>
          </p:nvPicPr>
          <p:blipFill>
            <a:blip r:embed="rId1"/>
            <a:stretch/>
          </p:blipFill>
          <p:spPr>
            <a:xfrm>
              <a:off x="250920" y="404640"/>
              <a:ext cx="823680" cy="439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" descr=""/>
            <p:cNvPicPr/>
            <p:nvPr/>
          </p:nvPicPr>
          <p:blipFill>
            <a:blip r:embed="rId2"/>
            <a:stretch/>
          </p:blipFill>
          <p:spPr>
            <a:xfrm>
              <a:off x="5076720" y="2637000"/>
              <a:ext cx="35290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9"/>
            <p:cNvSpPr/>
            <p:nvPr/>
          </p:nvSpPr>
          <p:spPr>
            <a:xfrm>
              <a:off x="1332000" y="330480"/>
              <a:ext cx="7632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Якщо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l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— довжина похилої площини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h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— висота похилої площини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P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— вага візка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F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— сила, прикладена до візка,то за відсутності сили тертя можна записати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" name="Прямоугольник 1" descr=""/>
          <p:cNvPicPr/>
          <p:nvPr/>
        </p:nvPicPr>
        <p:blipFill>
          <a:blip r:embed="rId3"/>
          <a:stretch/>
        </p:blipFill>
        <p:spPr>
          <a:xfrm>
            <a:off x="1994040" y="3048120"/>
            <a:ext cx="2352600" cy="90792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2"/>
          <p:cNvSpPr/>
          <p:nvPr/>
        </p:nvSpPr>
        <p:spPr>
          <a:xfrm>
            <a:off x="738360" y="5127480"/>
            <a:ext cx="773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  <a:ea typeface="Calibri"/>
              </a:rPr>
              <a:t>ри використанні похилої площини виграють у силі в стільки разів, у скільки разів довжина похилої площини більше її висо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Клин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Calibri"/>
              </a:rPr>
              <a:t>Клин </a:t>
            </a: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uk-UA" sz="2100" spc="-1" strike="noStrike">
                <a:solidFill>
                  <a:srgbClr val="000000"/>
                </a:solidFill>
                <a:latin typeface="Calibri"/>
              </a:rPr>
              <a:t>тверде тіло, поздовжнім перерізом якого є прямокутний трикутник.</a:t>
            </a:r>
            <a:r>
              <a:rPr b="1" i="1" lang="uk-UA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1"/>
          <a:stretch/>
        </p:blipFill>
        <p:spPr>
          <a:xfrm>
            <a:off x="2071800" y="3000240"/>
            <a:ext cx="5011560" cy="36244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1635120" y="353376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учка топ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5513400" y="3227400"/>
            <a:ext cx="1643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тальне  лез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2071800" y="5213520"/>
            <a:ext cx="969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лі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5721480" y="5089680"/>
            <a:ext cx="1419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оскі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Гвинт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792440"/>
            <a:ext cx="788688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Гвинт – прямий циліндр, який має на поверх­ні гвинтову лінію (нарізку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1"/>
          <a:stretch/>
        </p:blipFill>
        <p:spPr>
          <a:xfrm>
            <a:off x="1071720" y="2795760"/>
            <a:ext cx="7091280" cy="3348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934920" y="4211640"/>
            <a:ext cx="2625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озгортка різьб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7121520" y="4856040"/>
            <a:ext cx="12175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Різь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 Light"/>
              </a:rPr>
              <a:t>Застосування гвинта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0" name="Picture 2" descr="http://upload.wikimedia.org/wikipedia/commons/7/73/Jackscrew.jpg"/>
          <p:cNvPicPr/>
          <p:nvPr/>
        </p:nvPicPr>
        <p:blipFill>
          <a:blip r:embed="rId1"/>
          <a:stretch/>
        </p:blipFill>
        <p:spPr>
          <a:xfrm>
            <a:off x="507960" y="1554120"/>
            <a:ext cx="2911680" cy="2541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fion.ru/images/handmade/20178368590a629ad434f9f7bb15289f.jpg"/>
          <p:cNvPicPr/>
          <p:nvPr/>
        </p:nvPicPr>
        <p:blipFill>
          <a:blip r:embed="rId2"/>
          <a:srcRect l="0" t="0" r="-168" b="-80"/>
          <a:stretch/>
        </p:blipFill>
        <p:spPr>
          <a:xfrm>
            <a:off x="3844800" y="1554120"/>
            <a:ext cx="1917720" cy="3173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 &amp;Fcy;&amp;ocy;&amp;tcy;&amp;ocy; 39. &amp;Rcy;&amp;ucy;&amp;chcy;&amp;ncy;&amp;acy;&amp;yacy; &amp;dcy;&amp;rcy;&amp;iecy;&amp;lcy;&amp;softcy; (&amp;kcy;&amp;ocy;&amp;lcy;&amp;ocy;&amp;vcy;&amp;ocy;&amp;rcy;&amp;ocy;&amp;tcy;). "/>
          <p:cNvPicPr/>
          <p:nvPr/>
        </p:nvPicPr>
        <p:blipFill>
          <a:blip r:embed="rId3"/>
          <a:stretch/>
        </p:blipFill>
        <p:spPr>
          <a:xfrm>
            <a:off x="5934240" y="2760840"/>
            <a:ext cx="3198600" cy="27684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3"/>
          <p:cNvSpPr/>
          <p:nvPr/>
        </p:nvSpPr>
        <p:spPr>
          <a:xfrm>
            <a:off x="518400" y="448776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Домк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5934240" y="5481720"/>
            <a:ext cx="24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Свердл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2592720" y="4896000"/>
            <a:ext cx="33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Гвинтовий пр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300" spc="-1" strike="noStrike">
                <a:solidFill>
                  <a:srgbClr val="ff0000"/>
                </a:solidFill>
                <a:latin typeface="Calibri Light"/>
              </a:rPr>
              <a:t>«ЗОЛО­ТЕ ПРАВИЛО» МЕХАНІК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4480" y="2479680"/>
            <a:ext cx="902952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У скільки разів виграємо у силі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у стільки ж разів програємо у відстан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АБ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У скільки разів виграємо у відстані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у стільки ж разів програємо у сил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50840" y="460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300" spc="-1" strike="noStrike">
                <a:solidFill>
                  <a:srgbClr val="000000"/>
                </a:solidFill>
                <a:latin typeface="Calibri Light"/>
              </a:rPr>
              <a:t>Розв'язування задач усно.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28560" y="1344600"/>
            <a:ext cx="788688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Чи підніме людина, яка стоїть на підлозі і має вагу 600 Н, за допомогою нерухомого блока ван­таж, маса якого 82 кг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А за допомогою рухомого блока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На яку довжину потрібно протягнути вільний кінець мотузки рухомого блока, щоб вантаж, який висить на гачку блока, підняти на 120 см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Довжина схилу похилої площини утричі більша за її висоту. Яку слід прикласти силу, щоб підняти вантаж вагою 1,2 кН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300" spc="-1" strike="noStrike">
                <a:solidFill>
                  <a:srgbClr val="000000"/>
                </a:solidFill>
                <a:latin typeface="Calibri Light"/>
              </a:rPr>
              <a:t>Розв'язування задач письмово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28560" y="1072800"/>
            <a:ext cx="788688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Яка довжина важеля, до  кінців якого прикладені сили 5 Н і 10 Н, якщо він перебуває в рівновазі, а менше плече дорівнює 40 с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Який максимальний вантаж може підняти хлопчик вагою 420 Н, користуючись одним рухо­мим і одним нерухомим блоком, якщо вага блока 20 Н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3" name="машина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3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Домашнє завдання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1. </a:t>
            </a: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§§</a:t>
            </a:r>
            <a:r>
              <a:rPr b="0" lang="ru-RU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21-24</a:t>
            </a: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, опрацювати конспект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2. Розв'язати задачу: на менше плече важеля діє сила 300 Н, на більше – 20 Н. Довжина меншого плеча 5 см. Визначити довжину більшого плеч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3. Підготуватись до лабораторної роботи №</a:t>
            </a:r>
            <a:r>
              <a:rPr b="1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8 «З'ясування умови рівноваги важеля»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4480" y="715680"/>
            <a:ext cx="893916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Традиційно виділяють </a:t>
            </a: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Calibri Light"/>
                <a:ea typeface="Times New Roman"/>
              </a:rPr>
              <a:t>6</a:t>
            </a:r>
            <a:r>
              <a:rPr b="0" lang="uk-U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простих механізмі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99920" y="2019240"/>
            <a:ext cx="788652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49040" indent="-14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Важі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9040" indent="-14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Коловор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9040" indent="-14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Б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9040" indent="-14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охила площ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9040" indent="-14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К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9040" indent="-14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Гви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" name="Прямая со стрелкой 14"/>
          <p:cNvCxnSpPr>
            <a:stCxn id="51" idx="2"/>
            <a:endCxn id="52" idx="0"/>
          </p:cNvCxnSpPr>
          <p:nvPr/>
        </p:nvCxnSpPr>
        <p:spPr>
          <a:xfrm flipH="1">
            <a:off x="2436840" y="1309320"/>
            <a:ext cx="2340360" cy="13993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2" name="TextBox 15"/>
          <p:cNvSpPr/>
          <p:nvPr/>
        </p:nvSpPr>
        <p:spPr>
          <a:xfrm>
            <a:off x="1219320" y="2708280"/>
            <a:ext cx="243504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Важі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2293920" y="5342040"/>
            <a:ext cx="240336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Коловор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92160" y="5342040"/>
            <a:ext cx="205416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Бл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4888080" y="2712960"/>
            <a:ext cx="389232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охила площ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9"/>
          <p:cNvSpPr/>
          <p:nvPr/>
        </p:nvSpPr>
        <p:spPr>
          <a:xfrm>
            <a:off x="5213520" y="5342040"/>
            <a:ext cx="196056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Гви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0"/>
          <p:cNvSpPr/>
          <p:nvPr/>
        </p:nvSpPr>
        <p:spPr>
          <a:xfrm>
            <a:off x="2720880" y="663480"/>
            <a:ext cx="4113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рості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механіз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Прямая со стрелкой 21"/>
          <p:cNvCxnSpPr>
            <a:stCxn id="51" idx="2"/>
            <a:endCxn id="55" idx="0"/>
          </p:cNvCxnSpPr>
          <p:nvPr/>
        </p:nvCxnSpPr>
        <p:spPr>
          <a:xfrm>
            <a:off x="4776480" y="1309680"/>
            <a:ext cx="2057760" cy="140400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8" name="Прямая со стрелкой 22"/>
          <p:cNvCxnSpPr>
            <a:stCxn id="52" idx="2"/>
            <a:endCxn id="54" idx="0"/>
          </p:cNvCxnSpPr>
          <p:nvPr/>
        </p:nvCxnSpPr>
        <p:spPr>
          <a:xfrm flipH="1">
            <a:off x="1118880" y="3354120"/>
            <a:ext cx="1318320" cy="198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9" name="Прямая со стрелкой 23"/>
          <p:cNvCxnSpPr>
            <a:stCxn id="52" idx="2"/>
            <a:endCxn id="53" idx="0"/>
          </p:cNvCxnSpPr>
          <p:nvPr/>
        </p:nvCxnSpPr>
        <p:spPr>
          <a:xfrm>
            <a:off x="2436480" y="3354120"/>
            <a:ext cx="1059480" cy="198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60" name="Прямая со стрелкой 24"/>
          <p:cNvCxnSpPr>
            <a:stCxn id="55" idx="2"/>
            <a:endCxn id="56" idx="0"/>
          </p:cNvCxnSpPr>
          <p:nvPr/>
        </p:nvCxnSpPr>
        <p:spPr>
          <a:xfrm flipH="1">
            <a:off x="6192360" y="3359160"/>
            <a:ext cx="642240" cy="1983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61" name="Прямая со стрелкой 25"/>
          <p:cNvCxnSpPr>
            <a:stCxn id="55" idx="2"/>
            <a:endCxn id="62" idx="0"/>
          </p:cNvCxnSpPr>
          <p:nvPr/>
        </p:nvCxnSpPr>
        <p:spPr>
          <a:xfrm>
            <a:off x="6833880" y="3359160"/>
            <a:ext cx="1305720" cy="1983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62" name="TextBox 26"/>
          <p:cNvSpPr/>
          <p:nvPr/>
        </p:nvSpPr>
        <p:spPr>
          <a:xfrm>
            <a:off x="7307280" y="5342040"/>
            <a:ext cx="166536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Кл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 Light"/>
              </a:rPr>
              <a:t>Важіль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Важіль – це тверде тіло, що може обертатися навколо нерухомої опор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1328085951_1234"/>
          <p:cNvPicPr/>
          <p:nvPr/>
        </p:nvPicPr>
        <p:blipFill>
          <a:blip r:embed="rId1"/>
          <a:stretch/>
        </p:blipFill>
        <p:spPr>
          <a:xfrm>
            <a:off x="5351400" y="4475160"/>
            <a:ext cx="3035520" cy="2085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15e-i1"/>
          <p:cNvPicPr/>
          <p:nvPr/>
        </p:nvPicPr>
        <p:blipFill>
          <a:blip r:embed="rId2"/>
          <a:stretch/>
        </p:blipFill>
        <p:spPr>
          <a:xfrm>
            <a:off x="287280" y="2822400"/>
            <a:ext cx="49356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676080"/>
            <a:ext cx="364968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Плече важеля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798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Плече важеля – частина важеля, до якого при­кладена сила відносно осі оберт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bbel.ru/_ph/29/2/626898919.jpg"/>
          <p:cNvPicPr/>
          <p:nvPr/>
        </p:nvPicPr>
        <p:blipFill>
          <a:blip r:embed="rId1"/>
          <a:stretch/>
        </p:blipFill>
        <p:spPr>
          <a:xfrm>
            <a:off x="965160" y="2803680"/>
            <a:ext cx="7265880" cy="3531960"/>
          </a:xfrm>
          <a:prstGeom prst="rect">
            <a:avLst/>
          </a:prstGeom>
          <a:ln w="0">
            <a:noFill/>
          </a:ln>
        </p:spPr>
      </p:pic>
      <p:sp>
        <p:nvSpPr>
          <p:cNvPr id="70" name="Левая фигурная скобка 4"/>
          <p:cNvSpPr/>
          <p:nvPr/>
        </p:nvSpPr>
        <p:spPr>
          <a:xfrm rot="3863400">
            <a:off x="2872440" y="4099680"/>
            <a:ext cx="608040" cy="1311120"/>
          </a:xfrm>
          <a:custGeom>
            <a:avLst/>
            <a:gdLst>
              <a:gd name="textAreaLeft" fmla="*/ 388440 w 608040"/>
              <a:gd name="textAreaRight" fmla="*/ 608400 w 608040"/>
              <a:gd name="textAreaTop" fmla="*/ 64800 h 1311120"/>
              <a:gd name="textAreaBottom" fmla="*/ 1246320 h 131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1"/>
                  <a:pt x="10800" y="3421"/>
                </a:cubicBezTo>
                <a:lnTo>
                  <a:pt x="10800" y="7393"/>
                </a:lnTo>
                <a:cubicBezTo>
                  <a:pt x="10800" y="9104"/>
                  <a:pt x="5400" y="10814"/>
                  <a:pt x="0" y="10814"/>
                </a:cubicBezTo>
                <a:cubicBezTo>
                  <a:pt x="5400" y="10814"/>
                  <a:pt x="10800" y="12525"/>
                  <a:pt x="10800" y="14235"/>
                </a:cubicBezTo>
                <a:lnTo>
                  <a:pt x="10800" y="18179"/>
                </a:lnTo>
                <a:cubicBezTo>
                  <a:pt x="10800" y="1989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Левая фигурная скобка 6"/>
          <p:cNvSpPr/>
          <p:nvPr/>
        </p:nvSpPr>
        <p:spPr>
          <a:xfrm rot="3940200">
            <a:off x="5236560" y="1760400"/>
            <a:ext cx="609840" cy="3848040"/>
          </a:xfrm>
          <a:custGeom>
            <a:avLst/>
            <a:gdLst>
              <a:gd name="textAreaLeft" fmla="*/ 389520 w 609840"/>
              <a:gd name="textAreaRight" fmla="*/ 610200 w 609840"/>
              <a:gd name="textAreaTop" fmla="*/ 65160 h 3848040"/>
              <a:gd name="textAreaBottom" fmla="*/ 3782880 h 384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85"/>
                  <a:pt x="10800" y="1169"/>
                </a:cubicBezTo>
                <a:lnTo>
                  <a:pt x="10800" y="9645"/>
                </a:lnTo>
                <a:cubicBezTo>
                  <a:pt x="10800" y="10230"/>
                  <a:pt x="5400" y="10814"/>
                  <a:pt x="0" y="10814"/>
                </a:cubicBezTo>
                <a:cubicBezTo>
                  <a:pt x="5400" y="10814"/>
                  <a:pt x="10800" y="11399"/>
                  <a:pt x="10800" y="11983"/>
                </a:cubicBezTo>
                <a:lnTo>
                  <a:pt x="10800" y="20431"/>
                </a:lnTo>
                <a:cubicBezTo>
                  <a:pt x="10800" y="2101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1744200" y="377496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Плече важел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945960" y="289548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Плече важел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Точка прикладання сили</a:t>
            </a:r>
            <a:r>
              <a:rPr b="1" i="1" lang="uk-UA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Точка прикладання сили– це точка, в якій на важіль діє сила</a:t>
            </a:r>
            <a:r>
              <a:rPr b="0" i="1" lang="uk-UA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bbel.ru/_ph/29/2/626898919.jpg"/>
          <p:cNvPicPr/>
          <p:nvPr/>
        </p:nvPicPr>
        <p:blipFill>
          <a:blip r:embed="rId1"/>
          <a:stretch/>
        </p:blipFill>
        <p:spPr>
          <a:xfrm>
            <a:off x="793800" y="2897280"/>
            <a:ext cx="7265880" cy="35319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4"/>
          <p:cNvSpPr/>
          <p:nvPr/>
        </p:nvSpPr>
        <p:spPr>
          <a:xfrm>
            <a:off x="260280" y="3770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Точка прикладання си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4324320" y="2781360"/>
            <a:ext cx="39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Точка прикладання си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Прямая со стрелкой 7"/>
          <p:cNvCxnSpPr/>
          <p:nvPr/>
        </p:nvCxnSpPr>
        <p:spPr>
          <a:xfrm>
            <a:off x="2050920" y="4308480"/>
            <a:ext cx="804240" cy="992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Прямая со стрелкой 9"/>
          <p:cNvCxnSpPr/>
          <p:nvPr/>
        </p:nvCxnSpPr>
        <p:spPr>
          <a:xfrm>
            <a:off x="5775480" y="3300480"/>
            <a:ext cx="1257840" cy="186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Вісь обертання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Вісь обертання – лінія, перпендикулярна до поздовжньої осі важеля. Важіль може вільно обер­татися навколо цієї ос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bbel.ru/_ph/29/2/626898919.jpg"/>
          <p:cNvPicPr/>
          <p:nvPr/>
        </p:nvPicPr>
        <p:blipFill>
          <a:blip r:embed="rId1"/>
          <a:stretch/>
        </p:blipFill>
        <p:spPr>
          <a:xfrm>
            <a:off x="576360" y="3038400"/>
            <a:ext cx="7265880" cy="35323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260280" y="3770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Вісь оберт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Прямая со стрелкой 7"/>
          <p:cNvCxnSpPr/>
          <p:nvPr/>
        </p:nvCxnSpPr>
        <p:spPr>
          <a:xfrm>
            <a:off x="2050920" y="4308480"/>
            <a:ext cx="1496160" cy="837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Лінія дії сил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28200" y="1825200"/>
            <a:ext cx="815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Лінія дії сили – це лінія, яка показує напрям дії си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bbel.ru/_ph/29/2/626898919.jpg"/>
          <p:cNvPicPr/>
          <p:nvPr/>
        </p:nvPicPr>
        <p:blipFill>
          <a:blip r:embed="rId1"/>
          <a:stretch/>
        </p:blipFill>
        <p:spPr>
          <a:xfrm>
            <a:off x="506520" y="2944800"/>
            <a:ext cx="7265880" cy="35305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2724120" y="3692520"/>
            <a:ext cx="35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Лінія дії сили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Прямая со стрелкой 7"/>
          <p:cNvCxnSpPr>
            <a:stCxn id="89" idx="2"/>
          </p:cNvCxnSpPr>
          <p:nvPr/>
        </p:nvCxnSpPr>
        <p:spPr>
          <a:xfrm flipH="1">
            <a:off x="2623680" y="4154400"/>
            <a:ext cx="1890000" cy="5565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Прямая со стрелкой 9"/>
          <p:cNvCxnSpPr/>
          <p:nvPr/>
        </p:nvCxnSpPr>
        <p:spPr>
          <a:xfrm>
            <a:off x="5335560" y="3220560"/>
            <a:ext cx="1294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Прямоугольник 8"/>
          <p:cNvSpPr/>
          <p:nvPr/>
        </p:nvSpPr>
        <p:spPr>
          <a:xfrm>
            <a:off x="3805200" y="27590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Лінія дії сил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ая соединительная линия 10"/>
          <p:cNvSpPr/>
          <p:nvPr/>
        </p:nvSpPr>
        <p:spPr>
          <a:xfrm>
            <a:off x="6734160" y="2495520"/>
            <a:ext cx="7920" cy="34527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ая соединительная линия 15"/>
          <p:cNvSpPr/>
          <p:nvPr/>
        </p:nvSpPr>
        <p:spPr>
          <a:xfrm>
            <a:off x="2535120" y="2894040"/>
            <a:ext cx="7920" cy="34527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2T17:05:03Z</dcterms:created>
  <dc:creator>Dimid</dc:creator>
  <dc:description/>
  <dc:language>en-US</dc:language>
  <cp:lastModifiedBy>Dimid</cp:lastModifiedBy>
  <dcterms:modified xsi:type="dcterms:W3CDTF">2013-12-23T01:03:06Z</dcterms:modified>
  <cp:revision>3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a000000000001024140</vt:lpwstr>
  </property>
</Properties>
</file>