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1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2B6-396C-408D-8DE8-417CDE6C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15E-0936-4C37-8D2E-0E0BF03A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0C2-1F54-4D21-82CE-84BDEF6A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D7F-A800-4774-BD0F-10BD45FA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930-F303-4A3A-8AE9-0F1F3DB2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172-0C3D-419F-9694-A27C91A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9B5-B86C-4E2D-883A-3332E3A1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FF5-F465-48C5-B93E-1E85E403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6CC5-41D5-4358-BE08-6CAA8B61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55C-B28E-4F0B-8323-9FBE98E5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20E-86EC-4AD3-B384-F359BBBB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193F-2319-44EB-8920-724777D5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A5F0-9531-4C23-A21D-5368D461139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3080" y="1784520"/>
            <a:ext cx="7772400" cy="18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 Light"/>
              </a:rPr>
              <a:t>Тема уроку: </a:t>
            </a:r>
            <a:r>
              <a:rPr b="1" lang="uk-UA" sz="4000" spc="-1" strike="noStrike">
                <a:solidFill>
                  <a:srgbClr val="000000"/>
                </a:solidFill>
                <a:latin typeface="Calibri Light"/>
              </a:rPr>
              <a:t>Прості механізми. Важіль. Блок. Умова рівноваги важеля. Момент сили.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" y="3320640"/>
            <a:ext cx="86644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ета: сформувати в учнів поняття: простих механізмів важеля та блоку, плече дії сили, момент сили; визначити умову рівноваги важеля;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звивати творче мислення, уміння спостерігати та аналізувати; виховувати політехнічний кругозір учні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Дайте мені точку опори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і я зрушу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Архім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1328085951_1234"/>
          <p:cNvPicPr/>
          <p:nvPr/>
        </p:nvPicPr>
        <p:blipFill>
          <a:blip r:embed="rId1"/>
          <a:stretch/>
        </p:blipFill>
        <p:spPr>
          <a:xfrm>
            <a:off x="4119480" y="166680"/>
            <a:ext cx="2136960" cy="146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pyram2"/>
          <p:cNvPicPr/>
          <p:nvPr/>
        </p:nvPicPr>
        <p:blipFill>
          <a:blip r:embed="rId2"/>
          <a:stretch/>
        </p:blipFill>
        <p:spPr>
          <a:xfrm>
            <a:off x="7101000" y="150840"/>
            <a:ext cx="1778040" cy="222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15e-i1"/>
          <p:cNvPicPr/>
          <p:nvPr/>
        </p:nvPicPr>
        <p:blipFill>
          <a:blip r:embed="rId3"/>
          <a:stretch/>
        </p:blipFill>
        <p:spPr>
          <a:xfrm>
            <a:off x="343080" y="150840"/>
            <a:ext cx="280188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7" descr=""/>
          <p:cNvPicPr/>
          <p:nvPr/>
        </p:nvPicPr>
        <p:blipFill>
          <a:blip r:embed="rId1"/>
          <a:srcRect l="0" t="0" r="-122" b="188"/>
          <a:stretch/>
        </p:blipFill>
        <p:spPr>
          <a:xfrm>
            <a:off x="0" y="3892680"/>
            <a:ext cx="3051000" cy="2808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"/>
          <p:cNvPicPr/>
          <p:nvPr/>
        </p:nvPicPr>
        <p:blipFill>
          <a:blip r:embed="rId2"/>
          <a:stretch/>
        </p:blipFill>
        <p:spPr>
          <a:xfrm>
            <a:off x="6197760" y="3892680"/>
            <a:ext cx="2835000" cy="2617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35120" y="2762280"/>
            <a:ext cx="4073760" cy="24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  <a:ea typeface="Times New Roman"/>
              </a:rPr>
              <a:t>ℓ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- плече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и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[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] =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м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(ОА и ОВ – плеч</a:t>
            </a:r>
            <a:r>
              <a:rPr b="0" lang="uk-UA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і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ил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₁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та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F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₂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77880" y="875520"/>
            <a:ext cx="778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"/>
              </a:rPr>
              <a:t>Плече важеля – частина важеля, до якого при­кладена сила відносно осі обертанн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1" name="важіль.mp4" descr=""/>
          <p:cNvPicPr/>
          <p:nvPr/>
        </p:nvPicPr>
        <p:blipFill>
          <a:blip r:embed="rId1"/>
          <a:stretch/>
        </p:blipFill>
        <p:spPr>
          <a:xfrm>
            <a:off x="82440" y="0"/>
            <a:ext cx="897408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 Light"/>
              </a:rPr>
              <a:t>Правило рівноваги важел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3" name="Объект 2" descr=""/>
          <p:cNvPicPr/>
          <p:nvPr/>
        </p:nvPicPr>
        <p:blipFill>
          <a:blip r:embed="rId1"/>
          <a:stretch/>
        </p:blipFill>
        <p:spPr>
          <a:xfrm>
            <a:off x="628560" y="1822320"/>
            <a:ext cx="7886880" cy="43531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3292560" y="2700360"/>
            <a:ext cx="25588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Типи важелів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6" name="Picture 2" descr="&amp;Fcy;&amp;acy;&amp;jcy;&amp;lcy;:LeverFirstClass.svg"/>
          <p:cNvPicPr/>
          <p:nvPr/>
        </p:nvPicPr>
        <p:blipFill>
          <a:blip r:embed="rId1"/>
          <a:stretch/>
        </p:blipFill>
        <p:spPr>
          <a:xfrm>
            <a:off x="541440" y="3648240"/>
            <a:ext cx="403056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&amp;Fcy;&amp;acy;&amp;jcy;&amp;lcy;:LeverSecondClass.svg"/>
          <p:cNvPicPr/>
          <p:nvPr/>
        </p:nvPicPr>
        <p:blipFill>
          <a:blip r:embed="rId2"/>
          <a:stretch/>
        </p:blipFill>
        <p:spPr>
          <a:xfrm>
            <a:off x="4768920" y="3822840"/>
            <a:ext cx="4260960" cy="21301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887400" y="2649600"/>
            <a:ext cx="38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ажіль першого тип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4803120" y="2670120"/>
            <a:ext cx="371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ажіль другого тип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Момент сил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1" name="Объект 2" descr=""/>
          <p:cNvPicPr/>
          <p:nvPr/>
        </p:nvPicPr>
        <p:blipFill>
          <a:blip r:embed="rId1"/>
          <a:stretch/>
        </p:blipFill>
        <p:spPr>
          <a:xfrm>
            <a:off x="628560" y="1822320"/>
            <a:ext cx="7886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Бло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Блок 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це колесо з жолобом, закріплене в обоймі, яке обертається навколо своєї осі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upload.wikimedia.org/wikipedia/commons/9/9a/PulleyShip.JPG"/>
          <p:cNvPicPr/>
          <p:nvPr/>
        </p:nvPicPr>
        <p:blipFill>
          <a:blip r:embed="rId1"/>
          <a:stretch/>
        </p:blipFill>
        <p:spPr>
          <a:xfrm>
            <a:off x="5003640" y="316404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u.jimdo.com/www52/o/s3dd788ec6f7fbab8/img/iacf61cb140fa9cc9/1354830045/std/%D0%B0-%D1%86%D0%B5-%D0%BD%D0%B5%D1%80%D1%83%D1%85%D0%BE%D0%BC%D0%B8%D0%B9-%D0%B1%D0%BB%D0%BE%D0%BA.jpg"/>
          <p:cNvPicPr/>
          <p:nvPr/>
        </p:nvPicPr>
        <p:blipFill>
          <a:blip r:embed="rId2"/>
          <a:stretch/>
        </p:blipFill>
        <p:spPr>
          <a:xfrm>
            <a:off x="1052640" y="3164040"/>
            <a:ext cx="24336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ерухомий бло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2520" y="1201320"/>
            <a:ext cx="57150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ерухомий блок 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– </a:t>
            </a:r>
            <a:r>
              <a:rPr b="0" i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блок, вісь якого закріпле­на і під час піднімання вантажів він не підні­мається й не опускається</a:t>
            </a:r>
            <a:r>
              <a:rPr b="0" i="1" lang="ru-RU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Нерухомий блок можна розглядати як рівноплечий важіль, у якого плечі сил дорівнюють радіусу колеса: </a:t>
            </a:r>
            <a:r>
              <a:rPr b="0" i="1" lang="ru-RU" sz="2100" spc="-1" strike="noStrike">
                <a:solidFill>
                  <a:srgbClr val="0563c1"/>
                </a:solidFill>
                <a:latin typeface="Calibri Light"/>
                <a:ea typeface="Calibri"/>
              </a:rPr>
              <a:t>OA</a:t>
            </a:r>
            <a:r>
              <a:rPr b="0" i="1" lang="en-US" sz="2100" spc="-1" strike="noStrike">
                <a:solidFill>
                  <a:srgbClr val="0563c1"/>
                </a:solidFill>
                <a:latin typeface="Calibri Light"/>
                <a:ea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=</a:t>
            </a:r>
            <a:r>
              <a:rPr b="0" lang="en-US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0" i="1" lang="ru-RU" sz="2100" spc="-1" strike="noStrike">
                <a:solidFill>
                  <a:srgbClr val="0563c1"/>
                </a:solidFill>
                <a:latin typeface="Calibri Light"/>
                <a:ea typeface="Calibri"/>
              </a:rPr>
              <a:t>OB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У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Calibri"/>
              </a:rPr>
              <a:t>мовою рівноваги блоку буде рівність прикладених си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alibri Light"/>
              </a:rPr>
              <a:t>F </a:t>
            </a:r>
            <a:r>
              <a:rPr b="1" lang="ru-RU" sz="2100" spc="-1" strike="noStrike">
                <a:solidFill>
                  <a:srgbClr val="000000"/>
                </a:solidFill>
                <a:latin typeface="Calibri Light"/>
              </a:rPr>
              <a:t>= </a:t>
            </a:r>
            <a:r>
              <a:rPr b="1" i="1" lang="ru-RU" sz="2100" spc="-1" strike="noStrike">
                <a:solidFill>
                  <a:srgbClr val="000000"/>
                </a:solidFill>
                <a:latin typeface="Calibri Light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 Light"/>
              </a:rPr>
              <a:t>Звідси випливає, що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ff0000"/>
                </a:solidFill>
                <a:latin typeface="Calibri Light"/>
              </a:rPr>
              <a:t>Нерухомий блок не дає виграшу в силі, але дозволяє змінювати напрямок дії сил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272280" y="1635120"/>
            <a:ext cx="27669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6075360" y="1325520"/>
            <a:ext cx="3068640" cy="4848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788652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Рухомий блок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2"/>
          <a:stretch/>
        </p:blipFill>
        <p:spPr>
          <a:xfrm>
            <a:off x="249120" y="701640"/>
            <a:ext cx="62550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Коловоро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1440" y="15094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Коловорот – це нерухомий блок, який оберта­ється разом із закріпленою в ньому вісс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upload.wikimedia.org/wikipedia/commons/thumb/4/43/Agricola_waterwheel.jpg/220px-Agricola_waterwheel.jpg"/>
          <p:cNvPicPr/>
          <p:nvPr/>
        </p:nvPicPr>
        <p:blipFill>
          <a:blip r:embed="rId1"/>
          <a:stretch/>
        </p:blipFill>
        <p:spPr>
          <a:xfrm>
            <a:off x="5151600" y="2770200"/>
            <a:ext cx="2444760" cy="388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upload.wikimedia.org/wikipedia/commons/thumb/4/46/Wheelaxle_quackenbos.gif/250px-Wheelaxle_quackenbos.gif"/>
          <p:cNvPicPr/>
          <p:nvPr/>
        </p:nvPicPr>
        <p:blipFill>
          <a:blip r:embed="rId2"/>
          <a:stretch/>
        </p:blipFill>
        <p:spPr>
          <a:xfrm>
            <a:off x="1182600" y="3849840"/>
            <a:ext cx="23814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 Light"/>
              </a:rPr>
              <a:t>Похила площи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6142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Похила площина — це площина, розміщена під кутом до горизон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53240" y="2552760"/>
            <a:ext cx="2036880" cy="1942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622600"/>
            <a:ext cx="3630600" cy="3138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400560" y="3873600"/>
            <a:ext cx="3352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Що таке простий механізм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23871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остий механізм – пристрій, що використовується для виконання роботи, і який перетворює значення сили та її напрям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1"/>
          <p:cNvGrpSpPr/>
          <p:nvPr/>
        </p:nvGrpSpPr>
        <p:grpSpPr>
          <a:xfrm>
            <a:off x="250920" y="330480"/>
            <a:ext cx="8713800" cy="4466880"/>
            <a:chOff x="250920" y="330480"/>
            <a:chExt cx="8713800" cy="4466880"/>
          </a:xfrm>
        </p:grpSpPr>
        <p:pic>
          <p:nvPicPr>
            <p:cNvPr id="132" name="Picture 6" descr=""/>
            <p:cNvPicPr/>
            <p:nvPr/>
          </p:nvPicPr>
          <p:blipFill>
            <a:blip r:embed="rId1"/>
            <a:stretch/>
          </p:blipFill>
          <p:spPr>
            <a:xfrm>
              <a:off x="250920" y="404640"/>
              <a:ext cx="823680" cy="43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"/>
            <p:cNvPicPr/>
            <p:nvPr/>
          </p:nvPicPr>
          <p:blipFill>
            <a:blip r:embed="rId2"/>
            <a:stretch/>
          </p:blipFill>
          <p:spPr>
            <a:xfrm>
              <a:off x="5076720" y="2637000"/>
              <a:ext cx="352908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9"/>
            <p:cNvSpPr/>
            <p:nvPr/>
          </p:nvSpPr>
          <p:spPr>
            <a:xfrm>
              <a:off x="1332000" y="330480"/>
              <a:ext cx="7632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Якщо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l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довжина похилої площини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h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висота похилої площини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P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вага візка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F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 Light"/>
                  <a:ea typeface="Calibri"/>
                </a:rPr>
                <a:t>— сила, прикладена до візка,то за відсутності сили тертя можна записати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" name="Прямоугольник 1" descr=""/>
          <p:cNvPicPr/>
          <p:nvPr/>
        </p:nvPicPr>
        <p:blipFill>
          <a:blip r:embed="rId3"/>
          <a:stretch/>
        </p:blipFill>
        <p:spPr>
          <a:xfrm>
            <a:off x="1994040" y="3048120"/>
            <a:ext cx="2352600" cy="90792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2"/>
          <p:cNvSpPr/>
          <p:nvPr/>
        </p:nvSpPr>
        <p:spPr>
          <a:xfrm>
            <a:off x="738360" y="5127480"/>
            <a:ext cx="773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ри використанні похилої площини виграють у силі в стільки разів, у скільки разів довжина похилої площини більше її вис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Клин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Клин </a:t>
            </a: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тверде тіло, поздовжнім перерізом якого є прямокутний трикутник.</a:t>
            </a:r>
            <a:r>
              <a:rPr b="1" i="1" lang="uk-UA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2071800" y="3000240"/>
            <a:ext cx="5011560" cy="3624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1635120" y="353376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учка топ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513400" y="3227400"/>
            <a:ext cx="1643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тальне  лез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2071800" y="5213520"/>
            <a:ext cx="969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лі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5721480" y="5089680"/>
            <a:ext cx="1419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оскі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792440"/>
            <a:ext cx="788688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 – прямий циліндр, який має на поверх­ні гвинтову лінію (нарізку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1"/>
          <a:stretch/>
        </p:blipFill>
        <p:spPr>
          <a:xfrm>
            <a:off x="1071720" y="2795760"/>
            <a:ext cx="7091280" cy="334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934920" y="4211640"/>
            <a:ext cx="262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згортка різьб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7121520" y="4856040"/>
            <a:ext cx="1217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ізь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Застосування гвинта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0" name="Picture 2" descr="http://upload.wikimedia.org/wikipedia/commons/7/73/Jackscrew.jpg"/>
          <p:cNvPicPr/>
          <p:nvPr/>
        </p:nvPicPr>
        <p:blipFill>
          <a:blip r:embed="rId1"/>
          <a:stretch/>
        </p:blipFill>
        <p:spPr>
          <a:xfrm>
            <a:off x="507960" y="1554120"/>
            <a:ext cx="2911680" cy="2541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fion.ru/images/handmade/20178368590a629ad434f9f7bb15289f.jpg"/>
          <p:cNvPicPr/>
          <p:nvPr/>
        </p:nvPicPr>
        <p:blipFill>
          <a:blip r:embed="rId2"/>
          <a:srcRect l="0" t="0" r="-168" b="-80"/>
          <a:stretch/>
        </p:blipFill>
        <p:spPr>
          <a:xfrm>
            <a:off x="3844800" y="1554120"/>
            <a:ext cx="1917720" cy="3173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 &amp;Fcy;&amp;ocy;&amp;tcy;&amp;ocy; 39. &amp;Rcy;&amp;ucy;&amp;chcy;&amp;ncy;&amp;acy;&amp;yacy; &amp;dcy;&amp;rcy;&amp;iecy;&amp;lcy;&amp;softcy; (&amp;kcy;&amp;ocy;&amp;lcy;&amp;ocy;&amp;vcy;&amp;ocy;&amp;rcy;&amp;ocy;&amp;tcy;). "/>
          <p:cNvPicPr/>
          <p:nvPr/>
        </p:nvPicPr>
        <p:blipFill>
          <a:blip r:embed="rId3"/>
          <a:stretch/>
        </p:blipFill>
        <p:spPr>
          <a:xfrm>
            <a:off x="5934240" y="2760840"/>
            <a:ext cx="3198600" cy="27684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3"/>
          <p:cNvSpPr/>
          <p:nvPr/>
        </p:nvSpPr>
        <p:spPr>
          <a:xfrm>
            <a:off x="518400" y="448776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омк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5934240" y="5481720"/>
            <a:ext cx="24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вердл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2592720" y="4896000"/>
            <a:ext cx="33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овий пр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ff0000"/>
                </a:solidFill>
                <a:latin typeface="Calibri Light"/>
              </a:rPr>
              <a:t>«ЗОЛО­ТЕ ПРАВИЛО» МЕХАНІК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480" y="2479680"/>
            <a:ext cx="90295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кільки разів виграємо у силі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тільки ж разів програємо у відста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АБ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кільки разів виграємо у відстані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alibri"/>
              </a:rPr>
              <a:t>у стільки ж разів програємо у сил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50840" y="460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300" spc="-1" strike="noStrike">
                <a:solidFill>
                  <a:srgbClr val="000000"/>
                </a:solidFill>
                <a:latin typeface="Calibri Light"/>
              </a:rPr>
              <a:t>Розв'язування задач усно.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344600"/>
            <a:ext cx="788688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Чи підніме людина, яка стоїть на підлозі і має вагу 600 Н, за допомогою нерухомого блока ван­таж, маса якого 82 кг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А за допомогою рухомого блока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На яку довжину потрібно протягнути вільний кінець мотузки рухомого блока, щоб вантаж, який висить на гачку блока, підняти на 120 см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Довжина схилу похилої площини утричі більша за її висоту. Яку слід прикласти силу, щоб підняти вантаж вагою 1,2 кН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uk-UA" sz="3300" spc="-1" strike="noStrike">
                <a:solidFill>
                  <a:srgbClr val="000000"/>
                </a:solidFill>
                <a:latin typeface="Calibri Light"/>
              </a:rPr>
              <a:t>Розв'язування задач письмово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8560" y="1072800"/>
            <a:ext cx="788688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ка довжина важеля, до  кінців якого прикладені сили 5 Н і 10 Н, якщо він перебуває в рівновазі, а менше плече дорівнює 40 с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Який максимальний вантаж може підняти хлопчик вагою 420 Н, користуючись одним рухо­мим і одним нерухомим блоком, якщо вага блока 20 Н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3" name="машина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омашнє завданн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1. 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§§</a:t>
            </a:r>
            <a:r>
              <a:rPr b="0" lang="ru-RU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21-24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, опрацювати конспек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2. Розв'язати задачу: на менше плече важеля діє сила 300 Н, на більше – 20 Н. Довжина меншого плеча 5 см. Визначити довжину більшого плеч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3. Підготуватись до лабораторної роботи №</a:t>
            </a:r>
            <a:r>
              <a:rPr b="1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8 «З'ясування умови рівноваги важеля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4480" y="715680"/>
            <a:ext cx="893916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Традиційно виділяють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Calibri Light"/>
                <a:ea typeface="Times New Roman"/>
              </a:rPr>
              <a:t>6</a:t>
            </a:r>
            <a:r>
              <a:rPr b="0" lang="uk-UA" sz="4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простих механізмі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99920" y="2019240"/>
            <a:ext cx="788652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ажі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оловор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Бл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охила площ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9040" indent="-14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Гви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Прямая со стрелкой 14"/>
          <p:cNvCxnSpPr>
            <a:stCxn id="51" idx="2"/>
            <a:endCxn id="52" idx="0"/>
          </p:cNvCxnSpPr>
          <p:nvPr/>
        </p:nvCxnSpPr>
        <p:spPr>
          <a:xfrm flipH="1">
            <a:off x="2436840" y="1309320"/>
            <a:ext cx="2340360" cy="13993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2" name="TextBox 15"/>
          <p:cNvSpPr/>
          <p:nvPr/>
        </p:nvSpPr>
        <p:spPr>
          <a:xfrm>
            <a:off x="1219320" y="2708280"/>
            <a:ext cx="24350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ажі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2293920" y="5342040"/>
            <a:ext cx="24033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Коловоро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92160" y="5342040"/>
            <a:ext cx="20541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Бл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4888080" y="2712960"/>
            <a:ext cx="389232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охила площ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5213520" y="5342040"/>
            <a:ext cx="19605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Гви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0"/>
          <p:cNvSpPr/>
          <p:nvPr/>
        </p:nvSpPr>
        <p:spPr>
          <a:xfrm>
            <a:off x="2720880" y="663480"/>
            <a:ext cx="4113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ості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механіз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Прямая со стрелкой 21"/>
          <p:cNvCxnSpPr>
            <a:stCxn id="51" idx="2"/>
            <a:endCxn id="55" idx="0"/>
          </p:cNvCxnSpPr>
          <p:nvPr/>
        </p:nvCxnSpPr>
        <p:spPr>
          <a:xfrm>
            <a:off x="4776480" y="1309680"/>
            <a:ext cx="2057760" cy="140400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8" name="Прямая со стрелкой 22"/>
          <p:cNvCxnSpPr>
            <a:stCxn id="52" idx="2"/>
            <a:endCxn id="54" idx="0"/>
          </p:cNvCxnSpPr>
          <p:nvPr/>
        </p:nvCxnSpPr>
        <p:spPr>
          <a:xfrm flipH="1">
            <a:off x="1118880" y="3354120"/>
            <a:ext cx="1318320" cy="198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9" name="Прямая со стрелкой 23"/>
          <p:cNvCxnSpPr>
            <a:stCxn id="52" idx="2"/>
            <a:endCxn id="53" idx="0"/>
          </p:cNvCxnSpPr>
          <p:nvPr/>
        </p:nvCxnSpPr>
        <p:spPr>
          <a:xfrm>
            <a:off x="2436480" y="3354120"/>
            <a:ext cx="1059480" cy="198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0" name="Прямая со стрелкой 24"/>
          <p:cNvCxnSpPr>
            <a:stCxn id="55" idx="2"/>
            <a:endCxn id="56" idx="0"/>
          </p:cNvCxnSpPr>
          <p:nvPr/>
        </p:nvCxnSpPr>
        <p:spPr>
          <a:xfrm flipH="1">
            <a:off x="6192360" y="3359160"/>
            <a:ext cx="642240" cy="1983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1" name="Прямая со стрелкой 25"/>
          <p:cNvCxnSpPr>
            <a:stCxn id="55" idx="2"/>
            <a:endCxn id="62" idx="0"/>
          </p:cNvCxnSpPr>
          <p:nvPr/>
        </p:nvCxnSpPr>
        <p:spPr>
          <a:xfrm>
            <a:off x="6833880" y="3359160"/>
            <a:ext cx="1305720" cy="1983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62" name="TextBox 26"/>
          <p:cNvSpPr/>
          <p:nvPr/>
        </p:nvSpPr>
        <p:spPr>
          <a:xfrm>
            <a:off x="7307280" y="5342040"/>
            <a:ext cx="166536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Кл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libri Light"/>
              </a:rPr>
              <a:t>Важіль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Важіль – це тверде тіло, що може обертатися навколо нерухомої опори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1328085951_1234"/>
          <p:cNvPicPr/>
          <p:nvPr/>
        </p:nvPicPr>
        <p:blipFill>
          <a:blip r:embed="rId1"/>
          <a:stretch/>
        </p:blipFill>
        <p:spPr>
          <a:xfrm>
            <a:off x="5351400" y="4475160"/>
            <a:ext cx="3035520" cy="208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15e-i1"/>
          <p:cNvPicPr/>
          <p:nvPr/>
        </p:nvPicPr>
        <p:blipFill>
          <a:blip r:embed="rId2"/>
          <a:stretch/>
        </p:blipFill>
        <p:spPr>
          <a:xfrm>
            <a:off x="287280" y="2822400"/>
            <a:ext cx="49356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676080"/>
            <a:ext cx="36496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Плече важеля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798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лече важеля – частина важеля, до якого при­кладена сила відносно осі оберт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965160" y="2803680"/>
            <a:ext cx="7265880" cy="3531960"/>
          </a:xfrm>
          <a:prstGeom prst="rect">
            <a:avLst/>
          </a:prstGeom>
          <a:ln w="0">
            <a:noFill/>
          </a:ln>
        </p:spPr>
      </p:pic>
      <p:sp>
        <p:nvSpPr>
          <p:cNvPr id="70" name="Левая фигурная скобка 4"/>
          <p:cNvSpPr/>
          <p:nvPr/>
        </p:nvSpPr>
        <p:spPr>
          <a:xfrm rot="3863400">
            <a:off x="2872440" y="4099680"/>
            <a:ext cx="608040" cy="1311120"/>
          </a:xfrm>
          <a:custGeom>
            <a:avLst/>
            <a:gdLst>
              <a:gd name="textAreaLeft" fmla="*/ 388440 w 608040"/>
              <a:gd name="textAreaRight" fmla="*/ 608400 w 608040"/>
              <a:gd name="textAreaTop" fmla="*/ 64800 h 1311120"/>
              <a:gd name="textAreaBottom" fmla="*/ 1246320 h 131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1"/>
                  <a:pt x="10800" y="3421"/>
                </a:cubicBezTo>
                <a:lnTo>
                  <a:pt x="10800" y="7393"/>
                </a:lnTo>
                <a:cubicBezTo>
                  <a:pt x="10800" y="9104"/>
                  <a:pt x="5400" y="10814"/>
                  <a:pt x="0" y="10814"/>
                </a:cubicBezTo>
                <a:cubicBezTo>
                  <a:pt x="5400" y="10814"/>
                  <a:pt x="10800" y="12525"/>
                  <a:pt x="10800" y="14235"/>
                </a:cubicBezTo>
                <a:lnTo>
                  <a:pt x="10800" y="18179"/>
                </a:lnTo>
                <a:cubicBezTo>
                  <a:pt x="10800" y="1989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Левая фигурная скобка 6"/>
          <p:cNvSpPr/>
          <p:nvPr/>
        </p:nvSpPr>
        <p:spPr>
          <a:xfrm rot="3940200">
            <a:off x="5236560" y="1760400"/>
            <a:ext cx="609840" cy="3848040"/>
          </a:xfrm>
          <a:custGeom>
            <a:avLst/>
            <a:gdLst>
              <a:gd name="textAreaLeft" fmla="*/ 389520 w 609840"/>
              <a:gd name="textAreaRight" fmla="*/ 610200 w 609840"/>
              <a:gd name="textAreaTop" fmla="*/ 65160 h 3848040"/>
              <a:gd name="textAreaBottom" fmla="*/ 3782880 h 384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5"/>
                  <a:pt x="10800" y="1169"/>
                </a:cubicBezTo>
                <a:lnTo>
                  <a:pt x="10800" y="9645"/>
                </a:lnTo>
                <a:cubicBezTo>
                  <a:pt x="10800" y="10230"/>
                  <a:pt x="5400" y="10814"/>
                  <a:pt x="0" y="10814"/>
                </a:cubicBezTo>
                <a:cubicBezTo>
                  <a:pt x="5400" y="10814"/>
                  <a:pt x="10800" y="11399"/>
                  <a:pt x="10800" y="11983"/>
                </a:cubicBezTo>
                <a:lnTo>
                  <a:pt x="10800" y="20431"/>
                </a:lnTo>
                <a:cubicBezTo>
                  <a:pt x="10800" y="2101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744200" y="377496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лече важе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45960" y="289548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Плече важел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Точка прикладання сили</a:t>
            </a:r>
            <a:r>
              <a:rPr b="1" i="1" lang="uk-UA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Точка прикладання сили– це точка, в якій на важіль діє сила</a:t>
            </a:r>
            <a:r>
              <a:rPr b="0" i="1" lang="uk-UA" sz="2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793800" y="2897280"/>
            <a:ext cx="7265880" cy="3531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4"/>
          <p:cNvSpPr/>
          <p:nvPr/>
        </p:nvSpPr>
        <p:spPr>
          <a:xfrm>
            <a:off x="260280" y="3770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очка прикладання с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4324320" y="278136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Точка прикладання с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Прямая со стрелкой 7"/>
          <p:cNvCxnSpPr/>
          <p:nvPr/>
        </p:nvCxnSpPr>
        <p:spPr>
          <a:xfrm>
            <a:off x="2050920" y="4308480"/>
            <a:ext cx="804240" cy="992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Прямая со стрелкой 9"/>
          <p:cNvCxnSpPr/>
          <p:nvPr/>
        </p:nvCxnSpPr>
        <p:spPr>
          <a:xfrm>
            <a:off x="5775480" y="3300480"/>
            <a:ext cx="1257840" cy="186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Вісь обертання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Вісь обертання – лінія, перпендикулярна до поздовжньої осі важеля. Важіль може вільно обер­татися навколо цієї ос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576360" y="3038400"/>
            <a:ext cx="7265880" cy="35323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60280" y="3770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Вісь оберт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Прямая со стрелкой 7"/>
          <p:cNvCxnSpPr/>
          <p:nvPr/>
        </p:nvCxnSpPr>
        <p:spPr>
          <a:xfrm>
            <a:off x="2050920" y="4308480"/>
            <a:ext cx="1496160" cy="837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3300" spc="-1" strike="noStrike">
                <a:solidFill>
                  <a:srgbClr val="000000"/>
                </a:solidFill>
                <a:latin typeface="Calibri Light"/>
              </a:rPr>
              <a:t>Лінія дії сили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8200" y="1825200"/>
            <a:ext cx="815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Лінія дії сили – це лінія, яка показує напрям дії си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bbel.ru/_ph/29/2/626898919.jpg"/>
          <p:cNvPicPr/>
          <p:nvPr/>
        </p:nvPicPr>
        <p:blipFill>
          <a:blip r:embed="rId1"/>
          <a:stretch/>
        </p:blipFill>
        <p:spPr>
          <a:xfrm>
            <a:off x="506520" y="2944800"/>
            <a:ext cx="7265880" cy="35305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2724120" y="3692520"/>
            <a:ext cx="35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інія дії сили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Прямая со стрелкой 7"/>
          <p:cNvCxnSpPr>
            <a:stCxn id="89" idx="2"/>
          </p:cNvCxnSpPr>
          <p:nvPr/>
        </p:nvCxnSpPr>
        <p:spPr>
          <a:xfrm flipH="1">
            <a:off x="2623680" y="4154400"/>
            <a:ext cx="1890000" cy="556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Прямая со стрелкой 9"/>
          <p:cNvCxnSpPr/>
          <p:nvPr/>
        </p:nvCxnSpPr>
        <p:spPr>
          <a:xfrm>
            <a:off x="5335560" y="3220560"/>
            <a:ext cx="1294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3805200" y="2759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інія дії сили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ая соединительная линия 10"/>
          <p:cNvSpPr/>
          <p:nvPr/>
        </p:nvSpPr>
        <p:spPr>
          <a:xfrm>
            <a:off x="6734160" y="2495520"/>
            <a:ext cx="7920" cy="34527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15"/>
          <p:cNvSpPr/>
          <p:nvPr/>
        </p:nvSpPr>
        <p:spPr>
          <a:xfrm>
            <a:off x="2535120" y="2894040"/>
            <a:ext cx="7920" cy="34527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7:05:03Z</dcterms:created>
  <dc:creator>Dimid</dc:creator>
  <dc:description/>
  <dc:language>en-US</dc:language>
  <cp:lastModifiedBy>Dimid</cp:lastModifiedBy>
  <dcterms:modified xsi:type="dcterms:W3CDTF">2013-12-23T01:03:06Z</dcterms:modified>
  <cp:revision>3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a000000000001024140</vt:lpwstr>
  </property>
</Properties>
</file>