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28.png" ContentType="image/png"/>
  <Override PartName="/ppt/media/image7.jpeg" ContentType="image/jpeg"/>
  <Override PartName="/ppt/media/image27.png" ContentType="image/png"/>
  <Override PartName="/ppt/media/image33.jpeg" ContentType="image/jpeg"/>
  <Override PartName="/ppt/media/image13.jpeg" ContentType="image/jpeg"/>
  <Override PartName="/ppt/media/image22.jpeg" ContentType="image/jpeg"/>
  <Override PartName="/ppt/media/image20.png" ContentType="image/png"/>
  <Override PartName="/ppt/media/image34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2.jpeg" ContentType="image/jpeg"/>
  <Override PartName="/ppt/media/image35.png" ContentType="image/png"/>
  <Override PartName="/ppt/media/image4.wmf" ContentType="image/x-wmf"/>
  <Override PartName="/ppt/media/image14.png" ContentType="image/png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25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CBF2-7C3F-49C4-ADB4-41F79378A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4738-C1D2-4595-8B35-638D6009D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38D-64D4-4A0F-8530-28B2DFD2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756-C620-42EC-8B9C-0AB1A600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40E-900E-448B-A030-353722B3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30B-9A5B-4B0D-A57B-0F6C056E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DD7-013E-4652-8B72-785AAED8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9D3-0947-47F8-A4AA-6235BCC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6BC-561F-4065-85D1-D453331F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744-5341-4957-9B0A-24AFF5E6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F23-E845-486C-8F70-66D0D1FA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5BD-816A-4746-9DA0-E52F0D96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FAD-8BBF-45D3-B74F-62422695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065-AA58-4C52-82F5-89FCE7A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417B-40B2-4B56-BBA1-773D5F631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Arial"/>
              </a:rPr>
              <a:t>Земне тяжіння. Сила тяжіння. Вага тіла. Невагом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3040" y="45716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итель фізики Цвітоського НВО Тимчук Л.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Овал 5"/>
          <p:cNvSpPr/>
          <p:nvPr/>
        </p:nvSpPr>
        <p:spPr>
          <a:xfrm>
            <a:off x="2819520" y="1219320"/>
            <a:ext cx="457200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Форм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327480" y="1295280"/>
            <a:ext cx="3494160" cy="145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362320" y="2712960"/>
            <a:ext cx="5154480" cy="7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6095880" y="3733920"/>
            <a:ext cx="1700280" cy="25606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1295280" y="3367080"/>
            <a:ext cx="5257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Напрям сили тяж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4"/>
          <a:stretch/>
        </p:blipFill>
        <p:spPr>
          <a:xfrm>
            <a:off x="2101680" y="4343400"/>
            <a:ext cx="2394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Центр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1523880" y="3200400"/>
            <a:ext cx="221004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"/>
          <p:cNvSpPr/>
          <p:nvPr/>
        </p:nvSpPr>
        <p:spPr>
          <a:xfrm>
            <a:off x="1523880" y="3200400"/>
            <a:ext cx="2210040" cy="106668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6"/>
          <p:cNvSpPr/>
          <p:nvPr/>
        </p:nvSpPr>
        <p:spPr>
          <a:xfrm>
            <a:off x="1523880" y="3200400"/>
            <a:ext cx="2210040" cy="106668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 flipV="1">
            <a:off x="1523880" y="3200040"/>
            <a:ext cx="2210040" cy="106668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9"/>
          <p:cNvSpPr/>
          <p:nvPr/>
        </p:nvSpPr>
        <p:spPr>
          <a:xfrm>
            <a:off x="4800600" y="2590920"/>
            <a:ext cx="1600200" cy="1447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>
            <a:off x="5600880" y="2590920"/>
            <a:ext cx="0" cy="144756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3"/>
          <p:cNvSpPr/>
          <p:nvPr/>
        </p:nvSpPr>
        <p:spPr>
          <a:xfrm>
            <a:off x="4800600" y="3314880"/>
            <a:ext cx="1600200" cy="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14"/>
          <p:cNvSpPr/>
          <p:nvPr/>
        </p:nvSpPr>
        <p:spPr>
          <a:xfrm>
            <a:off x="2133720" y="4572000"/>
            <a:ext cx="2438280" cy="1371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6"/>
          <p:cNvSpPr/>
          <p:nvPr/>
        </p:nvSpPr>
        <p:spPr>
          <a:xfrm>
            <a:off x="3352680" y="4572000"/>
            <a:ext cx="0" cy="137160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8"/>
          <p:cNvSpPr/>
          <p:nvPr/>
        </p:nvSpPr>
        <p:spPr>
          <a:xfrm flipH="1" flipV="1">
            <a:off x="2743200" y="5257440"/>
            <a:ext cx="1828800" cy="68580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0"/>
          <p:cNvSpPr/>
          <p:nvPr/>
        </p:nvSpPr>
        <p:spPr>
          <a:xfrm flipV="1">
            <a:off x="2133720" y="5257440"/>
            <a:ext cx="1828800" cy="68580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69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ентр тяжіння – точка прикладання  сили тяжіння, що діє на ті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Всесвітнє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ила всесвітнього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а притягання двох тіл пропорційна масам цих тіл й обернено пропорційна квадрату відстані між ни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між ті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3" descr=""/>
          <p:cNvPicPr/>
          <p:nvPr/>
        </p:nvPicPr>
        <p:blipFill>
          <a:blip r:embed="rId1"/>
          <a:stretch/>
        </p:blipFill>
        <p:spPr>
          <a:xfrm>
            <a:off x="1413000" y="3219480"/>
            <a:ext cx="52164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Вага ті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ила , з якою тіло тисне на опору або розтягує підвіс внаслідок притягання до Землі , називається вагою ті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чається вага буквою Р. Одиниця вимірювання 1 Н. Вага залежить від механічного стану тіла. Якщо воно нерухоме відносно опори або підвісу чи рухається рівномірно і прямолінійно, то вага за значенням і напрямом збігається із силою тяж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905120" y="5410080"/>
            <a:ext cx="4876560" cy="1011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6415200" y="5564160"/>
            <a:ext cx="7318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Напрям в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                                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1828800" y="3124080"/>
            <a:ext cx="175248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5"/>
          <p:cNvSpPr/>
          <p:nvPr/>
        </p:nvSpPr>
        <p:spPr>
          <a:xfrm>
            <a:off x="1219320" y="3962520"/>
            <a:ext cx="289548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11"/>
          <p:cNvCxnSpPr>
            <a:stCxn id="120" idx="2"/>
          </p:cNvCxnSpPr>
          <p:nvPr/>
        </p:nvCxnSpPr>
        <p:spPr>
          <a:xfrm>
            <a:off x="2704680" y="3962160"/>
            <a:ext cx="1080" cy="1143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3" name="Овал 12"/>
          <p:cNvSpPr/>
          <p:nvPr/>
        </p:nvSpPr>
        <p:spPr>
          <a:xfrm>
            <a:off x="6324480" y="380988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4"/>
          <p:cNvSpPr/>
          <p:nvPr/>
        </p:nvSpPr>
        <p:spPr>
          <a:xfrm flipV="1">
            <a:off x="6781680" y="22856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6"/>
          <p:cNvSpPr/>
          <p:nvPr/>
        </p:nvSpPr>
        <p:spPr>
          <a:xfrm>
            <a:off x="6324480" y="22860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20"/>
          <p:cNvCxnSpPr/>
          <p:nvPr/>
        </p:nvCxnSpPr>
        <p:spPr>
          <a:xfrm>
            <a:off x="6781320" y="3809520"/>
            <a:ext cx="10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Овал 21"/>
          <p:cNvSpPr/>
          <p:nvPr/>
        </p:nvSpPr>
        <p:spPr>
          <a:xfrm>
            <a:off x="6781680" y="3809880"/>
            <a:ext cx="46080" cy="46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22"/>
          <p:cNvSpPr/>
          <p:nvPr/>
        </p:nvSpPr>
        <p:spPr>
          <a:xfrm>
            <a:off x="2705040" y="3962520"/>
            <a:ext cx="46080" cy="46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914400" y="1116000"/>
            <a:ext cx="3925800" cy="2313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5791320" y="1523880"/>
            <a:ext cx="19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 = - 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838080" y="2967120"/>
            <a:ext cx="4496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а реакції опори   (напрямлена перпендирулярно  до  опор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5638680" y="2362320"/>
            <a:ext cx="2521080" cy="2649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ила реакції оп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ила натя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14360" y="167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</a:rPr>
              <a:t>тя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Сила натягу завжди напрямлена вздовж підві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3"/>
          <p:cNvSpPr/>
          <p:nvPr/>
        </p:nvSpPr>
        <p:spPr>
          <a:xfrm>
            <a:off x="3505320" y="3581280"/>
            <a:ext cx="1295280" cy="1371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11"/>
          <p:cNvCxnSpPr/>
          <p:nvPr/>
        </p:nvCxnSpPr>
        <p:spPr>
          <a:xfrm>
            <a:off x="4152600" y="4266720"/>
            <a:ext cx="1080" cy="12963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38" name="Прямая соединительная линия 17"/>
          <p:cNvSpPr/>
          <p:nvPr/>
        </p:nvSpPr>
        <p:spPr>
          <a:xfrm flipV="1">
            <a:off x="4152960" y="175248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9"/>
          <p:cNvSpPr/>
          <p:nvPr/>
        </p:nvSpPr>
        <p:spPr>
          <a:xfrm>
            <a:off x="3809880" y="17524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23"/>
          <p:cNvCxnSpPr>
            <a:stCxn id="136" idx="0"/>
          </p:cNvCxnSpPr>
          <p:nvPr/>
        </p:nvCxnSpPr>
        <p:spPr>
          <a:xfrm flipV="1">
            <a:off x="4152600" y="2285640"/>
            <a:ext cx="1080" cy="1296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Невагомі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3008520" cy="2075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3681360" y="2057400"/>
            <a:ext cx="17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Відмінності між силою тяжіння і ваго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1731960" cy="2457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1725840" cy="20732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2220840" y="5105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а тяжіння діє на саме тіло, а вага цього тіла діє на опору або підві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Ро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4128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Знайди па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ила пружності 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видовження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Arial"/>
              </a:rPr>
              <a:t>п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,                                          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ефіцієнт жорсткості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Arial"/>
              </a:rPr>
              <a:t>п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=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ила пружності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 , видовженн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ефіцієнт жорсткості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закон Гук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Arial"/>
              </a:rPr>
              <a:t>п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=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229600" y="393552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7728120" y="2773440"/>
            <a:ext cx="641160" cy="6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6400800" y="34020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2019240" y="5153040"/>
            <a:ext cx="6098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кріп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Які сили  ми  сьогодні  вивчили? Як  вони  напрямл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 прикладання  сил? Позначення, одиниці  вимірю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Що  таке  невагомі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Яка сила тяжіння діє на м’яч масою 200 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Чому дорівнює вага 3 л бензин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кріп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Спортсмен утримує на витягнутих руках штангу вагою 500 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ому дорівнює маса штан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67056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кріп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міркуй і відповід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ідомий фантаст Герберт Веллс у своєму творі « Перші                        люди на місяці» пис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вне це відчуття – витати в просторі: спочатку моторошно, але потім, коли страх проходить, воно не позбавлено приємності й дуже покійно, схоже на лежання на м’якому пуховику. Повна відчуженість від світу й незалежність! Я не очікував нічого подібного. Я очікував сильного поштовху спочатку й запаморочливої швидкості польоту. Замість усього цього я відчув себе як би безтілесним. Це походило не на подорож,а на сновидіння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ке явище описано в цьому урив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Домашнє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марок – прод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ьогодні завдання ви виберете самі, в залежності від вашого бажання і можливості. За кожне завдання ви зможете заробити певну кількість бал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вчити §16,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в’язати. Вправа 8(1), Вправа 10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ізичн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ормація це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и деформаці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ужна деформаці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стична деформація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а пружності це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  Гука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илад для вимірювання сили  пружності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17"/>
          <p:cNvSpPr txBox="1"/>
          <p:nvPr/>
        </p:nvSpPr>
        <p:spPr>
          <a:xfrm>
            <a:off x="3352680" y="1447920"/>
            <a:ext cx="468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ізичн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формація це – зміна форми або о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єму тіла внаслідок взаємодії з іншими ті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и деформацій – зсув, згин, кручення, розтяг, ст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ужна деформація – після припинення дії дедормуючої сили тіло набуває такої самої форми, як і до деформ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стична деформація – в результаті якої зміна форми і розмірівтіла не зникає після припинення дії зовнішньої с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а пружності це – сила, що виникає при деформаціях тіла і  напрямлена в бік, протилежний  переміщенню частинок тіла при деформ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  Гука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лад для вимірювання сили  пружності – динамо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4222800" y="3308400"/>
            <a:ext cx="698400" cy="24120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4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Объект 5" descr=""/>
          <p:cNvPicPr/>
          <p:nvPr/>
        </p:nvPicPr>
        <p:blipFill>
          <a:blip r:embed="rId3"/>
          <a:stretch/>
        </p:blipFill>
        <p:spPr>
          <a:xfrm>
            <a:off x="3233880" y="5643720"/>
            <a:ext cx="1917720" cy="66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6"/>
          <p:cNvSpPr txBox="1"/>
          <p:nvPr/>
        </p:nvSpPr>
        <p:spPr>
          <a:xfrm>
            <a:off x="3352680" y="1447920"/>
            <a:ext cx="468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AutoShape 11">
            <a:hlinkClick r:id="rId1" action="ppaction://hlinksldjump"/>
          </p:cNvPr>
          <p:cNvSpPr/>
          <p:nvPr/>
        </p:nvSpPr>
        <p:spPr>
          <a:xfrm>
            <a:off x="80010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990720" y="2286000"/>
            <a:ext cx="21812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4"/>
          <a:stretch/>
        </p:blipFill>
        <p:spPr>
          <a:xfrm>
            <a:off x="3352680" y="2057400"/>
            <a:ext cx="52484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пільне фізичне явище у малюн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Documents and Settings\Лариса\Рабочий стол\resA47E5ECD-2AFF-48C9-87BC-669522019942.bmp"/>
          <p:cNvPicPr/>
          <p:nvPr/>
        </p:nvPicPr>
        <p:blipFill>
          <a:blip r:embed="rId1"/>
          <a:stretch/>
        </p:blipFill>
        <p:spPr>
          <a:xfrm>
            <a:off x="3505320" y="1365120"/>
            <a:ext cx="2230200" cy="209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781360" cy="192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6" descr="C:\Documents and Settings\Лариса\Рабочий стол\res8BBF2CBF-E106-4355-8F32-897350A3D34A.bmp"/>
          <p:cNvPicPr/>
          <p:nvPr/>
        </p:nvPicPr>
        <p:blipFill>
          <a:blip r:embed="rId3"/>
          <a:stretch/>
        </p:blipFill>
        <p:spPr>
          <a:xfrm>
            <a:off x="993600" y="3687840"/>
            <a:ext cx="3449880" cy="279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4"/>
          <a:stretch/>
        </p:blipFill>
        <p:spPr>
          <a:xfrm>
            <a:off x="4446720" y="3757680"/>
            <a:ext cx="3619440" cy="304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5867280" y="1447920"/>
            <a:ext cx="21337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Рух кул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657600" y="1295280"/>
            <a:ext cx="17524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Arial"/>
              </a:rPr>
              <a:t>Сила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у, з якою Земля притягує до себе всі тіла, називають силою тяжі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838080" y="2830680"/>
            <a:ext cx="2038320" cy="3203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200400" y="2666880"/>
            <a:ext cx="1698480" cy="208296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5029200" y="2666880"/>
            <a:ext cx="3124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іле́о Галіле́й (1564 - 1642) - видатний італійський мислитель епохи Відродження, засновник класичної механіки, фізик, астроном, математик, один із засновників сучасного експериментально-теоретичного природознавства, поет і літературний крит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4"/>
          <p:cNvSpPr/>
          <p:nvPr/>
        </p:nvSpPr>
        <p:spPr>
          <a:xfrm>
            <a:off x="3429000" y="1447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адіння тіл за відсутності опору повітря називають вільним падінн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371600" y="20937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міри показали, що при вільному падінні швидкість тіла щосекунди збільшується на 9,8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050840" y="2971800"/>
            <a:ext cx="20606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3179880" y="2975040"/>
            <a:ext cx="4155840" cy="68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:\Из Кирилла и Мефодия\Рисунки по физике\03-03.gif"/>
          <p:cNvPicPr/>
          <p:nvPr/>
        </p:nvPicPr>
        <p:blipFill>
          <a:blip r:embed="rId3"/>
          <a:stretch/>
        </p:blipFill>
        <p:spPr>
          <a:xfrm>
            <a:off x="4191120" y="3581280"/>
            <a:ext cx="3367080" cy="25243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838080" y="4495320"/>
            <a:ext cx="32004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ла тяжіння прямопропорційна масі ті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Цвiтоське НВО</dc:creator>
  <dc:description/>
  <dc:language>en-US</dc:language>
  <cp:lastModifiedBy>Цвiтоське НВО</cp:lastModifiedBy>
  <dcterms:modified xsi:type="dcterms:W3CDTF">2014-11-05T21:22:29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6000000000001024140</vt:lpwstr>
  </property>
  <property fmtid="{D5CDD505-2E9C-101B-9397-08002B2CF9AE}" pid="3" name="Version">
    <vt:r8>1</vt:r8>
  </property>
</Properties>
</file>