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4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31.jpeg" ContentType="image/jpeg"/>
  <Override PartName="/ppt/media/image41.png" ContentType="image/png"/>
  <Override PartName="/ppt/media/image37.wmf" ContentType="image/x-wmf"/>
  <Override PartName="/ppt/media/image30.jpeg" ContentType="image/jpeg"/>
  <Override PartName="/ppt/media/image43.png" ContentType="image/png"/>
  <Override PartName="/ppt/media/image10.jpeg" ContentType="image/jpeg"/>
  <Override PartName="/ppt/media/image8.jpeg" ContentType="image/jpeg"/>
  <Override PartName="/ppt/media/image39.jpeg" ContentType="image/jpeg"/>
  <Override PartName="/ppt/media/image29.jpeg" ContentType="image/jpeg"/>
  <Override PartName="/ppt/media/image33.wmf" ContentType="image/x-wmf"/>
  <Override PartName="/ppt/media/image26.jpeg" ContentType="image/jpeg"/>
  <Override PartName="/ppt/media/image42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31E23-F465-433F-B730-AB0DB9463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61210-96E8-4054-B243-1E1D839FC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B54-5E35-457D-8B98-8D3CFA71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B3F-7E8B-4339-841A-DBC97358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A1D-A71E-45AA-8880-57F7DFB5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998-67F2-48D3-A235-A448CEB9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7BFE-B1FA-494A-9853-7B5CD56A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4E1E-E372-4163-92CB-BDE962FF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0938-8065-4F05-9FCA-378CC945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3289-382E-4F6C-8A3A-E1D76292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37E5-197B-4D29-ADE7-857777EE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FB6F-D842-4B0A-83F3-17D65C1E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F518-8E04-4313-9AE8-4D25CA1B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3D7-552F-4B1F-BB81-B9985187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AC9A-E1B6-408A-ACD3-79A387D8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835F-B46B-4697-A4FD-6663B565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5DB1-EDFA-42F9-952C-C24D213B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36E7-E224-4EE2-972B-A25C91C0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0D49-9F66-47A1-B21F-D1BEEF1C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966-00F7-4214-8514-BC664F4D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D4D-F138-4EBC-B316-A75A9D85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F85-54B6-4C92-A96A-00D642F0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37C-79E5-4E0D-8CA3-69CD84B0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884-5975-4C40-B814-232C7CDF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D0F-E444-4A14-B128-F6E0A715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C07-2DBD-4724-BAA8-6D704400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0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1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1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2117-B8CF-4C48-957A-ACAF720CE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29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1" descr="water"/>
          <p:cNvPicPr/>
          <p:nvPr/>
        </p:nvPicPr>
        <p:blipFill>
          <a:blip r:embed="rId2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2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2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5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6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7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3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0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31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33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4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5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7" descr="water"/>
          <p:cNvPicPr/>
          <p:nvPr/>
        </p:nvPicPr>
        <p:blipFill>
          <a:blip r:embed="rId2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052F-9F12-43C5-98F0-E8C0111CA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uk.wikipedia.org/w/index.php?title=&#1050;&#1072;&#1089;&#1110;&#1074;&#1072;&#1076;&#1079;&#1072;&#1082;&#1110;-&#1050;&#1072;&#1088;&#1110;&#1074;&#1072;&amp;action=edit&amp;redlink=1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1111.m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381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2aee"/>
                </a:solidFill>
                <a:latin typeface="Times New Roman"/>
              </a:rPr>
              <a:t>Тим, хто вчить фізику,</a:t>
            </a:r>
            <a:br>
              <a:rPr sz="4000"/>
            </a:br>
            <a:r>
              <a:rPr b="1" i="1" lang="uk-UA" sz="4000" spc="-1" strike="noStrike">
                <a:solidFill>
                  <a:srgbClr val="702aee"/>
                </a:solidFill>
                <a:latin typeface="Times New Roman"/>
              </a:rPr>
              <a:t>Тим, хто любить фізику,</a:t>
            </a:r>
            <a:br>
              <a:rPr sz="4000"/>
            </a:br>
            <a:r>
              <a:rPr b="1" i="1" lang="uk-UA" sz="4000" spc="-1" strike="noStrike">
                <a:solidFill>
                  <a:srgbClr val="702aee"/>
                </a:solidFill>
                <a:latin typeface="Times New Roman"/>
              </a:rPr>
              <a:t> Тим, хто знає фізику,</a:t>
            </a:r>
            <a:br>
              <a:rPr sz="4000"/>
            </a:br>
            <a:r>
              <a:rPr b="1" i="1" lang="uk-UA" sz="4000" spc="-1" strike="noStrike">
                <a:solidFill>
                  <a:srgbClr val="702aee"/>
                </a:solidFill>
                <a:latin typeface="Times New Roman"/>
              </a:rPr>
              <a:t> Тим, хто ще не знає, </a:t>
            </a:r>
            <a:br>
              <a:rPr sz="4000"/>
            </a:br>
            <a:r>
              <a:rPr b="1" i="1" lang="en-US" sz="4000" spc="-1" strike="noStrike">
                <a:solidFill>
                  <a:srgbClr val="702aee"/>
                </a:solidFill>
                <a:latin typeface="Times New Roman"/>
              </a:rPr>
              <a:t>               </a:t>
            </a:r>
            <a:r>
              <a:rPr b="1" i="1" lang="uk-UA" sz="4000" spc="-1" strike="noStrike">
                <a:solidFill>
                  <a:srgbClr val="702aee"/>
                </a:solidFill>
                <a:latin typeface="Times New Roman"/>
              </a:rPr>
              <a:t>що він</a:t>
            </a:r>
            <a:r>
              <a:rPr b="1" i="1" lang="en-US" sz="4000" spc="-1" strike="noStrike">
                <a:solidFill>
                  <a:srgbClr val="702aee"/>
                </a:solidFill>
                <a:latin typeface="Times New Roman"/>
              </a:rPr>
              <a:t> </a:t>
            </a:r>
            <a:r>
              <a:rPr b="1" i="1" lang="uk-UA" sz="4000" spc="-1" strike="noStrike">
                <a:solidFill>
                  <a:srgbClr val="702aee"/>
                </a:solidFill>
                <a:latin typeface="Times New Roman"/>
              </a:rPr>
              <a:t>любить фізику,</a:t>
            </a:r>
            <a:br>
              <a:rPr sz="4000"/>
            </a:br>
            <a:r>
              <a:rPr b="1" i="1" lang="uk-UA" sz="4000" spc="-1" strike="noStrike">
                <a:solidFill>
                  <a:srgbClr val="702aee"/>
                </a:solidFill>
                <a:latin typeface="Times New Roman"/>
              </a:rPr>
              <a:t>Даний урок присвячується</a:t>
            </a:r>
            <a:r>
              <a:rPr b="1" i="1" lang="uk-UA" sz="4000" spc="-1" strike="noStrike">
                <a:solidFill>
                  <a:srgbClr val="ffc319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6"/>
          <p:cNvSpPr/>
          <p:nvPr/>
        </p:nvSpPr>
        <p:spPr>
          <a:xfrm>
            <a:off x="0" y="1916280"/>
            <a:ext cx="6012000" cy="23763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Запорізька атомна   електрост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енеруюча потуж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6000 МВт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Zaporozhje AES.jpg"/>
          <p:cNvPicPr/>
          <p:nvPr/>
        </p:nvPicPr>
        <p:blipFill>
          <a:blip r:embed="rId1"/>
          <a:stretch/>
        </p:blipFill>
        <p:spPr>
          <a:xfrm>
            <a:off x="4716360" y="3149640"/>
            <a:ext cx="4427640" cy="37083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Найбільша АЕС в Європі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Найбільша АЕС в світі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27" name="Picture 4" descr="ANd9GcTWN90a_Aq4CGRrnSlW0hPuEexx5a-YqaVKFdZ6qqD4fgy3SMxhDA"/>
          <p:cNvPicPr/>
          <p:nvPr/>
        </p:nvPicPr>
        <p:blipFill>
          <a:blip r:embed="rId1"/>
          <a:stretch/>
        </p:blipFill>
        <p:spPr>
          <a:xfrm>
            <a:off x="4932360" y="1268280"/>
            <a:ext cx="3941640" cy="2611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ANd9GcT6R_OOam7suVMnyZHpD2rW2JkS4mmRlySYTS2EqrSMWuaI6DxyYQ"/>
          <p:cNvPicPr/>
          <p:nvPr/>
        </p:nvPicPr>
        <p:blipFill>
          <a:blip r:embed="rId2"/>
          <a:stretch/>
        </p:blipFill>
        <p:spPr>
          <a:xfrm>
            <a:off x="395280" y="1989000"/>
            <a:ext cx="3892680" cy="4104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4356000" y="378936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Касівадзакі-Карів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ходиться в японському місті Касівадзак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фектури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іїгата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Енергетична стратегія України до 2030р.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31" name="Picture 5" descr="art079-27"/>
          <p:cNvPicPr/>
          <p:nvPr/>
        </p:nvPicPr>
        <p:blipFill>
          <a:blip r:embed="rId1"/>
          <a:stretch/>
        </p:blipFill>
        <p:spPr>
          <a:xfrm>
            <a:off x="539640" y="1517760"/>
            <a:ext cx="82090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2" descr="ANd9GcTrtAcgBOKi-Jy6k8ccEdvmzki7xcIk4-m6HqDmA1NC2Eiflf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1908000" y="692280"/>
            <a:ext cx="546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33"/>
                </a:solidFill>
                <a:latin typeface="Arial"/>
              </a:rPr>
              <a:t>Українська ядерна енергетика – молода галузь</a:t>
            </a:r>
            <a:r>
              <a:rPr b="1" lang="uk-UA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284720" y="5734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0021"/>
                </a:solidFill>
                <a:latin typeface="Arial"/>
              </a:rPr>
              <a:t>Підготув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0021"/>
                </a:solidFill>
                <a:latin typeface="Arial"/>
              </a:rPr>
              <a:t>Учениця 9 кла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0021"/>
                </a:solidFill>
                <a:latin typeface="Arial"/>
              </a:rPr>
              <a:t>Гавриш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7" descr="ANd9GcQUA5Xdk73Hz833iw6kkCb5SA5RdIitrV4bB2J2xiicLX4JK-N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22" descr="ANd9GcSfEs8LRhTwTENRKB9qcF03NjyRXb9iqm6fknY1508hr8d97KH9zA"/>
          <p:cNvPicPr/>
          <p:nvPr/>
        </p:nvPicPr>
        <p:blipFill>
          <a:blip r:embed="rId1"/>
          <a:stretch/>
        </p:blipFill>
        <p:spPr>
          <a:xfrm>
            <a:off x="0" y="1628640"/>
            <a:ext cx="4859280" cy="52293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3300"/>
                </a:solidFill>
                <a:latin typeface="Arial"/>
              </a:rPr>
              <a:t>Південно - Українська атомна електрост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876920" y="1600200"/>
          <a:ext cx="3809880" cy="4675320"/>
        </p:xfrm>
        <a:graphic>
          <a:graphicData uri="http://schemas.openxmlformats.org/drawingml/2006/table">
            <a:tbl>
              <a:tblPr/>
              <a:tblGrid>
                <a:gridCol w="415800"/>
                <a:gridCol w="1708200"/>
                <a:gridCol w="1685880"/>
              </a:tblGrid>
              <a:tr h="1146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про дану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будівниц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2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енергобло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реакторів в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уюча поту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 МВ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3300"/>
                </a:solidFill>
                <a:latin typeface="Arial"/>
              </a:rPr>
              <a:t>Рівненська атомна електрост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876920" y="1600200"/>
          <a:ext cx="3809880" cy="4675320"/>
        </p:xfrm>
        <a:graphic>
          <a:graphicData uri="http://schemas.openxmlformats.org/drawingml/2006/table">
            <a:tbl>
              <a:tblPr/>
              <a:tblGrid>
                <a:gridCol w="315720"/>
                <a:gridCol w="1808280"/>
                <a:gridCol w="1685880"/>
              </a:tblGrid>
              <a:tr h="1146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про дану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будівниц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червня 1973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0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енергобло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реакторів в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уюча поту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5 МВ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Rectangle 121"/>
          <p:cNvSpPr/>
          <p:nvPr/>
        </p:nvSpPr>
        <p:spPr>
          <a:xfrm>
            <a:off x="1403280" y="1836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 рік виробляє близько 11 - 12 млрд. квт•год. енергії, тобто 16%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26" descr="?id=45923"/>
          <p:cNvPicPr/>
          <p:nvPr/>
        </p:nvPicPr>
        <p:blipFill>
          <a:blip r:embed="rId1"/>
          <a:stretch/>
        </p:blipFill>
        <p:spPr>
          <a:xfrm>
            <a:off x="684360" y="3284640"/>
            <a:ext cx="388764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3300"/>
                </a:solidFill>
                <a:latin typeface="Arial"/>
              </a:rPr>
              <a:t>Хмельницька</a:t>
            </a: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cc3300"/>
                </a:solidFill>
                <a:latin typeface="Arial"/>
              </a:rPr>
              <a:t>атомна електрост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876920" y="1600200"/>
          <a:ext cx="3809880" cy="4675320"/>
        </p:xfrm>
        <a:graphic>
          <a:graphicData uri="http://schemas.openxmlformats.org/drawingml/2006/table">
            <a:tbl>
              <a:tblPr/>
              <a:tblGrid>
                <a:gridCol w="415800"/>
                <a:gridCol w="1708200"/>
                <a:gridCol w="1685880"/>
              </a:tblGrid>
              <a:tr h="1146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про дану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будівниц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січня 1981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грудня 1987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енергобло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реакторів в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уюча поту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МВ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Rectangle 121"/>
          <p:cNvSpPr/>
          <p:nvPr/>
        </p:nvSpPr>
        <p:spPr>
          <a:xfrm>
            <a:off x="1187280" y="1699920"/>
            <a:ext cx="29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 рік виробляє близько 6 - 7 млрд. квт•год. енергії, тобто 9% енергії, що виробляється в Україн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2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29" descr="ANd9GcQKolLCfRAlWtXfIMVLzFkHHgRnDfGwFtAPXm7e89xG4_1zNdIENA"/>
          <p:cNvPicPr/>
          <p:nvPr/>
        </p:nvPicPr>
        <p:blipFill>
          <a:blip r:embed="rId1"/>
          <a:stretch/>
        </p:blipFill>
        <p:spPr>
          <a:xfrm>
            <a:off x="684360" y="3068640"/>
            <a:ext cx="38782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3300"/>
                </a:solidFill>
                <a:latin typeface="Arial"/>
              </a:rPr>
              <a:t>Запорізька атомна електрост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ташована в Запорізькій області поруч з місцем Енерго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876920" y="1600200"/>
          <a:ext cx="3809880" cy="5357880"/>
        </p:xfrm>
        <a:graphic>
          <a:graphicData uri="http://schemas.openxmlformats.org/drawingml/2006/table">
            <a:tbl>
              <a:tblPr/>
              <a:tblGrid>
                <a:gridCol w="558720"/>
                <a:gridCol w="1565280"/>
                <a:gridCol w="1685880"/>
              </a:tblGrid>
              <a:tr h="1146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про дану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будівниц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вітня 1981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листопада 1984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енергобло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реакторів в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4 – ий на плановому ремонті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уюча поту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 МВ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5" name="Picture 122" descr="ANd9GcT5aNiMsC3zToBB6THmIvskqgtWG0zLOuubC4Mk84XlMsj9EuOINw"/>
          <p:cNvPicPr/>
          <p:nvPr/>
        </p:nvPicPr>
        <p:blipFill>
          <a:blip r:embed="rId1"/>
          <a:stretch/>
        </p:blipFill>
        <p:spPr>
          <a:xfrm>
            <a:off x="900000" y="2276640"/>
            <a:ext cx="381636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3300"/>
                </a:solidFill>
                <a:latin typeface="Arial"/>
              </a:rPr>
              <a:t>Чорнобильська атомна електрост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0" y="1600200"/>
          <a:ext cx="4114800" cy="4675320"/>
        </p:xfrm>
        <a:graphic>
          <a:graphicData uri="http://schemas.openxmlformats.org/drawingml/2006/table">
            <a:tbl>
              <a:tblPr/>
              <a:tblGrid>
                <a:gridCol w="620640"/>
                <a:gridCol w="1808280"/>
                <a:gridCol w="1685880"/>
              </a:tblGrid>
              <a:tr h="1146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про дану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будівниц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ень 1970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вересня 19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енергобло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реакторів в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уюча поту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 МВт (до 1986 рок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9" name="Picture 122" descr="ANd9GcQVz3Cbd4JQnY84cF1dtYTTleKt-rjiVCWBJSc0mepyulR1WF7nuQ"/>
          <p:cNvPicPr/>
          <p:nvPr/>
        </p:nvPicPr>
        <p:blipFill>
          <a:blip r:embed="rId1"/>
          <a:stretch/>
        </p:blipFill>
        <p:spPr>
          <a:xfrm>
            <a:off x="179280" y="2060640"/>
            <a:ext cx="43927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Практичний тренінг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-3            9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-1            10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-2            1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-3            12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-2          9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-1          10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-3          1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-1          12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3300"/>
                </a:solidFill>
                <a:latin typeface="Arial"/>
              </a:rPr>
              <a:t>Кримська атомна електрост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876920" y="1600200"/>
          <a:ext cx="3809880" cy="5211720"/>
        </p:xfrm>
        <a:graphic>
          <a:graphicData uri="http://schemas.openxmlformats.org/drawingml/2006/table">
            <a:tbl>
              <a:tblPr/>
              <a:tblGrid>
                <a:gridCol w="315720"/>
                <a:gridCol w="1808280"/>
                <a:gridCol w="1685880"/>
              </a:tblGrid>
              <a:tr h="1146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про дану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будівниц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9 (призупинено будівницт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енергобло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реакторів в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уюча поту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 МВт (заплановано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2" name="Picture 122" descr="ANd9GcRlDV2mcL4cNkdUTG3ztQUBFxRxBD_BVBCLvR-pIuLH4mJ0JN-p"/>
          <p:cNvPicPr/>
          <p:nvPr/>
        </p:nvPicPr>
        <p:blipFill>
          <a:blip r:embed="rId1"/>
          <a:stretch/>
        </p:blipFill>
        <p:spPr>
          <a:xfrm>
            <a:off x="250920" y="2276640"/>
            <a:ext cx="4465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900000" y="0"/>
            <a:ext cx="7201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кількістю реакторів та їх сумарною потужністю Україна посідає сьоме місце у світі та четверте – в Європ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aes"/>
          <p:cNvPicPr/>
          <p:nvPr/>
        </p:nvPicPr>
        <p:blipFill>
          <a:blip r:embed="rId1"/>
          <a:stretch/>
        </p:blipFill>
        <p:spPr>
          <a:xfrm>
            <a:off x="1042920" y="1989000"/>
            <a:ext cx="734544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32508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 можна про це не сказа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вляв це було вже дав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 можна ні про що мовчати, горить тривогою чо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се це було, було, бул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орнобильський вітер по душах ме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одинник життя безупинно ід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ANd9GcSTdQ23Od0SpuvehcqdOeaNTY6MkcfU_jr1gipqn45fHOjLme64"/>
          <p:cNvPicPr/>
          <p:nvPr/>
        </p:nvPicPr>
        <p:blipFill>
          <a:blip r:embed="rId1"/>
          <a:stretch/>
        </p:blipFill>
        <p:spPr>
          <a:xfrm>
            <a:off x="2268360" y="4005360"/>
            <a:ext cx="44992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6978_Ч1.wmv" descr=""/>
          <p:cNvPicPr/>
          <p:nvPr/>
        </p:nvPicPr>
        <p:blipFill>
          <a:blip r:embed="rId1"/>
          <a:stretch/>
        </p:blipFill>
        <p:spPr>
          <a:xfrm>
            <a:off x="1523880" y="9399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uk-UA" sz="44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Чорнобиль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63640" y="1628280"/>
            <a:ext cx="49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80"/>
                </a:solidFill>
                <a:latin typeface="Arial"/>
              </a:rPr>
              <a:t>ЧОРНИХ ДАТ У ЛЮДСТВА Є НЕМАЛО . </a:t>
            </a:r>
            <a:br>
              <a:rPr sz="2800"/>
            </a:br>
            <a:r>
              <a:rPr b="1" i="1" lang="ru-RU" sz="2800" spc="-1" strike="noStrike">
                <a:solidFill>
                  <a:srgbClr val="808080"/>
                </a:solidFill>
                <a:latin typeface="Arial"/>
              </a:rPr>
              <a:t>КОЖНА З НИХ - ЦЕ МІНА ПІД ПРОГРЕС. </a:t>
            </a:r>
            <a:br>
              <a:rPr sz="2800"/>
            </a:br>
            <a:r>
              <a:rPr b="1" i="1" lang="ru-RU" sz="2800" spc="-1" strike="noStrike">
                <a:solidFill>
                  <a:srgbClr val="808080"/>
                </a:solidFill>
                <a:latin typeface="Arial"/>
              </a:rPr>
              <a:t>НАЙСТРАШНІШЕ, ЩО УСІХ СПІТКАЛО,- </a:t>
            </a:r>
            <a:br>
              <a:rPr sz="2800"/>
            </a:br>
            <a:r>
              <a:rPr b="1" i="1" lang="ru-RU" sz="2800" spc="-1" strike="noStrike">
                <a:solidFill>
                  <a:srgbClr val="808080"/>
                </a:solidFill>
                <a:latin typeface="Arial"/>
              </a:rPr>
              <a:t>ВИБУХ НА ЧОРНОБИЛЬСЬКІЙ АЕС</a:t>
            </a:r>
            <a:r>
              <a:rPr b="1" i="1" lang="uk-UA" sz="2800" spc="-1" strike="noStrike">
                <a:solidFill>
                  <a:srgbClr val="808080"/>
                </a:solidFill>
                <a:latin typeface="Arial"/>
              </a:rPr>
              <a:t>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ANd9GcQ-pI_SdG_PEd9lfjhvwDp5uzF38Vr_ZAhJANS5DqO02DHHZM5N"/>
          <p:cNvPicPr/>
          <p:nvPr/>
        </p:nvPicPr>
        <p:blipFill>
          <a:blip r:embed="rId2"/>
          <a:stretch/>
        </p:blipFill>
        <p:spPr>
          <a:xfrm>
            <a:off x="395280" y="1844640"/>
            <a:ext cx="3097080" cy="2197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ANd9GcQ_Zp6zV2KK9lkNpJnCxRm-cT9Rv89m1HvdpmiwMJh_ohJTOqp0WA"/>
          <p:cNvPicPr/>
          <p:nvPr/>
        </p:nvPicPr>
        <p:blipFill>
          <a:blip r:embed="rId3"/>
          <a:stretch/>
        </p:blipFill>
        <p:spPr>
          <a:xfrm>
            <a:off x="6372360" y="4653000"/>
            <a:ext cx="2619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image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geo_chornobyl2_n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http://www.kiddofspeed.com/367img/image22.2.jpg"/>
          <p:cNvPicPr/>
          <p:nvPr/>
        </p:nvPicPr>
        <p:blipFill>
          <a:blip r:embed="rId1"/>
          <a:stretch/>
        </p:blipFill>
        <p:spPr>
          <a:xfrm>
            <a:off x="0" y="-7920"/>
            <a:ext cx="944892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image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24941"/>
          <p:cNvPicPr/>
          <p:nvPr/>
        </p:nvPicPr>
        <p:blipFill>
          <a:blip r:embed="rId1"/>
          <a:stretch/>
        </p:blipFill>
        <p:spPr>
          <a:xfrm>
            <a:off x="179280" y="2924280"/>
            <a:ext cx="4392720" cy="3673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DSC00356"/>
          <p:cNvPicPr/>
          <p:nvPr/>
        </p:nvPicPr>
        <p:blipFill>
          <a:blip r:embed="rId2"/>
          <a:stretch/>
        </p:blipFill>
        <p:spPr>
          <a:xfrm>
            <a:off x="4788000" y="2924280"/>
            <a:ext cx="4105080" cy="3671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aist_005"/>
          <p:cNvPicPr/>
          <p:nvPr/>
        </p:nvPicPr>
        <p:blipFill>
          <a:blip r:embed="rId3"/>
          <a:stretch/>
        </p:blipFill>
        <p:spPr>
          <a:xfrm>
            <a:off x="1258920" y="765000"/>
            <a:ext cx="6842160" cy="2087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411280" y="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ccff"/>
                </a:solidFill>
                <a:latin typeface="Times New Roman"/>
              </a:rPr>
              <a:t>Ангел Чорноби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8000"/>
                </a:solidFill>
                <a:latin typeface="Arial"/>
              </a:rPr>
              <a:t>Зосередьмося! Пригадаємо вивчене…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11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619280" y="907200"/>
            <a:ext cx="63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5050"/>
                </a:solidFill>
                <a:latin typeface="Arial"/>
                <a:ea typeface="Times New Roman"/>
              </a:rPr>
              <a:t>Скласти асоціативний ку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Diagram 5"/>
          <p:cNvGrpSpPr/>
          <p:nvPr/>
        </p:nvGrpSpPr>
        <p:grpSpPr>
          <a:xfrm>
            <a:off x="1101240" y="1600200"/>
            <a:ext cx="6845400" cy="4775400"/>
            <a:chOff x="1101240" y="1600200"/>
            <a:chExt cx="6845400" cy="4775400"/>
          </a:xfrm>
        </p:grpSpPr>
        <p:sp>
          <p:nvSpPr>
            <p:cNvPr id="154" name="_s1028"/>
            <p:cNvSpPr/>
            <p:nvPr/>
          </p:nvSpPr>
          <p:spPr>
            <a:xfrm flipH="1" flipV="1">
              <a:off x="3310920" y="3143520"/>
              <a:ext cx="607320" cy="422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29"/>
            <p:cNvSpPr/>
            <p:nvPr/>
          </p:nvSpPr>
          <p:spPr>
            <a:xfrm>
              <a:off x="1852560" y="2125440"/>
              <a:ext cx="1711800" cy="11937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0"/>
            <p:cNvSpPr/>
            <p:nvPr/>
          </p:nvSpPr>
          <p:spPr>
            <a:xfrm flipH="1">
              <a:off x="2809800" y="3987720"/>
              <a:ext cx="858240" cy="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1"/>
            <p:cNvSpPr/>
            <p:nvPr/>
          </p:nvSpPr>
          <p:spPr>
            <a:xfrm>
              <a:off x="1101240" y="3391200"/>
              <a:ext cx="1711800" cy="1193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32"/>
            <p:cNvSpPr/>
            <p:nvPr/>
          </p:nvSpPr>
          <p:spPr>
            <a:xfrm flipH="1">
              <a:off x="3312000" y="4409280"/>
              <a:ext cx="606240" cy="424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3"/>
            <p:cNvSpPr/>
            <p:nvPr/>
          </p:nvSpPr>
          <p:spPr>
            <a:xfrm>
              <a:off x="1852560" y="4656960"/>
              <a:ext cx="1711800" cy="1193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4"/>
            <p:cNvSpPr/>
            <p:nvPr/>
          </p:nvSpPr>
          <p:spPr>
            <a:xfrm>
              <a:off x="4522680" y="4583880"/>
              <a:ext cx="1080" cy="59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35"/>
            <p:cNvSpPr/>
            <p:nvPr/>
          </p:nvSpPr>
          <p:spPr>
            <a:xfrm>
              <a:off x="3667320" y="5181840"/>
              <a:ext cx="1711440" cy="1193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36"/>
            <p:cNvSpPr/>
            <p:nvPr/>
          </p:nvSpPr>
          <p:spPr>
            <a:xfrm>
              <a:off x="5126760" y="4409280"/>
              <a:ext cx="608040" cy="42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37"/>
            <p:cNvSpPr/>
            <p:nvPr/>
          </p:nvSpPr>
          <p:spPr>
            <a:xfrm>
              <a:off x="5482800" y="4657680"/>
              <a:ext cx="1711800" cy="11937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38"/>
            <p:cNvSpPr/>
            <p:nvPr/>
          </p:nvSpPr>
          <p:spPr>
            <a:xfrm>
              <a:off x="5376960" y="3987720"/>
              <a:ext cx="859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39"/>
            <p:cNvSpPr/>
            <p:nvPr/>
          </p:nvSpPr>
          <p:spPr>
            <a:xfrm>
              <a:off x="6235200" y="3391200"/>
              <a:ext cx="1711440" cy="11937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40"/>
            <p:cNvSpPr/>
            <p:nvPr/>
          </p:nvSpPr>
          <p:spPr>
            <a:xfrm flipV="1">
              <a:off x="5126760" y="3142800"/>
              <a:ext cx="606960" cy="42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41"/>
            <p:cNvSpPr/>
            <p:nvPr/>
          </p:nvSpPr>
          <p:spPr>
            <a:xfrm>
              <a:off x="5482800" y="2124720"/>
              <a:ext cx="1711800" cy="11937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42"/>
            <p:cNvSpPr/>
            <p:nvPr/>
          </p:nvSpPr>
          <p:spPr>
            <a:xfrm flipV="1">
              <a:off x="4522680" y="2793240"/>
              <a:ext cx="0" cy="59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43"/>
            <p:cNvSpPr/>
            <p:nvPr/>
          </p:nvSpPr>
          <p:spPr>
            <a:xfrm>
              <a:off x="3667320" y="1600200"/>
              <a:ext cx="1711440" cy="11937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44"/>
            <p:cNvSpPr/>
            <p:nvPr/>
          </p:nvSpPr>
          <p:spPr>
            <a:xfrm>
              <a:off x="3667320" y="3391920"/>
              <a:ext cx="1711440" cy="11937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cb1f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5050"/>
                  </a:solidFill>
                  <a:latin typeface="Arial"/>
                </a:rPr>
                <a:t>АЕ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Соціальний статус 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85" name="Object 7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120000" cy="46656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9"/>
          <p:cNvSpPr/>
          <p:nvPr/>
        </p:nvSpPr>
        <p:spPr>
          <a:xfrm>
            <a:off x="178920" y="137700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емп зростання захворюваності дітей на р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Тарас_Петриненко_-__Україна.mp3" descr=""/>
          <p:cNvPicPr/>
          <p:nvPr/>
        </p:nvPicPr>
        <p:blipFill>
          <a:blip r:embed="rId2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За даними Національного реєстру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89" name="Object 4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559640" cy="57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245916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3300"/>
                </a:solidFill>
                <a:latin typeface="Arial"/>
              </a:rPr>
              <a:t>Дослідження раку та інших захворювань щитовидної залози в Україні, спричинених аварією на Чорнобильській АЕС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1" name="Picture 4" descr="Мал.1. Кількість випадків раку щитовидної залози у дітей та підлітків України після аваріі на ЧАЕС (0-18 років на момент аваріі)"/>
          <p:cNvPicPr/>
          <p:nvPr/>
        </p:nvPicPr>
        <p:blipFill>
          <a:blip r:embed="rId1"/>
          <a:stretch/>
        </p:blipFill>
        <p:spPr>
          <a:xfrm>
            <a:off x="3203640" y="303120"/>
            <a:ext cx="552456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1281240" y="1413000"/>
            <a:ext cx="2930400" cy="2060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photo2"/>
          <p:cNvPicPr/>
          <p:nvPr/>
        </p:nvPicPr>
        <p:blipFill>
          <a:blip r:embed="rId2"/>
          <a:stretch/>
        </p:blipFill>
        <p:spPr>
          <a:xfrm>
            <a:off x="1281240" y="3863880"/>
            <a:ext cx="2930400" cy="20862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photo7"/>
          <p:cNvPicPr/>
          <p:nvPr/>
        </p:nvPicPr>
        <p:blipFill>
          <a:blip r:embed="rId3"/>
          <a:stretch/>
        </p:blipFill>
        <p:spPr>
          <a:xfrm>
            <a:off x="4788000" y="3863880"/>
            <a:ext cx="3074760" cy="2086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photo5"/>
          <p:cNvPicPr/>
          <p:nvPr/>
        </p:nvPicPr>
        <p:blipFill>
          <a:blip r:embed="rId4"/>
          <a:stretch/>
        </p:blipFill>
        <p:spPr>
          <a:xfrm>
            <a:off x="4788000" y="1413000"/>
            <a:ext cx="3074760" cy="20602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Ми маємо пам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’</a:t>
            </a: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ятати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Ядерна енергі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о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1" descr="geo_radiacia_new"/>
          <p:cNvPicPr/>
          <p:nvPr/>
        </p:nvPicPr>
        <p:blipFill>
          <a:blip r:embed="rId1"/>
          <a:stretch/>
        </p:blipFill>
        <p:spPr>
          <a:xfrm>
            <a:off x="4962600" y="2871720"/>
            <a:ext cx="3736800" cy="3962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ANd9GcRHWFdNsV2ahllLroQaVg5xwF9QcssLHK33ni_GHlQFUXC8QI5M"/>
          <p:cNvPicPr/>
          <p:nvPr/>
        </p:nvPicPr>
        <p:blipFill>
          <a:blip r:embed="rId2"/>
          <a:stretch/>
        </p:blipFill>
        <p:spPr>
          <a:xfrm>
            <a:off x="378000" y="2627280"/>
            <a:ext cx="3571560" cy="69804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Бути чи не бути атомній енергетиці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76000" y="606600"/>
            <a:ext cx="7210440" cy="64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042920" y="189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ЗА» чи «ПРО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24000" y="1841400"/>
            <a:ext cx="41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Економія органічного па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алі маси п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тримання великої потужності з одного реа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изькі транспортні витрати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ідсутність потреби в атмосферному повіт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ЕС не забруднюють атмосферу, не вимагають створення великих водосховищ, що займають великі площ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4500720" y="1846440"/>
            <a:ext cx="431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езпека реактора (можливість аварії з розгоном реактора, радіоактивні викиди в навколишнє середовищ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адіоактивні відходи (утилізація відпрацьованого пали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собливості ремо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ладність ліквідації ядерного енергетичного об'є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сока кваліфікація і відповідальність кад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ступність для тероризму і шантажу з катастрофічними наслід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рого коштує видобуток па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900000" y="1197000"/>
            <a:ext cx="2664000" cy="36828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5543640" y="1197000"/>
            <a:ext cx="2448000" cy="36828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Творче завдання: </a:t>
            </a:r>
            <a:br>
              <a:rPr sz="4000"/>
            </a:b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написати ессе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08" name="Picture 5" descr="1333235002-random2578-01_04_12"/>
          <p:cNvPicPr/>
          <p:nvPr/>
        </p:nvPicPr>
        <p:blipFill>
          <a:blip r:embed="rId1"/>
          <a:stretch/>
        </p:blipFill>
        <p:spPr>
          <a:xfrm>
            <a:off x="1047600" y="1427040"/>
            <a:ext cx="7121520" cy="106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3300"/>
                </a:solidFill>
                <a:latin typeface="Arial"/>
              </a:rPr>
              <a:t>Зосередьмося! Пригадаємо вивчене…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0" y="11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Diagram 4"/>
          <p:cNvGrpSpPr/>
          <p:nvPr/>
        </p:nvGrpSpPr>
        <p:grpSpPr>
          <a:xfrm>
            <a:off x="610560" y="1127880"/>
            <a:ext cx="7852320" cy="5375520"/>
            <a:chOff x="610560" y="1127880"/>
            <a:chExt cx="7852320" cy="5375520"/>
          </a:xfrm>
        </p:grpSpPr>
        <p:sp>
          <p:nvSpPr>
            <p:cNvPr id="174" name="_s2052"/>
            <p:cNvSpPr/>
            <p:nvPr/>
          </p:nvSpPr>
          <p:spPr>
            <a:xfrm flipH="1" flipV="1">
              <a:off x="2970720" y="3049200"/>
              <a:ext cx="783000" cy="434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3"/>
            <p:cNvSpPr/>
            <p:nvPr/>
          </p:nvSpPr>
          <p:spPr>
            <a:xfrm>
              <a:off x="1188720" y="1916280"/>
              <a:ext cx="2000880" cy="1395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Економіч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вигідн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2054"/>
            <p:cNvSpPr/>
            <p:nvPr/>
          </p:nvSpPr>
          <p:spPr>
            <a:xfrm flipH="1">
              <a:off x="2585880" y="4074480"/>
              <a:ext cx="974880" cy="155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2055"/>
            <p:cNvSpPr/>
            <p:nvPr/>
          </p:nvSpPr>
          <p:spPr>
            <a:xfrm>
              <a:off x="610560" y="3687480"/>
              <a:ext cx="2000880" cy="1395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Чорноби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2056"/>
            <p:cNvSpPr/>
            <p:nvPr/>
          </p:nvSpPr>
          <p:spPr>
            <a:xfrm flipH="1">
              <a:off x="3669120" y="4547880"/>
              <a:ext cx="433800" cy="628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2057"/>
            <p:cNvSpPr/>
            <p:nvPr/>
          </p:nvSpPr>
          <p:spPr>
            <a:xfrm>
              <a:off x="2234880" y="5107680"/>
              <a:ext cx="2000880" cy="1395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Спожива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органічн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пали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2058"/>
            <p:cNvSpPr/>
            <p:nvPr/>
          </p:nvSpPr>
          <p:spPr>
            <a:xfrm>
              <a:off x="4970880" y="4547160"/>
              <a:ext cx="433800" cy="628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2059"/>
            <p:cNvSpPr/>
            <p:nvPr/>
          </p:nvSpPr>
          <p:spPr>
            <a:xfrm>
              <a:off x="4839480" y="5107320"/>
              <a:ext cx="2000880" cy="1395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Забруднює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навколишн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середовищ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2060"/>
            <p:cNvSpPr/>
            <p:nvPr/>
          </p:nvSpPr>
          <p:spPr>
            <a:xfrm>
              <a:off x="5511240" y="4073760"/>
              <a:ext cx="97488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2061"/>
            <p:cNvSpPr/>
            <p:nvPr/>
          </p:nvSpPr>
          <p:spPr>
            <a:xfrm>
              <a:off x="6462000" y="3686040"/>
              <a:ext cx="2000880" cy="1395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Тепло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2062"/>
            <p:cNvSpPr/>
            <p:nvPr/>
          </p:nvSpPr>
          <p:spPr>
            <a:xfrm flipV="1">
              <a:off x="5318280" y="3048480"/>
              <a:ext cx="781920" cy="435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2063"/>
            <p:cNvSpPr/>
            <p:nvPr/>
          </p:nvSpPr>
          <p:spPr>
            <a:xfrm>
              <a:off x="5881680" y="1915560"/>
              <a:ext cx="2000880" cy="1395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Ядерн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реа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2064"/>
            <p:cNvSpPr/>
            <p:nvPr/>
          </p:nvSpPr>
          <p:spPr>
            <a:xfrm flipV="1">
              <a:off x="4536360" y="2523600"/>
              <a:ext cx="0" cy="697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2065"/>
            <p:cNvSpPr/>
            <p:nvPr/>
          </p:nvSpPr>
          <p:spPr>
            <a:xfrm>
              <a:off x="3535560" y="1127880"/>
              <a:ext cx="2000880" cy="1395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Ур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066"/>
            <p:cNvSpPr/>
            <p:nvPr/>
          </p:nvSpPr>
          <p:spPr>
            <a:xfrm>
              <a:off x="3535560" y="3221640"/>
              <a:ext cx="2000880" cy="13957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cb1f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5050"/>
                  </a:solidFill>
                  <a:latin typeface="Arial"/>
                </a:rPr>
                <a:t>АЕ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324000" y="1212840"/>
            <a:ext cx="842472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99ff">
                      <a:alpha val="50000"/>
                    </a:srgbClr>
                  </a:outerShdw>
                </a:effectLst>
                <a:latin typeface="Century Schoolbook"/>
              </a:rPr>
              <a:t>Розвиток ядерної енергетики в Україні.</a:t>
            </a:r>
            <a:endParaRPr b="1" i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99ff">
                    <a:alpha val="5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99ff">
                      <a:alpha val="50000"/>
                    </a:srgbClr>
                  </a:outerShdw>
                </a:effectLst>
                <a:latin typeface="Century Schoolbook"/>
              </a:rPr>
              <a:t> </a:t>
            </a:r>
            <a:r>
              <a:rPr b="1" i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99ff">
                      <a:alpha val="50000"/>
                    </a:srgbClr>
                  </a:outerShdw>
                </a:effectLst>
                <a:latin typeface="Century Schoolbook"/>
              </a:rPr>
              <a:t>Екологічні проблеми </a:t>
            </a:r>
            <a:endParaRPr b="1" i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99ff">
                    <a:alpha val="5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99ff">
                      <a:alpha val="50000"/>
                    </a:srgbClr>
                  </a:outerShdw>
                </a:effectLst>
                <a:latin typeface="Century Schoolbook"/>
              </a:rPr>
              <a:t>ядерної енергетики.</a:t>
            </a:r>
            <a:endParaRPr b="1" i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99ff">
                    <a:alpha val="50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382920" y="4076640"/>
            <a:ext cx="57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99"/>
                </a:solidFill>
                <a:latin typeface="Times New Roman"/>
              </a:rPr>
              <a:t>Знати необхідно не тому, щоб тільки знати, але для того, щоб навчитися роб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ANd9GcTS23ARAwD89KItiFDpgw13-8QzEbIOKOAyAmOX4xsNVdHj1ZIL"/>
          <p:cNvPicPr/>
          <p:nvPr/>
        </p:nvPicPr>
        <p:blipFill>
          <a:blip r:embed="rId1"/>
          <a:stretch/>
        </p:blipFill>
        <p:spPr>
          <a:xfrm>
            <a:off x="0" y="4309920"/>
            <a:ext cx="3035160" cy="25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Мета уроку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539640" y="1548000"/>
            <a:ext cx="80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 цікавій і пізнавальній формі  ознайомитись із історією   розвитку ядерної енергетики України; показати переваги і проблеми сучасних атомних станцій ,звернути увагу на екологічні аспекти цього питання;  вияснити, що спричинило аварію на Чорнобильській АЕС та дізнатися, як Чорнобильська катастрофа вплинула на здоров’я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вивати пізнавальні та творчі здібності учнів, уміння самостійно поповнювати знання з різних джерел інформації;                                                                                     виховувати екологічне мислення учнів, відповідальність за те, що відбувається довкола, формувати в учнів риси справжніх господарів країни, вміти слухати і ч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УРОК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– усп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 –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 – організова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 – кмітлив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4"/>
          <p:cNvSpPr/>
          <p:nvPr/>
        </p:nvSpPr>
        <p:spPr>
          <a:xfrm>
            <a:off x="611280" y="333360"/>
            <a:ext cx="7086600" cy="1816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Перша в світі атомна електростанція (АЕС).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324000" y="2132640"/>
            <a:ext cx="356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6161"/>
                </a:solidFill>
                <a:latin typeface="Arial"/>
              </a:rPr>
              <a:t>27 червня 1954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ANd9GcQV9yvOuUYkg3B9tcxRkP-Nvn5gEBGagh5gV4kv5CpSYUYba5YJ"/>
          <p:cNvPicPr/>
          <p:nvPr/>
        </p:nvPicPr>
        <p:blipFill>
          <a:blip r:embed="rId1"/>
          <a:stretch/>
        </p:blipFill>
        <p:spPr>
          <a:xfrm>
            <a:off x="3635280" y="2449440"/>
            <a:ext cx="5184720" cy="3905280"/>
          </a:xfrm>
          <a:prstGeom prst="rect">
            <a:avLst/>
          </a:prstGeom>
          <a:ln w="0">
            <a:noFill/>
          </a:ln>
        </p:spPr>
      </p:pic>
      <p:sp>
        <p:nvSpPr>
          <p:cNvPr id="201" name="WordArt 7"/>
          <p:cNvSpPr txBox="1"/>
          <p:nvPr/>
        </p:nvSpPr>
        <p:spPr>
          <a:xfrm>
            <a:off x="250920" y="2924280"/>
            <a:ext cx="342108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тужніс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її бу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МВ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4"/>
          <p:cNvSpPr/>
          <p:nvPr/>
        </p:nvSpPr>
        <p:spPr>
          <a:xfrm>
            <a:off x="1476360" y="1052640"/>
            <a:ext cx="6335640" cy="576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У світі працює  440 АЕ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2311715_1"/>
          <p:cNvPicPr/>
          <p:nvPr/>
        </p:nvPicPr>
        <p:blipFill>
          <a:blip r:embed="rId1"/>
          <a:stretch/>
        </p:blipFill>
        <p:spPr>
          <a:xfrm>
            <a:off x="0" y="2637000"/>
            <a:ext cx="3532320" cy="388764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6"/>
          <p:cNvGrpSpPr/>
          <p:nvPr/>
        </p:nvGrpSpPr>
        <p:grpSpPr>
          <a:xfrm>
            <a:off x="3690720" y="2565360"/>
            <a:ext cx="5707080" cy="4192560"/>
            <a:chOff x="3690720" y="2565360"/>
            <a:chExt cx="5707080" cy="4192560"/>
          </a:xfrm>
        </p:grpSpPr>
        <p:sp>
          <p:nvSpPr>
            <p:cNvPr id="205" name="Line 7"/>
            <p:cNvSpPr/>
            <p:nvPr/>
          </p:nvSpPr>
          <p:spPr>
            <a:xfrm>
              <a:off x="4091040" y="5079960"/>
              <a:ext cx="4800600" cy="0"/>
            </a:xfrm>
            <a:prstGeom prst="line">
              <a:avLst/>
            </a:prstGeom>
            <a:ln w="25560">
              <a:solidFill>
                <a:srgbClr val="cc33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 rot="3418800">
              <a:off x="3799800" y="514656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2b52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9"/>
            <p:cNvSpPr/>
            <p:nvPr/>
          </p:nvSpPr>
          <p:spPr>
            <a:xfrm>
              <a:off x="4091040" y="2565360"/>
              <a:ext cx="4800600" cy="0"/>
            </a:xfrm>
            <a:prstGeom prst="line">
              <a:avLst/>
            </a:prstGeom>
            <a:ln w="25560">
              <a:solidFill>
                <a:srgbClr val="cc33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"/>
            <p:cNvSpPr/>
            <p:nvPr/>
          </p:nvSpPr>
          <p:spPr>
            <a:xfrm>
              <a:off x="4091040" y="3403440"/>
              <a:ext cx="4800600" cy="0"/>
            </a:xfrm>
            <a:prstGeom prst="line">
              <a:avLst/>
            </a:prstGeom>
            <a:ln w="25560">
              <a:solidFill>
                <a:srgbClr val="cc33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 rot="3418800">
              <a:off x="3799800" y="370512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765a0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2"/>
            <p:cNvSpPr/>
            <p:nvPr/>
          </p:nvSpPr>
          <p:spPr>
            <a:xfrm>
              <a:off x="4092480" y="4240080"/>
              <a:ext cx="4799160" cy="1800"/>
            </a:xfrm>
            <a:prstGeom prst="line">
              <a:avLst/>
            </a:prstGeom>
            <a:ln w="25560">
              <a:solidFill>
                <a:srgbClr val="cc33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3"/>
            <p:cNvSpPr/>
            <p:nvPr/>
          </p:nvSpPr>
          <p:spPr>
            <a:xfrm>
              <a:off x="3710160" y="3654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4"/>
            <p:cNvSpPr/>
            <p:nvPr/>
          </p:nvSpPr>
          <p:spPr>
            <a:xfrm>
              <a:off x="4091040" y="5940360"/>
              <a:ext cx="4800600" cy="0"/>
            </a:xfrm>
            <a:prstGeom prst="line">
              <a:avLst/>
            </a:prstGeom>
            <a:ln w="25560">
              <a:solidFill>
                <a:srgbClr val="cc33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5"/>
            <p:cNvSpPr/>
            <p:nvPr/>
          </p:nvSpPr>
          <p:spPr>
            <a:xfrm rot="3418800">
              <a:off x="3799800" y="442584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4700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6"/>
            <p:cNvSpPr/>
            <p:nvPr/>
          </p:nvSpPr>
          <p:spPr>
            <a:xfrm>
              <a:off x="5148360" y="2862360"/>
              <a:ext cx="357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6161"/>
                  </a:solidFill>
                  <a:latin typeface="Arial"/>
                </a:rPr>
                <a:t>США — 103 АЕС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7"/>
            <p:cNvSpPr/>
            <p:nvPr/>
          </p:nvSpPr>
          <p:spPr>
            <a:xfrm>
              <a:off x="5076720" y="3483000"/>
              <a:ext cx="340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ранція- </a:t>
              </a:r>
              <a:r>
                <a:rPr b="1" lang="uk-UA" sz="3200" spc="-1" strike="noStrike">
                  <a:solidFill>
                    <a:srgbClr val="ffc319"/>
                  </a:solidFill>
                  <a:latin typeface="Arial"/>
                  <a:ea typeface="Arial"/>
                </a:rPr>
                <a:t>59АЕ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8"/>
            <p:cNvSpPr/>
            <p:nvPr/>
          </p:nvSpPr>
          <p:spPr>
            <a:xfrm>
              <a:off x="5076720" y="4417920"/>
              <a:ext cx="33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Японія - </a:t>
              </a:r>
              <a:r>
                <a:rPr b="1" lang="uk-UA" sz="3200" spc="-1" strike="noStrike">
                  <a:solidFill>
                    <a:srgbClr val="ff3300"/>
                  </a:solidFill>
                  <a:latin typeface="Arial"/>
                  <a:ea typeface="Arial"/>
                </a:rPr>
                <a:t>55 АЕ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9"/>
            <p:cNvSpPr/>
            <p:nvPr/>
          </p:nvSpPr>
          <p:spPr>
            <a:xfrm rot="3418800">
              <a:off x="3799800" y="370512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2b52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0"/>
            <p:cNvSpPr/>
            <p:nvPr/>
          </p:nvSpPr>
          <p:spPr>
            <a:xfrm rot="3418800">
              <a:off x="3800160" y="6154200"/>
              <a:ext cx="479160" cy="520920"/>
            </a:xfrm>
            <a:prstGeom prst="rect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4700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1"/>
            <p:cNvSpPr/>
            <p:nvPr/>
          </p:nvSpPr>
          <p:spPr>
            <a:xfrm rot="3418800">
              <a:off x="3872880" y="291312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4700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2"/>
            <p:cNvSpPr/>
            <p:nvPr/>
          </p:nvSpPr>
          <p:spPr>
            <a:xfrm flipV="1" rot="10800000">
              <a:off x="5003640" y="5232960"/>
              <a:ext cx="439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Arial"/>
                </a:rPr>
                <a:t>Росія-  </a:t>
              </a:r>
              <a:r>
                <a:rPr b="1" lang="uk-UA" sz="3200" spc="-1" strike="noStrike">
                  <a:solidFill>
                    <a:srgbClr val="5cb1fe"/>
                  </a:solidFill>
                  <a:latin typeface="Arial"/>
                </a:rPr>
                <a:t>10АЕ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23"/>
          <p:cNvSpPr/>
          <p:nvPr/>
        </p:nvSpPr>
        <p:spPr>
          <a:xfrm flipV="1" rot="10831200">
            <a:off x="4932360" y="594864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а -</a:t>
            </a:r>
            <a:r>
              <a:rPr b="1" lang="uk-UA" sz="3200" spc="-1" strike="noStrike">
                <a:solidFill>
                  <a:srgbClr val="3399ff"/>
                </a:solidFill>
                <a:latin typeface="Arial"/>
              </a:rPr>
              <a:t>4А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6:50:03Z</dcterms:created>
  <dc:creator>я</dc:creator>
  <dc:description/>
  <dc:language>en-US</dc:language>
  <cp:lastModifiedBy>Shovkova</cp:lastModifiedBy>
  <dcterms:modified xsi:type="dcterms:W3CDTF">2013-12-18T07:46:26Z</dcterms:modified>
  <cp:revision>35</cp:revision>
  <dc:subject/>
  <dc:title>Тим, хто вчить фізику, Тим, хто любить фізику,  Тим, хто знає фізику,  Тим, хто ще не знає, що він       любить фізику, Даний урок присвячуєтьс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27000000000001024140</vt:lpwstr>
  </property>
</Properties>
</file>