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E019-21BA-4CA0-9194-65CDB9B80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29A3-7591-479C-B502-5722C818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CB6A-5DCC-4CEF-8B3D-0ED49695F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AEC1-BCC4-461F-8C23-CB35F75EA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1E4A-8A00-4EBB-80DF-A5633921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89B8-6C9E-4D01-8AB0-C1821EEC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378C-6C23-48AE-AB20-03E9B579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49D2-4859-4197-916A-6D6BB1A4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AD13-5C9A-45A2-B638-7A5AF613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56C6-4780-4C89-9223-C49F918A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0A00-0CDA-400B-85B2-EF41012C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E017-CC8F-488B-A45C-44E0E4A3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87A0-3EE8-4516-8F48-C1EA969DB4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5"/>
          <p:cNvSpPr/>
          <p:nvPr/>
        </p:nvSpPr>
        <p:spPr>
          <a:xfrm>
            <a:off x="684360" y="476280"/>
            <a:ext cx="727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та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загальнити та систематизувати знання з теми: «Теплові явища», виявити рівень засвоєност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нять, формул, графікі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звивати зацікавленість, почуття конкуренції, змагання, престижності. Вчити учні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являти позитивні почуття в ситуації перемоги та пораз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ип уроку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к перевірки знань, умінь та навичо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4"/>
          <p:cNvSpPr/>
          <p:nvPr/>
        </p:nvSpPr>
        <p:spPr>
          <a:xfrm>
            <a:off x="552600" y="404640"/>
            <a:ext cx="418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укціон графікі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358920" y="1413000"/>
            <a:ext cx="5365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ам необхідно  якомога  більше інформації отримати з  графіка. Інформація приймаєть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черзі за кожну вірну відповідь знач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Ви повинні назвати, для  яких речовин зображені графіки, назвати те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лові процес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изначит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кожній ділянці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ому дорівнює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всій ділянці графік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6" descr=""/>
          <p:cNvPicPr/>
          <p:nvPr/>
        </p:nvPicPr>
        <p:blipFill>
          <a:blip r:embed="rId2"/>
          <a:stretch/>
        </p:blipFill>
        <p:spPr>
          <a:xfrm>
            <a:off x="4938840" y="2220840"/>
            <a:ext cx="792000" cy="71460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7"/>
          <p:cNvSpPr/>
          <p:nvPr/>
        </p:nvSpPr>
        <p:spPr>
          <a:xfrm>
            <a:off x="506520" y="53006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 вірну відповідь команда отримує 5 значкі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8" descr=""/>
          <p:cNvPicPr/>
          <p:nvPr/>
        </p:nvPicPr>
        <p:blipFill>
          <a:blip r:embed="rId3"/>
          <a:stretch/>
        </p:blipFill>
        <p:spPr>
          <a:xfrm>
            <a:off x="1476360" y="5662440"/>
            <a:ext cx="941400" cy="8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2016000" cy="187164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5" descr=""/>
          <p:cNvPicPr/>
          <p:nvPr/>
        </p:nvPicPr>
        <p:blipFill>
          <a:blip r:embed="rId3"/>
          <a:stretch/>
        </p:blipFill>
        <p:spPr>
          <a:xfrm>
            <a:off x="468360" y="3068640"/>
            <a:ext cx="2147760" cy="194472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6"/>
          <p:cNvSpPr/>
          <p:nvPr/>
        </p:nvSpPr>
        <p:spPr>
          <a:xfrm>
            <a:off x="2616120" y="981000"/>
            <a:ext cx="58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Сподобалося, дізналися багато нов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угольник 7"/>
          <p:cNvSpPr/>
          <p:nvPr/>
        </p:nvSpPr>
        <p:spPr>
          <a:xfrm>
            <a:off x="3236400" y="3705120"/>
            <a:ext cx="23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Не сподобало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4"/>
          <p:cNvSpPr/>
          <p:nvPr/>
        </p:nvSpPr>
        <p:spPr>
          <a:xfrm>
            <a:off x="539640" y="549360"/>
            <a:ext cx="45720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машнє   завданн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торити  §21-  §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ідібрати прикмети, прислів’я, у яких фізичний зміст з  теми: «Теплові явищ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4"/>
          <p:cNvSpPr/>
          <p:nvPr/>
        </p:nvSpPr>
        <p:spPr>
          <a:xfrm>
            <a:off x="684360" y="549360"/>
            <a:ext cx="4572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віз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и змагатися вчимос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темі « Теплот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и взнаємо цікаве щос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оч тема, здається, прос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5" descr=""/>
          <p:cNvPicPr/>
          <p:nvPr/>
        </p:nvPicPr>
        <p:blipFill>
          <a:blip r:embed="rId2"/>
          <a:stretch/>
        </p:blipFill>
        <p:spPr>
          <a:xfrm>
            <a:off x="684360" y="3141720"/>
            <a:ext cx="1809720" cy="1800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6"/>
          <p:cNvSpPr/>
          <p:nvPr/>
        </p:nvSpPr>
        <p:spPr>
          <a:xfrm>
            <a:off x="2981520" y="3855960"/>
            <a:ext cx="209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- знач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112680" y="41400"/>
            <a:ext cx="80643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курс  №1. Розмин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то швидше дає відповідь, той отримує знач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5" descr=""/>
          <p:cNvPicPr/>
          <p:nvPr/>
        </p:nvPicPr>
        <p:blipFill>
          <a:blip r:embed="rId2"/>
          <a:stretch/>
        </p:blipFill>
        <p:spPr>
          <a:xfrm>
            <a:off x="5450040" y="930240"/>
            <a:ext cx="198576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Объект 3" descr="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539640" y="148428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черзі скласти якомога більше формул з використанням величин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, c, m, q, r, t1, t2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звати ці теплові процес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 кожну формулу команда отримує знач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5"/>
          <p:cNvSpPr/>
          <p:nvPr/>
        </p:nvSpPr>
        <p:spPr>
          <a:xfrm>
            <a:off x="275040" y="189000"/>
            <a:ext cx="805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курс  №2. «Поясни формулу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6" descr=""/>
          <p:cNvPicPr/>
          <p:nvPr/>
        </p:nvPicPr>
        <p:blipFill>
          <a:blip r:embed="rId2"/>
          <a:stretch/>
        </p:blipFill>
        <p:spPr>
          <a:xfrm>
            <a:off x="5724360" y="2492280"/>
            <a:ext cx="181008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4"/>
          <p:cNvSpPr/>
          <p:nvPr/>
        </p:nvSpPr>
        <p:spPr>
          <a:xfrm>
            <a:off x="355680" y="333360"/>
            <a:ext cx="832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курс  №3. Експерименталь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468360" y="1844640"/>
            <a:ext cx="6245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жна команда демонструє дослід, а потім по ньом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дає питання іншій команді, і отримує 5 значкі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 якість виконання, за запитання, за пояснен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6" descr=""/>
          <p:cNvPicPr/>
          <p:nvPr/>
        </p:nvPicPr>
        <p:blipFill>
          <a:blip r:embed="rId2"/>
          <a:stretch/>
        </p:blipFill>
        <p:spPr>
          <a:xfrm>
            <a:off x="6346800" y="2465280"/>
            <a:ext cx="155268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4"/>
          <p:cNvSpPr/>
          <p:nvPr/>
        </p:nvSpPr>
        <p:spPr>
          <a:xfrm>
            <a:off x="30600" y="260280"/>
            <a:ext cx="823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курс  №4. Домашнє завданн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5"/>
          <p:cNvSpPr/>
          <p:nvPr/>
        </p:nvSpPr>
        <p:spPr>
          <a:xfrm>
            <a:off x="395280" y="126828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манда  №1 підготувала суперникам запитання з теми: « Теплові  явища  на транспорті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6"/>
          <p:cNvSpPr/>
          <p:nvPr/>
        </p:nvSpPr>
        <p:spPr>
          <a:xfrm>
            <a:off x="412920" y="2492280"/>
            <a:ext cx="775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манда  №2 готувала запитання команді – супернику – з теми: « Теплові явища на будівництві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7"/>
          <p:cNvSpPr/>
          <p:nvPr/>
        </p:nvSpPr>
        <p:spPr>
          <a:xfrm>
            <a:off x="826920" y="3860640"/>
            <a:ext cx="457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кількості запитань команда отримує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нач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ле не більше 6 запитан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8" descr=""/>
          <p:cNvPicPr/>
          <p:nvPr/>
        </p:nvPicPr>
        <p:blipFill>
          <a:blip r:embed="rId2"/>
          <a:stretch/>
        </p:blipFill>
        <p:spPr>
          <a:xfrm>
            <a:off x="2050920" y="4354560"/>
            <a:ext cx="132732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4"/>
          <p:cNvSpPr/>
          <p:nvPr/>
        </p:nvSpPr>
        <p:spPr>
          <a:xfrm>
            <a:off x="275760" y="189000"/>
            <a:ext cx="799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курс  №5. «Явища природи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324000" y="141300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манди по черзі пояснюють природні явища, які бачить на екрані. За вірн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ідповідь отримує знач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6" descr=""/>
          <p:cNvPicPr/>
          <p:nvPr/>
        </p:nvPicPr>
        <p:blipFill>
          <a:blip r:embed="rId2"/>
          <a:stretch/>
        </p:blipFill>
        <p:spPr>
          <a:xfrm>
            <a:off x="3348000" y="2205000"/>
            <a:ext cx="64764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8T08:20:52Z</dcterms:created>
  <dc:creator>Пользователь</dc:creator>
  <dc:description/>
  <dc:language>en-US</dc:language>
  <cp:lastModifiedBy>Admin</cp:lastModifiedBy>
  <dcterms:modified xsi:type="dcterms:W3CDTF">2014-09-08T05:40:59Z</dcterms:modified>
  <cp:revision>6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04000000000001024140</vt:lpwstr>
  </property>
</Properties>
</file>