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415C-237E-452A-9DDB-E328B9C6C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0442-C321-4505-B55E-390348FDE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068D-872B-4410-8C04-CB628AB87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361E-2302-48F2-9CF1-6B29C51E7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007A-0FC3-44FC-8310-3985B834F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0EA8-014B-4EAF-B6D1-3CC677DEA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DD5F-6FC2-4F14-B9F7-D57818136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F0CA-FF46-4AC8-9376-219258185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1FC9-8566-49E6-B6C3-1327106B5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1AE5-5F95-4746-951C-87410D8F0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2CCB-E2E1-4101-B8C7-FBBED0B9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D973-8408-44F6-BCCB-DEF4FA4E6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8C3D6-6366-490C-B976-0FFF657CCC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5"/>
          <p:cNvSpPr/>
          <p:nvPr/>
        </p:nvSpPr>
        <p:spPr>
          <a:xfrm>
            <a:off x="684360" y="476280"/>
            <a:ext cx="7272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та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загальнити та систематизувати знання з теми: «Теплові явища», виявити рівень засвоєності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нять, формул, графікі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озвивати зацікавленість, почуття конкуренції, змагання, престижності. Вчити учні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являти позитивні почуття в ситуації перемоги та пораз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ип уроку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рок перевірки знань, умінь та навичо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4"/>
          <p:cNvSpPr/>
          <p:nvPr/>
        </p:nvSpPr>
        <p:spPr>
          <a:xfrm>
            <a:off x="552600" y="404640"/>
            <a:ext cx="418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укціон графікі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Прямоугольник 5"/>
          <p:cNvSpPr/>
          <p:nvPr/>
        </p:nvSpPr>
        <p:spPr>
          <a:xfrm>
            <a:off x="358920" y="1413000"/>
            <a:ext cx="5365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ам необхідно  якомога  більше інформації отримати з  графіка. Інформація приймаєтьс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 черзі за кожну вірну відповідь значо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Ви повинні назвати, для  яких речовин зображені графіки, назвати те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плові процес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изначити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Q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кожній ділянці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ому дорівнює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Q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всій ділянці графік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Рисунок 6" descr=""/>
          <p:cNvPicPr/>
          <p:nvPr/>
        </p:nvPicPr>
        <p:blipFill>
          <a:blip r:embed="rId2"/>
          <a:stretch/>
        </p:blipFill>
        <p:spPr>
          <a:xfrm>
            <a:off x="4938840" y="2220840"/>
            <a:ext cx="792000" cy="71460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7"/>
          <p:cNvSpPr/>
          <p:nvPr/>
        </p:nvSpPr>
        <p:spPr>
          <a:xfrm>
            <a:off x="506520" y="530064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 вірну відповідь команда отримує 5 значкі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Рисунок 8" descr=""/>
          <p:cNvPicPr/>
          <p:nvPr/>
        </p:nvPicPr>
        <p:blipFill>
          <a:blip r:embed="rId3"/>
          <a:stretch/>
        </p:blipFill>
        <p:spPr>
          <a:xfrm>
            <a:off x="1476360" y="5662440"/>
            <a:ext cx="941400" cy="8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4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2016000" cy="187164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5" descr=""/>
          <p:cNvPicPr/>
          <p:nvPr/>
        </p:nvPicPr>
        <p:blipFill>
          <a:blip r:embed="rId3"/>
          <a:stretch/>
        </p:blipFill>
        <p:spPr>
          <a:xfrm>
            <a:off x="468360" y="3068640"/>
            <a:ext cx="2147760" cy="194472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6"/>
          <p:cNvSpPr/>
          <p:nvPr/>
        </p:nvSpPr>
        <p:spPr>
          <a:xfrm>
            <a:off x="2616120" y="981000"/>
            <a:ext cx="58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Сподобалося, дізналися багато ново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Прямоугольник 7"/>
          <p:cNvSpPr/>
          <p:nvPr/>
        </p:nvSpPr>
        <p:spPr>
          <a:xfrm>
            <a:off x="3236400" y="3705120"/>
            <a:ext cx="236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Не сподобалос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4"/>
          <p:cNvSpPr/>
          <p:nvPr/>
        </p:nvSpPr>
        <p:spPr>
          <a:xfrm>
            <a:off x="539640" y="549360"/>
            <a:ext cx="457200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машнє   завданн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вторити  §21-  §2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ідібрати прикмети, прислів’я, у яких фізичний зміст з  теми: «Теплові явищ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4"/>
          <p:cNvSpPr/>
          <p:nvPr/>
        </p:nvSpPr>
        <p:spPr>
          <a:xfrm>
            <a:off x="684360" y="549360"/>
            <a:ext cx="45720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віз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и змагатися вчимос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 темі « Теплота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и взнаємо цікаве щос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оч тема, здається, прост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5" descr=""/>
          <p:cNvPicPr/>
          <p:nvPr/>
        </p:nvPicPr>
        <p:blipFill>
          <a:blip r:embed="rId2"/>
          <a:stretch/>
        </p:blipFill>
        <p:spPr>
          <a:xfrm>
            <a:off x="684360" y="3141720"/>
            <a:ext cx="1809720" cy="18000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6"/>
          <p:cNvSpPr/>
          <p:nvPr/>
        </p:nvSpPr>
        <p:spPr>
          <a:xfrm>
            <a:off x="2981520" y="3855960"/>
            <a:ext cx="209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- знач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4"/>
          <p:cNvSpPr/>
          <p:nvPr/>
        </p:nvSpPr>
        <p:spPr>
          <a:xfrm>
            <a:off x="112680" y="41400"/>
            <a:ext cx="806436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нкурс  №1. Розминк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то швидше дає відповідь, той отримує значо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5" descr=""/>
          <p:cNvPicPr/>
          <p:nvPr/>
        </p:nvPicPr>
        <p:blipFill>
          <a:blip r:embed="rId2"/>
          <a:stretch/>
        </p:blipFill>
        <p:spPr>
          <a:xfrm>
            <a:off x="5450040" y="930240"/>
            <a:ext cx="1985760" cy="17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Объект 3" descr=""/>
          <p:cNvPicPr/>
          <p:nvPr/>
        </p:nvPicPr>
        <p:blipFill>
          <a:blip r:embed="rId1"/>
          <a:stretch/>
        </p:blipFill>
        <p:spPr>
          <a:xfrm>
            <a:off x="0" y="-334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4"/>
          <p:cNvSpPr/>
          <p:nvPr/>
        </p:nvSpPr>
        <p:spPr>
          <a:xfrm>
            <a:off x="539640" y="1484280"/>
            <a:ext cx="67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 черзі скласти якомога більше формул з використанням величин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Q, c, m, q, r, t1, t2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звати ці теплові процес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 кожну формулу команда отримує значо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5"/>
          <p:cNvSpPr/>
          <p:nvPr/>
        </p:nvSpPr>
        <p:spPr>
          <a:xfrm>
            <a:off x="275040" y="189000"/>
            <a:ext cx="8050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нкурс  №2. «Поясни формулу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6" descr=""/>
          <p:cNvPicPr/>
          <p:nvPr/>
        </p:nvPicPr>
        <p:blipFill>
          <a:blip r:embed="rId2"/>
          <a:stretch/>
        </p:blipFill>
        <p:spPr>
          <a:xfrm>
            <a:off x="5724360" y="2492280"/>
            <a:ext cx="1810080" cy="17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4"/>
          <p:cNvSpPr/>
          <p:nvPr/>
        </p:nvSpPr>
        <p:spPr>
          <a:xfrm>
            <a:off x="355680" y="333360"/>
            <a:ext cx="832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нкурс  №3. Експерименталь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5"/>
          <p:cNvSpPr/>
          <p:nvPr/>
        </p:nvSpPr>
        <p:spPr>
          <a:xfrm>
            <a:off x="468360" y="1844640"/>
            <a:ext cx="62452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жна команда демонструє дослід, а потім по ньом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дає питання іншій команді, і отримує 5 значкі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 якість виконання, за запитання, за поясненн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Рисунок 6" descr=""/>
          <p:cNvPicPr/>
          <p:nvPr/>
        </p:nvPicPr>
        <p:blipFill>
          <a:blip r:embed="rId2"/>
          <a:stretch/>
        </p:blipFill>
        <p:spPr>
          <a:xfrm>
            <a:off x="6346800" y="2465280"/>
            <a:ext cx="1552680" cy="12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4"/>
          <p:cNvSpPr/>
          <p:nvPr/>
        </p:nvSpPr>
        <p:spPr>
          <a:xfrm>
            <a:off x="30600" y="260280"/>
            <a:ext cx="823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нкурс  №4. Домашнє завданн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5"/>
          <p:cNvSpPr/>
          <p:nvPr/>
        </p:nvSpPr>
        <p:spPr>
          <a:xfrm>
            <a:off x="395280" y="1268280"/>
            <a:ext cx="77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манда  №1 підготувала суперникам запитання з теми: « Теплові  явища  на транспорті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6"/>
          <p:cNvSpPr/>
          <p:nvPr/>
        </p:nvSpPr>
        <p:spPr>
          <a:xfrm>
            <a:off x="412920" y="2492280"/>
            <a:ext cx="775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манда  №2 готувала запитання команді – супернику – з теми: « Теплові явища на будівництві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оугольник 7"/>
          <p:cNvSpPr/>
          <p:nvPr/>
        </p:nvSpPr>
        <p:spPr>
          <a:xfrm>
            <a:off x="826920" y="3860640"/>
            <a:ext cx="4572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 кількості запитань команда отримує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нач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ле не більше 6 запитан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Рисунок 8" descr=""/>
          <p:cNvPicPr/>
          <p:nvPr/>
        </p:nvPicPr>
        <p:blipFill>
          <a:blip r:embed="rId2"/>
          <a:stretch/>
        </p:blipFill>
        <p:spPr>
          <a:xfrm>
            <a:off x="2050920" y="4354560"/>
            <a:ext cx="1327320" cy="9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4"/>
          <p:cNvSpPr/>
          <p:nvPr/>
        </p:nvSpPr>
        <p:spPr>
          <a:xfrm>
            <a:off x="275760" y="189000"/>
            <a:ext cx="799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нкурс  №5. «Явища природи»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рямоугольник 5"/>
          <p:cNvSpPr/>
          <p:nvPr/>
        </p:nvSpPr>
        <p:spPr>
          <a:xfrm>
            <a:off x="324000" y="141300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манди по черзі пояснюють природні явища, які бачить на екрані. За вірну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ідповідь отримує значо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Рисунок 6" descr=""/>
          <p:cNvPicPr/>
          <p:nvPr/>
        </p:nvPicPr>
        <p:blipFill>
          <a:blip r:embed="rId2"/>
          <a:stretch/>
        </p:blipFill>
        <p:spPr>
          <a:xfrm>
            <a:off x="3348000" y="2205000"/>
            <a:ext cx="64764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8T08:20:52Z</dcterms:created>
  <dc:creator>Пользователь</dc:creator>
  <dc:description/>
  <dc:language>en-US</dc:language>
  <cp:lastModifiedBy>Admin</cp:lastModifiedBy>
  <dcterms:modified xsi:type="dcterms:W3CDTF">2014-09-08T05:40:59Z</dcterms:modified>
  <cp:revision>6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e04000000000001024140</vt:lpwstr>
  </property>
</Properties>
</file>