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6C9-0994-4D37-A811-222C0EE3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4CE-268E-48B8-B16A-A9C44A52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7AF-A833-437A-9116-5AE6BC55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66D-2FFD-476F-8E30-86A77441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E50-631C-4E0F-8FC7-7D6A8D6A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3C4-5A8E-41DC-81CF-2F76158C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49C-6CE8-4340-94F4-DA257F04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F6D-70C0-46A6-A4F9-B926E380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7FC-69A3-460A-BC04-F63DFFE8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A40-51F9-4EB7-88DE-E8FE77B9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A92-4430-4723-9E0D-B4FAFBE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64E-8887-44B0-8F83-7FD3947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9AFB-101E-478D-A82B-9CE8B167B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684360" y="476280"/>
            <a:ext cx="72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агальнити та систематизувати знання з теми: «Теплові явища», виявити рівень засвоєн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ь, формул, графік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звивати зацікавленість, почуття конкуренції, змагання, престижності. Вчити учн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являти позитивні почуття в ситуації перемоги та пораз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 уроку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еревірки знань, умінь та навич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552600" y="404640"/>
            <a:ext cx="418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укціон графік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358920" y="1413000"/>
            <a:ext cx="536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м необхідно  якомога  більше інформації отримати з  графіка. Інформація приймаєть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черзі за кожну вірну відповідь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Ви повинні назвати, для  яких речовин зображені графіки, назвати т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лові процес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значит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ожній ділянц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ому дорівнює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сій ділянці графі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6" descr=""/>
          <p:cNvPicPr/>
          <p:nvPr/>
        </p:nvPicPr>
        <p:blipFill>
          <a:blip r:embed="rId2"/>
          <a:stretch/>
        </p:blipFill>
        <p:spPr>
          <a:xfrm>
            <a:off x="4938840" y="2220840"/>
            <a:ext cx="792000" cy="7146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506520" y="5300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вірну відповідь команда отримує 5 значк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8" descr=""/>
          <p:cNvPicPr/>
          <p:nvPr/>
        </p:nvPicPr>
        <p:blipFill>
          <a:blip r:embed="rId3"/>
          <a:stretch/>
        </p:blipFill>
        <p:spPr>
          <a:xfrm>
            <a:off x="1476360" y="5662440"/>
            <a:ext cx="94140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2147760" cy="1944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2616120" y="981000"/>
            <a:ext cx="58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подобалося, дізналися багато нов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3236400" y="370512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Не сподобало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539640" y="549360"/>
            <a:ext cx="4572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шнє   завдан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торити  §21-  §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ідібрати прикмети, прислів’я, у яких фізичний зміст з  теми: «Теплові явищ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684360" y="549360"/>
            <a:ext cx="457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віз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 змагатися вчим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темі « Тепло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 взнаємо цікаве щ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ч тема, здається, про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1809720" cy="180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2981520" y="3855960"/>
            <a:ext cx="209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зна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12680" y="41400"/>
            <a:ext cx="8064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1. Ро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то швидше дає відповідь, той отримує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2"/>
          <a:stretch/>
        </p:blipFill>
        <p:spPr>
          <a:xfrm>
            <a:off x="5450040" y="930240"/>
            <a:ext cx="198576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39640" y="148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черзі скласти якомога більше формул з використанням величин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, c, m, q, r, t1, t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вати ці теплові проце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кожну формулу команда отримує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275040" y="189000"/>
            <a:ext cx="805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2. «Поясни формул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5724360" y="2492280"/>
            <a:ext cx="181008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355680" y="333360"/>
            <a:ext cx="832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3. Експерименталь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468360" y="1844640"/>
            <a:ext cx="624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жна команда демонструє дослід, а потім по нь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є питання іншій команді, і отримує 5 значк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якість виконання, за запитання, за поясне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2"/>
          <a:stretch/>
        </p:blipFill>
        <p:spPr>
          <a:xfrm>
            <a:off x="6346800" y="2465280"/>
            <a:ext cx="15526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30600" y="260280"/>
            <a:ext cx="823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4. Домашнє завдан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395280" y="1268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а  №1 підготувала суперникам запитання з теми: « Теплові  явища  на транспорті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412920" y="2492280"/>
            <a:ext cx="775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а  №2 готувала запитання команді – супернику – з теми: « Теплові явища на будівництві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826920" y="38606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кількості запитань команда отриму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е не більше 6 запита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8" descr=""/>
          <p:cNvPicPr/>
          <p:nvPr/>
        </p:nvPicPr>
        <p:blipFill>
          <a:blip r:embed="rId2"/>
          <a:stretch/>
        </p:blipFill>
        <p:spPr>
          <a:xfrm>
            <a:off x="2050920" y="4354560"/>
            <a:ext cx="13273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75760" y="189000"/>
            <a:ext cx="79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5. «Явища природи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324000" y="141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и по черзі пояснюють природні явища, які бачить на екрані. За вірн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ідповідь отримує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6476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8:20:52Z</dcterms:created>
  <dc:creator>Пользователь</dc:creator>
  <dc:description/>
  <dc:language>en-US</dc:language>
  <cp:lastModifiedBy>Admin</cp:lastModifiedBy>
  <dcterms:modified xsi:type="dcterms:W3CDTF">2014-09-08T05:40:59Z</dcterms:modified>
  <cp:revision>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4000000000001024140</vt:lpwstr>
  </property>
</Properties>
</file>